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1120" y="685440"/>
            <a:ext cx="4952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olossi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638320" y="228600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 in the 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80880" y="2284560"/>
            <a:ext cx="5105520" cy="38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rvants of the Gosp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chi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bring you information about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imus (one of your numb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arc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 his gr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(Barnabas' cous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ho is called Jus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phras (one of your numb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, the beloved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91480" y="2146320"/>
            <a:ext cx="210024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146320"/>
            <a:ext cx="224316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146320"/>
            <a:ext cx="198144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146320"/>
            <a:ext cx="236196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1480" y="412920"/>
            <a:ext cx="21002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412920"/>
            <a:ext cx="22431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412920"/>
            <a:ext cx="19814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2920"/>
            <a:ext cx="23619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91480" y="3886200"/>
            <a:ext cx="210024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886200"/>
            <a:ext cx="224316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886200"/>
            <a:ext cx="198144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886200"/>
            <a:ext cx="2361960" cy="95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and Work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ministry of the my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880" y="388584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nger of De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ness and faith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nger of 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5320" y="388584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if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lf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ructions to Various Gro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, be subject to your husbands, as is fitting in the Lord (3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bands, love your wives, and do not be embittered against them (3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, be obedient to your parents in all things (3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s, do not exasperate your children, that they may not lose heart (3:2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, in all things obey those who are your masters on earth (3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ructions to Various Gro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s, grant to your slaves justice and fairness, knowing that you too have a Master in heaven (4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Instru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te yourselves to prayer (4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itude of thanksg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ing for u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yourselves with wisdom toward outsiders, making the most of the opportunity (4: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r speech always be with grace, seasoned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 it w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alt, so that you may know how you should respond to each person (4: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3-02T16:08:44Z</dcterms:modified>
  <cp:revision>205</cp:revision>
  <dc:subject/>
  <dc:title>Slide 1</dc:title>
</cp:coreProperties>
</file>