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ighteousness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2827440" y="2590920"/>
            <a:ext cx="342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oma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4572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Romans: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The Radical Righteousness of God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by John Stevens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04560" y="114300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n from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638680" y="609480"/>
            <a:ext cx="2872080" cy="4130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19320" y="5029200"/>
            <a:ext cx="5257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RedeemerPublishing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he Epistle to the Roman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doctrinal and the most systematic of all of Paul’s writ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seven chapters are characterized by an argumentative style as seen by the repeated expression: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What shall we say then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s 4: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s 6: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s 7: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s 8: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s 9: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s 9: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64680"/>
            <a:ext cx="77724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Roman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4114800"/>
            <a:ext cx="102060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67680" y="762120"/>
            <a:ext cx="0" cy="53481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4114800"/>
            <a:ext cx="0" cy="1995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1127160"/>
            <a:ext cx="1371600" cy="838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log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1127160"/>
            <a:ext cx="4038480" cy="838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tr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1127160"/>
            <a:ext cx="1371600" cy="838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ilog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1127160"/>
            <a:ext cx="2209680" cy="838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1965240"/>
            <a:ext cx="1371600" cy="6098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965240"/>
            <a:ext cx="4038480" cy="6098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1965240"/>
            <a:ext cx="2209680" cy="6098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96080" y="1965240"/>
            <a:ext cx="1371600" cy="6098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: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2571840"/>
            <a:ext cx="5410080" cy="974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by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2571840"/>
            <a:ext cx="3581280" cy="974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 by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3560760"/>
            <a:ext cx="1020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3699000"/>
            <a:ext cx="0" cy="70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Cloud"/>
          <p:cNvSpPr/>
          <p:nvPr/>
        </p:nvSpPr>
        <p:spPr>
          <a:xfrm>
            <a:off x="76320" y="3470400"/>
            <a:ext cx="2286000" cy="838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bedience of Faith (1: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Cloud"/>
          <p:cNvSpPr/>
          <p:nvPr/>
        </p:nvSpPr>
        <p:spPr>
          <a:xfrm>
            <a:off x="6781680" y="3470400"/>
            <a:ext cx="2286000" cy="838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bedience of Faith (16:2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3695760"/>
            <a:ext cx="44956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Righteousness of God Revea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 am not ashamed of the gospel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 is the power of God for salvation to everyone who belie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it the righteousness of God is revea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Cloud"/>
          <p:cNvSpPr/>
          <p:nvPr/>
        </p:nvSpPr>
        <p:spPr>
          <a:xfrm>
            <a:off x="1905120" y="2819520"/>
            <a:ext cx="4800600" cy="2062080"/>
          </a:xfrm>
          <a:prstGeom prst="pie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the righteousness of God revealed in the gosp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4952880"/>
            <a:ext cx="6400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wrath of God toward those who sin (Romans 1-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grace of God toward those who believe (Romans 4-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Righteousness of God is revealed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judging the pagans who rejected Him (Chapter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judging the Jews who disobeyed Him (Chapter 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judging all men who have sinned against Him (Chapter 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Righteousness of God is revealed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reckoning men as righteous by crediting them with the righteousness of Christ (Chapter 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declaring men to be righteous on the basis of the reckoning described in the previous chapter (Chapter 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Cloud"/>
          <p:cNvSpPr/>
          <p:nvPr/>
        </p:nvSpPr>
        <p:spPr>
          <a:xfrm>
            <a:off x="2209680" y="3886200"/>
            <a:ext cx="3657600" cy="838080"/>
          </a:xfrm>
          <a:prstGeom prst="pie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bout s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4800600"/>
            <a:ext cx="7620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n we continue to live in sin?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at about the sin that is still in our lives?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adopting us as His children (Chapter 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600200" y="320040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t all Israel is Isra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od is sovereign and able to chose whom He w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alvation is offered to all who belie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rael’s unbelief has resulted in blessings to the Gent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ll Israel will be sa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Cloud"/>
          <p:cNvSpPr/>
          <p:nvPr/>
        </p:nvSpPr>
        <p:spPr>
          <a:xfrm>
            <a:off x="914400" y="152280"/>
            <a:ext cx="4191120" cy="1371600"/>
          </a:xfrm>
          <a:prstGeom prst="pie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about Isra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152388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How can we see God as righteous when His own chosen people do not believe and receive His promi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4114800" cy="146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pters 1-11</a:t>
            </a:r>
            <a:br>
              <a:rPr sz="32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ctrin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914400"/>
            <a:ext cx="3200400" cy="146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hapters 12-16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actic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Cloud"/>
          <p:cNvSpPr/>
          <p:nvPr/>
        </p:nvSpPr>
        <p:spPr>
          <a:xfrm>
            <a:off x="4114800" y="1595520"/>
            <a:ext cx="1828800" cy="11476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 Wh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322800"/>
            <a:ext cx="3581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 Urge you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4191120"/>
            <a:ext cx="7315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esent your bodies a living and holy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be conformed to this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transformed by the renewing of your m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8-12-16T21:03:10Z</dcterms:modified>
  <cp:revision>63</cp:revision>
  <dc:subject/>
  <dc:title>Slide 1</dc:title>
</cp:coreProperties>
</file>