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.gif" ContentType="image/gif"/>
  <Override PartName="/ppt/media/image6.png" ContentType="image/png"/>
  <Override PartName="/ppt/media/image12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9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itness to th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3962520" y="4876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-609480" y="0"/>
            <a:ext cx="9753480" cy="6937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858000" y="228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Damasc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54864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Jerusa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47242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Jop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-380880" y="-11160"/>
            <a:ext cx="11201400" cy="6869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315200" y="24382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Antio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1295280"/>
            <a:ext cx="228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Tar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Salam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2819520"/>
            <a:ext cx="228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Seleu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3174840"/>
            <a:ext cx="5105160" cy="33858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he left for Tarsus to loo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Saul;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when he h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nd him, he brought him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och. And it came about th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an entire year they met wi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hurch, and taught considera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s; and the disciples we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istia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ntio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cts 11:25-2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77520" cy="6861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162920" y="2895480"/>
            <a:ext cx="2286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Syr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Antio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2819520"/>
            <a:ext cx="228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Tar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76920" y="5105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Salam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3886200"/>
            <a:ext cx="228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Seleu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5486400"/>
            <a:ext cx="228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Paph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562720" y="4114800"/>
            <a:ext cx="2209680" cy="10666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32240"/>
            <a:ext cx="1676160" cy="406440"/>
          </a:xfrm>
          <a:custGeom>
            <a:avLst/>
            <a:gdLst/>
            <a:ahLst/>
            <a:rect l="l" t="t" r="r" b="b"/>
            <a:pathLst>
              <a:path w="1056" h="256">
                <a:moveTo>
                  <a:pt x="1056" y="64"/>
                </a:moveTo>
                <a:cubicBezTo>
                  <a:pt x="968" y="32"/>
                  <a:pt x="880" y="0"/>
                  <a:pt x="768" y="16"/>
                </a:cubicBezTo>
                <a:cubicBezTo>
                  <a:pt x="656" y="32"/>
                  <a:pt x="488" y="136"/>
                  <a:pt x="384" y="160"/>
                </a:cubicBezTo>
                <a:cubicBezTo>
                  <a:pt x="280" y="184"/>
                  <a:pt x="208" y="144"/>
                  <a:pt x="144" y="160"/>
                </a:cubicBezTo>
                <a:cubicBezTo>
                  <a:pt x="80" y="176"/>
                  <a:pt x="40" y="216"/>
                  <a:pt x="0" y="256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77520" cy="6861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162920" y="2895480"/>
            <a:ext cx="2286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Syr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Antio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4120" y="2819520"/>
            <a:ext cx="228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Tar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Salam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886200"/>
            <a:ext cx="228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Seleu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81080" y="5486400"/>
            <a:ext cx="228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Paph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522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Syr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Antio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562720" y="4114800"/>
            <a:ext cx="2209680" cy="10666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5232240"/>
            <a:ext cx="1676160" cy="406440"/>
          </a:xfrm>
          <a:custGeom>
            <a:avLst/>
            <a:gdLst/>
            <a:ahLst/>
            <a:rect l="l" t="t" r="r" b="b"/>
            <a:pathLst>
              <a:path w="1056" h="256">
                <a:moveTo>
                  <a:pt x="1056" y="64"/>
                </a:moveTo>
                <a:cubicBezTo>
                  <a:pt x="968" y="32"/>
                  <a:pt x="880" y="0"/>
                  <a:pt x="768" y="16"/>
                </a:cubicBezTo>
                <a:cubicBezTo>
                  <a:pt x="656" y="32"/>
                  <a:pt x="488" y="136"/>
                  <a:pt x="384" y="160"/>
                </a:cubicBezTo>
                <a:cubicBezTo>
                  <a:pt x="280" y="184"/>
                  <a:pt x="208" y="144"/>
                  <a:pt x="144" y="160"/>
                </a:cubicBezTo>
                <a:cubicBezTo>
                  <a:pt x="80" y="176"/>
                  <a:pt x="40" y="216"/>
                  <a:pt x="0" y="256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3124080"/>
            <a:ext cx="1676520" cy="2514600"/>
          </a:xfrm>
          <a:custGeom>
            <a:avLst/>
            <a:gdLst/>
            <a:ahLst/>
            <a:rect l="l" t="t" r="r" b="b"/>
            <a:pathLst>
              <a:path w="1056" h="1584">
                <a:moveTo>
                  <a:pt x="1056" y="1584"/>
                </a:moveTo>
                <a:cubicBezTo>
                  <a:pt x="952" y="1492"/>
                  <a:pt x="848" y="1400"/>
                  <a:pt x="768" y="1296"/>
                </a:cubicBezTo>
                <a:cubicBezTo>
                  <a:pt x="688" y="1192"/>
                  <a:pt x="680" y="1128"/>
                  <a:pt x="576" y="960"/>
                </a:cubicBezTo>
                <a:cubicBezTo>
                  <a:pt x="472" y="792"/>
                  <a:pt x="240" y="448"/>
                  <a:pt x="144" y="288"/>
                </a:cubicBezTo>
                <a:cubicBezTo>
                  <a:pt x="48" y="128"/>
                  <a:pt x="24" y="64"/>
                  <a:pt x="0" y="0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666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Per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06360" y="914400"/>
            <a:ext cx="165240" cy="1752480"/>
          </a:xfrm>
          <a:custGeom>
            <a:avLst/>
            <a:gdLst/>
            <a:ahLst/>
            <a:rect l="l" t="t" r="r" b="b"/>
            <a:pathLst>
              <a:path w="104" h="1104">
                <a:moveTo>
                  <a:pt x="8" y="1104"/>
                </a:moveTo>
                <a:cubicBezTo>
                  <a:pt x="4" y="968"/>
                  <a:pt x="0" y="832"/>
                  <a:pt x="8" y="720"/>
                </a:cubicBezTo>
                <a:cubicBezTo>
                  <a:pt x="16" y="608"/>
                  <a:pt x="40" y="552"/>
                  <a:pt x="56" y="432"/>
                </a:cubicBezTo>
                <a:cubicBezTo>
                  <a:pt x="72" y="312"/>
                  <a:pt x="88" y="156"/>
                  <a:pt x="104" y="0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467480" cy="6937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705720" y="304920"/>
            <a:ext cx="2209680" cy="761760"/>
          </a:xfrm>
          <a:prstGeom prst="rect">
            <a:avLst/>
          </a:prstGeom>
          <a:solidFill>
            <a:srgbClr val="3366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Antioch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Psi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880" y="5867280"/>
            <a:ext cx="3733920" cy="533520"/>
          </a:xfrm>
          <a:prstGeom prst="rect">
            <a:avLst/>
          </a:prstGeom>
          <a:solidFill>
            <a:srgbClr val="3366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Temple of Augus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77520" cy="6861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162920" y="2895480"/>
            <a:ext cx="2286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Syr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Antio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2819520"/>
            <a:ext cx="228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Tar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5105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Salam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3886200"/>
            <a:ext cx="228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Seleu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5486400"/>
            <a:ext cx="228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Paph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1522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Pisid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Antio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914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Icon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1981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Lystra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22096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Der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562720" y="4114800"/>
            <a:ext cx="2209680" cy="10666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5232240"/>
            <a:ext cx="1676160" cy="406440"/>
          </a:xfrm>
          <a:custGeom>
            <a:avLst/>
            <a:gdLst/>
            <a:ahLst/>
            <a:rect l="l" t="t" r="r" b="b"/>
            <a:pathLst>
              <a:path w="1056" h="256">
                <a:moveTo>
                  <a:pt x="1056" y="64"/>
                </a:moveTo>
                <a:cubicBezTo>
                  <a:pt x="968" y="32"/>
                  <a:pt x="880" y="0"/>
                  <a:pt x="768" y="16"/>
                </a:cubicBezTo>
                <a:cubicBezTo>
                  <a:pt x="656" y="32"/>
                  <a:pt x="488" y="136"/>
                  <a:pt x="384" y="160"/>
                </a:cubicBezTo>
                <a:cubicBezTo>
                  <a:pt x="280" y="184"/>
                  <a:pt x="208" y="144"/>
                  <a:pt x="144" y="160"/>
                </a:cubicBezTo>
                <a:cubicBezTo>
                  <a:pt x="80" y="176"/>
                  <a:pt x="40" y="216"/>
                  <a:pt x="0" y="256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3124080"/>
            <a:ext cx="1676520" cy="2514600"/>
          </a:xfrm>
          <a:custGeom>
            <a:avLst/>
            <a:gdLst/>
            <a:ahLst/>
            <a:rect l="l" t="t" r="r" b="b"/>
            <a:pathLst>
              <a:path w="1056" h="1584">
                <a:moveTo>
                  <a:pt x="1056" y="1584"/>
                </a:moveTo>
                <a:cubicBezTo>
                  <a:pt x="952" y="1492"/>
                  <a:pt x="848" y="1400"/>
                  <a:pt x="768" y="1296"/>
                </a:cubicBezTo>
                <a:cubicBezTo>
                  <a:pt x="688" y="1192"/>
                  <a:pt x="680" y="1128"/>
                  <a:pt x="576" y="960"/>
                </a:cubicBezTo>
                <a:cubicBezTo>
                  <a:pt x="472" y="792"/>
                  <a:pt x="240" y="448"/>
                  <a:pt x="144" y="288"/>
                </a:cubicBezTo>
                <a:cubicBezTo>
                  <a:pt x="48" y="128"/>
                  <a:pt x="24" y="64"/>
                  <a:pt x="0" y="0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2666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Per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06360" y="914400"/>
            <a:ext cx="165240" cy="1752480"/>
          </a:xfrm>
          <a:custGeom>
            <a:avLst/>
            <a:gdLst/>
            <a:ahLst/>
            <a:rect l="l" t="t" r="r" b="b"/>
            <a:pathLst>
              <a:path w="104" h="1104">
                <a:moveTo>
                  <a:pt x="8" y="1104"/>
                </a:moveTo>
                <a:cubicBezTo>
                  <a:pt x="4" y="968"/>
                  <a:pt x="0" y="832"/>
                  <a:pt x="8" y="720"/>
                </a:cubicBezTo>
                <a:cubicBezTo>
                  <a:pt x="16" y="608"/>
                  <a:pt x="40" y="552"/>
                  <a:pt x="56" y="432"/>
                </a:cubicBezTo>
                <a:cubicBezTo>
                  <a:pt x="72" y="312"/>
                  <a:pt x="88" y="156"/>
                  <a:pt x="104" y="0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76212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0"/>
                </a:moveTo>
                <a:cubicBezTo>
                  <a:pt x="48" y="76"/>
                  <a:pt x="96" y="152"/>
                  <a:pt x="240" y="192"/>
                </a:cubicBezTo>
                <a:cubicBezTo>
                  <a:pt x="384" y="232"/>
                  <a:pt x="624" y="236"/>
                  <a:pt x="864" y="240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1295280"/>
            <a:ext cx="762120" cy="838440"/>
          </a:xfrm>
          <a:custGeom>
            <a:avLst/>
            <a:gdLst/>
            <a:ahLst/>
            <a:rect l="l" t="t" r="r" b="b"/>
            <a:pathLst>
              <a:path w="480" h="528">
                <a:moveTo>
                  <a:pt x="0" y="0"/>
                </a:moveTo>
                <a:cubicBezTo>
                  <a:pt x="104" y="124"/>
                  <a:pt x="208" y="248"/>
                  <a:pt x="288" y="336"/>
                </a:cubicBezTo>
                <a:cubicBezTo>
                  <a:pt x="368" y="424"/>
                  <a:pt x="424" y="476"/>
                  <a:pt x="480" y="528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77520" cy="6861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7162920" y="2895480"/>
            <a:ext cx="2286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Syr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Antio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819520"/>
            <a:ext cx="228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Tar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5105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Salam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0" y="3886200"/>
            <a:ext cx="228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Seleu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5486400"/>
            <a:ext cx="228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Paph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1522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Pisid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Antio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914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Icon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1981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Lystra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22096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Der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562720" y="4114800"/>
            <a:ext cx="2209680" cy="10666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5232240"/>
            <a:ext cx="1676160" cy="406440"/>
          </a:xfrm>
          <a:custGeom>
            <a:avLst/>
            <a:gdLst/>
            <a:ahLst/>
            <a:rect l="l" t="t" r="r" b="b"/>
            <a:pathLst>
              <a:path w="1056" h="256">
                <a:moveTo>
                  <a:pt x="1056" y="64"/>
                </a:moveTo>
                <a:cubicBezTo>
                  <a:pt x="968" y="32"/>
                  <a:pt x="880" y="0"/>
                  <a:pt x="768" y="16"/>
                </a:cubicBezTo>
                <a:cubicBezTo>
                  <a:pt x="656" y="32"/>
                  <a:pt x="488" y="136"/>
                  <a:pt x="384" y="160"/>
                </a:cubicBezTo>
                <a:cubicBezTo>
                  <a:pt x="280" y="184"/>
                  <a:pt x="208" y="144"/>
                  <a:pt x="144" y="160"/>
                </a:cubicBezTo>
                <a:cubicBezTo>
                  <a:pt x="80" y="176"/>
                  <a:pt x="40" y="216"/>
                  <a:pt x="0" y="256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124080"/>
            <a:ext cx="1676520" cy="2514600"/>
          </a:xfrm>
          <a:custGeom>
            <a:avLst/>
            <a:gdLst/>
            <a:ahLst/>
            <a:rect l="l" t="t" r="r" b="b"/>
            <a:pathLst>
              <a:path w="1056" h="1584">
                <a:moveTo>
                  <a:pt x="1056" y="1584"/>
                </a:moveTo>
                <a:cubicBezTo>
                  <a:pt x="952" y="1492"/>
                  <a:pt x="848" y="1400"/>
                  <a:pt x="768" y="1296"/>
                </a:cubicBezTo>
                <a:cubicBezTo>
                  <a:pt x="688" y="1192"/>
                  <a:pt x="680" y="1128"/>
                  <a:pt x="576" y="960"/>
                </a:cubicBezTo>
                <a:cubicBezTo>
                  <a:pt x="472" y="792"/>
                  <a:pt x="240" y="448"/>
                  <a:pt x="144" y="288"/>
                </a:cubicBezTo>
                <a:cubicBezTo>
                  <a:pt x="48" y="128"/>
                  <a:pt x="24" y="64"/>
                  <a:pt x="0" y="0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2666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Per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06360" y="914400"/>
            <a:ext cx="165240" cy="1752480"/>
          </a:xfrm>
          <a:custGeom>
            <a:avLst/>
            <a:gdLst/>
            <a:ahLst/>
            <a:rect l="l" t="t" r="r" b="b"/>
            <a:pathLst>
              <a:path w="104" h="1104">
                <a:moveTo>
                  <a:pt x="8" y="1104"/>
                </a:moveTo>
                <a:cubicBezTo>
                  <a:pt x="4" y="968"/>
                  <a:pt x="0" y="832"/>
                  <a:pt x="8" y="720"/>
                </a:cubicBezTo>
                <a:cubicBezTo>
                  <a:pt x="16" y="608"/>
                  <a:pt x="40" y="552"/>
                  <a:pt x="56" y="432"/>
                </a:cubicBezTo>
                <a:cubicBezTo>
                  <a:pt x="72" y="312"/>
                  <a:pt x="88" y="156"/>
                  <a:pt x="104" y="0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76212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0"/>
                </a:moveTo>
                <a:cubicBezTo>
                  <a:pt x="48" y="76"/>
                  <a:pt x="96" y="152"/>
                  <a:pt x="240" y="192"/>
                </a:cubicBezTo>
                <a:cubicBezTo>
                  <a:pt x="384" y="232"/>
                  <a:pt x="624" y="236"/>
                  <a:pt x="864" y="240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1295280"/>
            <a:ext cx="762120" cy="838440"/>
          </a:xfrm>
          <a:custGeom>
            <a:avLst/>
            <a:gdLst/>
            <a:ahLst/>
            <a:rect l="l" t="t" r="r" b="b"/>
            <a:pathLst>
              <a:path w="480" h="528">
                <a:moveTo>
                  <a:pt x="0" y="0"/>
                </a:moveTo>
                <a:cubicBezTo>
                  <a:pt x="104" y="124"/>
                  <a:pt x="208" y="248"/>
                  <a:pt x="288" y="336"/>
                </a:cubicBezTo>
                <a:cubicBezTo>
                  <a:pt x="368" y="424"/>
                  <a:pt x="424" y="476"/>
                  <a:pt x="480" y="528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2286000"/>
            <a:ext cx="228600" cy="763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3124080"/>
            <a:ext cx="6400800" cy="1168560"/>
          </a:xfrm>
          <a:custGeom>
            <a:avLst/>
            <a:gdLst/>
            <a:ahLst/>
            <a:rect l="l" t="t" r="r" b="b"/>
            <a:pathLst>
              <a:path w="4032" h="736">
                <a:moveTo>
                  <a:pt x="0" y="0"/>
                </a:moveTo>
                <a:cubicBezTo>
                  <a:pt x="240" y="112"/>
                  <a:pt x="480" y="224"/>
                  <a:pt x="672" y="336"/>
                </a:cubicBezTo>
                <a:cubicBezTo>
                  <a:pt x="864" y="448"/>
                  <a:pt x="1008" y="608"/>
                  <a:pt x="1152" y="672"/>
                </a:cubicBezTo>
                <a:cubicBezTo>
                  <a:pt x="1296" y="736"/>
                  <a:pt x="1360" y="728"/>
                  <a:pt x="1536" y="720"/>
                </a:cubicBezTo>
                <a:cubicBezTo>
                  <a:pt x="1712" y="712"/>
                  <a:pt x="2016" y="696"/>
                  <a:pt x="2208" y="624"/>
                </a:cubicBezTo>
                <a:cubicBezTo>
                  <a:pt x="2400" y="552"/>
                  <a:pt x="2552" y="360"/>
                  <a:pt x="2688" y="288"/>
                </a:cubicBezTo>
                <a:cubicBezTo>
                  <a:pt x="2824" y="216"/>
                  <a:pt x="2872" y="192"/>
                  <a:pt x="3024" y="192"/>
                </a:cubicBezTo>
                <a:cubicBezTo>
                  <a:pt x="3176" y="192"/>
                  <a:pt x="3464" y="240"/>
                  <a:pt x="3600" y="288"/>
                </a:cubicBezTo>
                <a:cubicBezTo>
                  <a:pt x="3736" y="336"/>
                  <a:pt x="3768" y="432"/>
                  <a:pt x="3840" y="480"/>
                </a:cubicBezTo>
                <a:cubicBezTo>
                  <a:pt x="3912" y="528"/>
                  <a:pt x="3972" y="552"/>
                  <a:pt x="4032" y="576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ts 1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16790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Christians be circumcised in order to be sav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-76320" y="0"/>
            <a:ext cx="10591920" cy="6902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095880" y="182880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Tro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1447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Thessalon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838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Philip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137160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Be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19720" y="3962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Ath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388620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orin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1066680"/>
            <a:ext cx="1143000" cy="53352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88" y="20"/>
                  <a:pt x="456" y="40"/>
                  <a:pt x="336" y="96"/>
                </a:cubicBezTo>
                <a:cubicBezTo>
                  <a:pt x="216" y="152"/>
                  <a:pt x="108" y="244"/>
                  <a:pt x="0" y="336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06520" y="2455920"/>
            <a:ext cx="5360760" cy="4021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699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ook of A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uthor:  Lu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s is a sequ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ke begins by referencing his first boo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books are dedicated to Theophil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886200"/>
            <a:ext cx="6400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first account I composed, Theophilus, about all that Jesus began to do and teach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until the day when He was taken up, after He had by the Holy Spirit given orders to the apostles whom He had chosen. (Acts 1:1-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-76320" y="0"/>
            <a:ext cx="10591920" cy="6902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095880" y="182880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Tro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1447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Thessalon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838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Philip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137160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Be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3962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Ath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43200" y="388620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orin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60720" y="1498680"/>
            <a:ext cx="749160" cy="330120"/>
          </a:xfrm>
          <a:custGeom>
            <a:avLst/>
            <a:gdLst/>
            <a:ahLst/>
            <a:rect l="l" t="t" r="r" b="b"/>
            <a:pathLst>
              <a:path w="472" h="208">
                <a:moveTo>
                  <a:pt x="472" y="16"/>
                </a:moveTo>
                <a:cubicBezTo>
                  <a:pt x="412" y="8"/>
                  <a:pt x="352" y="0"/>
                  <a:pt x="280" y="16"/>
                </a:cubicBezTo>
                <a:cubicBezTo>
                  <a:pt x="208" y="32"/>
                  <a:pt x="80" y="80"/>
                  <a:pt x="40" y="112"/>
                </a:cubicBezTo>
                <a:cubicBezTo>
                  <a:pt x="0" y="144"/>
                  <a:pt x="20" y="176"/>
                  <a:pt x="40" y="208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ts 17:11-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240" y="1447920"/>
            <a:ext cx="6629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w these were more noble-minded than those in Thessalonica, for they received the word with great eagerness, examining the Scriptures daily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 se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ther these things were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ny of them therefore believed, along with a number of prominent Greek women and m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1143000"/>
            <a:ext cx="7010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-914400" y="0"/>
            <a:ext cx="10591920" cy="6902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257800" y="182880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Tro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1447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Thessalon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8380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Philip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137160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Be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3962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Ath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388620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orin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22640" y="1498680"/>
            <a:ext cx="749160" cy="330120"/>
          </a:xfrm>
          <a:custGeom>
            <a:avLst/>
            <a:gdLst/>
            <a:ahLst/>
            <a:rect l="l" t="t" r="r" b="b"/>
            <a:pathLst>
              <a:path w="472" h="208">
                <a:moveTo>
                  <a:pt x="472" y="16"/>
                </a:moveTo>
                <a:cubicBezTo>
                  <a:pt x="412" y="8"/>
                  <a:pt x="352" y="0"/>
                  <a:pt x="280" y="16"/>
                </a:cubicBezTo>
                <a:cubicBezTo>
                  <a:pt x="208" y="32"/>
                  <a:pt x="80" y="80"/>
                  <a:pt x="40" y="112"/>
                </a:cubicBezTo>
                <a:cubicBezTo>
                  <a:pt x="0" y="144"/>
                  <a:pt x="20" y="176"/>
                  <a:pt x="40" y="208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1981080"/>
            <a:ext cx="1344600" cy="2198880"/>
          </a:xfrm>
          <a:custGeom>
            <a:avLst/>
            <a:gdLst/>
            <a:ahLst/>
            <a:rect l="l" t="t" r="r" b="b"/>
            <a:pathLst>
              <a:path w="847" h="1385">
                <a:moveTo>
                  <a:pt x="0" y="0"/>
                </a:moveTo>
                <a:cubicBezTo>
                  <a:pt x="64" y="20"/>
                  <a:pt x="128" y="40"/>
                  <a:pt x="192" y="96"/>
                </a:cubicBezTo>
                <a:cubicBezTo>
                  <a:pt x="256" y="152"/>
                  <a:pt x="320" y="264"/>
                  <a:pt x="384" y="336"/>
                </a:cubicBezTo>
                <a:cubicBezTo>
                  <a:pt x="448" y="408"/>
                  <a:pt x="536" y="456"/>
                  <a:pt x="576" y="528"/>
                </a:cubicBezTo>
                <a:cubicBezTo>
                  <a:pt x="616" y="600"/>
                  <a:pt x="640" y="720"/>
                  <a:pt x="624" y="768"/>
                </a:cubicBezTo>
                <a:cubicBezTo>
                  <a:pt x="608" y="816"/>
                  <a:pt x="528" y="800"/>
                  <a:pt x="480" y="816"/>
                </a:cubicBezTo>
                <a:cubicBezTo>
                  <a:pt x="432" y="832"/>
                  <a:pt x="384" y="848"/>
                  <a:pt x="336" y="864"/>
                </a:cubicBezTo>
                <a:cubicBezTo>
                  <a:pt x="288" y="880"/>
                  <a:pt x="200" y="896"/>
                  <a:pt x="192" y="912"/>
                </a:cubicBezTo>
                <a:cubicBezTo>
                  <a:pt x="184" y="928"/>
                  <a:pt x="240" y="944"/>
                  <a:pt x="288" y="960"/>
                </a:cubicBezTo>
                <a:cubicBezTo>
                  <a:pt x="336" y="976"/>
                  <a:pt x="420" y="989"/>
                  <a:pt x="480" y="1008"/>
                </a:cubicBezTo>
                <a:cubicBezTo>
                  <a:pt x="540" y="1027"/>
                  <a:pt x="601" y="1046"/>
                  <a:pt x="647" y="1074"/>
                </a:cubicBezTo>
                <a:cubicBezTo>
                  <a:pt x="693" y="1102"/>
                  <a:pt x="726" y="1122"/>
                  <a:pt x="759" y="1174"/>
                </a:cubicBezTo>
                <a:cubicBezTo>
                  <a:pt x="792" y="1226"/>
                  <a:pt x="829" y="1341"/>
                  <a:pt x="847" y="1385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848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829800" cy="6900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28600" y="685800"/>
            <a:ext cx="2286000" cy="685800"/>
          </a:xfrm>
          <a:prstGeom prst="rect">
            <a:avLst/>
          </a:prstGeom>
          <a:solidFill>
            <a:srgbClr val="3366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837000"/>
            <a:ext cx="19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Areopa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-1981080" y="-2057400"/>
            <a:ext cx="13106160" cy="9899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304920" y="533520"/>
            <a:ext cx="3968640" cy="525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-76320" y="0"/>
            <a:ext cx="10591920" cy="6902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095880" y="182880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Tro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81280" y="1447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Thessalon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43400" y="838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Philip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81080" y="137160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Be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3962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Ath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88620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orin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-380880"/>
            <a:ext cx="9601200" cy="72468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-380880" y="-336600"/>
            <a:ext cx="9524880" cy="71946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cts 18:2-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14400" y="327636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Jews to leave Rome. He came to them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because he was of the same trade, he stayed with them and they were working; for by trade they were tent-ma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19320" y="990720"/>
            <a:ext cx="6781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129528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found a certain Jew named Aquila, a native of Pontus, having recently come from Italy with his wife Priscilla, because Claudius had commanded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791320" y="3352680"/>
            <a:ext cx="246996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191120" y="4267080"/>
            <a:ext cx="152280" cy="16002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040" y="5257800"/>
            <a:ext cx="251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n the Synagogu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22440" y="1600200"/>
            <a:ext cx="3112920" cy="337824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5181480" y="2362320"/>
            <a:ext cx="3657240" cy="3885840"/>
            <a:chOff x="5181480" y="2362320"/>
            <a:chExt cx="3657240" cy="3885840"/>
          </a:xfrm>
        </p:grpSpPr>
        <p:sp>
          <p:nvSpPr>
            <p:cNvPr id="220" name=""/>
            <p:cNvSpPr/>
            <p:nvPr/>
          </p:nvSpPr>
          <p:spPr>
            <a:xfrm>
              <a:off x="5340600" y="5217120"/>
              <a:ext cx="3021120" cy="10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ecff"/>
                  </a:solidFill>
                  <a:latin typeface="Arial"/>
                </a:rPr>
                <a:t>In the house of Titius Justu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3"/>
            <a:stretch/>
          </p:blipFill>
          <p:spPr>
            <a:xfrm>
              <a:off x="5181480" y="2362320"/>
              <a:ext cx="3657240" cy="254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"/>
          <p:cNvSpPr/>
          <p:nvPr/>
        </p:nvSpPr>
        <p:spPr>
          <a:xfrm>
            <a:off x="3505320" y="4419720"/>
            <a:ext cx="1523880" cy="990360"/>
          </a:xfrm>
          <a:prstGeom prst="cube">
            <a:avLst>
              <a:gd name="adj" fmla="val 9777"/>
            </a:avLst>
          </a:prstGeo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B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5334120"/>
            <a:ext cx="106668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733560" y="5329080"/>
            <a:ext cx="1066680" cy="115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6" dur="1" fill="hold"/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-304920"/>
            <a:ext cx="9144000" cy="70977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477120" y="2057400"/>
            <a:ext cx="2286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Syr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Antio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1859040"/>
            <a:ext cx="228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Ephesus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71800" y="1765440"/>
            <a:ext cx="4267080" cy="698400"/>
          </a:xfrm>
          <a:custGeom>
            <a:avLst/>
            <a:gdLst/>
            <a:ahLst/>
            <a:rect l="l" t="t" r="r" b="b"/>
            <a:pathLst>
              <a:path w="2688" h="440">
                <a:moveTo>
                  <a:pt x="2688" y="440"/>
                </a:moveTo>
                <a:cubicBezTo>
                  <a:pt x="2564" y="392"/>
                  <a:pt x="2440" y="344"/>
                  <a:pt x="2352" y="296"/>
                </a:cubicBezTo>
                <a:cubicBezTo>
                  <a:pt x="2264" y="248"/>
                  <a:pt x="2240" y="184"/>
                  <a:pt x="2160" y="152"/>
                </a:cubicBezTo>
                <a:cubicBezTo>
                  <a:pt x="2080" y="120"/>
                  <a:pt x="1976" y="88"/>
                  <a:pt x="1872" y="104"/>
                </a:cubicBezTo>
                <a:cubicBezTo>
                  <a:pt x="1768" y="120"/>
                  <a:pt x="1648" y="256"/>
                  <a:pt x="1536" y="248"/>
                </a:cubicBezTo>
                <a:cubicBezTo>
                  <a:pt x="1424" y="240"/>
                  <a:pt x="1312" y="96"/>
                  <a:pt x="1200" y="56"/>
                </a:cubicBezTo>
                <a:cubicBezTo>
                  <a:pt x="1088" y="16"/>
                  <a:pt x="960" y="0"/>
                  <a:pt x="864" y="8"/>
                </a:cubicBezTo>
                <a:cubicBezTo>
                  <a:pt x="768" y="16"/>
                  <a:pt x="720" y="88"/>
                  <a:pt x="624" y="104"/>
                </a:cubicBezTo>
                <a:cubicBezTo>
                  <a:pt x="528" y="120"/>
                  <a:pt x="368" y="112"/>
                  <a:pt x="288" y="104"/>
                </a:cubicBezTo>
                <a:cubicBezTo>
                  <a:pt x="208" y="96"/>
                  <a:pt x="192" y="48"/>
                  <a:pt x="144" y="56"/>
                </a:cubicBezTo>
                <a:cubicBezTo>
                  <a:pt x="96" y="64"/>
                  <a:pt x="48" y="108"/>
                  <a:pt x="0" y="152"/>
                </a:cubicBezTo>
              </a:path>
            </a:pathLst>
          </a:custGeom>
          <a:noFill/>
          <a:ln w="76320">
            <a:solidFill>
              <a:srgbClr val="66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16800" y="4906800"/>
            <a:ext cx="228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aesarea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2057400"/>
            <a:ext cx="2362320" cy="355680"/>
          </a:xfrm>
          <a:custGeom>
            <a:avLst/>
            <a:gdLst/>
            <a:ahLst/>
            <a:rect l="l" t="t" r="r" b="b"/>
            <a:pathLst>
              <a:path w="1488" h="224">
                <a:moveTo>
                  <a:pt x="0" y="0"/>
                </a:moveTo>
                <a:cubicBezTo>
                  <a:pt x="200" y="80"/>
                  <a:pt x="400" y="160"/>
                  <a:pt x="576" y="192"/>
                </a:cubicBezTo>
                <a:cubicBezTo>
                  <a:pt x="752" y="224"/>
                  <a:pt x="920" y="208"/>
                  <a:pt x="1056" y="192"/>
                </a:cubicBezTo>
                <a:cubicBezTo>
                  <a:pt x="1192" y="176"/>
                  <a:pt x="1320" y="120"/>
                  <a:pt x="1392" y="96"/>
                </a:cubicBezTo>
                <a:cubicBezTo>
                  <a:pt x="1464" y="72"/>
                  <a:pt x="1476" y="60"/>
                  <a:pt x="1488" y="48"/>
                </a:cubicBezTo>
              </a:path>
            </a:pathLst>
          </a:custGeom>
          <a:noFill/>
          <a:ln w="76320">
            <a:solidFill>
              <a:srgbClr val="66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05040" y="2286000"/>
            <a:ext cx="4000680" cy="2666880"/>
          </a:xfrm>
          <a:custGeom>
            <a:avLst/>
            <a:gdLst/>
            <a:ahLst/>
            <a:rect l="l" t="t" r="r" b="b"/>
            <a:pathLst>
              <a:path w="2520" h="1680">
                <a:moveTo>
                  <a:pt x="24" y="0"/>
                </a:moveTo>
                <a:cubicBezTo>
                  <a:pt x="12" y="56"/>
                  <a:pt x="0" y="112"/>
                  <a:pt x="24" y="192"/>
                </a:cubicBezTo>
                <a:cubicBezTo>
                  <a:pt x="48" y="272"/>
                  <a:pt x="96" y="392"/>
                  <a:pt x="168" y="480"/>
                </a:cubicBezTo>
                <a:cubicBezTo>
                  <a:pt x="240" y="568"/>
                  <a:pt x="192" y="632"/>
                  <a:pt x="456" y="720"/>
                </a:cubicBezTo>
                <a:cubicBezTo>
                  <a:pt x="720" y="808"/>
                  <a:pt x="1408" y="848"/>
                  <a:pt x="1752" y="1008"/>
                </a:cubicBezTo>
                <a:cubicBezTo>
                  <a:pt x="2096" y="1168"/>
                  <a:pt x="2308" y="1424"/>
                  <a:pt x="2520" y="1680"/>
                </a:cubicBezTo>
              </a:path>
            </a:pathLst>
          </a:custGeom>
          <a:noFill/>
          <a:ln w="76320">
            <a:solidFill>
              <a:srgbClr val="66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10280" y="3124080"/>
            <a:ext cx="774720" cy="1905120"/>
          </a:xfrm>
          <a:custGeom>
            <a:avLst/>
            <a:gdLst/>
            <a:ahLst/>
            <a:rect l="l" t="t" r="r" b="b"/>
            <a:pathLst>
              <a:path w="488" h="1200">
                <a:moveTo>
                  <a:pt x="0" y="1200"/>
                </a:moveTo>
                <a:cubicBezTo>
                  <a:pt x="64" y="1040"/>
                  <a:pt x="128" y="880"/>
                  <a:pt x="192" y="768"/>
                </a:cubicBezTo>
                <a:cubicBezTo>
                  <a:pt x="256" y="656"/>
                  <a:pt x="336" y="600"/>
                  <a:pt x="384" y="528"/>
                </a:cubicBezTo>
                <a:cubicBezTo>
                  <a:pt x="432" y="456"/>
                  <a:pt x="472" y="424"/>
                  <a:pt x="480" y="336"/>
                </a:cubicBezTo>
                <a:cubicBezTo>
                  <a:pt x="488" y="248"/>
                  <a:pt x="460" y="124"/>
                  <a:pt x="432" y="0"/>
                </a:cubicBezTo>
              </a:path>
            </a:pathLst>
          </a:custGeom>
          <a:noFill/>
          <a:ln w="76320">
            <a:solidFill>
              <a:srgbClr val="66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idging the Ga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2437920"/>
            <a:ext cx="2210040" cy="12956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Gospe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2438280"/>
            <a:ext cx="2210040" cy="12956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Epist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333600" y="2895480"/>
            <a:ext cx="2476800" cy="495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ook of Acts</a:t>
            </a: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6110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6110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-304920"/>
            <a:ext cx="9144000" cy="70977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477120" y="2057400"/>
            <a:ext cx="2286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Syr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Antio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14600" y="1859040"/>
            <a:ext cx="228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Ephesus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29400" y="4724280"/>
            <a:ext cx="228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aesarea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9680" y="216000"/>
            <a:ext cx="2679840" cy="1689120"/>
          </a:xfrm>
          <a:custGeom>
            <a:avLst/>
            <a:gdLst/>
            <a:ahLst/>
            <a:rect l="l" t="t" r="r" b="b"/>
            <a:pathLst>
              <a:path w="1688" h="1064">
                <a:moveTo>
                  <a:pt x="1688" y="1064"/>
                </a:moveTo>
                <a:cubicBezTo>
                  <a:pt x="1668" y="888"/>
                  <a:pt x="1648" y="712"/>
                  <a:pt x="1592" y="584"/>
                </a:cubicBezTo>
                <a:cubicBezTo>
                  <a:pt x="1536" y="456"/>
                  <a:pt x="1416" y="376"/>
                  <a:pt x="1352" y="296"/>
                </a:cubicBezTo>
                <a:cubicBezTo>
                  <a:pt x="1288" y="216"/>
                  <a:pt x="1288" y="152"/>
                  <a:pt x="1208" y="104"/>
                </a:cubicBezTo>
                <a:cubicBezTo>
                  <a:pt x="1128" y="56"/>
                  <a:pt x="1000" y="16"/>
                  <a:pt x="872" y="8"/>
                </a:cubicBezTo>
                <a:cubicBezTo>
                  <a:pt x="744" y="0"/>
                  <a:pt x="568" y="24"/>
                  <a:pt x="440" y="56"/>
                </a:cubicBezTo>
                <a:cubicBezTo>
                  <a:pt x="312" y="88"/>
                  <a:pt x="176" y="136"/>
                  <a:pt x="104" y="200"/>
                </a:cubicBezTo>
                <a:cubicBezTo>
                  <a:pt x="32" y="264"/>
                  <a:pt x="16" y="336"/>
                  <a:pt x="8" y="440"/>
                </a:cubicBezTo>
                <a:cubicBezTo>
                  <a:pt x="0" y="544"/>
                  <a:pt x="28" y="684"/>
                  <a:pt x="56" y="824"/>
                </a:cubicBezTo>
              </a:path>
            </a:pathLst>
          </a:custGeom>
          <a:noFill/>
          <a:ln w="76320">
            <a:solidFill>
              <a:srgbClr val="66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2280" y="291960"/>
            <a:ext cx="1371600" cy="1155960"/>
          </a:xfrm>
          <a:custGeom>
            <a:avLst/>
            <a:gdLst/>
            <a:ahLst/>
            <a:rect l="l" t="t" r="r" b="b"/>
            <a:pathLst>
              <a:path w="864" h="728">
                <a:moveTo>
                  <a:pt x="48" y="728"/>
                </a:moveTo>
                <a:cubicBezTo>
                  <a:pt x="24" y="632"/>
                  <a:pt x="0" y="536"/>
                  <a:pt x="0" y="440"/>
                </a:cubicBezTo>
                <a:cubicBezTo>
                  <a:pt x="0" y="344"/>
                  <a:pt x="0" y="216"/>
                  <a:pt x="48" y="152"/>
                </a:cubicBezTo>
                <a:cubicBezTo>
                  <a:pt x="96" y="88"/>
                  <a:pt x="184" y="80"/>
                  <a:pt x="288" y="56"/>
                </a:cubicBezTo>
                <a:cubicBezTo>
                  <a:pt x="392" y="32"/>
                  <a:pt x="576" y="16"/>
                  <a:pt x="672" y="8"/>
                </a:cubicBezTo>
                <a:cubicBezTo>
                  <a:pt x="768" y="0"/>
                  <a:pt x="816" y="4"/>
                  <a:pt x="864" y="8"/>
                </a:cubicBezTo>
              </a:path>
            </a:pathLst>
          </a:custGeom>
          <a:noFill/>
          <a:ln w="76320">
            <a:solidFill>
              <a:srgbClr val="66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57200"/>
            <a:ext cx="1079640" cy="1752480"/>
          </a:xfrm>
          <a:custGeom>
            <a:avLst/>
            <a:gdLst/>
            <a:ahLst/>
            <a:rect l="l" t="t" r="r" b="b"/>
            <a:pathLst>
              <a:path w="680" h="1104">
                <a:moveTo>
                  <a:pt x="0" y="0"/>
                </a:moveTo>
                <a:cubicBezTo>
                  <a:pt x="4" y="76"/>
                  <a:pt x="8" y="152"/>
                  <a:pt x="48" y="240"/>
                </a:cubicBezTo>
                <a:cubicBezTo>
                  <a:pt x="88" y="328"/>
                  <a:pt x="208" y="440"/>
                  <a:pt x="240" y="528"/>
                </a:cubicBezTo>
                <a:cubicBezTo>
                  <a:pt x="272" y="616"/>
                  <a:pt x="240" y="712"/>
                  <a:pt x="240" y="768"/>
                </a:cubicBezTo>
                <a:cubicBezTo>
                  <a:pt x="240" y="824"/>
                  <a:pt x="224" y="824"/>
                  <a:pt x="240" y="864"/>
                </a:cubicBezTo>
                <a:cubicBezTo>
                  <a:pt x="256" y="904"/>
                  <a:pt x="272" y="984"/>
                  <a:pt x="336" y="1008"/>
                </a:cubicBezTo>
                <a:cubicBezTo>
                  <a:pt x="400" y="1032"/>
                  <a:pt x="568" y="992"/>
                  <a:pt x="624" y="1008"/>
                </a:cubicBezTo>
                <a:cubicBezTo>
                  <a:pt x="680" y="1024"/>
                  <a:pt x="676" y="1064"/>
                  <a:pt x="672" y="1104"/>
                </a:cubicBezTo>
              </a:path>
            </a:pathLst>
          </a:custGeom>
          <a:noFill/>
          <a:ln w="76320">
            <a:solidFill>
              <a:srgbClr val="66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2286000"/>
            <a:ext cx="4191120" cy="2590920"/>
          </a:xfrm>
          <a:custGeom>
            <a:avLst/>
            <a:gdLst/>
            <a:ahLst/>
            <a:rect l="l" t="t" r="r" b="b"/>
            <a:pathLst>
              <a:path w="2640" h="1728">
                <a:moveTo>
                  <a:pt x="0" y="0"/>
                </a:moveTo>
                <a:cubicBezTo>
                  <a:pt x="40" y="68"/>
                  <a:pt x="80" y="136"/>
                  <a:pt x="96" y="192"/>
                </a:cubicBezTo>
                <a:cubicBezTo>
                  <a:pt x="112" y="248"/>
                  <a:pt x="56" y="312"/>
                  <a:pt x="96" y="336"/>
                </a:cubicBezTo>
                <a:cubicBezTo>
                  <a:pt x="136" y="360"/>
                  <a:pt x="240" y="304"/>
                  <a:pt x="336" y="336"/>
                </a:cubicBezTo>
                <a:cubicBezTo>
                  <a:pt x="432" y="368"/>
                  <a:pt x="456" y="440"/>
                  <a:pt x="672" y="528"/>
                </a:cubicBezTo>
                <a:cubicBezTo>
                  <a:pt x="888" y="616"/>
                  <a:pt x="1408" y="768"/>
                  <a:pt x="1632" y="864"/>
                </a:cubicBezTo>
                <a:cubicBezTo>
                  <a:pt x="1856" y="960"/>
                  <a:pt x="1880" y="1008"/>
                  <a:pt x="2016" y="1104"/>
                </a:cubicBezTo>
                <a:cubicBezTo>
                  <a:pt x="2152" y="1200"/>
                  <a:pt x="2344" y="1336"/>
                  <a:pt x="2448" y="1440"/>
                </a:cubicBezTo>
                <a:cubicBezTo>
                  <a:pt x="2552" y="1544"/>
                  <a:pt x="2596" y="1636"/>
                  <a:pt x="2640" y="1728"/>
                </a:cubicBezTo>
              </a:path>
            </a:pathLst>
          </a:custGeom>
          <a:noFill/>
          <a:ln w="76320">
            <a:solidFill>
              <a:srgbClr val="66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43600" y="5211720"/>
            <a:ext cx="228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Jerusa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4343400"/>
            <a:ext cx="3505320" cy="2286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 on guard for yourselv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for all the flock, among whi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oly Spirit has made yo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seers, to shepherd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urch of God which 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rchased with His own bloo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ts 20:2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-228600" y="0"/>
            <a:ext cx="9524880" cy="68738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5334120" y="4114800"/>
            <a:ext cx="3657600" cy="243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961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7696080" y="3657600"/>
            <a:ext cx="609840" cy="685800"/>
          </a:xfrm>
          <a:custGeom>
            <a:avLst/>
            <a:gdLst/>
            <a:ahLst/>
            <a:rect l="l" t="t" r="r" b="b"/>
            <a:pathLst>
              <a:path w="384" h="528">
                <a:moveTo>
                  <a:pt x="384" y="528"/>
                </a:moveTo>
                <a:cubicBezTo>
                  <a:pt x="328" y="464"/>
                  <a:pt x="272" y="400"/>
                  <a:pt x="240" y="336"/>
                </a:cubicBezTo>
                <a:cubicBezTo>
                  <a:pt x="208" y="272"/>
                  <a:pt x="232" y="200"/>
                  <a:pt x="192" y="144"/>
                </a:cubicBezTo>
                <a:cubicBezTo>
                  <a:pt x="152" y="88"/>
                  <a:pt x="32" y="24"/>
                  <a:pt x="0" y="0"/>
                </a:cubicBezTo>
              </a:path>
            </a:pathLst>
          </a:custGeom>
          <a:noFill/>
          <a:ln w="76320">
            <a:solidFill>
              <a:srgbClr val="66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71600" y="3111480"/>
            <a:ext cx="6095880" cy="546120"/>
          </a:xfrm>
          <a:custGeom>
            <a:avLst/>
            <a:gdLst/>
            <a:ahLst/>
            <a:rect l="l" t="t" r="r" b="b"/>
            <a:pathLst>
              <a:path w="3840" h="344">
                <a:moveTo>
                  <a:pt x="3840" y="344"/>
                </a:moveTo>
                <a:cubicBezTo>
                  <a:pt x="3756" y="316"/>
                  <a:pt x="3672" y="288"/>
                  <a:pt x="3552" y="248"/>
                </a:cubicBezTo>
                <a:cubicBezTo>
                  <a:pt x="3432" y="208"/>
                  <a:pt x="3264" y="112"/>
                  <a:pt x="3120" y="104"/>
                </a:cubicBezTo>
                <a:cubicBezTo>
                  <a:pt x="2976" y="96"/>
                  <a:pt x="2816" y="168"/>
                  <a:pt x="2688" y="200"/>
                </a:cubicBezTo>
                <a:cubicBezTo>
                  <a:pt x="2560" y="232"/>
                  <a:pt x="2440" y="280"/>
                  <a:pt x="2352" y="296"/>
                </a:cubicBezTo>
                <a:cubicBezTo>
                  <a:pt x="2264" y="312"/>
                  <a:pt x="2208" y="304"/>
                  <a:pt x="2160" y="296"/>
                </a:cubicBezTo>
                <a:cubicBezTo>
                  <a:pt x="2112" y="288"/>
                  <a:pt x="2096" y="264"/>
                  <a:pt x="2064" y="248"/>
                </a:cubicBezTo>
                <a:cubicBezTo>
                  <a:pt x="2032" y="232"/>
                  <a:pt x="2008" y="208"/>
                  <a:pt x="1968" y="200"/>
                </a:cubicBezTo>
                <a:cubicBezTo>
                  <a:pt x="1928" y="192"/>
                  <a:pt x="1880" y="216"/>
                  <a:pt x="1824" y="200"/>
                </a:cubicBezTo>
                <a:cubicBezTo>
                  <a:pt x="1768" y="184"/>
                  <a:pt x="1688" y="120"/>
                  <a:pt x="1632" y="104"/>
                </a:cubicBezTo>
                <a:cubicBezTo>
                  <a:pt x="1576" y="88"/>
                  <a:pt x="1528" y="112"/>
                  <a:pt x="1488" y="104"/>
                </a:cubicBezTo>
                <a:cubicBezTo>
                  <a:pt x="1448" y="96"/>
                  <a:pt x="1432" y="56"/>
                  <a:pt x="1392" y="56"/>
                </a:cubicBezTo>
                <a:cubicBezTo>
                  <a:pt x="1352" y="56"/>
                  <a:pt x="1288" y="112"/>
                  <a:pt x="1248" y="104"/>
                </a:cubicBezTo>
                <a:cubicBezTo>
                  <a:pt x="1208" y="96"/>
                  <a:pt x="1184" y="16"/>
                  <a:pt x="1152" y="8"/>
                </a:cubicBezTo>
                <a:cubicBezTo>
                  <a:pt x="1120" y="0"/>
                  <a:pt x="1080" y="32"/>
                  <a:pt x="1056" y="56"/>
                </a:cubicBezTo>
                <a:cubicBezTo>
                  <a:pt x="1032" y="80"/>
                  <a:pt x="1032" y="136"/>
                  <a:pt x="1008" y="152"/>
                </a:cubicBezTo>
                <a:cubicBezTo>
                  <a:pt x="984" y="168"/>
                  <a:pt x="944" y="168"/>
                  <a:pt x="912" y="152"/>
                </a:cubicBezTo>
                <a:cubicBezTo>
                  <a:pt x="880" y="136"/>
                  <a:pt x="856" y="56"/>
                  <a:pt x="816" y="56"/>
                </a:cubicBezTo>
                <a:cubicBezTo>
                  <a:pt x="776" y="56"/>
                  <a:pt x="720" y="144"/>
                  <a:pt x="672" y="152"/>
                </a:cubicBezTo>
                <a:cubicBezTo>
                  <a:pt x="624" y="160"/>
                  <a:pt x="568" y="120"/>
                  <a:pt x="528" y="104"/>
                </a:cubicBezTo>
                <a:cubicBezTo>
                  <a:pt x="488" y="88"/>
                  <a:pt x="464" y="56"/>
                  <a:pt x="432" y="56"/>
                </a:cubicBezTo>
                <a:cubicBezTo>
                  <a:pt x="400" y="56"/>
                  <a:pt x="376" y="96"/>
                  <a:pt x="336" y="104"/>
                </a:cubicBezTo>
                <a:cubicBezTo>
                  <a:pt x="296" y="112"/>
                  <a:pt x="240" y="112"/>
                  <a:pt x="192" y="104"/>
                </a:cubicBezTo>
                <a:cubicBezTo>
                  <a:pt x="144" y="96"/>
                  <a:pt x="80" y="64"/>
                  <a:pt x="48" y="56"/>
                </a:cubicBezTo>
                <a:cubicBezTo>
                  <a:pt x="16" y="48"/>
                  <a:pt x="8" y="52"/>
                  <a:pt x="0" y="56"/>
                </a:cubicBezTo>
              </a:path>
            </a:pathLst>
          </a:custGeom>
          <a:noFill/>
          <a:ln w="76320">
            <a:solidFill>
              <a:srgbClr val="66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990720"/>
            <a:ext cx="1028880" cy="2057400"/>
          </a:xfrm>
          <a:custGeom>
            <a:avLst/>
            <a:gdLst/>
            <a:ahLst/>
            <a:rect l="l" t="t" r="r" b="b"/>
            <a:pathLst>
              <a:path w="648" h="1296">
                <a:moveTo>
                  <a:pt x="432" y="1296"/>
                </a:moveTo>
                <a:cubicBezTo>
                  <a:pt x="472" y="1260"/>
                  <a:pt x="512" y="1224"/>
                  <a:pt x="528" y="1200"/>
                </a:cubicBezTo>
                <a:cubicBezTo>
                  <a:pt x="544" y="1176"/>
                  <a:pt x="512" y="1176"/>
                  <a:pt x="528" y="1152"/>
                </a:cubicBezTo>
                <a:cubicBezTo>
                  <a:pt x="544" y="1128"/>
                  <a:pt x="608" y="1104"/>
                  <a:pt x="624" y="1056"/>
                </a:cubicBezTo>
                <a:cubicBezTo>
                  <a:pt x="640" y="1008"/>
                  <a:pt x="624" y="920"/>
                  <a:pt x="624" y="864"/>
                </a:cubicBezTo>
                <a:cubicBezTo>
                  <a:pt x="624" y="808"/>
                  <a:pt x="648" y="784"/>
                  <a:pt x="624" y="720"/>
                </a:cubicBezTo>
                <a:cubicBezTo>
                  <a:pt x="600" y="656"/>
                  <a:pt x="528" y="552"/>
                  <a:pt x="480" y="480"/>
                </a:cubicBezTo>
                <a:cubicBezTo>
                  <a:pt x="432" y="408"/>
                  <a:pt x="400" y="360"/>
                  <a:pt x="336" y="288"/>
                </a:cubicBezTo>
                <a:cubicBezTo>
                  <a:pt x="272" y="216"/>
                  <a:pt x="152" y="96"/>
                  <a:pt x="96" y="48"/>
                </a:cubicBezTo>
                <a:cubicBezTo>
                  <a:pt x="40" y="0"/>
                  <a:pt x="20" y="0"/>
                  <a:pt x="0" y="0"/>
                </a:cubicBezTo>
              </a:path>
            </a:pathLst>
          </a:custGeom>
          <a:noFill/>
          <a:ln w="76320">
            <a:solidFill>
              <a:srgbClr val="66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4" dur="5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3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194440" y="314964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ts 28:30-3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219320" y="990720"/>
            <a:ext cx="67053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he stayed two full years in his own rented quarters, and was welcoming all who came to him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eaching the kingdom of God, and teaching concerning the Lord Jesus Christ with all openness, unhinde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8380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bservations on Ac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is a book of Vi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is essentially about the ministries of Peter and Pa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takes and suc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uragement and great cou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rratives are not necessarily norm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aching in the Book of 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yer in the Book of 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2819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uk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s with an address to most excellent Theophi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274680"/>
            <a:ext cx="2819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1066680"/>
            <a:ext cx="4495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s with an address to Theophi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38280"/>
            <a:ext cx="4114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ouncement made by angel Gabr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2438280"/>
            <a:ext cx="4495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ouncement made by two ang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0532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s in Jerusa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350532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s in Jerusa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114800"/>
            <a:ext cx="4114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of Jesus as the Spirit comes on 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4114800"/>
            <a:ext cx="4495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of the Church as the Spirit comes on belie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562720"/>
            <a:ext cx="4114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a movement toward Jerusa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5562720"/>
            <a:ext cx="4495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a movement away from Jerusa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4864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90920" y="4952880"/>
            <a:ext cx="2286000" cy="4572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ts 1:6-8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219320" y="990720"/>
            <a:ext cx="67053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so when they had come together, they were asking Him, saying, "Lord, is it at this time You are restoring the kingdom to Israel?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 said to them, "It is not for you to know times or epochs which the Father has fixed by His own authority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ut you shall receive power when the Holy Spirit has come upon you; and you shall be My witnesses both in Jerusalem, and in all Judea and Samaria, and even to the remotest part of the ear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8380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96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089480" y="41911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rusa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15560" y="4421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94040" y="4357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d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191440" y="4381560"/>
            <a:ext cx="457200" cy="457200"/>
          </a:xfrm>
          <a:prstGeom prst="ellipse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013600" y="4216320"/>
            <a:ext cx="800280" cy="800280"/>
          </a:xfrm>
          <a:prstGeom prst="ellipse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94040" y="39625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990720"/>
            <a:ext cx="7238880" cy="2819160"/>
          </a:xfrm>
          <a:custGeom>
            <a:avLst/>
            <a:gdLst/>
            <a:ahLst/>
            <a:rect l="l" t="t" r="r" b="b"/>
            <a:pathLst>
              <a:path w="4464" h="1696">
                <a:moveTo>
                  <a:pt x="4464" y="1696"/>
                </a:moveTo>
                <a:cubicBezTo>
                  <a:pt x="4112" y="1420"/>
                  <a:pt x="3760" y="1144"/>
                  <a:pt x="3360" y="928"/>
                </a:cubicBezTo>
                <a:cubicBezTo>
                  <a:pt x="2960" y="712"/>
                  <a:pt x="2504" y="544"/>
                  <a:pt x="2064" y="400"/>
                </a:cubicBezTo>
                <a:cubicBezTo>
                  <a:pt x="1624" y="256"/>
                  <a:pt x="1040" y="128"/>
                  <a:pt x="720" y="64"/>
                </a:cubicBezTo>
                <a:cubicBezTo>
                  <a:pt x="400" y="0"/>
                  <a:pt x="264" y="24"/>
                  <a:pt x="144" y="16"/>
                </a:cubicBezTo>
                <a:cubicBezTo>
                  <a:pt x="24" y="8"/>
                  <a:pt x="12" y="12"/>
                  <a:pt x="0" y="16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29480" y="2238480"/>
            <a:ext cx="0" cy="0"/>
          </a:xfrm>
          <a:prstGeom prst="line">
            <a:avLst/>
          </a:prstGeom>
          <a:ln cap="rnd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29480" y="2238480"/>
            <a:ext cx="0" cy="0"/>
          </a:xfrm>
          <a:prstGeom prst="line">
            <a:avLst/>
          </a:prstGeom>
          <a:ln cap="rnd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86160" y="1947960"/>
            <a:ext cx="0" cy="0"/>
          </a:xfrm>
          <a:prstGeom prst="line">
            <a:avLst/>
          </a:prstGeom>
          <a:ln cap="rnd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29480" y="3110040"/>
            <a:ext cx="0" cy="0"/>
          </a:xfrm>
          <a:prstGeom prst="line">
            <a:avLst/>
          </a:prstGeom>
          <a:ln cap="rnd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29480" y="3400560"/>
            <a:ext cx="0" cy="0"/>
          </a:xfrm>
          <a:prstGeom prst="line">
            <a:avLst/>
          </a:prstGeom>
          <a:ln cap="rnd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2819520"/>
            <a:ext cx="0" cy="0"/>
          </a:xfrm>
          <a:prstGeom prst="line">
            <a:avLst/>
          </a:prstGeom>
          <a:ln cap="rnd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29480" y="3110040"/>
            <a:ext cx="0" cy="0"/>
          </a:xfrm>
          <a:prstGeom prst="line">
            <a:avLst/>
          </a:prstGeom>
          <a:ln cap="rnd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28600" y="152280"/>
          <a:ext cx="8763120" cy="6553440"/>
        </p:xfrm>
        <a:graphic>
          <a:graphicData uri="http://schemas.openxmlformats.org/drawingml/2006/table">
            <a:tbl>
              <a:tblPr/>
              <a:tblGrid>
                <a:gridCol w="716040"/>
                <a:gridCol w="1950840"/>
                <a:gridCol w="1828800"/>
                <a:gridCol w="1852560"/>
                <a:gridCol w="2414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Primarily Pe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urch Establish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par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urch Foretol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urch Bor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urch Dispers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urch Witness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urch Organiz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Peter &amp;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urch Scatter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urch Expand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urch Disper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entiles in the Churc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Primarily Pa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urch Extend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irst Missionary Jour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urch in Con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cond Missionary Jour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ird Missionary Jour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ul Imprison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ul in Jerusal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ul in Caesare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ul in Ro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itness to the Resurrec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Jesus God raised up again, to which we are all </a:t>
            </a:r>
            <a:r>
              <a:rPr b="1" i="1" lang="en-US" sz="2800" spc="-1" strike="noStrike">
                <a:solidFill>
                  <a:srgbClr val="ff9966"/>
                </a:solidFill>
                <a:latin typeface="Arial"/>
              </a:rPr>
              <a:t>witnesse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(Acts 2:3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ut you disowned the Holy and Righteous One, and asked for a murderer to be granted to you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but put to death the Prince of life, the one whom God raised from the dead, a fact to which we are </a:t>
            </a:r>
            <a:r>
              <a:rPr b="1" i="1" lang="en-US" sz="2800" spc="-1" strike="noStrike">
                <a:solidFill>
                  <a:srgbClr val="ff9966"/>
                </a:solidFill>
                <a:latin typeface="Arial"/>
              </a:rPr>
              <a:t>witnesse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 (Acts 3:14-1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ith great power the apostles were giving </a:t>
            </a:r>
            <a:r>
              <a:rPr b="1" i="1" lang="en-US" sz="2800" spc="-1" strike="noStrike">
                <a:solidFill>
                  <a:srgbClr val="ff9966"/>
                </a:solidFill>
                <a:latin typeface="Arial"/>
              </a:rPr>
              <a:t>witnes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to the resurrection of the Lord Jesus, and abundant grace was upon them all (4:3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d we are </a:t>
            </a:r>
            <a:r>
              <a:rPr b="1" i="1" lang="en-US" sz="2800" spc="-1" strike="noStrike">
                <a:solidFill>
                  <a:srgbClr val="ff9966"/>
                </a:solidFill>
                <a:latin typeface="Arial"/>
              </a:rPr>
              <a:t>witnesse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of these things; and so is the Holy Spirit, whom God has given to those who obey Him. (Acts 5:3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06-26T15:04:00Z</dcterms:modified>
  <cp:revision>79</cp:revision>
  <dc:subject/>
  <dc:title>Slide 1</dc:title>
</cp:coreProperties>
</file>