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Gospel According to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LUK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019920" y="304812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ster Te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3573360" cy="369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Gospel According to Luk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uthor:  Lu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s to Theophilus (Gre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alogy goes back to A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and Childhood narr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est and most personal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Samari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 man &amp; Laza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igal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just Ste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0920" y="19800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178200" y="1218960"/>
            <a:ext cx="2971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ye witness of the life and ministry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1219320"/>
            <a:ext cx="5562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the apostles Peter and P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12408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s to J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1240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s to Ge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28600" y="3733920"/>
            <a:ext cx="3276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presented as a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3733920"/>
            <a:ext cx="3276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presented as a Serv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28600" y="48006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the sermons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4800600"/>
            <a:ext cx="2971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the miracles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6320" y="228600"/>
            <a:ext cx="2819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th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3733920"/>
            <a:ext cx="3276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presented as a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800600"/>
            <a:ext cx="2971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the teachings &amp; parables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98360"/>
            <a:ext cx="1676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373392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19920" y="-7632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0"/>
            <a:ext cx="7772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Outline of Lu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280" y="838080"/>
          <a:ext cx="8839440" cy="3810240"/>
        </p:xfrm>
        <a:graphic>
          <a:graphicData uri="http://schemas.openxmlformats.org/drawingml/2006/table">
            <a:tbl>
              <a:tblPr/>
              <a:tblGrid>
                <a:gridCol w="1752840"/>
                <a:gridCol w="1904760"/>
                <a:gridCol w="762120"/>
                <a:gridCol w="685800"/>
                <a:gridCol w="1752480"/>
                <a:gridCol w="19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uke 1 –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uke 4 – 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uke 10 – 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uke 19 – 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irth &amp; Baptism of Jes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he Identity of Jes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sus… set His face to go to Jerusalem (9:5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he Parables &amp; Teachings of Je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eath, Burial &amp; Resurrection of Je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dea &amp; Jord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lil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 the Road to Jerusal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Jerusal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rac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crif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½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Wee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530640" y="5181480"/>
            <a:ext cx="106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e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17280" y="5181480"/>
            <a:ext cx="141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clu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5638680"/>
            <a:ext cx="4876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314880" y="4800600"/>
            <a:ext cx="2514600" cy="165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s from Luk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ke is a Histo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historical notations include mention of the various Caesars and the local govern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eeks to relate an “accurate accoun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048120"/>
            <a:ext cx="4800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mple is a Geographical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ant and child narratives take place in the te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sets his face to go to Jerusa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rrection appearances are all in or around Jerusa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838320" cy="238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s from Luk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bletalks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neteen meals are mentioned in Lu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teen of these are unique to Luke’s Gosp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819520"/>
            <a:ext cx="7467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the Poor &amp; the Op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 sings of how God has filled the hungry and sent away the rich empty-handed (1:5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came to set free the downtrodden (4:18-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e to the rich (6: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ble of the Rich Fool (12:16-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ble of the Rich Man &amp; Lazarus (16:19-3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2971800"/>
            <a:ext cx="624852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3560" y="380880"/>
            <a:ext cx="3624480" cy="6096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uke &amp; the Samarita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iples and the Samaritans (9:51-5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ble of the Good Samaritan (10:29-3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ing of the ten lepers (17:11-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28240" y="320040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am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15560" y="441972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ud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11480" y="17524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alil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uke &amp; Wom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4724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ke views the birth of Jesus from Mary’s persp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ke describes the raising of the widow’s son (7:11-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anointed by a sinful woman (7:36-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ke mentions that the ministry of Jesus was supported by women (8:1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 &amp; Martha (10:38-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speaks to “daughters of Jerusalem” (23:27-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at the empty tomb (24:1-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00800" y="990720"/>
            <a:ext cx="192096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0"/>
            <a:ext cx="77724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Outline of Lu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280" y="838080"/>
          <a:ext cx="8839440" cy="3810240"/>
        </p:xfrm>
        <a:graphic>
          <a:graphicData uri="http://schemas.openxmlformats.org/drawingml/2006/table">
            <a:tbl>
              <a:tblPr/>
              <a:tblGrid>
                <a:gridCol w="1752840"/>
                <a:gridCol w="1904760"/>
                <a:gridCol w="762120"/>
                <a:gridCol w="685800"/>
                <a:gridCol w="1752480"/>
                <a:gridCol w="19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uke 1 –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uke 4 – 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uke 10 – 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uke 19 – 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irth &amp; Baptism of Jes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he Identity of Jes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sus… set His face to go to Jerusalem (9:5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he Parables &amp; Teachings of Je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eath, Burial &amp; Resurrection of Je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dea &amp; Jord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lil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 the Road to Jerusal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Jerusal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rac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crif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½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Wee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73240" y="5181480"/>
            <a:ext cx="159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i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34480" y="5181480"/>
            <a:ext cx="159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&am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5638680"/>
            <a:ext cx="4876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8-02T11:25:59Z</dcterms:modified>
  <cp:revision>41</cp:revision>
  <dc:subject/>
  <dc:title>Slide 1</dc:title>
</cp:coreProperties>
</file>