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MA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n who Came to 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5437080" cy="250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00200" y="152280"/>
            <a:ext cx="5638680" cy="609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rk 16:9-2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found in some of the oldest Greek manu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nine Greek words used in the longer ending that are unique to Ma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s to tongues and handling snakes seen as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found in all of the families of tex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x Vaticanus  leaves a large blank space, indicating the scribe’s awareness of the longer e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ous chapter also has unique w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gues and snake prophecy fulfilled in A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838080"/>
            <a:ext cx="4038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hort 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838080"/>
            <a:ext cx="4038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Long 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Gospel According to Ma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uthor:  John M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s to the Gent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ene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a single quote from the Old Test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est of the four Gosp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, vivid deta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loved the rich, young ru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feeding of the five thousand, Jesus had the people sit in groups of 100’s and 50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named man clothed in li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the sons of Simon of Cyre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thew                Ma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038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ye witness of the life and ministry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2193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the apostles Peter and P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819520"/>
            <a:ext cx="4038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s to J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819520"/>
            <a:ext cx="4038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s to Ge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581280"/>
            <a:ext cx="4038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presented as a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3581280"/>
            <a:ext cx="4038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presented as a Serv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724280"/>
            <a:ext cx="4038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the sermons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4724280"/>
            <a:ext cx="4038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the miracles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sus as the Serva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rvant needs no Genealogy or Birth Nar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begins with the ministry of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wo sermons of Jesus are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bles of the Kingdom (Chapter 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vet Discourse (Chapter 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44920" y="3317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7960" y="3317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685800"/>
          <a:ext cx="9144000" cy="3130560"/>
        </p:xfrm>
        <a:graphic>
          <a:graphicData uri="http://schemas.openxmlformats.org/drawingml/2006/table">
            <a:tbl>
              <a:tblPr/>
              <a:tblGrid>
                <a:gridCol w="1600200"/>
                <a:gridCol w="955800"/>
                <a:gridCol w="182520"/>
                <a:gridCol w="1224000"/>
                <a:gridCol w="914400"/>
                <a:gridCol w="1447560"/>
                <a:gridCol w="1219320"/>
                <a:gridCol w="16002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: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: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: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: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: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: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: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log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c Minis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o do men say that I am?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vate Minis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c Minis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&amp; Resu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ptism &amp; Temp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lil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tile Reg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ad to Jerusal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rusal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e of the Serv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ffering of the Serv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685800" y="0"/>
            <a:ext cx="7772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Outline of Ma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19112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Black"/>
              </a:rPr>
              <a:t>Rising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8600" y="4038120"/>
            <a:ext cx="3809880" cy="2133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541008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o is Jes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4114800"/>
            <a:ext cx="3352680" cy="1752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419112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Black"/>
              </a:rPr>
              <a:t>Falling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5334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did He come to Accomplis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Words &amp; Phr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gular use of the Historic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5800" y="838080"/>
          <a:ext cx="7695720" cy="5181480"/>
        </p:xfrm>
        <a:graphic>
          <a:graphicData uri="http://schemas.openxmlformats.org/drawingml/2006/table">
            <a:tbl>
              <a:tblPr/>
              <a:tblGrid>
                <a:gridCol w="3907800"/>
                <a:gridCol w="378792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eding of the 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eding of the 4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k 6:34-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k 8:1-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ok place after the multitude had been with Jesus for one da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ok place after the multitude had been with Jesus for three day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ultitude was mostly Jewish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ultitude would have been mostly Gentil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ok place near Bethsaida Julias on the northeastern shore of the Sea of Galile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ok place in the Decapolis on the southeastern shore of the Sea of Galile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esus used 5 loaves and 2 fish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esus used 7 loaves and a few small fish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re were 12 small baskets of leftover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re were 7 large baskets of leftover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191120" y="39625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78160" y="539748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rk 10:42-45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934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alling them to Himself, Jesus said to them, "You know that those who are recognized as rulers of the Gentiles lord it over them; and their great men exercise authority over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"But it is not so among you, but whoever wishes to become great among you shall be your servant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whoever wishes to be first among you shall be slave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"For even the Son of Man did not come to be served, but to serve, and to give His life a ransom for many.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ro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scription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ing of th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kness from the sixth to the ninth 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od, My God, why hast Thou forsaken Me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eil of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mony of the Centur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8-06T13:12:23Z</dcterms:modified>
  <cp:revision>31</cp:revision>
  <dc:subject/>
  <dc:title>Slide 1</dc:title>
</cp:coreProperties>
</file>