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MATTH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04560" y="27432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spel of th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61596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Gospel According to Matthew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uthor:  Matthew / Le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s to the J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Jewish Genealogy through David to Ab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ocus on the Kingdom of Hea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the bribery of the gu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ion is made of a number of Ge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in the Genea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od the Great &amp; the Ma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aanite woman (15:22-2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enturions (8:5-10 &amp; 27:5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sus as the 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enealogy of th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st with Herod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runner of th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of th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he natur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he supernatur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dentity of th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iumphal Entry of th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304920"/>
          <a:ext cx="8610480" cy="2338200"/>
        </p:xfrm>
        <a:graphic>
          <a:graphicData uri="http://schemas.openxmlformats.org/drawingml/2006/table">
            <a:tbl>
              <a:tblPr/>
              <a:tblGrid>
                <a:gridCol w="2347920"/>
                <a:gridCol w="3305160"/>
                <a:gridCol w="29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 1:1 - 4: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 4:12 - 25: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 26 - 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Introductory Narr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Five narr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Five Serm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Death &amp; Resurrection Narr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7086240"/>
        </p:xfrm>
        <a:graphic>
          <a:graphicData uri="http://schemas.openxmlformats.org/drawingml/2006/table">
            <a:tbl>
              <a:tblPr/>
              <a:tblGrid>
                <a:gridCol w="2494080"/>
                <a:gridCol w="3511440"/>
                <a:gridCol w="3138480"/>
              </a:tblGrid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 1:1 - 4: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 4:12 - 25: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 26-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Introductory Narr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Five Narr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&amp; Five Serm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Death &amp; Resurrection Narr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6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2438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a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Nar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ssination Attempt by false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runner &amp; Baptism of the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1523880"/>
            <a:ext cx="3429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of Disciples / Sermon on the M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acles / Demands of Discipl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ardonable Sin / Parables of the King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Confession  &amp; Transfiguration / Forg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 to Jerusalem / Olivet Dis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523880"/>
            <a:ext cx="3047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Supper, Gethsemane, &amp; Arrest of Je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s &amp; Crucifixion of Je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rrection of Jesus &amp; the Great Com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1676520"/>
            <a:ext cx="3276360" cy="4038480"/>
          </a:xfrm>
          <a:custGeom>
            <a:avLst/>
            <a:gdLst>
              <a:gd name="textAreaLeft" fmla="*/ 819000 w 3276360"/>
              <a:gd name="textAreaRight" fmla="*/ 2457360 w 327636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olla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E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Words &amp; Phr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dom of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bles of the Kingdom (chapter 1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s to the Kingdom (16:1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he Son of man coming in His kingdom (16:2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s as one having authority (7:2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urion: “I am also a man under authority” (8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ef Priests: “Who gave you this authority?” (21:2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uthority given to Jesus (28: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Words &amp; Phr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the Baptist:  Trees that do not produce fruit will be cut down (3:1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: Good trees produce good fruit; bad trees produce bad fruit (7:17-1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ee is known by its fruit (12:3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g tree is cursed because of a lack of fruit (21:1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dom to be given to a nation producing the fruit of it (21:4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8-06T13:03:54Z</dcterms:modified>
  <cp:revision>19</cp:revision>
  <dc:subject/>
  <dc:title>Slide 1</dc:title>
</cp:coreProperties>
</file>