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CFC-3908-4037-A919-F31D4465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4E5-7CB5-4980-8EF2-480F43FB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F11-67F5-4A0B-B21C-5BD8F7B6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ECF-308E-4F91-8929-BBB27AD6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86E-499F-4F36-9FD9-83709E2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6AD-F17E-4FFC-AE82-0B452D1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019-D13C-4643-8762-25A3E3FD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DFC-B18D-4E6C-9D43-199DBCDB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50C-E261-46F9-9180-CCDE54B8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17E-29B8-4001-9DDF-4EC6C07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A5E-D818-4A9E-9211-4D4D52E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8C3-0D37-4583-BCB8-19427FF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E60-F8F1-42C7-99F6-DB0036C6C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ipleship Across the Lifesp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nity International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#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mall Group Exerci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the information in your papers on Experiential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similar conclusions did you arr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fferent conclusions did you sugg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6960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Christ allow for experiential lear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your local church allow for experiential lear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gets you excit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not excited about Christ, your students will not be excited ei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re is a corollary betwee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eeing the multitudes, He felt compassion for them… (Matthew 9: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440" y="2743200"/>
            <a:ext cx="282960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2743200"/>
            <a:ext cx="327636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ti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65680" y="2895480"/>
            <a:ext cx="1371600" cy="381240"/>
          </a:xfrm>
          <a:prstGeom prst="leftRightArrow">
            <a:avLst>
              <a:gd name="adj1" fmla="val 50000"/>
              <a:gd name="adj2" fmla="val 71621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re is a corollary betwee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523520" y="4419720"/>
            <a:ext cx="5867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love, because He first loved us (1 John 4: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440" y="2743200"/>
            <a:ext cx="282960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pa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743200"/>
            <a:ext cx="327636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ti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65680" y="2895480"/>
            <a:ext cx="1371600" cy="381240"/>
          </a:xfrm>
          <a:prstGeom prst="leftRightArrow">
            <a:avLst>
              <a:gd name="adj1" fmla="val 50000"/>
              <a:gd name="adj2" fmla="val 71621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5354640" cy="4925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1905120" cy="3505320"/>
          </a:xfrm>
          <a:prstGeom prst="rect">
            <a:avLst/>
          </a:prstGeom>
          <a:blipFill rotWithShape="0">
            <a:blip r:embed="rId3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destroy your studen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494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l teaching begins at the feeling level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― Howard Hendrick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edibility precedes Commun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o not care what you think until they think you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494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 can impress people at a distance; you can only impact them close up.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― Howard Hendrick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  <a:ea typeface="Arial"/>
              </a:rPr>
              <a:t>Producing Chang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learnin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s of Teaching Childr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not "empty vessels." They come to school with previous experience and ins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want to learn. The natural curiosity of children can be used to help them learn without presenting material as a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learn best when using a range of s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like to cop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They need good rol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inciples of Teaching Childr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need to learn information that is relevant. Learning needs to be related to a child'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need prai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love to play. Playing can be an active form of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mall Group Exerci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281952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ogether a lesson plan for an one hour age-specific teaching event in your church, taking into account how your particular age group is able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657600" y="1219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1568160" cy="2057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705720" y="3352680"/>
            <a:ext cx="1643040" cy="2210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486400" y="4724280"/>
            <a:ext cx="2438280" cy="150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chool (3-5 Years Old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est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 increasing at various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ing is concrete &amp; li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learner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want to do things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adult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of wo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ul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play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314520" cy="4273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4648320"/>
            <a:ext cx="2590560" cy="201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rly Elementary Childr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 range of reading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e thin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about right &amp;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cinated with heaven &amp;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ciation of superna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for love &amp;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43600" y="1447920"/>
            <a:ext cx="364320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pper Elementary Childr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group instinct (clubs, tea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o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humor; gigg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 for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for home life, especially in context of separation or div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587760" cy="482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iddle School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ound emphasis on peer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s (physical and inter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shift from concrete to abstract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657600" cy="2252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4433760"/>
            <a:ext cx="838188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reflect on one’s own thoughts &amp;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self-control of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lf-consc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a mod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― a h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 School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growing awkward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about sex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ound influence of soci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joys argument &amp; de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ng shift toward abstract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ligion is 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53341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 to appreciate an atmosphere of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oubts about his faith may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mall Group Exerci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281952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ogether a lesson plan for an one hour age-specific teaching event in your church, taking into account how your particular age group is able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410080" y="3048120"/>
            <a:ext cx="3200400" cy="251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blical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nge in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05320" y="2286000"/>
            <a:ext cx="487656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t merely inform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259344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28800" y="3127320"/>
            <a:ext cx="4267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/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learning style is “bet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s tend to utilize their own learning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666880"/>
            <a:ext cx="3124080" cy="121932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1523880"/>
            <a:ext cx="3124080" cy="121932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s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00200"/>
            <a:ext cx="3124440" cy="121932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666880"/>
            <a:ext cx="3124080" cy="1219320"/>
          </a:xfrm>
          <a:prstGeom prst="ellipse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esthe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95280" y="1676520"/>
            <a:ext cx="6553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ty of Fait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Enviro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omas Groo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Christian Praxis:  An interaction with the biblical text through the lens of person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 critiques experience and experience critiques 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19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or of theology and religious education at Boston Colle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8720" y="2476440"/>
            <a:ext cx="2430360" cy="25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rence Richar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istian education must be derived first and foremost from our th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zation as a mode of education taken from the Bible and its community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143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; taught at Wheaton, Princeton, &amp; Tal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92920" y="2209680"/>
            <a:ext cx="187020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5334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is more “caught” than 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best through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1-22T20:41:19Z</dcterms:modified>
  <cp:revision>67</cp:revision>
  <dc:subject/>
  <dc:title>Discipleship Across the Lifespan</dc:title>
</cp:coreProperties>
</file>