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1C2-E94E-49BC-B602-B238A83D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579-3081-4CB1-A1B0-577E4161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346-2828-41B4-B767-9FF63A5F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9D0-07EE-45B3-A49D-80B3DF66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68E-B224-4912-AC0E-93DD7628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14F-E6E7-4B5E-9111-BC048200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50B-552C-4604-908C-FA1B4ABB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7FB-2590-45FD-8A3B-982B36D2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558-53F6-4993-95C4-DA369B7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59B-49FB-4D49-8BFB-30652D65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E1E-C876-434D-A143-84556045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3D3-64BA-4639-81B0-86685F2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7C54-7C43-4588-8CFC-88EC553BAE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#4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609480"/>
            <a:ext cx="2743200" cy="12956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Thin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619200"/>
            <a:ext cx="2895840" cy="1285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tuitive Thin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4475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keep heart and mind in balance in minis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5280" y="609480"/>
            <a:ext cx="2743200" cy="12956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Thin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619200"/>
            <a:ext cx="2895840" cy="1285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tuitive Thin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475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teach people to think categoric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should we even 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3962520" cy="1143000"/>
          </a:xfrm>
          <a:prstGeom prst="rect">
            <a:avLst/>
          </a:prstGeom>
          <a:gradFill rotWithShape="0">
            <a:gsLst>
              <a:gs pos="0">
                <a:srgbClr val="0f0007"/>
              </a:gs>
              <a:gs pos="50000">
                <a:srgbClr val="660033"/>
              </a:gs>
              <a:gs pos="100000">
                <a:srgbClr val="0f000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eacher-Centere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arn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77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functions as an 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62000"/>
            <a:ext cx="3962520" cy="1143000"/>
          </a:xfrm>
          <a:prstGeom prst="rect">
            <a:avLst/>
          </a:prstGeom>
          <a:gradFill rotWithShape="0">
            <a:gsLst>
              <a:gs pos="0">
                <a:srgbClr val="0f0007"/>
              </a:gs>
              <a:gs pos="50000">
                <a:srgbClr val="660033"/>
              </a:gs>
              <a:gs pos="100000">
                <a:srgbClr val="0f000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tudent-Centere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477800"/>
            <a:ext cx="4114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functions as a facilitator and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46852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l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0080" y="246852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02040"/>
            <a:ext cx="4114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upon the “stuff” that is to be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3002040"/>
            <a:ext cx="4114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upon the lear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373640"/>
            <a:ext cx="4114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s the information into the mind of the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373640"/>
            <a:ext cx="4114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the student how to obtain the information on his 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821200"/>
            <a:ext cx="41148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s time in the short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5821200"/>
            <a:ext cx="41148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s off in the long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mall Group Projec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up with a plan to enhance the teaching ministry of a church using student-centered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se the actual church of one of the participants in your grou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00400" y="289080"/>
            <a:ext cx="7391520" cy="476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733920"/>
            <a:ext cx="3581280" cy="2514600"/>
          </a:xfrm>
          <a:prstGeom prst="rect">
            <a:avLst/>
          </a:prstGeom>
          <a:gradFill rotWithShape="0">
            <a:gsLst>
              <a:gs pos="0">
                <a:srgbClr val="18000c"/>
              </a:gs>
              <a:gs pos="50000">
                <a:srgbClr val="660033"/>
              </a:gs>
              <a:gs pos="100000">
                <a:srgbClr val="18000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733920"/>
            <a:ext cx="32767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A Mentor :  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Someone who shows you how it is do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73520" y="0"/>
            <a:ext cx="4470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289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Old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638680"/>
            <a:ext cx="2895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Arial"/>
              </a:rPr>
              <a:t>You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962520"/>
            <a:ext cx="190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n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990720"/>
            <a:ext cx="0" cy="419076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66880" y="1371240"/>
            <a:ext cx="0" cy="4267080"/>
          </a:xfrm>
          <a:prstGeom prst="line">
            <a:avLst/>
          </a:prstGeom>
          <a:ln w="104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0" y="1143000"/>
            <a:ext cx="3276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velop spiritual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lf-feeders instead of spiritual consum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309920" cy="601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is meant in the Bible by “heart”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, O Israel! The LORD is our God, the LORD is one!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shall love the LORD your God with all your heart and with all your soul and with all your might. (Deuteronomy 6:4-5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057400"/>
            <a:ext cx="2286000" cy="78120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d is primary in order, and the heart is primary in impor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ow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2057400"/>
            <a:ext cx="2286000" cy="781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228600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88720"/>
            <a:ext cx="67053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eaching that impacts is not from head to head, but from heart to heart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  <a:ea typeface="Arial"/>
              </a:rPr>
              <a:t>― Howard Hendrick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ft Brain Vs. Right Brain Think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8960" y="1951200"/>
            <a:ext cx="32763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th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lists and lis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2880" y="1951200"/>
            <a:ext cx="33530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s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the Wh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Ver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cture is worth a thousand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1189080"/>
            <a:ext cx="2743200" cy="639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ft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98440"/>
            <a:ext cx="2895480" cy="639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ight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ft Brain Vs. Right Brain Think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950840"/>
            <a:ext cx="327636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through out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2880" y="1950840"/>
            <a:ext cx="33530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through act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189080"/>
            <a:ext cx="2743200" cy="639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ft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198440"/>
            <a:ext cx="2895480" cy="639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ight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865600"/>
            <a:ext cx="327636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he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2865600"/>
            <a:ext cx="33530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he big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809880"/>
            <a:ext cx="327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835440"/>
            <a:ext cx="3353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419720"/>
            <a:ext cx="335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gesis, facts, memorization,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419720"/>
            <a:ext cx="3353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, color, illustrations, sound, 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943600"/>
            <a:ext cx="2743200" cy="520560"/>
          </a:xfrm>
          <a:prstGeom prst="rect">
            <a:avLst/>
          </a:prstGeom>
          <a:gradFill rotWithShape="0">
            <a:gsLst>
              <a:gs pos="0">
                <a:srgbClr val="000912"/>
              </a:gs>
              <a:gs pos="50000">
                <a:srgbClr val="003366"/>
              </a:gs>
              <a:gs pos="100000">
                <a:srgbClr val="0009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5943600"/>
            <a:ext cx="2743200" cy="520560"/>
          </a:xfrm>
          <a:prstGeom prst="rect">
            <a:avLst/>
          </a:prstGeom>
          <a:gradFill rotWithShape="0">
            <a:gsLst>
              <a:gs pos="0">
                <a:srgbClr val="000912"/>
              </a:gs>
              <a:gs pos="50000">
                <a:srgbClr val="003366"/>
              </a:gs>
              <a:gs pos="100000">
                <a:srgbClr val="0009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Test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440" y="4608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quenti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3504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&amp;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by 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data &amp;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s from one proposition to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6400800"/>
            <a:ext cx="3352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an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3048120"/>
            <a:ext cx="4572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nc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29600" y="1905120"/>
            <a:ext cx="10666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609480"/>
            <a:ext cx="457200" cy="5791320"/>
          </a:xfrm>
          <a:prstGeom prst="upDownArrow">
            <a:avLst>
              <a:gd name="adj1" fmla="val 43056"/>
              <a:gd name="adj2" fmla="val 11804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048120"/>
            <a:ext cx="7924680" cy="457200"/>
          </a:xfrm>
          <a:prstGeom prst="leftRightArrow">
            <a:avLst>
              <a:gd name="adj1" fmla="val 40972"/>
              <a:gd name="adj2" fmla="val 14203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685800"/>
            <a:ext cx="3657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der of written &amp; verbal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s”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extract “big ide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s well from experts &amp; auth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505320"/>
            <a:ext cx="35049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es on quic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mps steps to reach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&amp; error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independently of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505320"/>
            <a:ext cx="3505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itive to relationships, vibes, moods,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discussion &amp; multi-media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95280" y="609480"/>
            <a:ext cx="2743200" cy="12956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Thin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619200"/>
            <a:ext cx="2895840" cy="1285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090004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tuitive Think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33324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Discuss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120" y="434340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differences between the Logical Thinker versus the Intuitive Think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1-15T21:25:41Z</dcterms:modified>
  <cp:revision>61</cp:revision>
  <dc:subject/>
  <dc:title>Discipleship Across the Lifespan</dc:title>
</cp:coreProperties>
</file>