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C0E-168F-48E0-8C42-D3AB5454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867-DAD1-45E7-B17C-5E09822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95F-EA4C-4339-BDE4-A6332B2E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CAC-00F1-406C-80D3-9D3BAF59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BBB-349D-4AC9-8ED7-EB41A24B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BF1-4D2A-4F99-B03C-F544FC93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368-D4FC-4062-856C-D397DAFF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ED0-E0BF-4A75-9C8D-914639FA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093-722F-4D80-A2F1-5947C61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A6C-BC73-4D16-8F43-7DF185DF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6B5-1D0C-43F3-B88F-4E94340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391-CE97-4184-B966-48F588A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8484-B134-46D7-AE45-FB00AA6131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ipleship Across the Lifesp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#4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rly childhood infl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your local church allow and/or encourage these kinds of encount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mall Group Exerci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people who have been influential in you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495288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in your groups the models they portrayed to impact you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cial Learning Theo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a child learn socially acceptable behavi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1676520" cy="159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79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wo Models of Educ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065320"/>
            <a:ext cx="3962160" cy="9471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gives information to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058840"/>
            <a:ext cx="3962520" cy="9471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follows group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496880"/>
            <a:ext cx="3962520" cy="581400"/>
          </a:xfrm>
          <a:prstGeom prst="rect">
            <a:avLst/>
          </a:prstGeom>
          <a:gradFill rotWithShape="0">
            <a:gsLst>
              <a:gs pos="0">
                <a:srgbClr val="130009"/>
              </a:gs>
              <a:gs pos="50000">
                <a:srgbClr val="660033"/>
              </a:gs>
              <a:gs pos="100000">
                <a:srgbClr val="13000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cializ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496880"/>
            <a:ext cx="3962160" cy="581400"/>
          </a:xfrm>
          <a:prstGeom prst="rect">
            <a:avLst/>
          </a:prstGeom>
          <a:gradFill rotWithShape="0">
            <a:gsLst>
              <a:gs pos="0">
                <a:srgbClr val="130009"/>
              </a:gs>
              <a:gs pos="50000">
                <a:srgbClr val="660033"/>
              </a:gs>
              <a:gs pos="100000">
                <a:srgbClr val="13000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struction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968640"/>
            <a:ext cx="3962160" cy="5205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ditional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968640"/>
            <a:ext cx="3962520" cy="5205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3021120"/>
            <a:ext cx="3962160" cy="9471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listens to what teacher 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3021120"/>
            <a:ext cx="3962520" cy="9471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sees how teacher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468680"/>
            <a:ext cx="3962160" cy="5205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deta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4468680"/>
            <a:ext cx="3962520" cy="5205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b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4987800"/>
            <a:ext cx="3962160" cy="9471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4987800"/>
            <a:ext cx="3962520" cy="947160"/>
          </a:xfrm>
          <a:prstGeom prst="rect">
            <a:avLst/>
          </a:prstGeom>
          <a:gradFill rotWithShape="0">
            <a:gsLst>
              <a:gs pos="0">
                <a:srgbClr val="00060d"/>
              </a:gs>
              <a:gs pos="50000">
                <a:srgbClr val="003366"/>
              </a:gs>
              <a:gs pos="100000">
                <a:srgbClr val="00060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real life and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09680" y="4191120"/>
            <a:ext cx="172404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181480" y="4343400"/>
            <a:ext cx="2286000" cy="1868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wo Types of Behavioral Mode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90920" y="251460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ic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657600" y="3352680"/>
            <a:ext cx="16812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wo Types of Behavioral Mode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90920" y="25142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ic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ar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th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wo Types of Behavioral Mode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 do in the church to increase the effectiveness of such socialization learning opportun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gative Aspects of Socialization as a Ministry Mode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42840" y="22860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 imitate behavior and not know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ization is weak in communicating propositional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ization focuses on experience, not on absolute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s, Page 162-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0720" y="2362320"/>
            <a:ext cx="1911240" cy="3504960"/>
            <a:chOff x="450720" y="2362320"/>
            <a:chExt cx="1911240" cy="3504960"/>
          </a:xfrm>
        </p:grpSpPr>
        <p:sp>
          <p:nvSpPr>
            <p:cNvPr id="103" name=""/>
            <p:cNvSpPr/>
            <p:nvPr/>
          </p:nvSpPr>
          <p:spPr>
            <a:xfrm>
              <a:off x="457200" y="2362320"/>
              <a:ext cx="1904760" cy="3504960"/>
            </a:xfrm>
            <a:prstGeom prst="rect">
              <a:avLst/>
            </a:prstGeom>
            <a:gradFill rotWithShape="0">
              <a:gsLst>
                <a:gs pos="0">
                  <a:srgbClr val="0f0007"/>
                </a:gs>
                <a:gs pos="50000">
                  <a:srgbClr val="660033"/>
                </a:gs>
                <a:gs pos="100000">
                  <a:srgbClr val="0f0007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68080" y="257004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0720" y="4475160"/>
              <a:ext cx="188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ow valid are these concerns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gree or Disagre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makes 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7432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makes Perma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95480" y="762120"/>
            <a:ext cx="5162760" cy="5111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680" y="533520"/>
            <a:ext cx="1981440" cy="358128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d cannot con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seat cannot en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981080"/>
            <a:ext cx="6477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you are paralyzed at one end, there is a good chance you are also paralyzed at the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ard Hendri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gree or Disagre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 is the best te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2096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primary test of a teacher i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048120"/>
            <a:ext cx="2819520" cy="28191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50000">
                <a:srgbClr val="000d29"/>
              </a:gs>
              <a:gs pos="100000">
                <a:srgbClr val="003399"/>
              </a:gs>
            </a:gsLst>
            <a:lin ang="81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3048120"/>
            <a:ext cx="2819520" cy="28191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50000">
                <a:srgbClr val="000d29"/>
              </a:gs>
              <a:gs pos="100000">
                <a:srgbClr val="003399"/>
              </a:gs>
            </a:gsLst>
            <a:lin ang="81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y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d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600200" y="3352680"/>
            <a:ext cx="175248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cent assignments have focused upon what YOU do as a learner…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 &amp;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ngelism &amp;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of Time &amp;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57800" y="4038480"/>
            <a:ext cx="3276720" cy="2043720"/>
          </a:xfrm>
          <a:prstGeom prst="rect">
            <a:avLst/>
          </a:prstGeom>
          <a:gradFill rotWithShape="0">
            <a:gsLst>
              <a:gs pos="0">
                <a:srgbClr val="18000c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ve these assignments had a practical effect in your lif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ames 1:23-24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f anyone is a hearer of the word and not a doer, he is like a man who looks at his natural face in a mirror;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c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looked at himself and gone away, he has immediately forgotten what kind of person he w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06668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229600" cy="1935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120009"/>
              </a:gs>
              <a:gs pos="100000">
                <a:srgbClr val="660033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s a general rule, don’t teach your students that which they can learn for themsel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520" y="4008600"/>
            <a:ext cx="71629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ime is a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udent is a begi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re is danger of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8360" y="3154320"/>
            <a:ext cx="69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re are several Exception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rly childhood infl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your interviews, what did you see about the impact of such influences toward spiritual matur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1-15T21:15:24Z</dcterms:modified>
  <cp:revision>59</cp:revision>
  <dc:subject/>
  <dc:title>Discipleship Across the Lifespan</dc:title>
</cp:coreProperties>
</file>