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gif" ContentType="image/gif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ADD-4B81-4456-BAD0-8B5FC6FC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E9D-5466-49A1-A586-6A8BD1B7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89E-019E-428A-8108-7664E52F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770-261F-4FB1-BAC8-19BCA2A2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691-F151-43EA-A3D8-2E4EC542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9F3-7BBF-4AE1-BC93-D61E046F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312-9E02-4642-98BA-2A347E38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C3F-D250-49CB-BE81-532D2992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82F-9AFB-4266-8A28-FD01C9B3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9F6-FECD-40FF-93F7-9DB3F0C6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4C9-3763-4B95-9A36-2C177FBA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B57-DEE8-4788-9E59-E2D4E9A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4B6A-B374-4CB8-97D4-7A56373389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ipleship Across the Lifesp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#3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ages of Moral Developm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91184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741240"/>
            <a:ext cx="579096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6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Eth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697040"/>
            <a:ext cx="640080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5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Contract &amp; 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s: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reatest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2639880"/>
            <a:ext cx="693396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ystems &amp; Con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w &amp; Order Mor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95680"/>
            <a:ext cx="74674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ual Interpersonal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od boy / nice gi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545000"/>
            <a:ext cx="800100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Interest Ori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489640"/>
            <a:ext cx="853416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nomous Morality – External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can I avoid punish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ages of Moral Developm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91184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741240"/>
            <a:ext cx="579096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6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Eth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697040"/>
            <a:ext cx="640080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5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Contract &amp; 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s: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reatest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2639880"/>
            <a:ext cx="693396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ystems &amp; Con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w &amp; Order Mor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595680"/>
            <a:ext cx="74674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ual Interpersonal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od boy / nice gi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545000"/>
            <a:ext cx="800100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Interest Ori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5489640"/>
            <a:ext cx="853416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nomous Morality – External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can I avoid punish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741240"/>
            <a:ext cx="2895480" cy="194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u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ost 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2646360"/>
            <a:ext cx="2895480" cy="1946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u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530600"/>
            <a:ext cx="2895480" cy="194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o-cen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e-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ages of Moral Developm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91184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741240"/>
            <a:ext cx="28954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1697040"/>
            <a:ext cx="350532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your neigh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2639880"/>
            <a:ext cx="40384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God said so 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to be obe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595680"/>
            <a:ext cx="457200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are called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ol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545000"/>
            <a:ext cx="518184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, Wealth, &amp; Prospe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489640"/>
            <a:ext cx="56386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l, fire, &amp; damnation p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pent or el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741240"/>
            <a:ext cx="2895480" cy="194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u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ost 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2646360"/>
            <a:ext cx="2895480" cy="1946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u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4530600"/>
            <a:ext cx="2895480" cy="194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o-cen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e-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ages of Moral Developm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91184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741240"/>
            <a:ext cx="28954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1697040"/>
            <a:ext cx="350532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your neigh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2639880"/>
            <a:ext cx="40384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God said so 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to be obe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595680"/>
            <a:ext cx="457200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are called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ol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545000"/>
            <a:ext cx="518184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, Wealth, &amp; Prospe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489640"/>
            <a:ext cx="5638680" cy="947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l, fire, &amp; damnation p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pent or el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741240"/>
            <a:ext cx="2895480" cy="194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u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ost 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2646360"/>
            <a:ext cx="2895480" cy="1946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u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4530600"/>
            <a:ext cx="2895480" cy="194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o-cen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e-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419720"/>
            <a:ext cx="4800600" cy="1981080"/>
          </a:xfrm>
          <a:prstGeom prst="irregularSeal2">
            <a:avLst/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438280"/>
            <a:ext cx="4800600" cy="2133720"/>
          </a:xfrm>
          <a:prstGeom prst="irregularSeal2">
            <a:avLst/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atitude 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bl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609480"/>
            <a:ext cx="4800600" cy="1981440"/>
          </a:xfrm>
          <a:prstGeom prst="irregularSeal2">
            <a:avLst/>
          </a:prstGeom>
          <a:gradFill rotWithShape="0">
            <a:gsLst>
              <a:gs pos="0">
                <a:srgbClr val="172f5e"/>
              </a:gs>
              <a:gs pos="100000">
                <a:srgbClr val="33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491184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741240"/>
            <a:ext cx="2895480" cy="194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u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ost 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2646360"/>
            <a:ext cx="2895480" cy="1946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u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4530600"/>
            <a:ext cx="2895480" cy="194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8000c"/>
              </a:gs>
              <a:gs pos="100000">
                <a:srgbClr val="66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o-cen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e-conven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ristian groups that have numerous rules and regulations will actually hinder the liberation of their people into postconventional thinking. </a:t>
            </a:r>
            <a:br>
              <a:rPr sz="32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― Perry Downs, Pg 106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52480" y="1522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aith Develop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57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ames W. Fowl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4800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 of the Center for Research in Faith &amp; Moral Development, Emory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2791080" cy="3581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457200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 Stages of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ages of Faith Developm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741240"/>
            <a:ext cx="579096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6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izing Fa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ansform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697040"/>
            <a:ext cx="640080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5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unctiv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wareness of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639880"/>
            <a:ext cx="693396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/Reflectiv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cus upon personal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3595680"/>
            <a:ext cx="746748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hetic/Conventional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itment to church &amp;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545000"/>
            <a:ext cx="800100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ic/Literal Faith: Child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mited to concrete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5489640"/>
            <a:ext cx="853416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/Projective Faith: Early Child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ages &amp;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905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at is the place of the Holy Spirit in this process?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741240"/>
            <a:ext cx="579096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6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izing Fa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ansform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697040"/>
            <a:ext cx="640080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5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unctiv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wareness of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2639880"/>
            <a:ext cx="693396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/Reflectiv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cus upon personal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595680"/>
            <a:ext cx="746748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hetic/Conventional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itment to church &amp;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4545000"/>
            <a:ext cx="800100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ic/Literal Faith: Child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mited to concrete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5489640"/>
            <a:ext cx="853416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/Projective Faith: Early Child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ages &amp;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6477120" cy="56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905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ow have you seen aspects of these stages in your own life?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741240"/>
            <a:ext cx="579096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6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izing Fa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ansform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97040"/>
            <a:ext cx="640080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5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unctiv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wareness of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639880"/>
            <a:ext cx="693396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/Reflectiv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cus upon personal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595680"/>
            <a:ext cx="746748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hetic/Conventional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itment to church &amp;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4545000"/>
            <a:ext cx="800100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ic/Literal Faith: Child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mited to concrete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5489640"/>
            <a:ext cx="8534160" cy="947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a152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/Projective Faith: Early Child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ages &amp;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onents in Grow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01400" y="1470240"/>
            <a:ext cx="4894920" cy="4895280"/>
            <a:chOff x="2201400" y="1470240"/>
            <a:chExt cx="4894920" cy="4895280"/>
          </a:xfrm>
        </p:grpSpPr>
        <p:sp>
          <p:nvSpPr>
            <p:cNvPr id="161" name="_s163848"/>
            <p:cNvSpPr/>
            <p:nvPr/>
          </p:nvSpPr>
          <p:spPr>
            <a:xfrm>
              <a:off x="2984760" y="1470240"/>
              <a:ext cx="3328200" cy="3328200"/>
            </a:xfrm>
            <a:custGeom>
              <a:avLst/>
              <a:gdLst>
                <a:gd name="textAreaLeft" fmla="*/ 0 w 3328200"/>
                <a:gd name="textAreaRight" fmla="*/ 3328560 w 33282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163855"/>
            <p:cNvSpPr/>
            <p:nvPr/>
          </p:nvSpPr>
          <p:spPr>
            <a:xfrm rot="5400000">
              <a:off x="3768120" y="2253960"/>
              <a:ext cx="3328200" cy="3328200"/>
            </a:xfrm>
            <a:custGeom>
              <a:avLst/>
              <a:gdLst>
                <a:gd name="textAreaLeft" fmla="*/ 0 w 3328200"/>
                <a:gd name="textAreaRight" fmla="*/ 3328560 w 33282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163849"/>
            <p:cNvSpPr/>
            <p:nvPr/>
          </p:nvSpPr>
          <p:spPr>
            <a:xfrm rot="10800000">
              <a:off x="2984400" y="3037320"/>
              <a:ext cx="3328200" cy="3328200"/>
            </a:xfrm>
            <a:custGeom>
              <a:avLst/>
              <a:gdLst>
                <a:gd name="textAreaLeft" fmla="*/ 0 w 3328200"/>
                <a:gd name="textAreaRight" fmla="*/ 3328560 w 33282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163851"/>
            <p:cNvSpPr/>
            <p:nvPr/>
          </p:nvSpPr>
          <p:spPr>
            <a:xfrm rot="16200000">
              <a:off x="2201400" y="2253960"/>
              <a:ext cx="3328200" cy="3328200"/>
            </a:xfrm>
            <a:custGeom>
              <a:avLst/>
              <a:gdLst>
                <a:gd name="textAreaLeft" fmla="*/ 0 w 3328200"/>
                <a:gd name="textAreaRight" fmla="*/ 3328560 w 33282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163846"/>
            <p:cNvSpPr/>
            <p:nvPr/>
          </p:nvSpPr>
          <p:spPr>
            <a:xfrm>
              <a:off x="5535720" y="1776240"/>
              <a:ext cx="125316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The Rol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of the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Teacher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163847"/>
            <p:cNvSpPr/>
            <p:nvPr/>
          </p:nvSpPr>
          <p:spPr>
            <a:xfrm>
              <a:off x="2511000" y="4806720"/>
              <a:ext cx="1253160" cy="12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The Rol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of the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Student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163850"/>
            <p:cNvSpPr/>
            <p:nvPr/>
          </p:nvSpPr>
          <p:spPr>
            <a:xfrm>
              <a:off x="2506680" y="1779840"/>
              <a:ext cx="1253160" cy="12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The Rol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of the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Holy Spirit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163854"/>
            <p:cNvSpPr/>
            <p:nvPr/>
          </p:nvSpPr>
          <p:spPr>
            <a:xfrm>
              <a:off x="5537520" y="4802760"/>
              <a:ext cx="1253160" cy="12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The Rol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of the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 Black"/>
                </a:rPr>
                <a:t>Curriculum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ole of the Teach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1935000" cy="21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gree or Disagre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486040" y="1904760"/>
            <a:ext cx="2590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mary role of the teacher is to serve the needs of this stu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990720" y="1981080"/>
            <a:ext cx="223524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6324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en God wanted to communicate with us, He wrapped His message in a person.  We are called to do the same thing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r teaching will always have one of two results in the lives of your student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440" y="4038480"/>
            <a:ext cx="304812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4038480"/>
            <a:ext cx="304812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o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goal of the teacher is to make the student self-sustaining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ant to bring your students to the place where you are unnecessary to the process of their spiritual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ole of the Curriculum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971800" y="3581280"/>
            <a:ext cx="2857680" cy="196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Lesson Pl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4080" y="3047760"/>
            <a:ext cx="33530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1600200"/>
            <a:ext cx="6400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planned strategy designed to produce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al Develop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2131920" cy="22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H="1">
            <a:off x="5978520" y="914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9144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2514600" cy="612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5000a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xpos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240" y="1600200"/>
            <a:ext cx="2514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838080"/>
            <a:ext cx="2514600" cy="612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5000a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ncou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838080"/>
            <a:ext cx="2514600" cy="612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5000a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600200"/>
            <a:ext cx="2514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insight &amp; conv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1600200"/>
            <a:ext cx="2514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decision &amp;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200400"/>
            <a:ext cx="2514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e Bibl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200400"/>
            <a:ext cx="2514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I convey it to my stud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3200400"/>
            <a:ext cx="2514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it change their l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4800600"/>
            <a:ext cx="2438280" cy="1371600"/>
          </a:xfrm>
          <a:prstGeom prst="rect">
            <a:avLst/>
          </a:prstGeom>
          <a:gradFill rotWithShape="0">
            <a:gsLst>
              <a:gs pos="0">
                <a:srgbClr val="09091b"/>
              </a:gs>
              <a:gs pos="50000">
                <a:srgbClr val="333399"/>
              </a:gs>
              <a:gs pos="100000">
                <a:srgbClr val="09091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iblical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800600"/>
            <a:ext cx="2514600" cy="1371600"/>
          </a:xfrm>
          <a:prstGeom prst="rect">
            <a:avLst/>
          </a:prstGeom>
          <a:gradFill rotWithShape="0">
            <a:gsLst>
              <a:gs pos="0">
                <a:srgbClr val="09091b"/>
              </a:gs>
              <a:gs pos="50000">
                <a:srgbClr val="333399"/>
              </a:gs>
              <a:gs pos="100000">
                <a:srgbClr val="09091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4800600"/>
            <a:ext cx="2514600" cy="1371600"/>
          </a:xfrm>
          <a:prstGeom prst="rect">
            <a:avLst/>
          </a:prstGeom>
          <a:gradFill rotWithShape="0">
            <a:gsLst>
              <a:gs pos="0">
                <a:srgbClr val="09091b"/>
              </a:gs>
              <a:gs pos="50000">
                <a:srgbClr val="333399"/>
              </a:gs>
              <a:gs pos="100000">
                <a:srgbClr val="09091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eople &amp; where they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aching Metho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09680" y="17226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 Pl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-Vi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 t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int of Conta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ice the attention of your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o not come ready to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job is to stimulate the desire to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876920" y="2362320"/>
            <a:ext cx="2895480" cy="2514600"/>
            <a:chOff x="4876920" y="2362320"/>
            <a:chExt cx="2895480" cy="2514600"/>
          </a:xfrm>
        </p:grpSpPr>
        <p:sp>
          <p:nvSpPr>
            <p:cNvPr id="207" name=""/>
            <p:cNvSpPr/>
            <p:nvPr/>
          </p:nvSpPr>
          <p:spPr>
            <a:xfrm>
              <a:off x="4876920" y="2362320"/>
              <a:ext cx="289548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5486400" y="3124080"/>
              <a:ext cx="19432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6172200" y="2590920"/>
              <a:ext cx="295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 flipV="1">
              <a:off x="6324480" y="2362320"/>
              <a:ext cx="0" cy="30456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4870440" cy="4584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715000" y="1676520"/>
            <a:ext cx="2133720" cy="4754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f the Scriptures are central, then make them 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743200" y="304920"/>
            <a:ext cx="5867280" cy="5197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1828440"/>
            <a:ext cx="2133720" cy="475452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purpose of your teaching is more that the mere impartation of trivia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ole of the Stud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1905120" cy="158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ople learn best when they are actively involved in the learning proces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503280"/>
            <a:ext cx="60962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eaching is to be defined, not as what the teacher does, but by what the student learns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 am primarily and continually a stud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stop taking classes, but you will never stop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ven Laws of Learn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w of previous experienc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w learning should be linked to (and build upon) the experiences of the lear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w of relevanc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ffective learning is relevant to the live of the lear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w of expectati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earner’s ability to learn will be affected by his expec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w of active learning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tive responding produces more effective learning than passive listening or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4191120"/>
            <a:ext cx="2210040" cy="12952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ai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685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657600" y="198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4191120"/>
            <a:ext cx="2209680" cy="1295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4191120"/>
            <a:ext cx="2210040" cy="1295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ven Laws of Learn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w of practice and feedback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arners cannot master skills without repeated practice and relevant feed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w of individual differenc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fferent people learn in different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w of emotional learning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ts that are accompanied by intense emotions result in long-lasting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problem of motivation involves overcoming initial inerti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lways easier to steer a mov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928960" y="2828880"/>
            <a:ext cx="328608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ole of the Holy Spir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 Corinthians 3:1-3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, brethren, could not speak to you as to spiritual men, but as to men of flesh, as to babes in Christ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gave you milk to drink, not solid food; for you were not yet abl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receive 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ndeed, even now you are not yet able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you are still fleshly. For since there is jealousy and strife among you, are you not fleshly, and are you not walking like mere m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6705720" y="2666880"/>
            <a:ext cx="2743200" cy="4496040"/>
          </a:xfrm>
          <a:custGeom>
            <a:avLst/>
            <a:gdLst/>
            <a:ahLst/>
            <a:rect l="l" t="t" r="r" b="b"/>
            <a:pathLst>
              <a:path w="1632" h="2832">
                <a:moveTo>
                  <a:pt x="48" y="0"/>
                </a:moveTo>
                <a:lnTo>
                  <a:pt x="528" y="0"/>
                </a:lnTo>
                <a:lnTo>
                  <a:pt x="1248" y="0"/>
                </a:lnTo>
                <a:lnTo>
                  <a:pt x="1440" y="0"/>
                </a:lnTo>
                <a:lnTo>
                  <a:pt x="1536" y="48"/>
                </a:lnTo>
                <a:lnTo>
                  <a:pt x="1584" y="144"/>
                </a:lnTo>
                <a:lnTo>
                  <a:pt x="1632" y="288"/>
                </a:lnTo>
                <a:lnTo>
                  <a:pt x="1632" y="480"/>
                </a:lnTo>
                <a:lnTo>
                  <a:pt x="1632" y="864"/>
                </a:lnTo>
                <a:lnTo>
                  <a:pt x="1632" y="1248"/>
                </a:lnTo>
                <a:lnTo>
                  <a:pt x="1584" y="1968"/>
                </a:lnTo>
                <a:lnTo>
                  <a:pt x="1536" y="2448"/>
                </a:lnTo>
                <a:lnTo>
                  <a:pt x="1440" y="2832"/>
                </a:lnTo>
                <a:lnTo>
                  <a:pt x="0" y="2832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228600" y="2666880"/>
            <a:ext cx="2590920" cy="4496040"/>
          </a:xfrm>
          <a:custGeom>
            <a:avLst/>
            <a:gdLst/>
            <a:ahLst/>
            <a:rect l="l" t="t" r="r" b="b"/>
            <a:pathLst>
              <a:path w="1632" h="2832">
                <a:moveTo>
                  <a:pt x="48" y="0"/>
                </a:moveTo>
                <a:lnTo>
                  <a:pt x="528" y="0"/>
                </a:lnTo>
                <a:lnTo>
                  <a:pt x="1248" y="0"/>
                </a:lnTo>
                <a:lnTo>
                  <a:pt x="1440" y="0"/>
                </a:lnTo>
                <a:lnTo>
                  <a:pt x="1536" y="48"/>
                </a:lnTo>
                <a:lnTo>
                  <a:pt x="1584" y="144"/>
                </a:lnTo>
                <a:lnTo>
                  <a:pt x="1632" y="288"/>
                </a:lnTo>
                <a:lnTo>
                  <a:pt x="1632" y="480"/>
                </a:lnTo>
                <a:lnTo>
                  <a:pt x="1632" y="864"/>
                </a:lnTo>
                <a:lnTo>
                  <a:pt x="1632" y="1248"/>
                </a:lnTo>
                <a:lnTo>
                  <a:pt x="1584" y="1968"/>
                </a:lnTo>
                <a:lnTo>
                  <a:pt x="1536" y="2448"/>
                </a:lnTo>
                <a:lnTo>
                  <a:pt x="1440" y="2832"/>
                </a:lnTo>
                <a:lnTo>
                  <a:pt x="0" y="2832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274284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nowing what is righ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ing what is 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0880"/>
            <a:ext cx="8153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fore, to one who knows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ight thing to do, and does not do it, to him it is sin. (James 4: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3200400"/>
            <a:ext cx="4647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reat Gu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6705720" y="2666880"/>
            <a:ext cx="2743200" cy="4496040"/>
          </a:xfrm>
          <a:custGeom>
            <a:avLst/>
            <a:gdLst/>
            <a:ahLst/>
            <a:rect l="l" t="t" r="r" b="b"/>
            <a:pathLst>
              <a:path w="1632" h="2832">
                <a:moveTo>
                  <a:pt x="48" y="0"/>
                </a:moveTo>
                <a:lnTo>
                  <a:pt x="528" y="0"/>
                </a:lnTo>
                <a:lnTo>
                  <a:pt x="1248" y="0"/>
                </a:lnTo>
                <a:lnTo>
                  <a:pt x="1440" y="0"/>
                </a:lnTo>
                <a:lnTo>
                  <a:pt x="1536" y="48"/>
                </a:lnTo>
                <a:lnTo>
                  <a:pt x="1584" y="144"/>
                </a:lnTo>
                <a:lnTo>
                  <a:pt x="1632" y="288"/>
                </a:lnTo>
                <a:lnTo>
                  <a:pt x="1632" y="480"/>
                </a:lnTo>
                <a:lnTo>
                  <a:pt x="1632" y="864"/>
                </a:lnTo>
                <a:lnTo>
                  <a:pt x="1632" y="1248"/>
                </a:lnTo>
                <a:lnTo>
                  <a:pt x="1584" y="1968"/>
                </a:lnTo>
                <a:lnTo>
                  <a:pt x="1536" y="2448"/>
                </a:lnTo>
                <a:lnTo>
                  <a:pt x="1440" y="2832"/>
                </a:lnTo>
                <a:lnTo>
                  <a:pt x="0" y="2832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28600" y="2666880"/>
            <a:ext cx="2590920" cy="4496040"/>
          </a:xfrm>
          <a:custGeom>
            <a:avLst/>
            <a:gdLst/>
            <a:ahLst/>
            <a:rect l="l" t="t" r="r" b="b"/>
            <a:pathLst>
              <a:path w="1632" h="2832">
                <a:moveTo>
                  <a:pt x="48" y="0"/>
                </a:moveTo>
                <a:lnTo>
                  <a:pt x="528" y="0"/>
                </a:lnTo>
                <a:lnTo>
                  <a:pt x="1248" y="0"/>
                </a:lnTo>
                <a:lnTo>
                  <a:pt x="1440" y="0"/>
                </a:lnTo>
                <a:lnTo>
                  <a:pt x="1536" y="48"/>
                </a:lnTo>
                <a:lnTo>
                  <a:pt x="1584" y="144"/>
                </a:lnTo>
                <a:lnTo>
                  <a:pt x="1632" y="288"/>
                </a:lnTo>
                <a:lnTo>
                  <a:pt x="1632" y="480"/>
                </a:lnTo>
                <a:lnTo>
                  <a:pt x="1632" y="864"/>
                </a:lnTo>
                <a:lnTo>
                  <a:pt x="1632" y="1248"/>
                </a:lnTo>
                <a:lnTo>
                  <a:pt x="1584" y="1968"/>
                </a:lnTo>
                <a:lnTo>
                  <a:pt x="1536" y="2448"/>
                </a:lnTo>
                <a:lnTo>
                  <a:pt x="1440" y="2832"/>
                </a:lnTo>
                <a:lnTo>
                  <a:pt x="0" y="2832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274284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nowing what is righ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ing what is 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860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I know that nothing good dwells in me, that is, in my flesh; for the wishing is present in me, but the doing of the good is not. </a:t>
            </a:r>
            <a:br>
              <a:rPr sz="32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For the good that I wish, I do not do; but I practice the very evil that I do not wish. (Romans 7:18-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3200400"/>
            <a:ext cx="4647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reat Gu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H="1">
            <a:off x="6705720" y="2666880"/>
            <a:ext cx="2743200" cy="4496040"/>
          </a:xfrm>
          <a:custGeom>
            <a:avLst/>
            <a:gdLst/>
            <a:ahLst/>
            <a:rect l="l" t="t" r="r" b="b"/>
            <a:pathLst>
              <a:path w="1632" h="2832">
                <a:moveTo>
                  <a:pt x="48" y="0"/>
                </a:moveTo>
                <a:lnTo>
                  <a:pt x="528" y="0"/>
                </a:lnTo>
                <a:lnTo>
                  <a:pt x="1248" y="0"/>
                </a:lnTo>
                <a:lnTo>
                  <a:pt x="1440" y="0"/>
                </a:lnTo>
                <a:lnTo>
                  <a:pt x="1536" y="48"/>
                </a:lnTo>
                <a:lnTo>
                  <a:pt x="1584" y="144"/>
                </a:lnTo>
                <a:lnTo>
                  <a:pt x="1632" y="288"/>
                </a:lnTo>
                <a:lnTo>
                  <a:pt x="1632" y="480"/>
                </a:lnTo>
                <a:lnTo>
                  <a:pt x="1632" y="864"/>
                </a:lnTo>
                <a:lnTo>
                  <a:pt x="1632" y="1248"/>
                </a:lnTo>
                <a:lnTo>
                  <a:pt x="1584" y="1968"/>
                </a:lnTo>
                <a:lnTo>
                  <a:pt x="1536" y="2448"/>
                </a:lnTo>
                <a:lnTo>
                  <a:pt x="1440" y="2832"/>
                </a:lnTo>
                <a:lnTo>
                  <a:pt x="0" y="2832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28600" y="2666880"/>
            <a:ext cx="2590920" cy="4496040"/>
          </a:xfrm>
          <a:custGeom>
            <a:avLst/>
            <a:gdLst/>
            <a:ahLst/>
            <a:rect l="l" t="t" r="r" b="b"/>
            <a:pathLst>
              <a:path w="1632" h="2832">
                <a:moveTo>
                  <a:pt x="48" y="0"/>
                </a:moveTo>
                <a:lnTo>
                  <a:pt x="528" y="0"/>
                </a:lnTo>
                <a:lnTo>
                  <a:pt x="1248" y="0"/>
                </a:lnTo>
                <a:lnTo>
                  <a:pt x="1440" y="0"/>
                </a:lnTo>
                <a:lnTo>
                  <a:pt x="1536" y="48"/>
                </a:lnTo>
                <a:lnTo>
                  <a:pt x="1584" y="144"/>
                </a:lnTo>
                <a:lnTo>
                  <a:pt x="1632" y="288"/>
                </a:lnTo>
                <a:lnTo>
                  <a:pt x="1632" y="480"/>
                </a:lnTo>
                <a:lnTo>
                  <a:pt x="1632" y="864"/>
                </a:lnTo>
                <a:lnTo>
                  <a:pt x="1632" y="1248"/>
                </a:lnTo>
                <a:lnTo>
                  <a:pt x="1584" y="1968"/>
                </a:lnTo>
                <a:lnTo>
                  <a:pt x="1536" y="2448"/>
                </a:lnTo>
                <a:lnTo>
                  <a:pt x="1440" y="2832"/>
                </a:lnTo>
                <a:lnTo>
                  <a:pt x="0" y="2832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274284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nowing what is righ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ing what is 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495680"/>
            <a:ext cx="2210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ow do we bridge the ga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33720" y="3200400"/>
            <a:ext cx="4647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reat Gu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H="1">
            <a:off x="6705720" y="2666880"/>
            <a:ext cx="2743200" cy="4496040"/>
          </a:xfrm>
          <a:custGeom>
            <a:avLst/>
            <a:gdLst/>
            <a:ahLst/>
            <a:rect l="l" t="t" r="r" b="b"/>
            <a:pathLst>
              <a:path w="1632" h="2832">
                <a:moveTo>
                  <a:pt x="48" y="0"/>
                </a:moveTo>
                <a:lnTo>
                  <a:pt x="528" y="0"/>
                </a:lnTo>
                <a:lnTo>
                  <a:pt x="1248" y="0"/>
                </a:lnTo>
                <a:lnTo>
                  <a:pt x="1440" y="0"/>
                </a:lnTo>
                <a:lnTo>
                  <a:pt x="1536" y="48"/>
                </a:lnTo>
                <a:lnTo>
                  <a:pt x="1584" y="144"/>
                </a:lnTo>
                <a:lnTo>
                  <a:pt x="1632" y="288"/>
                </a:lnTo>
                <a:lnTo>
                  <a:pt x="1632" y="480"/>
                </a:lnTo>
                <a:lnTo>
                  <a:pt x="1632" y="864"/>
                </a:lnTo>
                <a:lnTo>
                  <a:pt x="1632" y="1248"/>
                </a:lnTo>
                <a:lnTo>
                  <a:pt x="1584" y="1968"/>
                </a:lnTo>
                <a:lnTo>
                  <a:pt x="1536" y="2448"/>
                </a:lnTo>
                <a:lnTo>
                  <a:pt x="1440" y="2832"/>
                </a:lnTo>
                <a:lnTo>
                  <a:pt x="0" y="2832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228600" y="2666880"/>
            <a:ext cx="2590920" cy="4496040"/>
          </a:xfrm>
          <a:custGeom>
            <a:avLst/>
            <a:gdLst/>
            <a:ahLst/>
            <a:rect l="l" t="t" r="r" b="b"/>
            <a:pathLst>
              <a:path w="1632" h="2832">
                <a:moveTo>
                  <a:pt x="48" y="0"/>
                </a:moveTo>
                <a:lnTo>
                  <a:pt x="528" y="0"/>
                </a:lnTo>
                <a:lnTo>
                  <a:pt x="1248" y="0"/>
                </a:lnTo>
                <a:lnTo>
                  <a:pt x="1440" y="0"/>
                </a:lnTo>
                <a:lnTo>
                  <a:pt x="1536" y="48"/>
                </a:lnTo>
                <a:lnTo>
                  <a:pt x="1584" y="144"/>
                </a:lnTo>
                <a:lnTo>
                  <a:pt x="1632" y="288"/>
                </a:lnTo>
                <a:lnTo>
                  <a:pt x="1632" y="480"/>
                </a:lnTo>
                <a:lnTo>
                  <a:pt x="1632" y="864"/>
                </a:lnTo>
                <a:lnTo>
                  <a:pt x="1632" y="1248"/>
                </a:lnTo>
                <a:lnTo>
                  <a:pt x="1584" y="1968"/>
                </a:lnTo>
                <a:lnTo>
                  <a:pt x="1536" y="2448"/>
                </a:lnTo>
                <a:lnTo>
                  <a:pt x="1440" y="2832"/>
                </a:lnTo>
                <a:lnTo>
                  <a:pt x="0" y="2832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274284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nowing what is righ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133360" y="3200040"/>
            <a:ext cx="4647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Great Gu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ing what is 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419720"/>
            <a:ext cx="3657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approaches have you seen to be less than adequat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wrence Kohlber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358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for Moral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1460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-19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67280" y="2895480"/>
            <a:ext cx="1905120" cy="27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1-07T13:54:55Z</dcterms:modified>
  <cp:revision>90</cp:revision>
  <dc:subject/>
  <dc:title>Discipleship Across the Lifespan</dc:title>
</cp:coreProperties>
</file>