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7.png" ContentType="image/png"/>
  <Override PartName="/ppt/media/image20.wmf" ContentType="image/x-wmf"/>
  <Override PartName="/ppt/media/image26.jpeg" ContentType="image/jpeg"/>
  <Override PartName="/ppt/media/image19.wmf" ContentType="image/x-wmf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8FE-D377-4B57-A9F1-C8EBBA07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60C-C3FE-415D-AE64-3EB2AC75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F81-5554-45D6-BD35-BBB93D6E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8B6-8BAB-423D-BAE1-F0FD9ACB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EF73-2603-4F9F-8449-C4C98C27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1F5C-5BA6-4FC3-9EE2-510AA3F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ABA6-847D-43FB-B191-03EADE3B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F6C6-6952-4945-9228-CC3070B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FF09-84F4-45F4-A52D-7361B42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DFB2-BD7F-4838-A09E-98D8FDCF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257-F1B1-4452-BE4F-9F19601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9E5-445D-4561-9414-5AE2712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B273-8D87-44EF-87FB-B75A91A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02A9-B580-4955-8289-83341D5B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DD2F-9395-4450-8B91-5BD086E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0B88-9704-45D7-ADA1-B19661EA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5B03-BD99-4B92-AA53-D7C8B493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22F3-6D1F-4E52-810F-6FE8F853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6E6F-63EE-401F-952C-CD304FA5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EF33-BD15-474B-9DEF-9D48AA43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67341-354C-41A5-B8FF-FCD01511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F614-EAB6-4238-B4EC-ABA31996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03F-0CC4-4810-A255-4DAC9B0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EAC7-1B4F-47F5-B393-FC828C3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EDC1-6800-454A-89A8-B26119F2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A91A-9B40-4CD4-A000-05AA8ED1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1545-CAE9-4460-9C2A-BF5352B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2690-FBDA-4473-91D7-925B35A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6E62-2967-4AE9-A8C3-0F058F94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41E5-7DF0-44B2-89BC-980ACC42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511-11BB-40BB-8A9C-DF41F24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B4B-B2B3-43B0-8FEC-1FFF2CE8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8CA-583E-47BB-A606-46BC393C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751-9574-4925-943A-E1F7D6A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84E-CB0D-4938-9711-3B5F2D0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088-1E22-4FE3-9001-D942FA0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5C3A-7F14-44C3-9F72-FF2AA2DD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6440-16DB-4DA9-9720-E88132C9C2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B1A-00F2-4E53-81D9-71BFC1EF7E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jpeg"/><Relationship Id="rId5" Type="http://schemas.openxmlformats.org/officeDocument/2006/relationships/image" Target="../media/image28.jpeg"/><Relationship Id="rId6" Type="http://schemas.openxmlformats.org/officeDocument/2006/relationships/image" Target="../media/image25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ipleship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imula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n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952880" y="2666880"/>
            <a:ext cx="20005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480" y="1295280"/>
            <a:ext cx="563904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f0007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w of the Teach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cher is primarily a learner, a student among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―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ward Hendri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52480" y="1295280"/>
            <a:ext cx="563904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f0007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w of the Teach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stop growing tod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top teaching tomo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―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ward Hendri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666520" y="3703320"/>
            <a:ext cx="3581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tu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960" y="2909880"/>
            <a:ext cx="62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eacher must know hi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1295280"/>
            <a:ext cx="563904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f0007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w of the Teac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666880" y="896760"/>
            <a:ext cx="5943600" cy="53658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2210040" cy="353556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s Christians, we are committed to a true cont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52480" y="1295280"/>
            <a:ext cx="563904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f0007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w of the Teach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 does not make you better unless it is evaluated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617920" y="1066680"/>
            <a:ext cx="5688000" cy="5113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2286000" cy="419112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 is a diligent labor to effective teach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43000" y="187200"/>
            <a:ext cx="6705720" cy="644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28440" y="22856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or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of Lear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6680" y="139680"/>
            <a:ext cx="2895480" cy="642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havior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6680" y="5245200"/>
            <a:ext cx="289548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vl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. Skin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Ph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680" y="804960"/>
            <a:ext cx="289548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upon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6680" y="2152800"/>
            <a:ext cx="2895480" cy="3080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 changes as a result of rewards &amp; pun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809880" y="762120"/>
            <a:ext cx="479124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66680" y="139680"/>
            <a:ext cx="2895480" cy="642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havior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62160" y="146160"/>
            <a:ext cx="2881440" cy="642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um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680" y="5245200"/>
            <a:ext cx="289548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vl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. Skin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Ph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62160" y="5234040"/>
            <a:ext cx="289584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 Ro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6680" y="804960"/>
            <a:ext cx="289548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upon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62160" y="790560"/>
            <a:ext cx="289584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upon what you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6680" y="2152800"/>
            <a:ext cx="2895480" cy="3080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 changes as a result of rewards &amp; pun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62160" y="2162160"/>
            <a:ext cx="2895840" cy="3080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takes place through reflection on experience and through the learner’s intrinsic 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554040" y="4190760"/>
            <a:ext cx="8132760" cy="1066680"/>
            <a:chOff x="554040" y="4190760"/>
            <a:chExt cx="8132760" cy="1066680"/>
          </a:xfrm>
        </p:grpSpPr>
        <p:sp>
          <p:nvSpPr>
            <p:cNvPr id="251" name=""/>
            <p:cNvSpPr/>
            <p:nvPr/>
          </p:nvSpPr>
          <p:spPr>
            <a:xfrm flipV="1">
              <a:off x="554040" y="4190040"/>
              <a:ext cx="8132760" cy="1066680"/>
            </a:xfrm>
            <a:custGeom>
              <a:avLst/>
              <a:gdLst>
                <a:gd name="textAreaLeft" fmla="*/ 1127520 w 8132760"/>
                <a:gd name="textAreaRight" fmla="*/ 7005240 w 8132760"/>
                <a:gd name="textAreaTop" fmla="*/ 147600 h 1066680"/>
                <a:gd name="textAreaBottom" fmla="*/ 9190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9" y="21600"/>
                  </a:lnTo>
                  <a:lnTo>
                    <a:pt x="2241" y="2160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2320" y="4257720"/>
              <a:ext cx="42670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curity Need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cial and Family Nee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371600" y="3100320"/>
            <a:ext cx="6477120" cy="1092240"/>
            <a:chOff x="1371600" y="3100320"/>
            <a:chExt cx="6477120" cy="1092240"/>
          </a:xfrm>
        </p:grpSpPr>
        <p:sp>
          <p:nvSpPr>
            <p:cNvPr id="254" name="Pyr4"/>
            <p:cNvSpPr/>
            <p:nvPr/>
          </p:nvSpPr>
          <p:spPr>
            <a:xfrm>
              <a:off x="1371600" y="3100320"/>
              <a:ext cx="6477120" cy="1092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6000" y="3125160"/>
              <a:ext cx="42670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ove &amp; Belongin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ed to receive &amp; give lov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19400" y="2003400"/>
            <a:ext cx="4788000" cy="1090800"/>
            <a:chOff x="2219400" y="2003400"/>
            <a:chExt cx="4788000" cy="1090800"/>
          </a:xfrm>
        </p:grpSpPr>
        <p:sp>
          <p:nvSpPr>
            <p:cNvPr id="257" name="Pyr3"/>
            <p:cNvSpPr/>
            <p:nvPr/>
          </p:nvSpPr>
          <p:spPr>
            <a:xfrm>
              <a:off x="2219400" y="2003400"/>
              <a:ext cx="4788000" cy="10908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38280" y="2046240"/>
              <a:ext cx="42674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teem Ne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lf Respect &amp; Estee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514600" y="936720"/>
            <a:ext cx="4267080" cy="1093680"/>
            <a:chOff x="2514600" y="936720"/>
            <a:chExt cx="4267080" cy="1093680"/>
          </a:xfrm>
        </p:grpSpPr>
        <p:sp>
          <p:nvSpPr>
            <p:cNvPr id="260" name="Pyr2"/>
            <p:cNvSpPr/>
            <p:nvPr/>
          </p:nvSpPr>
          <p:spPr>
            <a:xfrm>
              <a:off x="3051000" y="936720"/>
              <a:ext cx="3125880" cy="10936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14600" y="1125360"/>
              <a:ext cx="42670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eanin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lf Purp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09880" y="22320"/>
            <a:ext cx="4496040" cy="1025280"/>
            <a:chOff x="3809880" y="22320"/>
            <a:chExt cx="4496040" cy="1025280"/>
          </a:xfrm>
        </p:grpSpPr>
        <p:sp>
          <p:nvSpPr>
            <p:cNvPr id="263" name="Pyr1"/>
            <p:cNvSpPr/>
            <p:nvPr/>
          </p:nvSpPr>
          <p:spPr>
            <a:xfrm>
              <a:off x="3892680" y="22320"/>
              <a:ext cx="1450800" cy="9306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38480" y="222120"/>
              <a:ext cx="42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ctualiz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9880" y="1555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l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28600" y="380880"/>
            <a:ext cx="2590920" cy="13737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00000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low’s Hierarchy of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-533520" y="5257440"/>
            <a:ext cx="10286640" cy="1294920"/>
            <a:chOff x="-533520" y="5257440"/>
            <a:chExt cx="10286640" cy="1294920"/>
          </a:xfrm>
        </p:grpSpPr>
        <p:sp>
          <p:nvSpPr>
            <p:cNvPr id="268" name=""/>
            <p:cNvSpPr/>
            <p:nvPr/>
          </p:nvSpPr>
          <p:spPr>
            <a:xfrm flipV="1">
              <a:off x="-533160" y="5256720"/>
              <a:ext cx="10286640" cy="1294920"/>
            </a:xfrm>
            <a:custGeom>
              <a:avLst/>
              <a:gdLst>
                <a:gd name="textAreaLeft" fmla="*/ 1426320 w 10286640"/>
                <a:gd name="textAreaRight" fmla="*/ 8860320 w 10286640"/>
                <a:gd name="textAreaTop" fmla="*/ 179280 h 1294920"/>
                <a:gd name="textAreaBottom" fmla="*/ 111564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9" y="21600"/>
                  </a:lnTo>
                  <a:lnTo>
                    <a:pt x="2241" y="21600"/>
                  </a:lnTo>
                  <a:close/>
                </a:path>
              </a:pathLst>
            </a:cu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3560" y="5338800"/>
              <a:ext cx="5397120" cy="88632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hysiological Need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ood, Water, Shelter, Cloth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66680" y="139680"/>
            <a:ext cx="2895480" cy="642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havior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62160" y="146160"/>
            <a:ext cx="2881440" cy="642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um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8000" y="146160"/>
            <a:ext cx="3047760" cy="6426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6680" y="5245200"/>
            <a:ext cx="289548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vl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F. Skin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Ph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62160" y="5234040"/>
            <a:ext cx="289584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 Ro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58000" y="5234040"/>
            <a:ext cx="304776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 Pia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6680" y="804960"/>
            <a:ext cx="289548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upon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62160" y="790560"/>
            <a:ext cx="289584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upon what you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58000" y="790560"/>
            <a:ext cx="3047760" cy="1373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upon how you G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6680" y="2152800"/>
            <a:ext cx="2895480" cy="3080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 changes as a result of rewards &amp; pun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62160" y="2162160"/>
            <a:ext cx="2895840" cy="3080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takes place through reflection on experience and through the learner’s intrinsic 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58000" y="2152800"/>
            <a:ext cx="3047760" cy="3080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20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takes place as the learner interprets and experiments his expe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ubPieSlice"/>
          <p:cNvSpPr/>
          <p:nvPr/>
        </p:nvSpPr>
        <p:spPr>
          <a:xfrm>
            <a:off x="2438280" y="60948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75" y="16416"/>
                </a:moveTo>
                <a:arcTo wR="10800" hR="10800" stAng="8919930" swAng="-6991779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ubPieSlice"/>
          <p:cNvSpPr/>
          <p:nvPr/>
        </p:nvSpPr>
        <p:spPr>
          <a:xfrm>
            <a:off x="22860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7273363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ubPieSlice"/>
          <p:cNvSpPr/>
          <p:nvPr/>
        </p:nvSpPr>
        <p:spPr>
          <a:xfrm>
            <a:off x="25146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5" y="16366"/>
                </a:moveTo>
                <a:arcTo wR="10800" hR="10800" stAng="1861217" swAng="-7300301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1614600" cy="1376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 rot="3600000">
            <a:off x="3527640" y="1348200"/>
            <a:ext cx="533520" cy="1798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752840" cy="1578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05760" y="4876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080" y="28954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93000" y="281952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Here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886200"/>
            <a:ext cx="3124440" cy="2653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what ways and to what extent are these involved in the development of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ubPieSlice"/>
          <p:cNvSpPr/>
          <p:nvPr/>
        </p:nvSpPr>
        <p:spPr>
          <a:xfrm>
            <a:off x="2438280" y="60948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75" y="16416"/>
                </a:moveTo>
                <a:arcTo wR="10800" hR="10800" stAng="8919930" swAng="-6991779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ubPieSlice"/>
          <p:cNvSpPr/>
          <p:nvPr/>
        </p:nvSpPr>
        <p:spPr>
          <a:xfrm>
            <a:off x="22860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7273363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ubPieSlice"/>
          <p:cNvSpPr/>
          <p:nvPr/>
        </p:nvSpPr>
        <p:spPr>
          <a:xfrm>
            <a:off x="25146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5" y="16366"/>
                </a:moveTo>
                <a:arcTo wR="10800" hR="10800" stAng="1861217" swAng="-7300301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1614600" cy="1376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 rot="3600000">
            <a:off x="3527640" y="1348200"/>
            <a:ext cx="533520" cy="1798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752840" cy="1578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405760" y="4876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080" y="28954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93000" y="281952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Here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3886200"/>
            <a:ext cx="3124440" cy="2653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what ways and to what extent are these involved in the development of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ubPieSlice"/>
          <p:cNvSpPr/>
          <p:nvPr/>
        </p:nvSpPr>
        <p:spPr>
          <a:xfrm>
            <a:off x="2438280" y="60948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75" y="16416"/>
                </a:moveTo>
                <a:arcTo wR="10800" hR="10800" stAng="8919930" swAng="-6991779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ubPieSlice"/>
          <p:cNvSpPr/>
          <p:nvPr/>
        </p:nvSpPr>
        <p:spPr>
          <a:xfrm>
            <a:off x="22860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7273363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ubPieSlice"/>
          <p:cNvSpPr/>
          <p:nvPr/>
        </p:nvSpPr>
        <p:spPr>
          <a:xfrm>
            <a:off x="25146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5" y="16366"/>
                </a:moveTo>
                <a:arcTo wR="10800" hR="10800" stAng="1861217" swAng="-7300301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1614600" cy="1376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3600000">
            <a:off x="3527640" y="1348200"/>
            <a:ext cx="533520" cy="17989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752840" cy="15782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405760" y="4876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080" y="28954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93000" y="281952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Here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3886200"/>
            <a:ext cx="3124440" cy="2653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what ways and to what extent are these involved in the development of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ubPieSlice"/>
          <p:cNvSpPr/>
          <p:nvPr/>
        </p:nvSpPr>
        <p:spPr>
          <a:xfrm>
            <a:off x="2438280" y="60948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75" y="16416"/>
                </a:moveTo>
                <a:arcTo wR="10800" hR="10800" stAng="8919930" swAng="-6991779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ubPieSlice"/>
          <p:cNvSpPr/>
          <p:nvPr/>
        </p:nvSpPr>
        <p:spPr>
          <a:xfrm>
            <a:off x="22860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7273363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ubPieSlice"/>
          <p:cNvSpPr/>
          <p:nvPr/>
        </p:nvSpPr>
        <p:spPr>
          <a:xfrm>
            <a:off x="25146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5" y="16366"/>
                </a:moveTo>
                <a:arcTo wR="10800" hR="10800" stAng="1861217" swAng="-7300301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1614600" cy="1376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 rot="3600000">
            <a:off x="3527640" y="1348200"/>
            <a:ext cx="533520" cy="1798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752840" cy="1578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05760" y="4876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4080" y="28954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93000" y="281952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Here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3886200"/>
            <a:ext cx="3124440" cy="2653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what ways and to what extent are these involved in the development of peop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4724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Grade your own educational experiences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            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41911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2743200"/>
            <a:ext cx="3429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st five people who have impacted your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936800" y="2514600"/>
            <a:ext cx="1568520" cy="283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have been the strengths of your own education with those learning experience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800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have been the weaknesses of your own education with those learning experience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791320" y="220968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gradFill rotWithShape="0">
            <a:gsLst>
              <a:gs pos="0">
                <a:srgbClr val="0033cc"/>
              </a:gs>
              <a:gs pos="50000">
                <a:srgbClr val="00020b"/>
              </a:gs>
              <a:gs pos="100000">
                <a:srgbClr val="00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22096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0033cc"/>
              </a:gs>
              <a:gs pos="50000">
                <a:srgbClr val="00020b"/>
              </a:gs>
              <a:gs pos="100000">
                <a:srgbClr val="00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895480" y="1828800"/>
            <a:ext cx="3352680" cy="1295280"/>
            <a:chOff x="2895480" y="1828800"/>
            <a:chExt cx="3352680" cy="1295280"/>
          </a:xfrm>
        </p:grpSpPr>
        <p:sp>
          <p:nvSpPr>
            <p:cNvPr id="330" name=""/>
            <p:cNvSpPr/>
            <p:nvPr/>
          </p:nvSpPr>
          <p:spPr>
            <a:xfrm>
              <a:off x="2895480" y="1828800"/>
              <a:ext cx="2273760" cy="11048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eliver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07760" y="2247840"/>
              <a:ext cx="1040400" cy="704880"/>
            </a:xfrm>
            <a:custGeom>
              <a:avLst/>
              <a:gdLst/>
              <a:ahLst/>
              <a:rect l="l" t="t" r="r" b="b"/>
              <a:pathLst>
                <a:path w="1296" h="888">
                  <a:moveTo>
                    <a:pt x="0" y="0"/>
                  </a:moveTo>
                  <a:lnTo>
                    <a:pt x="0" y="864"/>
                  </a:lnTo>
                  <a:lnTo>
                    <a:pt x="816" y="864"/>
                  </a:lnTo>
                  <a:cubicBezTo>
                    <a:pt x="958" y="857"/>
                    <a:pt x="842" y="838"/>
                    <a:pt x="855" y="820"/>
                  </a:cubicBezTo>
                  <a:cubicBezTo>
                    <a:pt x="868" y="802"/>
                    <a:pt x="864" y="777"/>
                    <a:pt x="895" y="755"/>
                  </a:cubicBezTo>
                  <a:cubicBezTo>
                    <a:pt x="926" y="733"/>
                    <a:pt x="972" y="671"/>
                    <a:pt x="1039" y="689"/>
                  </a:cubicBezTo>
                  <a:cubicBezTo>
                    <a:pt x="1119" y="689"/>
                    <a:pt x="1248" y="888"/>
                    <a:pt x="1296" y="864"/>
                  </a:cubicBezTo>
                  <a:lnTo>
                    <a:pt x="1296" y="528"/>
                  </a:lnTo>
                  <a:lnTo>
                    <a:pt x="1200" y="432"/>
                  </a:lnTo>
                  <a:lnTo>
                    <a:pt x="1056" y="384"/>
                  </a:lnTo>
                  <a:lnTo>
                    <a:pt x="912" y="384"/>
                  </a:ln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84800" y="2286000"/>
              <a:ext cx="385200" cy="2667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46280" y="22860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01480" y="2819160"/>
              <a:ext cx="308160" cy="304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9200" y="2819160"/>
              <a:ext cx="308160" cy="304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04760" y="2933640"/>
              <a:ext cx="7668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17400" y="2933640"/>
              <a:ext cx="7668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08880" y="2313720"/>
              <a:ext cx="115560" cy="228600"/>
            </a:xfrm>
            <a:prstGeom prst="rtTriangl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52280" y="1295280"/>
            <a:ext cx="2133720" cy="2133720"/>
          </a:xfrm>
          <a:prstGeom prst="vertic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u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086600" y="1600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087320" y="320040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ea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44956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volved in teaching people, not just “stuf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476760" cy="607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ges of Cognitive Develop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Pia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6-19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nsorimotor Peri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y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 motor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languag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through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contained (not involved in gro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433840" y="2438280"/>
            <a:ext cx="2810160" cy="3922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057400" y="1066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es 0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operational Peri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546280" cy="32828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5334120" y="457200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057400" y="1066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es 2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symbols of thought to replace actua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replaces motor skills: “Use your wor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believe”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ve monolo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go-centric world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hing at a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rete Oper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719680" y="2133720"/>
            <a:ext cx="2738520" cy="3682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057400" y="1066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es 7-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22096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understanding of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3048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 =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A =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rete Oper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5719680" y="2133720"/>
            <a:ext cx="2738520" cy="3682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057400" y="1066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es 7-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609480" cy="6015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2057400" y="2971800"/>
            <a:ext cx="609480" cy="6015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2743200" y="2971800"/>
            <a:ext cx="609480" cy="6015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6"/>
          <a:stretch/>
        </p:blipFill>
        <p:spPr>
          <a:xfrm>
            <a:off x="3429000" y="2971800"/>
            <a:ext cx="609480" cy="6015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1371600" y="3894120"/>
            <a:ext cx="609480" cy="601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2209680" y="389412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3124080" y="389412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4038480" y="3894120"/>
            <a:ext cx="609840" cy="60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ui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573440" y="2438280"/>
            <a:ext cx="3316320" cy="335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rete Oper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719680" y="2133720"/>
            <a:ext cx="2738520" cy="3682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057400" y="1066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es 7-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rete Oper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719680" y="2133720"/>
            <a:ext cx="2738520" cy="36828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057400" y="1066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es 7-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114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lity to place objects, events, and ideas into logical and chronolog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al Oper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reason through unheld pro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lity to reflect on the theore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657600" cy="2252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057400" y="1066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gins Ages 11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4267080"/>
            <a:ext cx="83059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ds itself to ide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uestioning of one’s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581280" y="11430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 Small Group Discus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agree or disagree with Piaget’s idea of cognitive develop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exceptions to his four stag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implications for Christian edu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91" name="PubPieSlice"/>
          <p:cNvSpPr/>
          <p:nvPr/>
        </p:nvSpPr>
        <p:spPr>
          <a:xfrm>
            <a:off x="2306520" y="60948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756"/>
                </a:moveTo>
                <a:arcTo wR="10800" hR="10800" stAng="-10785893" swAng="-5505116"/>
                <a:lnTo>
                  <a:pt x="10800" y="108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ubPieSlice"/>
          <p:cNvSpPr/>
          <p:nvPr/>
        </p:nvSpPr>
        <p:spPr>
          <a:xfrm>
            <a:off x="2286000" y="45720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5405610"/>
                <a:lnTo>
                  <a:pt x="10800" y="108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ubPieSlice"/>
          <p:cNvSpPr/>
          <p:nvPr/>
        </p:nvSpPr>
        <p:spPr>
          <a:xfrm>
            <a:off x="2470320" y="457200"/>
            <a:ext cx="624816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97" y="11048"/>
                </a:moveTo>
                <a:arcTo wR="10800" hR="10800" stAng="78878" swAng="-5517962"/>
                <a:lnTo>
                  <a:pt x="10800" y="108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83080" y="806400"/>
            <a:ext cx="254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nsorimo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5029200"/>
            <a:ext cx="236232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ications for Christian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ubPieSlice"/>
          <p:cNvSpPr/>
          <p:nvPr/>
        </p:nvSpPr>
        <p:spPr>
          <a:xfrm>
            <a:off x="2438280" y="609480"/>
            <a:ext cx="6248520" cy="57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61" y="21597"/>
                </a:moveTo>
                <a:arcTo wR="10800" hR="10800" stAng="5316887" swAng="-5240025"/>
                <a:lnTo>
                  <a:pt x="10800" y="108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16960" y="838080"/>
            <a:ext cx="27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reoper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53840" y="3733920"/>
            <a:ext cx="204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orm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25000" y="3733920"/>
            <a:ext cx="204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oncr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6095880" y="4800600"/>
            <a:ext cx="2133720" cy="131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3830760" y="4648320"/>
            <a:ext cx="130320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3835440" y="1828800"/>
            <a:ext cx="982800" cy="137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6095880" y="1905120"/>
            <a:ext cx="1524240" cy="118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52680" y="2590920"/>
            <a:ext cx="4705560" cy="324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a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5643360" cy="2532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acilita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029200" y="2362320"/>
            <a:ext cx="2641680" cy="396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03680" y="2743200"/>
            <a:ext cx="2635200" cy="31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ncourag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438280" y="2514600"/>
            <a:ext cx="5943600" cy="3967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867280" cy="129564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pects of a Teacher/Disciple-Mak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iva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1-22T19:49:19Z</dcterms:modified>
  <cp:revision>70</cp:revision>
  <dc:subject/>
  <dc:title>Discipleship Across the Lifespan</dc:title>
</cp:coreProperties>
</file>