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B5F7-327C-4155-A19E-9B666D0AB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55A9-AEBC-452D-BB37-92DCB5FD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8D01-9B02-45A5-A799-DCAA4EB6F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60E3-B258-4F35-B76F-2437C10D0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77A6-F84D-40B6-9BD1-40B9DBD9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13EE-6508-49E5-9A5C-CB495F2D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DCBD-DEA2-4A8C-A100-0691FD12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5ACF-47D6-4D80-A615-C45979BF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87EA-6B63-4CBB-B8DA-7A3E09CC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F81A-FF13-4D2A-87D5-4DAD6947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9897-6443-4C23-BB7F-E9902878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6B2E-5F90-434A-82C0-BF347183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390B-27E6-438F-8B5B-1FD2D3E6E0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iscipleship Across the Lifespa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nity International Un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igh Schooler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search for and establishing of a personal ident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ound influence of pe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uing shift toward abstract thin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Young Adult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ing values and belie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e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cational conc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448240" y="1676520"/>
            <a:ext cx="328140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58000" y="1828800"/>
            <a:ext cx="0" cy="1752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1981080"/>
            <a:ext cx="0" cy="22100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2819520" cy="14698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18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aith Parent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3200400" y="2286000"/>
            <a:ext cx="28195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ing “faith kids” by helping them learn and apply the Bible to their l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410080" y="533520"/>
            <a:ext cx="2819520" cy="14698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18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aith Teach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371600" y="4567320"/>
            <a:ext cx="2057400" cy="17571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6126120" y="3733920"/>
            <a:ext cx="1554120" cy="2590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0" y="1828800"/>
            <a:ext cx="0" cy="1752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38280" y="1981080"/>
            <a:ext cx="0" cy="22100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2819520" cy="14698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18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aith Parent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3276360" y="2361960"/>
            <a:ext cx="2895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are the areas of responsibility in developing “disciples”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533520"/>
            <a:ext cx="2819520" cy="14698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18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aith Teach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371600" y="4567320"/>
            <a:ext cx="2057400" cy="17571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6126120" y="3733920"/>
            <a:ext cx="1554120" cy="25905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962520" y="5410080"/>
            <a:ext cx="167616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8413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0c0006"/>
              </a:gs>
              <a:gs pos="100000">
                <a:srgbClr val="6600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inciple of Cont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ntent of teaching must support its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8413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0c0006"/>
              </a:gs>
              <a:gs pos="100000">
                <a:srgbClr val="6600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inciple of Contex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990360" y="2361960"/>
            <a:ext cx="7086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ian education strateg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―at church and home―must address the fullest context of the student’s l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219320" y="4952880"/>
            <a:ext cx="1858680" cy="15876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6095880" y="4419720"/>
            <a:ext cx="1371600" cy="2286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733920" y="5638680"/>
            <a:ext cx="167616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3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666880" y="3048120"/>
            <a:ext cx="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413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0c0006"/>
              </a:gs>
              <a:gs pos="100000">
                <a:srgbClr val="6600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inciple of Foc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218960" y="4572000"/>
            <a:ext cx="2895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s of individu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95280" y="1523880"/>
            <a:ext cx="2971800" cy="152424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000029"/>
              </a:gs>
              <a:gs pos="100000">
                <a:srgbClr val="000099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cus of Group Tea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905120" y="3429000"/>
            <a:ext cx="1600200" cy="8524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248520" y="3048120"/>
            <a:ext cx="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4572000"/>
            <a:ext cx="2895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individ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76920" y="1523880"/>
            <a:ext cx="2971800" cy="152424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000029"/>
              </a:gs>
              <a:gs pos="100000">
                <a:srgbClr val="000099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cus of Individual Disciple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5486400" y="3429000"/>
            <a:ext cx="1600200" cy="8524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1752480" y="5638680"/>
            <a:ext cx="1752840" cy="114300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54640" y="5638680"/>
            <a:ext cx="1752480" cy="114300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8413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0c0006"/>
              </a:gs>
              <a:gs pos="100000">
                <a:srgbClr val="6600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ycle of Nee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629080" y="2324160"/>
            <a:ext cx="3887640" cy="3887640"/>
            <a:chOff x="2629080" y="2324160"/>
            <a:chExt cx="3887640" cy="3887640"/>
          </a:xfrm>
        </p:grpSpPr>
        <p:sp>
          <p:nvSpPr>
            <p:cNvPr id="246" name="_s36871"/>
            <p:cNvSpPr/>
            <p:nvPr/>
          </p:nvSpPr>
          <p:spPr>
            <a:xfrm>
              <a:off x="3251160" y="2324160"/>
              <a:ext cx="2643120" cy="2643120"/>
            </a:xfrm>
            <a:custGeom>
              <a:avLst/>
              <a:gdLst>
                <a:gd name="textAreaLeft" fmla="*/ 0 w 2643120"/>
                <a:gd name="textAreaRight" fmla="*/ 2643480 w 2643120"/>
                <a:gd name="textAreaTop" fmla="*/ 0 h 2643120"/>
                <a:gd name="textAreaBottom" fmla="*/ 2643480 h 264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_s36872"/>
            <p:cNvSpPr/>
            <p:nvPr/>
          </p:nvSpPr>
          <p:spPr>
            <a:xfrm rot="5400000">
              <a:off x="3873600" y="2945880"/>
              <a:ext cx="2643120" cy="2643120"/>
            </a:xfrm>
            <a:custGeom>
              <a:avLst/>
              <a:gdLst>
                <a:gd name="textAreaLeft" fmla="*/ 0 w 2643120"/>
                <a:gd name="textAreaRight" fmla="*/ 2643480 w 2643120"/>
                <a:gd name="textAreaTop" fmla="*/ 0 h 2643120"/>
                <a:gd name="textAreaBottom" fmla="*/ 2643480 h 264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_s36873"/>
            <p:cNvSpPr/>
            <p:nvPr/>
          </p:nvSpPr>
          <p:spPr>
            <a:xfrm rot="10800000">
              <a:off x="3251160" y="3568680"/>
              <a:ext cx="2643120" cy="2643120"/>
            </a:xfrm>
            <a:custGeom>
              <a:avLst/>
              <a:gdLst>
                <a:gd name="textAreaLeft" fmla="*/ 0 w 2643120"/>
                <a:gd name="textAreaRight" fmla="*/ 2643480 w 2643120"/>
                <a:gd name="textAreaTop" fmla="*/ 0 h 2643120"/>
                <a:gd name="textAreaBottom" fmla="*/ 2643480 h 264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_s36874"/>
            <p:cNvSpPr/>
            <p:nvPr/>
          </p:nvSpPr>
          <p:spPr>
            <a:xfrm rot="16200000">
              <a:off x="2629080" y="2946240"/>
              <a:ext cx="2643120" cy="2643120"/>
            </a:xfrm>
            <a:custGeom>
              <a:avLst/>
              <a:gdLst>
                <a:gd name="textAreaLeft" fmla="*/ 0 w 2643120"/>
                <a:gd name="textAreaRight" fmla="*/ 2643480 w 2643120"/>
                <a:gd name="textAreaTop" fmla="*/ 0 h 2643120"/>
                <a:gd name="textAreaBottom" fmla="*/ 2643480 h 264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_s36875"/>
            <p:cNvSpPr/>
            <p:nvPr/>
          </p:nvSpPr>
          <p:spPr>
            <a:xfrm>
              <a:off x="5276880" y="2566800"/>
              <a:ext cx="99540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Nee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_s36876"/>
            <p:cNvSpPr/>
            <p:nvPr/>
          </p:nvSpPr>
          <p:spPr>
            <a:xfrm>
              <a:off x="5278320" y="4970520"/>
              <a:ext cx="995400" cy="99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Conten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_s36877"/>
            <p:cNvSpPr/>
            <p:nvPr/>
          </p:nvSpPr>
          <p:spPr>
            <a:xfrm>
              <a:off x="2874960" y="4973400"/>
              <a:ext cx="99540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Applicatio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_s36878"/>
            <p:cNvSpPr/>
            <p:nvPr/>
          </p:nvSpPr>
          <p:spPr>
            <a:xfrm>
              <a:off x="2871720" y="2570040"/>
              <a:ext cx="99540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Respons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8413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0c0006"/>
              </a:gs>
              <a:gs pos="100000">
                <a:srgbClr val="6600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inciple of Matura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disciple will mature in a unique way, not in lockstep with other discip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1981080" y="4341960"/>
            <a:ext cx="5029200" cy="2135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8413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0c0006"/>
              </a:gs>
              <a:gs pos="100000">
                <a:srgbClr val="6600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inciple of Humanit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371600" y="25905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oal of Christian teaching is to put a human voice to God’s Word and a human model to God’s way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62520" y="4672080"/>
            <a:ext cx="1904760" cy="609480"/>
          </a:xfrm>
          <a:prstGeom prst="rightArrow">
            <a:avLst>
              <a:gd name="adj1" fmla="val 50000"/>
              <a:gd name="adj2" fmla="val 112305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4672080"/>
            <a:ext cx="1523880" cy="609480"/>
          </a:xfrm>
          <a:prstGeom prst="rightArrow">
            <a:avLst>
              <a:gd name="adj1" fmla="val 50000"/>
              <a:gd name="adj2" fmla="val 89848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4674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nd the things which you have heard from me in the presence of many witnesses, these entrust to faithful men, who will be able to teach others also (2 Timothy 2:2)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562720" y="4290840"/>
            <a:ext cx="2957400" cy="1698840"/>
            <a:chOff x="5562720" y="4290840"/>
            <a:chExt cx="2957400" cy="1698840"/>
          </a:xfrm>
        </p:grpSpPr>
        <p:sp>
          <p:nvSpPr>
            <p:cNvPr id="47" name=""/>
            <p:cNvSpPr/>
            <p:nvPr/>
          </p:nvSpPr>
          <p:spPr>
            <a:xfrm>
              <a:off x="6367680" y="4290840"/>
              <a:ext cx="2152440" cy="1698840"/>
            </a:xfrm>
            <a:custGeom>
              <a:avLst/>
              <a:gdLst/>
              <a:ahLst/>
              <a:rect l="l" t="t" r="r" b="b"/>
              <a:pathLst>
                <a:path w="11071" h="7950">
                  <a:moveTo>
                    <a:pt x="9205" y="6364"/>
                  </a:moveTo>
                  <a:lnTo>
                    <a:pt x="9205" y="6173"/>
                  </a:lnTo>
                  <a:lnTo>
                    <a:pt x="9218" y="5982"/>
                  </a:lnTo>
                  <a:lnTo>
                    <a:pt x="9234" y="5797"/>
                  </a:lnTo>
                  <a:lnTo>
                    <a:pt x="9252" y="5611"/>
                  </a:lnTo>
                  <a:lnTo>
                    <a:pt x="9269" y="5426"/>
                  </a:lnTo>
                  <a:lnTo>
                    <a:pt x="9292" y="5240"/>
                  </a:lnTo>
                  <a:lnTo>
                    <a:pt x="9304" y="5060"/>
                  </a:lnTo>
                  <a:lnTo>
                    <a:pt x="9316" y="4880"/>
                  </a:lnTo>
                  <a:lnTo>
                    <a:pt x="9316" y="4824"/>
                  </a:lnTo>
                  <a:lnTo>
                    <a:pt x="9322" y="4768"/>
                  </a:lnTo>
                  <a:lnTo>
                    <a:pt x="9333" y="4701"/>
                  </a:lnTo>
                  <a:lnTo>
                    <a:pt x="9345" y="4639"/>
                  </a:lnTo>
                  <a:lnTo>
                    <a:pt x="9345" y="4571"/>
                  </a:lnTo>
                  <a:lnTo>
                    <a:pt x="9350" y="4503"/>
                  </a:lnTo>
                  <a:lnTo>
                    <a:pt x="9345" y="4436"/>
                  </a:lnTo>
                  <a:lnTo>
                    <a:pt x="9339" y="4380"/>
                  </a:lnTo>
                  <a:lnTo>
                    <a:pt x="9322" y="4341"/>
                  </a:lnTo>
                  <a:lnTo>
                    <a:pt x="9299" y="4307"/>
                  </a:lnTo>
                  <a:lnTo>
                    <a:pt x="9269" y="4262"/>
                  </a:lnTo>
                  <a:lnTo>
                    <a:pt x="9246" y="4223"/>
                  </a:lnTo>
                  <a:lnTo>
                    <a:pt x="9218" y="4177"/>
                  </a:lnTo>
                  <a:lnTo>
                    <a:pt x="9188" y="4144"/>
                  </a:lnTo>
                  <a:lnTo>
                    <a:pt x="9159" y="4105"/>
                  </a:lnTo>
                  <a:lnTo>
                    <a:pt x="9142" y="4082"/>
                  </a:lnTo>
                  <a:lnTo>
                    <a:pt x="9119" y="4122"/>
                  </a:lnTo>
                  <a:lnTo>
                    <a:pt x="9112" y="4172"/>
                  </a:lnTo>
                  <a:lnTo>
                    <a:pt x="9107" y="4233"/>
                  </a:lnTo>
                  <a:lnTo>
                    <a:pt x="9107" y="4301"/>
                  </a:lnTo>
                  <a:lnTo>
                    <a:pt x="9107" y="4363"/>
                  </a:lnTo>
                  <a:lnTo>
                    <a:pt x="9112" y="4425"/>
                  </a:lnTo>
                  <a:lnTo>
                    <a:pt x="9112" y="4481"/>
                  </a:lnTo>
                  <a:lnTo>
                    <a:pt x="9112" y="4537"/>
                  </a:lnTo>
                  <a:lnTo>
                    <a:pt x="9101" y="4655"/>
                  </a:lnTo>
                  <a:lnTo>
                    <a:pt x="9101" y="4779"/>
                  </a:lnTo>
                  <a:lnTo>
                    <a:pt x="9101" y="4892"/>
                  </a:lnTo>
                  <a:lnTo>
                    <a:pt x="9107" y="5010"/>
                  </a:lnTo>
                  <a:lnTo>
                    <a:pt x="9107" y="5122"/>
                  </a:lnTo>
                  <a:lnTo>
                    <a:pt x="9112" y="5240"/>
                  </a:lnTo>
                  <a:lnTo>
                    <a:pt x="9112" y="5358"/>
                  </a:lnTo>
                  <a:lnTo>
                    <a:pt x="9112" y="5488"/>
                  </a:lnTo>
                  <a:lnTo>
                    <a:pt x="9101" y="5577"/>
                  </a:lnTo>
                  <a:lnTo>
                    <a:pt x="9101" y="5673"/>
                  </a:lnTo>
                  <a:lnTo>
                    <a:pt x="9095" y="5775"/>
                  </a:lnTo>
                  <a:lnTo>
                    <a:pt x="9095" y="5876"/>
                  </a:lnTo>
                  <a:lnTo>
                    <a:pt x="9095" y="5971"/>
                  </a:lnTo>
                  <a:lnTo>
                    <a:pt x="9101" y="6067"/>
                  </a:lnTo>
                  <a:lnTo>
                    <a:pt x="9107" y="6157"/>
                  </a:lnTo>
                  <a:lnTo>
                    <a:pt x="9124" y="6246"/>
                  </a:lnTo>
                  <a:lnTo>
                    <a:pt x="9130" y="6286"/>
                  </a:lnTo>
                  <a:lnTo>
                    <a:pt x="9147" y="6325"/>
                  </a:lnTo>
                  <a:lnTo>
                    <a:pt x="9165" y="6348"/>
                  </a:lnTo>
                  <a:lnTo>
                    <a:pt x="9205" y="6364"/>
                  </a:lnTo>
                  <a:lnTo>
                    <a:pt x="9177" y="6573"/>
                  </a:lnTo>
                  <a:lnTo>
                    <a:pt x="9048" y="6567"/>
                  </a:lnTo>
                  <a:lnTo>
                    <a:pt x="8932" y="6567"/>
                  </a:lnTo>
                  <a:lnTo>
                    <a:pt x="8816" y="6562"/>
                  </a:lnTo>
                  <a:lnTo>
                    <a:pt x="8711" y="6562"/>
                  </a:lnTo>
                  <a:lnTo>
                    <a:pt x="8595" y="6550"/>
                  </a:lnTo>
                  <a:lnTo>
                    <a:pt x="8485" y="6545"/>
                  </a:lnTo>
                  <a:lnTo>
                    <a:pt x="8363" y="6539"/>
                  </a:lnTo>
                  <a:lnTo>
                    <a:pt x="8247" y="6533"/>
                  </a:lnTo>
                  <a:lnTo>
                    <a:pt x="8212" y="6528"/>
                  </a:lnTo>
                  <a:lnTo>
                    <a:pt x="8171" y="6528"/>
                  </a:lnTo>
                  <a:lnTo>
                    <a:pt x="8125" y="6533"/>
                  </a:lnTo>
                  <a:lnTo>
                    <a:pt x="8078" y="6539"/>
                  </a:lnTo>
                  <a:lnTo>
                    <a:pt x="8026" y="6539"/>
                  </a:lnTo>
                  <a:lnTo>
                    <a:pt x="7974" y="6539"/>
                  </a:lnTo>
                  <a:lnTo>
                    <a:pt x="7921" y="6533"/>
                  </a:lnTo>
                  <a:lnTo>
                    <a:pt x="7887" y="6533"/>
                  </a:lnTo>
                  <a:lnTo>
                    <a:pt x="7852" y="6506"/>
                  </a:lnTo>
                  <a:lnTo>
                    <a:pt x="7834" y="6477"/>
                  </a:lnTo>
                  <a:lnTo>
                    <a:pt x="7817" y="6432"/>
                  </a:lnTo>
                  <a:lnTo>
                    <a:pt x="7804" y="6393"/>
                  </a:lnTo>
                  <a:lnTo>
                    <a:pt x="7764" y="6381"/>
                  </a:lnTo>
                  <a:lnTo>
                    <a:pt x="7723" y="6376"/>
                  </a:lnTo>
                  <a:lnTo>
                    <a:pt x="7683" y="6376"/>
                  </a:lnTo>
                  <a:lnTo>
                    <a:pt x="7649" y="6381"/>
                  </a:lnTo>
                  <a:lnTo>
                    <a:pt x="7665" y="6196"/>
                  </a:lnTo>
                  <a:lnTo>
                    <a:pt x="7689" y="6011"/>
                  </a:lnTo>
                  <a:lnTo>
                    <a:pt x="7706" y="5825"/>
                  </a:lnTo>
                  <a:lnTo>
                    <a:pt x="7723" y="5640"/>
                  </a:lnTo>
                  <a:lnTo>
                    <a:pt x="7730" y="5449"/>
                  </a:lnTo>
                  <a:lnTo>
                    <a:pt x="7747" y="5263"/>
                  </a:lnTo>
                  <a:lnTo>
                    <a:pt x="7753" y="5066"/>
                  </a:lnTo>
                  <a:lnTo>
                    <a:pt x="7770" y="4870"/>
                  </a:lnTo>
                  <a:lnTo>
                    <a:pt x="7770" y="4802"/>
                  </a:lnTo>
                  <a:lnTo>
                    <a:pt x="7781" y="4740"/>
                  </a:lnTo>
                  <a:lnTo>
                    <a:pt x="7793" y="4661"/>
                  </a:lnTo>
                  <a:lnTo>
                    <a:pt x="7804" y="4588"/>
                  </a:lnTo>
                  <a:lnTo>
                    <a:pt x="7811" y="4510"/>
                  </a:lnTo>
                  <a:lnTo>
                    <a:pt x="7817" y="4442"/>
                  </a:lnTo>
                  <a:lnTo>
                    <a:pt x="7811" y="4375"/>
                  </a:lnTo>
                  <a:lnTo>
                    <a:pt x="7804" y="4329"/>
                  </a:lnTo>
                  <a:lnTo>
                    <a:pt x="7788" y="4329"/>
                  </a:lnTo>
                  <a:lnTo>
                    <a:pt x="7770" y="4329"/>
                  </a:lnTo>
                  <a:lnTo>
                    <a:pt x="7730" y="4262"/>
                  </a:lnTo>
                  <a:lnTo>
                    <a:pt x="7695" y="4200"/>
                  </a:lnTo>
                  <a:lnTo>
                    <a:pt x="7660" y="4138"/>
                  </a:lnTo>
                  <a:lnTo>
                    <a:pt x="7624" y="4088"/>
                  </a:lnTo>
                  <a:lnTo>
                    <a:pt x="7578" y="4026"/>
                  </a:lnTo>
                  <a:lnTo>
                    <a:pt x="7538" y="3975"/>
                  </a:lnTo>
                  <a:lnTo>
                    <a:pt x="7492" y="3924"/>
                  </a:lnTo>
                  <a:lnTo>
                    <a:pt x="7444" y="3880"/>
                  </a:lnTo>
                  <a:lnTo>
                    <a:pt x="7444" y="3958"/>
                  </a:lnTo>
                  <a:lnTo>
                    <a:pt x="7433" y="4037"/>
                  </a:lnTo>
                  <a:lnTo>
                    <a:pt x="7410" y="4105"/>
                  </a:lnTo>
                  <a:lnTo>
                    <a:pt x="7381" y="4155"/>
                  </a:lnTo>
                  <a:lnTo>
                    <a:pt x="7328" y="4183"/>
                  </a:lnTo>
                  <a:lnTo>
                    <a:pt x="7276" y="4200"/>
                  </a:lnTo>
                  <a:lnTo>
                    <a:pt x="7206" y="4189"/>
                  </a:lnTo>
                  <a:lnTo>
                    <a:pt x="7131" y="4161"/>
                  </a:lnTo>
                  <a:lnTo>
                    <a:pt x="7125" y="4172"/>
                  </a:lnTo>
                  <a:lnTo>
                    <a:pt x="7125" y="4200"/>
                  </a:lnTo>
                  <a:lnTo>
                    <a:pt x="7125" y="4228"/>
                  </a:lnTo>
                  <a:lnTo>
                    <a:pt x="7131" y="4240"/>
                  </a:lnTo>
                  <a:lnTo>
                    <a:pt x="7131" y="4335"/>
                  </a:lnTo>
                  <a:lnTo>
                    <a:pt x="7131" y="4431"/>
                  </a:lnTo>
                  <a:lnTo>
                    <a:pt x="7131" y="4515"/>
                  </a:lnTo>
                  <a:lnTo>
                    <a:pt x="7137" y="4605"/>
                  </a:lnTo>
                  <a:lnTo>
                    <a:pt x="7142" y="4689"/>
                  </a:lnTo>
                  <a:lnTo>
                    <a:pt x="7148" y="4779"/>
                  </a:lnTo>
                  <a:lnTo>
                    <a:pt x="7154" y="4863"/>
                  </a:lnTo>
                  <a:lnTo>
                    <a:pt x="7165" y="4965"/>
                  </a:lnTo>
                  <a:lnTo>
                    <a:pt x="7172" y="5100"/>
                  </a:lnTo>
                  <a:lnTo>
                    <a:pt x="7188" y="5246"/>
                  </a:lnTo>
                  <a:lnTo>
                    <a:pt x="7206" y="5398"/>
                  </a:lnTo>
                  <a:lnTo>
                    <a:pt x="7229" y="5550"/>
                  </a:lnTo>
                  <a:lnTo>
                    <a:pt x="7236" y="5701"/>
                  </a:lnTo>
                  <a:lnTo>
                    <a:pt x="7247" y="5859"/>
                  </a:lnTo>
                  <a:lnTo>
                    <a:pt x="7241" y="6011"/>
                  </a:lnTo>
                  <a:lnTo>
                    <a:pt x="7236" y="6163"/>
                  </a:lnTo>
                  <a:lnTo>
                    <a:pt x="7271" y="6168"/>
                  </a:lnTo>
                  <a:lnTo>
                    <a:pt x="7305" y="6173"/>
                  </a:lnTo>
                  <a:lnTo>
                    <a:pt x="7340" y="6179"/>
                  </a:lnTo>
                  <a:lnTo>
                    <a:pt x="7375" y="6185"/>
                  </a:lnTo>
                  <a:lnTo>
                    <a:pt x="7410" y="6190"/>
                  </a:lnTo>
                  <a:lnTo>
                    <a:pt x="7444" y="6196"/>
                  </a:lnTo>
                  <a:lnTo>
                    <a:pt x="7479" y="6202"/>
                  </a:lnTo>
                  <a:lnTo>
                    <a:pt x="7526" y="6212"/>
                  </a:lnTo>
                  <a:lnTo>
                    <a:pt x="7526" y="6286"/>
                  </a:lnTo>
                  <a:lnTo>
                    <a:pt x="7509" y="6292"/>
                  </a:lnTo>
                  <a:lnTo>
                    <a:pt x="7509" y="6314"/>
                  </a:lnTo>
                  <a:lnTo>
                    <a:pt x="7515" y="6331"/>
                  </a:lnTo>
                  <a:lnTo>
                    <a:pt x="7526" y="6342"/>
                  </a:lnTo>
                  <a:lnTo>
                    <a:pt x="7503" y="6376"/>
                  </a:lnTo>
                  <a:lnTo>
                    <a:pt x="7479" y="6404"/>
                  </a:lnTo>
                  <a:lnTo>
                    <a:pt x="7451" y="6415"/>
                  </a:lnTo>
                  <a:lnTo>
                    <a:pt x="7421" y="6421"/>
                  </a:lnTo>
                  <a:lnTo>
                    <a:pt x="7381" y="6415"/>
                  </a:lnTo>
                  <a:lnTo>
                    <a:pt x="7345" y="6415"/>
                  </a:lnTo>
                  <a:lnTo>
                    <a:pt x="7294" y="6415"/>
                  </a:lnTo>
                  <a:lnTo>
                    <a:pt x="7247" y="6415"/>
                  </a:lnTo>
                  <a:lnTo>
                    <a:pt x="7247" y="6444"/>
                  </a:lnTo>
                  <a:lnTo>
                    <a:pt x="7247" y="6466"/>
                  </a:lnTo>
                  <a:lnTo>
                    <a:pt x="7206" y="6489"/>
                  </a:lnTo>
                  <a:lnTo>
                    <a:pt x="7172" y="6506"/>
                  </a:lnTo>
                  <a:lnTo>
                    <a:pt x="7137" y="6511"/>
                  </a:lnTo>
                  <a:lnTo>
                    <a:pt x="7102" y="6516"/>
                  </a:lnTo>
                  <a:lnTo>
                    <a:pt x="7056" y="6511"/>
                  </a:lnTo>
                  <a:lnTo>
                    <a:pt x="7015" y="6506"/>
                  </a:lnTo>
                  <a:lnTo>
                    <a:pt x="6968" y="6494"/>
                  </a:lnTo>
                  <a:lnTo>
                    <a:pt x="6927" y="6494"/>
                  </a:lnTo>
                  <a:lnTo>
                    <a:pt x="6846" y="6483"/>
                  </a:lnTo>
                  <a:lnTo>
                    <a:pt x="6770" y="6477"/>
                  </a:lnTo>
                  <a:lnTo>
                    <a:pt x="6695" y="6466"/>
                  </a:lnTo>
                  <a:lnTo>
                    <a:pt x="6625" y="6460"/>
                  </a:lnTo>
                  <a:lnTo>
                    <a:pt x="6549" y="6455"/>
                  </a:lnTo>
                  <a:lnTo>
                    <a:pt x="6480" y="6449"/>
                  </a:lnTo>
                  <a:lnTo>
                    <a:pt x="6410" y="6444"/>
                  </a:lnTo>
                  <a:lnTo>
                    <a:pt x="6358" y="6444"/>
                  </a:lnTo>
                  <a:lnTo>
                    <a:pt x="6352" y="6393"/>
                  </a:lnTo>
                  <a:lnTo>
                    <a:pt x="6352" y="6359"/>
                  </a:lnTo>
                  <a:lnTo>
                    <a:pt x="6352" y="6331"/>
                  </a:lnTo>
                  <a:lnTo>
                    <a:pt x="6352" y="6314"/>
                  </a:lnTo>
                  <a:lnTo>
                    <a:pt x="6334" y="6297"/>
                  </a:lnTo>
                  <a:lnTo>
                    <a:pt x="6323" y="6286"/>
                  </a:lnTo>
                  <a:lnTo>
                    <a:pt x="6294" y="6269"/>
                  </a:lnTo>
                  <a:lnTo>
                    <a:pt x="6265" y="6263"/>
                  </a:lnTo>
                  <a:lnTo>
                    <a:pt x="6247" y="6196"/>
                  </a:lnTo>
                  <a:lnTo>
                    <a:pt x="6253" y="6106"/>
                  </a:lnTo>
                  <a:lnTo>
                    <a:pt x="6260" y="6016"/>
                  </a:lnTo>
                  <a:lnTo>
                    <a:pt x="6265" y="5920"/>
                  </a:lnTo>
                  <a:lnTo>
                    <a:pt x="6276" y="5831"/>
                  </a:lnTo>
                  <a:lnTo>
                    <a:pt x="6276" y="5729"/>
                  </a:lnTo>
                  <a:lnTo>
                    <a:pt x="6283" y="5645"/>
                  </a:lnTo>
                  <a:lnTo>
                    <a:pt x="6283" y="5561"/>
                  </a:lnTo>
                  <a:lnTo>
                    <a:pt x="6288" y="5499"/>
                  </a:lnTo>
                  <a:lnTo>
                    <a:pt x="6283" y="5476"/>
                  </a:lnTo>
                  <a:lnTo>
                    <a:pt x="6283" y="5442"/>
                  </a:lnTo>
                  <a:lnTo>
                    <a:pt x="6276" y="5409"/>
                  </a:lnTo>
                  <a:lnTo>
                    <a:pt x="6276" y="5398"/>
                  </a:lnTo>
                  <a:lnTo>
                    <a:pt x="6276" y="5370"/>
                  </a:lnTo>
                  <a:lnTo>
                    <a:pt x="6288" y="5319"/>
                  </a:lnTo>
                  <a:lnTo>
                    <a:pt x="6294" y="5240"/>
                  </a:lnTo>
                  <a:lnTo>
                    <a:pt x="6311" y="5155"/>
                  </a:lnTo>
                  <a:lnTo>
                    <a:pt x="6318" y="5060"/>
                  </a:lnTo>
                  <a:lnTo>
                    <a:pt x="6323" y="4971"/>
                  </a:lnTo>
                  <a:lnTo>
                    <a:pt x="6323" y="4897"/>
                  </a:lnTo>
                  <a:lnTo>
                    <a:pt x="6329" y="4858"/>
                  </a:lnTo>
                  <a:lnTo>
                    <a:pt x="6311" y="4802"/>
                  </a:lnTo>
                  <a:lnTo>
                    <a:pt x="6294" y="4751"/>
                  </a:lnTo>
                  <a:lnTo>
                    <a:pt x="6271" y="4694"/>
                  </a:lnTo>
                  <a:lnTo>
                    <a:pt x="6253" y="4644"/>
                  </a:lnTo>
                  <a:lnTo>
                    <a:pt x="6230" y="4588"/>
                  </a:lnTo>
                  <a:lnTo>
                    <a:pt x="6212" y="4532"/>
                  </a:lnTo>
                  <a:lnTo>
                    <a:pt x="6201" y="4476"/>
                  </a:lnTo>
                  <a:lnTo>
                    <a:pt x="6207" y="4419"/>
                  </a:lnTo>
                  <a:lnTo>
                    <a:pt x="6219" y="4363"/>
                  </a:lnTo>
                  <a:lnTo>
                    <a:pt x="6253" y="4318"/>
                  </a:lnTo>
                  <a:lnTo>
                    <a:pt x="6288" y="4273"/>
                  </a:lnTo>
                  <a:lnTo>
                    <a:pt x="6318" y="4240"/>
                  </a:lnTo>
                  <a:lnTo>
                    <a:pt x="6323" y="4149"/>
                  </a:lnTo>
                  <a:lnTo>
                    <a:pt x="6323" y="4065"/>
                  </a:lnTo>
                  <a:lnTo>
                    <a:pt x="6306" y="3975"/>
                  </a:lnTo>
                  <a:lnTo>
                    <a:pt x="6288" y="3891"/>
                  </a:lnTo>
                  <a:lnTo>
                    <a:pt x="6260" y="3801"/>
                  </a:lnTo>
                  <a:lnTo>
                    <a:pt x="6230" y="3728"/>
                  </a:lnTo>
                  <a:lnTo>
                    <a:pt x="6207" y="3661"/>
                  </a:lnTo>
                  <a:lnTo>
                    <a:pt x="6195" y="3610"/>
                  </a:lnTo>
                  <a:lnTo>
                    <a:pt x="6114" y="3615"/>
                  </a:lnTo>
                  <a:lnTo>
                    <a:pt x="6050" y="3637"/>
                  </a:lnTo>
                  <a:lnTo>
                    <a:pt x="5981" y="3654"/>
                  </a:lnTo>
                  <a:lnTo>
                    <a:pt x="5922" y="3683"/>
                  </a:lnTo>
                  <a:lnTo>
                    <a:pt x="5852" y="3705"/>
                  </a:lnTo>
                  <a:lnTo>
                    <a:pt x="5789" y="3728"/>
                  </a:lnTo>
                  <a:lnTo>
                    <a:pt x="5718" y="3750"/>
                  </a:lnTo>
                  <a:lnTo>
                    <a:pt x="5649" y="3779"/>
                  </a:lnTo>
                  <a:lnTo>
                    <a:pt x="5626" y="4042"/>
                  </a:lnTo>
                  <a:lnTo>
                    <a:pt x="5626" y="4324"/>
                  </a:lnTo>
                  <a:lnTo>
                    <a:pt x="5637" y="4616"/>
                  </a:lnTo>
                  <a:lnTo>
                    <a:pt x="5667" y="4920"/>
                  </a:lnTo>
                  <a:lnTo>
                    <a:pt x="5695" y="5218"/>
                  </a:lnTo>
                  <a:lnTo>
                    <a:pt x="5736" y="5510"/>
                  </a:lnTo>
                  <a:lnTo>
                    <a:pt x="5776" y="5792"/>
                  </a:lnTo>
                  <a:lnTo>
                    <a:pt x="5824" y="6055"/>
                  </a:lnTo>
                  <a:lnTo>
                    <a:pt x="5789" y="6072"/>
                  </a:lnTo>
                  <a:lnTo>
                    <a:pt x="5771" y="6089"/>
                  </a:lnTo>
                  <a:lnTo>
                    <a:pt x="5753" y="6112"/>
                  </a:lnTo>
                  <a:lnTo>
                    <a:pt x="5742" y="6146"/>
                  </a:lnTo>
                  <a:lnTo>
                    <a:pt x="5672" y="6140"/>
                  </a:lnTo>
                  <a:lnTo>
                    <a:pt x="5579" y="6140"/>
                  </a:lnTo>
                  <a:lnTo>
                    <a:pt x="5474" y="6134"/>
                  </a:lnTo>
                  <a:lnTo>
                    <a:pt x="5365" y="6134"/>
                  </a:lnTo>
                  <a:lnTo>
                    <a:pt x="5254" y="6129"/>
                  </a:lnTo>
                  <a:lnTo>
                    <a:pt x="5155" y="6123"/>
                  </a:lnTo>
                  <a:lnTo>
                    <a:pt x="5079" y="6106"/>
                  </a:lnTo>
                  <a:lnTo>
                    <a:pt x="5039" y="6095"/>
                  </a:lnTo>
                  <a:lnTo>
                    <a:pt x="4980" y="5999"/>
                  </a:lnTo>
                  <a:lnTo>
                    <a:pt x="4945" y="5836"/>
                  </a:lnTo>
                  <a:lnTo>
                    <a:pt x="4922" y="5616"/>
                  </a:lnTo>
                  <a:lnTo>
                    <a:pt x="4917" y="5375"/>
                  </a:lnTo>
                  <a:lnTo>
                    <a:pt x="4905" y="5111"/>
                  </a:lnTo>
                  <a:lnTo>
                    <a:pt x="4894" y="4870"/>
                  </a:lnTo>
                  <a:lnTo>
                    <a:pt x="4876" y="4661"/>
                  </a:lnTo>
                  <a:lnTo>
                    <a:pt x="4853" y="4510"/>
                  </a:lnTo>
                  <a:lnTo>
                    <a:pt x="4841" y="4481"/>
                  </a:lnTo>
                  <a:lnTo>
                    <a:pt x="4835" y="4453"/>
                  </a:lnTo>
                  <a:lnTo>
                    <a:pt x="4823" y="4425"/>
                  </a:lnTo>
                  <a:lnTo>
                    <a:pt x="4823" y="4402"/>
                  </a:lnTo>
                  <a:lnTo>
                    <a:pt x="4812" y="4358"/>
                  </a:lnTo>
                  <a:lnTo>
                    <a:pt x="4812" y="4346"/>
                  </a:lnTo>
                  <a:lnTo>
                    <a:pt x="4806" y="4296"/>
                  </a:lnTo>
                  <a:lnTo>
                    <a:pt x="4806" y="4250"/>
                  </a:lnTo>
                  <a:lnTo>
                    <a:pt x="4800" y="4206"/>
                  </a:lnTo>
                  <a:lnTo>
                    <a:pt x="4800" y="4166"/>
                  </a:lnTo>
                  <a:lnTo>
                    <a:pt x="4789" y="4127"/>
                  </a:lnTo>
                  <a:lnTo>
                    <a:pt x="4783" y="4088"/>
                  </a:lnTo>
                  <a:lnTo>
                    <a:pt x="4777" y="4054"/>
                  </a:lnTo>
                  <a:lnTo>
                    <a:pt x="4772" y="4020"/>
                  </a:lnTo>
                  <a:lnTo>
                    <a:pt x="4737" y="4037"/>
                  </a:lnTo>
                  <a:lnTo>
                    <a:pt x="4702" y="4059"/>
                  </a:lnTo>
                  <a:lnTo>
                    <a:pt x="4719" y="4149"/>
                  </a:lnTo>
                  <a:lnTo>
                    <a:pt x="4737" y="4257"/>
                  </a:lnTo>
                  <a:lnTo>
                    <a:pt x="4742" y="4368"/>
                  </a:lnTo>
                  <a:lnTo>
                    <a:pt x="4754" y="4498"/>
                  </a:lnTo>
                  <a:lnTo>
                    <a:pt x="4754" y="4622"/>
                  </a:lnTo>
                  <a:lnTo>
                    <a:pt x="4754" y="4751"/>
                  </a:lnTo>
                  <a:lnTo>
                    <a:pt x="4748" y="4870"/>
                  </a:lnTo>
                  <a:lnTo>
                    <a:pt x="4742" y="4988"/>
                  </a:lnTo>
                  <a:lnTo>
                    <a:pt x="4731" y="5049"/>
                  </a:lnTo>
                  <a:lnTo>
                    <a:pt x="4731" y="5145"/>
                  </a:lnTo>
                  <a:lnTo>
                    <a:pt x="4725" y="5257"/>
                  </a:lnTo>
                  <a:lnTo>
                    <a:pt x="4731" y="5386"/>
                  </a:lnTo>
                  <a:lnTo>
                    <a:pt x="4731" y="5505"/>
                  </a:lnTo>
                  <a:lnTo>
                    <a:pt x="4737" y="5623"/>
                  </a:lnTo>
                  <a:lnTo>
                    <a:pt x="4748" y="5712"/>
                  </a:lnTo>
                  <a:lnTo>
                    <a:pt x="4772" y="5775"/>
                  </a:lnTo>
                  <a:lnTo>
                    <a:pt x="4777" y="5780"/>
                  </a:lnTo>
                  <a:lnTo>
                    <a:pt x="4800" y="5785"/>
                  </a:lnTo>
                  <a:lnTo>
                    <a:pt x="4818" y="5785"/>
                  </a:lnTo>
                  <a:lnTo>
                    <a:pt x="4835" y="5797"/>
                  </a:lnTo>
                  <a:lnTo>
                    <a:pt x="4853" y="5831"/>
                  </a:lnTo>
                  <a:lnTo>
                    <a:pt x="4871" y="5881"/>
                  </a:lnTo>
                  <a:lnTo>
                    <a:pt x="4882" y="5932"/>
                  </a:lnTo>
                  <a:lnTo>
                    <a:pt x="4905" y="5982"/>
                  </a:lnTo>
                  <a:lnTo>
                    <a:pt x="4876" y="6005"/>
                  </a:lnTo>
                  <a:lnTo>
                    <a:pt x="4853" y="6033"/>
                  </a:lnTo>
                  <a:lnTo>
                    <a:pt x="4789" y="6038"/>
                  </a:lnTo>
                  <a:lnTo>
                    <a:pt x="4731" y="6045"/>
                  </a:lnTo>
                  <a:lnTo>
                    <a:pt x="4661" y="6033"/>
                  </a:lnTo>
                  <a:lnTo>
                    <a:pt x="4592" y="6028"/>
                  </a:lnTo>
                  <a:lnTo>
                    <a:pt x="4521" y="6011"/>
                  </a:lnTo>
                  <a:lnTo>
                    <a:pt x="4463" y="5999"/>
                  </a:lnTo>
                  <a:lnTo>
                    <a:pt x="4405" y="5994"/>
                  </a:lnTo>
                  <a:lnTo>
                    <a:pt x="4370" y="5994"/>
                  </a:lnTo>
                  <a:lnTo>
                    <a:pt x="4289" y="5988"/>
                  </a:lnTo>
                  <a:lnTo>
                    <a:pt x="4207" y="5994"/>
                  </a:lnTo>
                  <a:lnTo>
                    <a:pt x="4121" y="5994"/>
                  </a:lnTo>
                  <a:lnTo>
                    <a:pt x="4039" y="6005"/>
                  </a:lnTo>
                  <a:lnTo>
                    <a:pt x="3952" y="6011"/>
                  </a:lnTo>
                  <a:lnTo>
                    <a:pt x="3865" y="6016"/>
                  </a:lnTo>
                  <a:lnTo>
                    <a:pt x="3778" y="6016"/>
                  </a:lnTo>
                  <a:lnTo>
                    <a:pt x="3702" y="6016"/>
                  </a:lnTo>
                  <a:lnTo>
                    <a:pt x="3696" y="5949"/>
                  </a:lnTo>
                  <a:lnTo>
                    <a:pt x="3708" y="5903"/>
                  </a:lnTo>
                  <a:lnTo>
                    <a:pt x="3725" y="5870"/>
                  </a:lnTo>
                  <a:lnTo>
                    <a:pt x="3761" y="5853"/>
                  </a:lnTo>
                  <a:lnTo>
                    <a:pt x="3789" y="5831"/>
                  </a:lnTo>
                  <a:lnTo>
                    <a:pt x="3836" y="5819"/>
                  </a:lnTo>
                  <a:lnTo>
                    <a:pt x="3888" y="5808"/>
                  </a:lnTo>
                  <a:lnTo>
                    <a:pt x="3946" y="5797"/>
                  </a:lnTo>
                  <a:lnTo>
                    <a:pt x="3941" y="5696"/>
                  </a:lnTo>
                  <a:lnTo>
                    <a:pt x="3941" y="5601"/>
                  </a:lnTo>
                  <a:lnTo>
                    <a:pt x="3929" y="5505"/>
                  </a:lnTo>
                  <a:lnTo>
                    <a:pt x="3923" y="5415"/>
                  </a:lnTo>
                  <a:lnTo>
                    <a:pt x="3911" y="5319"/>
                  </a:lnTo>
                  <a:lnTo>
                    <a:pt x="3900" y="5229"/>
                  </a:lnTo>
                  <a:lnTo>
                    <a:pt x="3882" y="5145"/>
                  </a:lnTo>
                  <a:lnTo>
                    <a:pt x="3877" y="5066"/>
                  </a:lnTo>
                  <a:lnTo>
                    <a:pt x="3859" y="4931"/>
                  </a:lnTo>
                  <a:lnTo>
                    <a:pt x="3853" y="4802"/>
                  </a:lnTo>
                  <a:lnTo>
                    <a:pt x="3853" y="4672"/>
                  </a:lnTo>
                  <a:lnTo>
                    <a:pt x="3859" y="4549"/>
                  </a:lnTo>
                  <a:lnTo>
                    <a:pt x="3859" y="4425"/>
                  </a:lnTo>
                  <a:lnTo>
                    <a:pt x="3865" y="4307"/>
                  </a:lnTo>
                  <a:lnTo>
                    <a:pt x="3859" y="4189"/>
                  </a:lnTo>
                  <a:lnTo>
                    <a:pt x="3853" y="4082"/>
                  </a:lnTo>
                  <a:lnTo>
                    <a:pt x="3830" y="4088"/>
                  </a:lnTo>
                  <a:lnTo>
                    <a:pt x="3795" y="4098"/>
                  </a:lnTo>
                  <a:lnTo>
                    <a:pt x="3754" y="4110"/>
                  </a:lnTo>
                  <a:lnTo>
                    <a:pt x="3743" y="4127"/>
                  </a:lnTo>
                  <a:lnTo>
                    <a:pt x="3725" y="4166"/>
                  </a:lnTo>
                  <a:lnTo>
                    <a:pt x="3731" y="4211"/>
                  </a:lnTo>
                  <a:lnTo>
                    <a:pt x="3737" y="4257"/>
                  </a:lnTo>
                  <a:lnTo>
                    <a:pt x="3743" y="4301"/>
                  </a:lnTo>
                  <a:lnTo>
                    <a:pt x="3708" y="4363"/>
                  </a:lnTo>
                  <a:lnTo>
                    <a:pt x="3655" y="4431"/>
                  </a:lnTo>
                  <a:lnTo>
                    <a:pt x="3586" y="4498"/>
                  </a:lnTo>
                  <a:lnTo>
                    <a:pt x="3510" y="4566"/>
                  </a:lnTo>
                  <a:lnTo>
                    <a:pt x="3429" y="4633"/>
                  </a:lnTo>
                  <a:lnTo>
                    <a:pt x="3365" y="4701"/>
                  </a:lnTo>
                  <a:lnTo>
                    <a:pt x="3313" y="4757"/>
                  </a:lnTo>
                  <a:lnTo>
                    <a:pt x="3289" y="4819"/>
                  </a:lnTo>
                  <a:lnTo>
                    <a:pt x="3277" y="4875"/>
                  </a:lnTo>
                  <a:lnTo>
                    <a:pt x="3272" y="4920"/>
                  </a:lnTo>
                  <a:lnTo>
                    <a:pt x="3272" y="4954"/>
                  </a:lnTo>
                  <a:lnTo>
                    <a:pt x="3272" y="4993"/>
                  </a:lnTo>
                  <a:lnTo>
                    <a:pt x="3266" y="5021"/>
                  </a:lnTo>
                  <a:lnTo>
                    <a:pt x="3261" y="5055"/>
                  </a:lnTo>
                  <a:lnTo>
                    <a:pt x="3237" y="5088"/>
                  </a:lnTo>
                  <a:lnTo>
                    <a:pt x="3214" y="5145"/>
                  </a:lnTo>
                  <a:lnTo>
                    <a:pt x="3150" y="5128"/>
                  </a:lnTo>
                  <a:lnTo>
                    <a:pt x="3097" y="5116"/>
                  </a:lnTo>
                  <a:lnTo>
                    <a:pt x="3046" y="5094"/>
                  </a:lnTo>
                  <a:lnTo>
                    <a:pt x="3011" y="5077"/>
                  </a:lnTo>
                  <a:lnTo>
                    <a:pt x="2981" y="5049"/>
                  </a:lnTo>
                  <a:lnTo>
                    <a:pt x="2958" y="5021"/>
                  </a:lnTo>
                  <a:lnTo>
                    <a:pt x="2940" y="4981"/>
                  </a:lnTo>
                  <a:lnTo>
                    <a:pt x="2924" y="4948"/>
                  </a:lnTo>
                  <a:lnTo>
                    <a:pt x="2906" y="4903"/>
                  </a:lnTo>
                  <a:lnTo>
                    <a:pt x="2894" y="4870"/>
                  </a:lnTo>
                  <a:lnTo>
                    <a:pt x="2883" y="4829"/>
                  </a:lnTo>
                  <a:lnTo>
                    <a:pt x="2877" y="4796"/>
                  </a:lnTo>
                  <a:lnTo>
                    <a:pt x="2801" y="4813"/>
                  </a:lnTo>
                  <a:lnTo>
                    <a:pt x="2726" y="4829"/>
                  </a:lnTo>
                  <a:lnTo>
                    <a:pt x="2650" y="4829"/>
                  </a:lnTo>
                  <a:lnTo>
                    <a:pt x="2587" y="4824"/>
                  </a:lnTo>
                  <a:lnTo>
                    <a:pt x="2522" y="4790"/>
                  </a:lnTo>
                  <a:lnTo>
                    <a:pt x="2476" y="4745"/>
                  </a:lnTo>
                  <a:lnTo>
                    <a:pt x="2447" y="4667"/>
                  </a:lnTo>
                  <a:lnTo>
                    <a:pt x="2453" y="4559"/>
                  </a:lnTo>
                  <a:lnTo>
                    <a:pt x="2418" y="4554"/>
                  </a:lnTo>
                  <a:lnTo>
                    <a:pt x="2395" y="4554"/>
                  </a:lnTo>
                  <a:lnTo>
                    <a:pt x="2365" y="4549"/>
                  </a:lnTo>
                  <a:lnTo>
                    <a:pt x="2331" y="4549"/>
                  </a:lnTo>
                  <a:lnTo>
                    <a:pt x="2331" y="4487"/>
                  </a:lnTo>
                  <a:lnTo>
                    <a:pt x="2331" y="4442"/>
                  </a:lnTo>
                  <a:lnTo>
                    <a:pt x="2324" y="4409"/>
                  </a:lnTo>
                  <a:lnTo>
                    <a:pt x="2319" y="4397"/>
                  </a:lnTo>
                  <a:lnTo>
                    <a:pt x="2296" y="4380"/>
                  </a:lnTo>
                  <a:lnTo>
                    <a:pt x="2266" y="4380"/>
                  </a:lnTo>
                  <a:lnTo>
                    <a:pt x="2232" y="4385"/>
                  </a:lnTo>
                  <a:lnTo>
                    <a:pt x="2185" y="4397"/>
                  </a:lnTo>
                  <a:lnTo>
                    <a:pt x="1976" y="4402"/>
                  </a:lnTo>
                  <a:lnTo>
                    <a:pt x="1831" y="4375"/>
                  </a:lnTo>
                  <a:lnTo>
                    <a:pt x="1733" y="4313"/>
                  </a:lnTo>
                  <a:lnTo>
                    <a:pt x="1674" y="4223"/>
                  </a:lnTo>
                  <a:lnTo>
                    <a:pt x="1639" y="4098"/>
                  </a:lnTo>
                  <a:lnTo>
                    <a:pt x="1634" y="3958"/>
                  </a:lnTo>
                  <a:lnTo>
                    <a:pt x="1634" y="3789"/>
                  </a:lnTo>
                  <a:lnTo>
                    <a:pt x="1639" y="3610"/>
                  </a:lnTo>
                  <a:lnTo>
                    <a:pt x="1593" y="3598"/>
                  </a:lnTo>
                  <a:lnTo>
                    <a:pt x="1551" y="3593"/>
                  </a:lnTo>
                  <a:lnTo>
                    <a:pt x="1517" y="3581"/>
                  </a:lnTo>
                  <a:lnTo>
                    <a:pt x="1488" y="3581"/>
                  </a:lnTo>
                  <a:lnTo>
                    <a:pt x="1453" y="3570"/>
                  </a:lnTo>
                  <a:lnTo>
                    <a:pt x="1418" y="3565"/>
                  </a:lnTo>
                  <a:lnTo>
                    <a:pt x="1378" y="3559"/>
                  </a:lnTo>
                  <a:lnTo>
                    <a:pt x="1337" y="3559"/>
                  </a:lnTo>
                  <a:lnTo>
                    <a:pt x="1320" y="3470"/>
                  </a:lnTo>
                  <a:lnTo>
                    <a:pt x="1308" y="3368"/>
                  </a:lnTo>
                  <a:lnTo>
                    <a:pt x="1290" y="3261"/>
                  </a:lnTo>
                  <a:lnTo>
                    <a:pt x="1285" y="3154"/>
                  </a:lnTo>
                  <a:lnTo>
                    <a:pt x="1267" y="3041"/>
                  </a:lnTo>
                  <a:lnTo>
                    <a:pt x="1249" y="2940"/>
                  </a:lnTo>
                  <a:lnTo>
                    <a:pt x="1226" y="2840"/>
                  </a:lnTo>
                  <a:lnTo>
                    <a:pt x="1203" y="2761"/>
                  </a:lnTo>
                  <a:lnTo>
                    <a:pt x="1145" y="2783"/>
                  </a:lnTo>
                  <a:lnTo>
                    <a:pt x="1092" y="2823"/>
                  </a:lnTo>
                  <a:lnTo>
                    <a:pt x="1041" y="2857"/>
                  </a:lnTo>
                  <a:lnTo>
                    <a:pt x="1000" y="2884"/>
                  </a:lnTo>
                  <a:lnTo>
                    <a:pt x="942" y="2890"/>
                  </a:lnTo>
                  <a:lnTo>
                    <a:pt x="884" y="2896"/>
                  </a:lnTo>
                  <a:lnTo>
                    <a:pt x="831" y="2884"/>
                  </a:lnTo>
                  <a:lnTo>
                    <a:pt x="790" y="2874"/>
                  </a:lnTo>
                  <a:lnTo>
                    <a:pt x="750" y="2857"/>
                  </a:lnTo>
                  <a:lnTo>
                    <a:pt x="721" y="2857"/>
                  </a:lnTo>
                  <a:lnTo>
                    <a:pt x="692" y="2850"/>
                  </a:lnTo>
                  <a:lnTo>
                    <a:pt x="674" y="2845"/>
                  </a:lnTo>
                  <a:lnTo>
                    <a:pt x="656" y="2828"/>
                  </a:lnTo>
                  <a:lnTo>
                    <a:pt x="645" y="2817"/>
                  </a:lnTo>
                  <a:lnTo>
                    <a:pt x="628" y="2794"/>
                  </a:lnTo>
                  <a:lnTo>
                    <a:pt x="616" y="2772"/>
                  </a:lnTo>
                  <a:lnTo>
                    <a:pt x="547" y="2772"/>
                  </a:lnTo>
                  <a:lnTo>
                    <a:pt x="476" y="2772"/>
                  </a:lnTo>
                  <a:lnTo>
                    <a:pt x="407" y="2766"/>
                  </a:lnTo>
                  <a:lnTo>
                    <a:pt x="337" y="2766"/>
                  </a:lnTo>
                  <a:lnTo>
                    <a:pt x="268" y="2755"/>
                  </a:lnTo>
                  <a:lnTo>
                    <a:pt x="198" y="2755"/>
                  </a:lnTo>
                  <a:lnTo>
                    <a:pt x="128" y="2744"/>
                  </a:lnTo>
                  <a:lnTo>
                    <a:pt x="70" y="2744"/>
                  </a:lnTo>
                  <a:lnTo>
                    <a:pt x="65" y="2732"/>
                  </a:lnTo>
                  <a:lnTo>
                    <a:pt x="58" y="2715"/>
                  </a:lnTo>
                  <a:lnTo>
                    <a:pt x="53" y="2693"/>
                  </a:lnTo>
                  <a:lnTo>
                    <a:pt x="53" y="2682"/>
                  </a:lnTo>
                  <a:lnTo>
                    <a:pt x="53" y="2570"/>
                  </a:lnTo>
                  <a:lnTo>
                    <a:pt x="47" y="2457"/>
                  </a:lnTo>
                  <a:lnTo>
                    <a:pt x="35" y="2339"/>
                  </a:lnTo>
                  <a:lnTo>
                    <a:pt x="23" y="2221"/>
                  </a:lnTo>
                  <a:lnTo>
                    <a:pt x="6" y="2097"/>
                  </a:lnTo>
                  <a:lnTo>
                    <a:pt x="0" y="1979"/>
                  </a:lnTo>
                  <a:lnTo>
                    <a:pt x="6" y="1866"/>
                  </a:lnTo>
                  <a:lnTo>
                    <a:pt x="30" y="1766"/>
                  </a:lnTo>
                  <a:lnTo>
                    <a:pt x="35" y="1743"/>
                  </a:lnTo>
                  <a:lnTo>
                    <a:pt x="65" y="1721"/>
                  </a:lnTo>
                  <a:lnTo>
                    <a:pt x="88" y="1692"/>
                  </a:lnTo>
                  <a:lnTo>
                    <a:pt x="111" y="1675"/>
                  </a:lnTo>
                  <a:lnTo>
                    <a:pt x="116" y="1641"/>
                  </a:lnTo>
                  <a:lnTo>
                    <a:pt x="122" y="1614"/>
                  </a:lnTo>
                  <a:lnTo>
                    <a:pt x="99" y="1586"/>
                  </a:lnTo>
                  <a:lnTo>
                    <a:pt x="81" y="1563"/>
                  </a:lnTo>
                  <a:lnTo>
                    <a:pt x="53" y="1501"/>
                  </a:lnTo>
                  <a:lnTo>
                    <a:pt x="53" y="1451"/>
                  </a:lnTo>
                  <a:lnTo>
                    <a:pt x="58" y="1395"/>
                  </a:lnTo>
                  <a:lnTo>
                    <a:pt x="93" y="1344"/>
                  </a:lnTo>
                  <a:lnTo>
                    <a:pt x="146" y="1282"/>
                  </a:lnTo>
                  <a:lnTo>
                    <a:pt x="192" y="1265"/>
                  </a:lnTo>
                  <a:lnTo>
                    <a:pt x="227" y="1282"/>
                  </a:lnTo>
                  <a:lnTo>
                    <a:pt x="261" y="1327"/>
                  </a:lnTo>
                  <a:lnTo>
                    <a:pt x="279" y="1378"/>
                  </a:lnTo>
                  <a:lnTo>
                    <a:pt x="296" y="1439"/>
                  </a:lnTo>
                  <a:lnTo>
                    <a:pt x="308" y="1496"/>
                  </a:lnTo>
                  <a:lnTo>
                    <a:pt x="319" y="1546"/>
                  </a:lnTo>
                  <a:lnTo>
                    <a:pt x="360" y="1563"/>
                  </a:lnTo>
                  <a:lnTo>
                    <a:pt x="390" y="1580"/>
                  </a:lnTo>
                  <a:lnTo>
                    <a:pt x="402" y="1580"/>
                  </a:lnTo>
                  <a:lnTo>
                    <a:pt x="418" y="1591"/>
                  </a:lnTo>
                  <a:lnTo>
                    <a:pt x="436" y="1597"/>
                  </a:lnTo>
                  <a:lnTo>
                    <a:pt x="471" y="1608"/>
                  </a:lnTo>
                  <a:lnTo>
                    <a:pt x="506" y="1586"/>
                  </a:lnTo>
                  <a:lnTo>
                    <a:pt x="494" y="1546"/>
                  </a:lnTo>
                  <a:lnTo>
                    <a:pt x="494" y="1501"/>
                  </a:lnTo>
                  <a:lnTo>
                    <a:pt x="494" y="1456"/>
                  </a:lnTo>
                  <a:lnTo>
                    <a:pt x="512" y="1417"/>
                  </a:lnTo>
                  <a:lnTo>
                    <a:pt x="517" y="1371"/>
                  </a:lnTo>
                  <a:lnTo>
                    <a:pt x="535" y="1344"/>
                  </a:lnTo>
                  <a:lnTo>
                    <a:pt x="552" y="1316"/>
                  </a:lnTo>
                  <a:lnTo>
                    <a:pt x="575" y="1305"/>
                  </a:lnTo>
                  <a:lnTo>
                    <a:pt x="633" y="1276"/>
                  </a:lnTo>
                  <a:lnTo>
                    <a:pt x="681" y="1288"/>
                  </a:lnTo>
                  <a:lnTo>
                    <a:pt x="709" y="1310"/>
                  </a:lnTo>
                  <a:lnTo>
                    <a:pt x="732" y="1349"/>
                  </a:lnTo>
                  <a:lnTo>
                    <a:pt x="750" y="1371"/>
                  </a:lnTo>
                  <a:lnTo>
                    <a:pt x="773" y="1383"/>
                  </a:lnTo>
                  <a:lnTo>
                    <a:pt x="796" y="1366"/>
                  </a:lnTo>
                  <a:lnTo>
                    <a:pt x="843" y="1316"/>
                  </a:lnTo>
                  <a:lnTo>
                    <a:pt x="861" y="1282"/>
                  </a:lnTo>
                  <a:lnTo>
                    <a:pt x="889" y="1271"/>
                  </a:lnTo>
                  <a:lnTo>
                    <a:pt x="924" y="1265"/>
                  </a:lnTo>
                  <a:lnTo>
                    <a:pt x="960" y="1276"/>
                  </a:lnTo>
                  <a:lnTo>
                    <a:pt x="988" y="1288"/>
                  </a:lnTo>
                  <a:lnTo>
                    <a:pt x="1018" y="1310"/>
                  </a:lnTo>
                  <a:lnTo>
                    <a:pt x="1034" y="1339"/>
                  </a:lnTo>
                  <a:lnTo>
                    <a:pt x="1052" y="1378"/>
                  </a:lnTo>
                  <a:lnTo>
                    <a:pt x="1052" y="1411"/>
                  </a:lnTo>
                  <a:lnTo>
                    <a:pt x="1041" y="1462"/>
                  </a:lnTo>
                  <a:lnTo>
                    <a:pt x="1029" y="1513"/>
                  </a:lnTo>
                  <a:lnTo>
                    <a:pt x="1029" y="1574"/>
                  </a:lnTo>
                  <a:lnTo>
                    <a:pt x="1023" y="1574"/>
                  </a:lnTo>
                  <a:lnTo>
                    <a:pt x="1018" y="1591"/>
                  </a:lnTo>
                  <a:lnTo>
                    <a:pt x="1011" y="1608"/>
                  </a:lnTo>
                  <a:lnTo>
                    <a:pt x="1011" y="1625"/>
                  </a:lnTo>
                  <a:lnTo>
                    <a:pt x="1052" y="1641"/>
                  </a:lnTo>
                  <a:lnTo>
                    <a:pt x="1075" y="1648"/>
                  </a:lnTo>
                  <a:lnTo>
                    <a:pt x="1099" y="1648"/>
                  </a:lnTo>
                  <a:lnTo>
                    <a:pt x="1133" y="1648"/>
                  </a:lnTo>
                  <a:lnTo>
                    <a:pt x="1099" y="1597"/>
                  </a:lnTo>
                  <a:lnTo>
                    <a:pt x="1081" y="1546"/>
                  </a:lnTo>
                  <a:lnTo>
                    <a:pt x="1069" y="1496"/>
                  </a:lnTo>
                  <a:lnTo>
                    <a:pt x="1069" y="1451"/>
                  </a:lnTo>
                  <a:lnTo>
                    <a:pt x="1069" y="1400"/>
                  </a:lnTo>
                  <a:lnTo>
                    <a:pt x="1081" y="1356"/>
                  </a:lnTo>
                  <a:lnTo>
                    <a:pt x="1099" y="1310"/>
                  </a:lnTo>
                  <a:lnTo>
                    <a:pt x="1133" y="1265"/>
                  </a:lnTo>
                  <a:lnTo>
                    <a:pt x="1145" y="1260"/>
                  </a:lnTo>
                  <a:lnTo>
                    <a:pt x="1180" y="1254"/>
                  </a:lnTo>
                  <a:lnTo>
                    <a:pt x="1221" y="1243"/>
                  </a:lnTo>
                  <a:lnTo>
                    <a:pt x="1267" y="1248"/>
                  </a:lnTo>
                  <a:lnTo>
                    <a:pt x="1290" y="1260"/>
                  </a:lnTo>
                  <a:lnTo>
                    <a:pt x="1320" y="1293"/>
                  </a:lnTo>
                  <a:lnTo>
                    <a:pt x="1348" y="1316"/>
                  </a:lnTo>
                  <a:lnTo>
                    <a:pt x="1389" y="1327"/>
                  </a:lnTo>
                  <a:lnTo>
                    <a:pt x="1401" y="1316"/>
                  </a:lnTo>
                  <a:lnTo>
                    <a:pt x="1429" y="1305"/>
                  </a:lnTo>
                  <a:lnTo>
                    <a:pt x="1523" y="1271"/>
                  </a:lnTo>
                  <a:lnTo>
                    <a:pt x="1599" y="1282"/>
                  </a:lnTo>
                  <a:lnTo>
                    <a:pt x="1650" y="1316"/>
                  </a:lnTo>
                  <a:lnTo>
                    <a:pt x="1685" y="1383"/>
                  </a:lnTo>
                  <a:lnTo>
                    <a:pt x="1703" y="1456"/>
                  </a:lnTo>
                  <a:lnTo>
                    <a:pt x="1703" y="1546"/>
                  </a:lnTo>
                  <a:lnTo>
                    <a:pt x="1691" y="1636"/>
                  </a:lnTo>
                  <a:lnTo>
                    <a:pt x="1680" y="1726"/>
                  </a:lnTo>
                  <a:lnTo>
                    <a:pt x="1715" y="1760"/>
                  </a:lnTo>
                  <a:lnTo>
                    <a:pt x="1756" y="1800"/>
                  </a:lnTo>
                  <a:lnTo>
                    <a:pt x="1790" y="1839"/>
                  </a:lnTo>
                  <a:lnTo>
                    <a:pt x="1825" y="1883"/>
                  </a:lnTo>
                  <a:lnTo>
                    <a:pt x="1819" y="1822"/>
                  </a:lnTo>
                  <a:lnTo>
                    <a:pt x="1814" y="1732"/>
                  </a:lnTo>
                  <a:lnTo>
                    <a:pt x="1796" y="1625"/>
                  </a:lnTo>
                  <a:lnTo>
                    <a:pt x="1802" y="1518"/>
                  </a:lnTo>
                  <a:lnTo>
                    <a:pt x="1814" y="1417"/>
                  </a:lnTo>
                  <a:lnTo>
                    <a:pt x="1860" y="1344"/>
                  </a:lnTo>
                  <a:lnTo>
                    <a:pt x="1929" y="1316"/>
                  </a:lnTo>
                  <a:lnTo>
                    <a:pt x="2040" y="1344"/>
                  </a:lnTo>
                  <a:lnTo>
                    <a:pt x="2070" y="1366"/>
                  </a:lnTo>
                  <a:lnTo>
                    <a:pt x="2110" y="1405"/>
                  </a:lnTo>
                  <a:lnTo>
                    <a:pt x="2139" y="1451"/>
                  </a:lnTo>
                  <a:lnTo>
                    <a:pt x="2162" y="1496"/>
                  </a:lnTo>
                  <a:lnTo>
                    <a:pt x="2167" y="1546"/>
                  </a:lnTo>
                  <a:lnTo>
                    <a:pt x="2167" y="1602"/>
                  </a:lnTo>
                  <a:lnTo>
                    <a:pt x="2156" y="1641"/>
                  </a:lnTo>
                  <a:lnTo>
                    <a:pt x="2144" y="1687"/>
                  </a:lnTo>
                  <a:lnTo>
                    <a:pt x="2127" y="1726"/>
                  </a:lnTo>
                  <a:lnTo>
                    <a:pt x="2127" y="1766"/>
                  </a:lnTo>
                  <a:lnTo>
                    <a:pt x="2133" y="1800"/>
                  </a:lnTo>
                  <a:lnTo>
                    <a:pt x="2162" y="1844"/>
                  </a:lnTo>
                  <a:lnTo>
                    <a:pt x="2179" y="1856"/>
                  </a:lnTo>
                  <a:lnTo>
                    <a:pt x="2215" y="1889"/>
                  </a:lnTo>
                  <a:lnTo>
                    <a:pt x="2261" y="1912"/>
                  </a:lnTo>
                  <a:lnTo>
                    <a:pt x="2319" y="1940"/>
                  </a:lnTo>
                  <a:lnTo>
                    <a:pt x="2359" y="1951"/>
                  </a:lnTo>
                  <a:lnTo>
                    <a:pt x="2400" y="1945"/>
                  </a:lnTo>
                  <a:lnTo>
                    <a:pt x="2418" y="1912"/>
                  </a:lnTo>
                  <a:lnTo>
                    <a:pt x="2423" y="1856"/>
                  </a:lnTo>
                  <a:lnTo>
                    <a:pt x="2400" y="1810"/>
                  </a:lnTo>
                  <a:lnTo>
                    <a:pt x="2365" y="1783"/>
                  </a:lnTo>
                  <a:lnTo>
                    <a:pt x="2319" y="1749"/>
                  </a:lnTo>
                  <a:lnTo>
                    <a:pt x="2290" y="1715"/>
                  </a:lnTo>
                  <a:lnTo>
                    <a:pt x="2261" y="1608"/>
                  </a:lnTo>
                  <a:lnTo>
                    <a:pt x="2261" y="1506"/>
                  </a:lnTo>
                  <a:lnTo>
                    <a:pt x="2284" y="1400"/>
                  </a:lnTo>
                  <a:lnTo>
                    <a:pt x="2331" y="1310"/>
                  </a:lnTo>
                  <a:lnTo>
                    <a:pt x="2389" y="1231"/>
                  </a:lnTo>
                  <a:lnTo>
                    <a:pt x="2470" y="1187"/>
                  </a:lnTo>
                  <a:lnTo>
                    <a:pt x="2557" y="1170"/>
                  </a:lnTo>
                  <a:lnTo>
                    <a:pt x="2668" y="1197"/>
                  </a:lnTo>
                  <a:lnTo>
                    <a:pt x="2749" y="1248"/>
                  </a:lnTo>
                  <a:lnTo>
                    <a:pt x="2790" y="1316"/>
                  </a:lnTo>
                  <a:lnTo>
                    <a:pt x="2795" y="1383"/>
                  </a:lnTo>
                  <a:lnTo>
                    <a:pt x="2790" y="1467"/>
                  </a:lnTo>
                  <a:lnTo>
                    <a:pt x="2755" y="1540"/>
                  </a:lnTo>
                  <a:lnTo>
                    <a:pt x="2726" y="1619"/>
                  </a:lnTo>
                  <a:lnTo>
                    <a:pt x="2691" y="1687"/>
                  </a:lnTo>
                  <a:lnTo>
                    <a:pt x="2679" y="1754"/>
                  </a:lnTo>
                  <a:lnTo>
                    <a:pt x="2679" y="1777"/>
                  </a:lnTo>
                  <a:lnTo>
                    <a:pt x="2697" y="1827"/>
                  </a:lnTo>
                  <a:lnTo>
                    <a:pt x="2720" y="1883"/>
                  </a:lnTo>
                  <a:lnTo>
                    <a:pt x="2749" y="1934"/>
                  </a:lnTo>
                  <a:lnTo>
                    <a:pt x="2778" y="1991"/>
                  </a:lnTo>
                  <a:lnTo>
                    <a:pt x="2807" y="2041"/>
                  </a:lnTo>
                  <a:lnTo>
                    <a:pt x="2836" y="2097"/>
                  </a:lnTo>
                  <a:lnTo>
                    <a:pt x="2866" y="2153"/>
                  </a:lnTo>
                  <a:lnTo>
                    <a:pt x="2894" y="2215"/>
                  </a:lnTo>
                  <a:lnTo>
                    <a:pt x="2900" y="2249"/>
                  </a:lnTo>
                  <a:lnTo>
                    <a:pt x="2912" y="2300"/>
                  </a:lnTo>
                  <a:lnTo>
                    <a:pt x="2917" y="2345"/>
                  </a:lnTo>
                  <a:lnTo>
                    <a:pt x="2929" y="2396"/>
                  </a:lnTo>
                  <a:lnTo>
                    <a:pt x="2935" y="2440"/>
                  </a:lnTo>
                  <a:lnTo>
                    <a:pt x="2947" y="2485"/>
                  </a:lnTo>
                  <a:lnTo>
                    <a:pt x="2964" y="2524"/>
                  </a:lnTo>
                  <a:lnTo>
                    <a:pt x="2988" y="2563"/>
                  </a:lnTo>
                  <a:lnTo>
                    <a:pt x="2993" y="2570"/>
                  </a:lnTo>
                  <a:lnTo>
                    <a:pt x="3016" y="2575"/>
                  </a:lnTo>
                  <a:lnTo>
                    <a:pt x="3034" y="2580"/>
                  </a:lnTo>
                  <a:lnTo>
                    <a:pt x="3051" y="2592"/>
                  </a:lnTo>
                  <a:lnTo>
                    <a:pt x="3051" y="2558"/>
                  </a:lnTo>
                  <a:lnTo>
                    <a:pt x="3051" y="2530"/>
                  </a:lnTo>
                  <a:lnTo>
                    <a:pt x="3051" y="2496"/>
                  </a:lnTo>
                  <a:lnTo>
                    <a:pt x="3057" y="2469"/>
                  </a:lnTo>
                  <a:lnTo>
                    <a:pt x="3057" y="2428"/>
                  </a:lnTo>
                  <a:lnTo>
                    <a:pt x="3057" y="2396"/>
                  </a:lnTo>
                  <a:lnTo>
                    <a:pt x="3057" y="2362"/>
                  </a:lnTo>
                  <a:lnTo>
                    <a:pt x="3063" y="2334"/>
                  </a:lnTo>
                  <a:lnTo>
                    <a:pt x="3069" y="2249"/>
                  </a:lnTo>
                  <a:lnTo>
                    <a:pt x="3086" y="2187"/>
                  </a:lnTo>
                  <a:lnTo>
                    <a:pt x="3109" y="2131"/>
                  </a:lnTo>
                  <a:lnTo>
                    <a:pt x="3145" y="2086"/>
                  </a:lnTo>
                  <a:lnTo>
                    <a:pt x="3168" y="2035"/>
                  </a:lnTo>
                  <a:lnTo>
                    <a:pt x="3191" y="1996"/>
                  </a:lnTo>
                  <a:lnTo>
                    <a:pt x="3208" y="1957"/>
                  </a:lnTo>
                  <a:lnTo>
                    <a:pt x="3226" y="1923"/>
                  </a:lnTo>
                  <a:lnTo>
                    <a:pt x="3219" y="1866"/>
                  </a:lnTo>
                  <a:lnTo>
                    <a:pt x="3208" y="1817"/>
                  </a:lnTo>
                  <a:lnTo>
                    <a:pt x="3185" y="1766"/>
                  </a:lnTo>
                  <a:lnTo>
                    <a:pt x="3173" y="1715"/>
                  </a:lnTo>
                  <a:lnTo>
                    <a:pt x="3162" y="1619"/>
                  </a:lnTo>
                  <a:lnTo>
                    <a:pt x="3168" y="1523"/>
                  </a:lnTo>
                  <a:lnTo>
                    <a:pt x="3191" y="1428"/>
                  </a:lnTo>
                  <a:lnTo>
                    <a:pt x="3231" y="1344"/>
                  </a:lnTo>
                  <a:lnTo>
                    <a:pt x="3284" y="1276"/>
                  </a:lnTo>
                  <a:lnTo>
                    <a:pt x="3353" y="1237"/>
                  </a:lnTo>
                  <a:lnTo>
                    <a:pt x="3434" y="1231"/>
                  </a:lnTo>
                  <a:lnTo>
                    <a:pt x="3533" y="1276"/>
                  </a:lnTo>
                  <a:lnTo>
                    <a:pt x="3568" y="1310"/>
                  </a:lnTo>
                  <a:lnTo>
                    <a:pt x="3609" y="1366"/>
                  </a:lnTo>
                  <a:lnTo>
                    <a:pt x="3639" y="1439"/>
                  </a:lnTo>
                  <a:lnTo>
                    <a:pt x="3662" y="1523"/>
                  </a:lnTo>
                  <a:lnTo>
                    <a:pt x="3673" y="1602"/>
                  </a:lnTo>
                  <a:lnTo>
                    <a:pt x="3673" y="1687"/>
                  </a:lnTo>
                  <a:lnTo>
                    <a:pt x="3662" y="1766"/>
                  </a:lnTo>
                  <a:lnTo>
                    <a:pt x="3639" y="1832"/>
                  </a:lnTo>
                  <a:lnTo>
                    <a:pt x="3604" y="1861"/>
                  </a:lnTo>
                  <a:lnTo>
                    <a:pt x="3563" y="1889"/>
                  </a:lnTo>
                  <a:lnTo>
                    <a:pt x="3516" y="1917"/>
                  </a:lnTo>
                  <a:lnTo>
                    <a:pt x="3475" y="1945"/>
                  </a:lnTo>
                  <a:lnTo>
                    <a:pt x="3499" y="1991"/>
                  </a:lnTo>
                  <a:lnTo>
                    <a:pt x="3528" y="2041"/>
                  </a:lnTo>
                  <a:lnTo>
                    <a:pt x="3551" y="2097"/>
                  </a:lnTo>
                  <a:lnTo>
                    <a:pt x="3586" y="2153"/>
                  </a:lnTo>
                  <a:lnTo>
                    <a:pt x="3614" y="2204"/>
                  </a:lnTo>
                  <a:lnTo>
                    <a:pt x="3650" y="2261"/>
                  </a:lnTo>
                  <a:lnTo>
                    <a:pt x="3685" y="2317"/>
                  </a:lnTo>
                  <a:lnTo>
                    <a:pt x="3720" y="2373"/>
                  </a:lnTo>
                  <a:lnTo>
                    <a:pt x="3748" y="2350"/>
                  </a:lnTo>
                  <a:lnTo>
                    <a:pt x="3784" y="2334"/>
                  </a:lnTo>
                  <a:lnTo>
                    <a:pt x="3819" y="2311"/>
                  </a:lnTo>
                  <a:lnTo>
                    <a:pt x="3853" y="2294"/>
                  </a:lnTo>
                  <a:lnTo>
                    <a:pt x="3882" y="2271"/>
                  </a:lnTo>
                  <a:lnTo>
                    <a:pt x="3918" y="2254"/>
                  </a:lnTo>
                  <a:lnTo>
                    <a:pt x="3952" y="2232"/>
                  </a:lnTo>
                  <a:lnTo>
                    <a:pt x="3987" y="2215"/>
                  </a:lnTo>
                  <a:lnTo>
                    <a:pt x="3958" y="2143"/>
                  </a:lnTo>
                  <a:lnTo>
                    <a:pt x="3935" y="2075"/>
                  </a:lnTo>
                  <a:lnTo>
                    <a:pt x="3905" y="1996"/>
                  </a:lnTo>
                  <a:lnTo>
                    <a:pt x="3882" y="1923"/>
                  </a:lnTo>
                  <a:lnTo>
                    <a:pt x="3859" y="1832"/>
                  </a:lnTo>
                  <a:lnTo>
                    <a:pt x="3847" y="1749"/>
                  </a:lnTo>
                  <a:lnTo>
                    <a:pt x="3847" y="1653"/>
                  </a:lnTo>
                  <a:lnTo>
                    <a:pt x="3865" y="1563"/>
                  </a:lnTo>
                  <a:lnTo>
                    <a:pt x="3865" y="1518"/>
                  </a:lnTo>
                  <a:lnTo>
                    <a:pt x="3877" y="1479"/>
                  </a:lnTo>
                  <a:lnTo>
                    <a:pt x="3882" y="1439"/>
                  </a:lnTo>
                  <a:lnTo>
                    <a:pt x="3900" y="1405"/>
                  </a:lnTo>
                  <a:lnTo>
                    <a:pt x="3905" y="1366"/>
                  </a:lnTo>
                  <a:lnTo>
                    <a:pt x="3923" y="1339"/>
                  </a:lnTo>
                  <a:lnTo>
                    <a:pt x="3941" y="1310"/>
                  </a:lnTo>
                  <a:lnTo>
                    <a:pt x="3969" y="1293"/>
                  </a:lnTo>
                  <a:lnTo>
                    <a:pt x="4010" y="1265"/>
                  </a:lnTo>
                  <a:lnTo>
                    <a:pt x="4062" y="1260"/>
                  </a:lnTo>
                  <a:lnTo>
                    <a:pt x="4115" y="1260"/>
                  </a:lnTo>
                  <a:lnTo>
                    <a:pt x="4172" y="1276"/>
                  </a:lnTo>
                  <a:lnTo>
                    <a:pt x="4260" y="1322"/>
                  </a:lnTo>
                  <a:lnTo>
                    <a:pt x="4329" y="1411"/>
                  </a:lnTo>
                  <a:lnTo>
                    <a:pt x="4370" y="1518"/>
                  </a:lnTo>
                  <a:lnTo>
                    <a:pt x="4400" y="1648"/>
                  </a:lnTo>
                  <a:lnTo>
                    <a:pt x="4400" y="1783"/>
                  </a:lnTo>
                  <a:lnTo>
                    <a:pt x="4387" y="1917"/>
                  </a:lnTo>
                  <a:lnTo>
                    <a:pt x="4364" y="2041"/>
                  </a:lnTo>
                  <a:lnTo>
                    <a:pt x="4329" y="2153"/>
                  </a:lnTo>
                  <a:lnTo>
                    <a:pt x="4376" y="2187"/>
                  </a:lnTo>
                  <a:lnTo>
                    <a:pt x="4423" y="2232"/>
                  </a:lnTo>
                  <a:lnTo>
                    <a:pt x="4435" y="2249"/>
                  </a:lnTo>
                  <a:lnTo>
                    <a:pt x="4452" y="2266"/>
                  </a:lnTo>
                  <a:lnTo>
                    <a:pt x="4469" y="2283"/>
                  </a:lnTo>
                  <a:lnTo>
                    <a:pt x="4504" y="2311"/>
                  </a:lnTo>
                  <a:lnTo>
                    <a:pt x="4534" y="2328"/>
                  </a:lnTo>
                  <a:lnTo>
                    <a:pt x="4557" y="2345"/>
                  </a:lnTo>
                  <a:lnTo>
                    <a:pt x="4562" y="2345"/>
                  </a:lnTo>
                  <a:lnTo>
                    <a:pt x="4568" y="2345"/>
                  </a:lnTo>
                  <a:lnTo>
                    <a:pt x="4620" y="2396"/>
                  </a:lnTo>
                  <a:lnTo>
                    <a:pt x="4673" y="2440"/>
                  </a:lnTo>
                  <a:lnTo>
                    <a:pt x="4702" y="2452"/>
                  </a:lnTo>
                  <a:lnTo>
                    <a:pt x="4737" y="2469"/>
                  </a:lnTo>
                  <a:lnTo>
                    <a:pt x="4772" y="2485"/>
                  </a:lnTo>
                  <a:lnTo>
                    <a:pt x="4823" y="2502"/>
                  </a:lnTo>
                  <a:lnTo>
                    <a:pt x="4853" y="2435"/>
                  </a:lnTo>
                  <a:lnTo>
                    <a:pt x="4888" y="2384"/>
                  </a:lnTo>
                  <a:lnTo>
                    <a:pt x="4929" y="2334"/>
                  </a:lnTo>
                  <a:lnTo>
                    <a:pt x="4975" y="2283"/>
                  </a:lnTo>
                  <a:lnTo>
                    <a:pt x="5021" y="2232"/>
                  </a:lnTo>
                  <a:lnTo>
                    <a:pt x="5068" y="2187"/>
                  </a:lnTo>
                  <a:lnTo>
                    <a:pt x="5114" y="2143"/>
                  </a:lnTo>
                  <a:lnTo>
                    <a:pt x="5167" y="2102"/>
                  </a:lnTo>
                  <a:lnTo>
                    <a:pt x="5143" y="2052"/>
                  </a:lnTo>
                  <a:lnTo>
                    <a:pt x="5120" y="2013"/>
                  </a:lnTo>
                  <a:lnTo>
                    <a:pt x="5091" y="1974"/>
                  </a:lnTo>
                  <a:lnTo>
                    <a:pt x="5062" y="1940"/>
                  </a:lnTo>
                  <a:lnTo>
                    <a:pt x="5028" y="1900"/>
                  </a:lnTo>
                  <a:lnTo>
                    <a:pt x="5003" y="1861"/>
                  </a:lnTo>
                  <a:lnTo>
                    <a:pt x="4980" y="1822"/>
                  </a:lnTo>
                  <a:lnTo>
                    <a:pt x="4969" y="1777"/>
                  </a:lnTo>
                  <a:lnTo>
                    <a:pt x="4952" y="1675"/>
                  </a:lnTo>
                  <a:lnTo>
                    <a:pt x="4969" y="1580"/>
                  </a:lnTo>
                  <a:lnTo>
                    <a:pt x="4992" y="1496"/>
                  </a:lnTo>
                  <a:lnTo>
                    <a:pt x="5039" y="1422"/>
                  </a:lnTo>
                  <a:lnTo>
                    <a:pt x="5085" y="1356"/>
                  </a:lnTo>
                  <a:lnTo>
                    <a:pt x="5155" y="1305"/>
                  </a:lnTo>
                  <a:lnTo>
                    <a:pt x="5224" y="1265"/>
                  </a:lnTo>
                  <a:lnTo>
                    <a:pt x="5307" y="1248"/>
                  </a:lnTo>
                  <a:lnTo>
                    <a:pt x="5353" y="1231"/>
                  </a:lnTo>
                  <a:lnTo>
                    <a:pt x="5405" y="1226"/>
                  </a:lnTo>
                  <a:lnTo>
                    <a:pt x="5446" y="1226"/>
                  </a:lnTo>
                  <a:lnTo>
                    <a:pt x="5487" y="1231"/>
                  </a:lnTo>
                  <a:lnTo>
                    <a:pt x="5521" y="1237"/>
                  </a:lnTo>
                  <a:lnTo>
                    <a:pt x="5556" y="1254"/>
                  </a:lnTo>
                  <a:lnTo>
                    <a:pt x="5579" y="1282"/>
                  </a:lnTo>
                  <a:lnTo>
                    <a:pt x="5608" y="1327"/>
                  </a:lnTo>
                  <a:lnTo>
                    <a:pt x="5626" y="1378"/>
                  </a:lnTo>
                  <a:lnTo>
                    <a:pt x="5649" y="1445"/>
                  </a:lnTo>
                  <a:lnTo>
                    <a:pt x="5667" y="1523"/>
                  </a:lnTo>
                  <a:lnTo>
                    <a:pt x="5690" y="1614"/>
                  </a:lnTo>
                  <a:lnTo>
                    <a:pt x="5690" y="1692"/>
                  </a:lnTo>
                  <a:lnTo>
                    <a:pt x="5690" y="1777"/>
                  </a:lnTo>
                  <a:lnTo>
                    <a:pt x="5672" y="1856"/>
                  </a:lnTo>
                  <a:lnTo>
                    <a:pt x="5649" y="1923"/>
                  </a:lnTo>
                  <a:lnTo>
                    <a:pt x="5619" y="1940"/>
                  </a:lnTo>
                  <a:lnTo>
                    <a:pt x="5596" y="1962"/>
                  </a:lnTo>
                  <a:lnTo>
                    <a:pt x="5561" y="1979"/>
                  </a:lnTo>
                  <a:lnTo>
                    <a:pt x="5533" y="2001"/>
                  </a:lnTo>
                  <a:lnTo>
                    <a:pt x="5498" y="2018"/>
                  </a:lnTo>
                  <a:lnTo>
                    <a:pt x="5480" y="2047"/>
                  </a:lnTo>
                  <a:lnTo>
                    <a:pt x="5462" y="2075"/>
                  </a:lnTo>
                  <a:lnTo>
                    <a:pt x="5462" y="2126"/>
                  </a:lnTo>
                  <a:lnTo>
                    <a:pt x="5469" y="2159"/>
                  </a:lnTo>
                  <a:lnTo>
                    <a:pt x="5492" y="2198"/>
                  </a:lnTo>
                  <a:lnTo>
                    <a:pt x="5521" y="2227"/>
                  </a:lnTo>
                  <a:lnTo>
                    <a:pt x="5561" y="2254"/>
                  </a:lnTo>
                  <a:lnTo>
                    <a:pt x="5596" y="2278"/>
                  </a:lnTo>
                  <a:lnTo>
                    <a:pt x="5637" y="2305"/>
                  </a:lnTo>
                  <a:lnTo>
                    <a:pt x="5667" y="2334"/>
                  </a:lnTo>
                  <a:lnTo>
                    <a:pt x="5690" y="2373"/>
                  </a:lnTo>
                  <a:lnTo>
                    <a:pt x="5701" y="2440"/>
                  </a:lnTo>
                  <a:lnTo>
                    <a:pt x="5707" y="2530"/>
                  </a:lnTo>
                  <a:lnTo>
                    <a:pt x="5695" y="2626"/>
                  </a:lnTo>
                  <a:lnTo>
                    <a:pt x="5690" y="2744"/>
                  </a:lnTo>
                  <a:lnTo>
                    <a:pt x="5672" y="2857"/>
                  </a:lnTo>
                  <a:lnTo>
                    <a:pt x="5667" y="2969"/>
                  </a:lnTo>
                  <a:lnTo>
                    <a:pt x="5660" y="3081"/>
                  </a:lnTo>
                  <a:lnTo>
                    <a:pt x="5667" y="3183"/>
                  </a:lnTo>
                  <a:lnTo>
                    <a:pt x="5667" y="3216"/>
                  </a:lnTo>
                  <a:lnTo>
                    <a:pt x="5672" y="3255"/>
                  </a:lnTo>
                  <a:lnTo>
                    <a:pt x="5684" y="3272"/>
                  </a:lnTo>
                  <a:lnTo>
                    <a:pt x="5695" y="3295"/>
                  </a:lnTo>
                  <a:lnTo>
                    <a:pt x="5718" y="3306"/>
                  </a:lnTo>
                  <a:lnTo>
                    <a:pt x="5730" y="3311"/>
                  </a:lnTo>
                  <a:lnTo>
                    <a:pt x="5759" y="3295"/>
                  </a:lnTo>
                  <a:lnTo>
                    <a:pt x="5800" y="3278"/>
                  </a:lnTo>
                  <a:lnTo>
                    <a:pt x="5835" y="3261"/>
                  </a:lnTo>
                  <a:lnTo>
                    <a:pt x="5882" y="3250"/>
                  </a:lnTo>
                  <a:lnTo>
                    <a:pt x="5922" y="3233"/>
                  </a:lnTo>
                  <a:lnTo>
                    <a:pt x="5963" y="3227"/>
                  </a:lnTo>
                  <a:lnTo>
                    <a:pt x="5997" y="3216"/>
                  </a:lnTo>
                  <a:lnTo>
                    <a:pt x="6038" y="3222"/>
                  </a:lnTo>
                  <a:lnTo>
                    <a:pt x="6067" y="3227"/>
                  </a:lnTo>
                  <a:lnTo>
                    <a:pt x="6096" y="3239"/>
                  </a:lnTo>
                  <a:lnTo>
                    <a:pt x="6131" y="3239"/>
                  </a:lnTo>
                  <a:lnTo>
                    <a:pt x="6184" y="3233"/>
                  </a:lnTo>
                  <a:lnTo>
                    <a:pt x="6184" y="3183"/>
                  </a:lnTo>
                  <a:lnTo>
                    <a:pt x="6189" y="3132"/>
                  </a:lnTo>
                  <a:lnTo>
                    <a:pt x="6189" y="3070"/>
                  </a:lnTo>
                  <a:lnTo>
                    <a:pt x="6195" y="3014"/>
                  </a:lnTo>
                  <a:lnTo>
                    <a:pt x="6195" y="2952"/>
                  </a:lnTo>
                  <a:lnTo>
                    <a:pt x="6195" y="2896"/>
                  </a:lnTo>
                  <a:lnTo>
                    <a:pt x="6195" y="2840"/>
                  </a:lnTo>
                  <a:lnTo>
                    <a:pt x="6195" y="2794"/>
                  </a:lnTo>
                  <a:lnTo>
                    <a:pt x="6184" y="2755"/>
                  </a:lnTo>
                  <a:lnTo>
                    <a:pt x="6172" y="2715"/>
                  </a:lnTo>
                  <a:lnTo>
                    <a:pt x="6154" y="2676"/>
                  </a:lnTo>
                  <a:lnTo>
                    <a:pt x="6143" y="2637"/>
                  </a:lnTo>
                  <a:lnTo>
                    <a:pt x="6126" y="2592"/>
                  </a:lnTo>
                  <a:lnTo>
                    <a:pt x="6120" y="2547"/>
                  </a:lnTo>
                  <a:lnTo>
                    <a:pt x="6114" y="2502"/>
                  </a:lnTo>
                  <a:lnTo>
                    <a:pt x="6131" y="2462"/>
                  </a:lnTo>
                  <a:lnTo>
                    <a:pt x="6154" y="2423"/>
                  </a:lnTo>
                  <a:lnTo>
                    <a:pt x="6195" y="2389"/>
                  </a:lnTo>
                  <a:lnTo>
                    <a:pt x="6235" y="2356"/>
                  </a:lnTo>
                  <a:lnTo>
                    <a:pt x="6276" y="2322"/>
                  </a:lnTo>
                  <a:lnTo>
                    <a:pt x="6288" y="2271"/>
                  </a:lnTo>
                  <a:lnTo>
                    <a:pt x="6294" y="2232"/>
                  </a:lnTo>
                  <a:lnTo>
                    <a:pt x="6300" y="2187"/>
                  </a:lnTo>
                  <a:lnTo>
                    <a:pt x="6318" y="2143"/>
                  </a:lnTo>
                  <a:lnTo>
                    <a:pt x="6126" y="2018"/>
                  </a:lnTo>
                  <a:lnTo>
                    <a:pt x="6062" y="1817"/>
                  </a:lnTo>
                  <a:lnTo>
                    <a:pt x="6096" y="1569"/>
                  </a:lnTo>
                  <a:lnTo>
                    <a:pt x="6207" y="1332"/>
                  </a:lnTo>
                  <a:lnTo>
                    <a:pt x="6364" y="1147"/>
                  </a:lnTo>
                  <a:lnTo>
                    <a:pt x="6544" y="1079"/>
                  </a:lnTo>
                  <a:lnTo>
                    <a:pt x="6719" y="1158"/>
                  </a:lnTo>
                  <a:lnTo>
                    <a:pt x="6876" y="1445"/>
                  </a:lnTo>
                  <a:lnTo>
                    <a:pt x="6876" y="1451"/>
                  </a:lnTo>
                  <a:lnTo>
                    <a:pt x="6876" y="1479"/>
                  </a:lnTo>
                  <a:lnTo>
                    <a:pt x="6876" y="1506"/>
                  </a:lnTo>
                  <a:lnTo>
                    <a:pt x="6876" y="1535"/>
                  </a:lnTo>
                  <a:lnTo>
                    <a:pt x="6869" y="1597"/>
                  </a:lnTo>
                  <a:lnTo>
                    <a:pt x="6869" y="1658"/>
                  </a:lnTo>
                  <a:lnTo>
                    <a:pt x="6863" y="1721"/>
                  </a:lnTo>
                  <a:lnTo>
                    <a:pt x="6863" y="1783"/>
                  </a:lnTo>
                  <a:lnTo>
                    <a:pt x="6851" y="1839"/>
                  </a:lnTo>
                  <a:lnTo>
                    <a:pt x="6840" y="1895"/>
                  </a:lnTo>
                  <a:lnTo>
                    <a:pt x="6823" y="1945"/>
                  </a:lnTo>
                  <a:lnTo>
                    <a:pt x="6805" y="1996"/>
                  </a:lnTo>
                  <a:lnTo>
                    <a:pt x="6765" y="2035"/>
                  </a:lnTo>
                  <a:lnTo>
                    <a:pt x="6719" y="2080"/>
                  </a:lnTo>
                  <a:lnTo>
                    <a:pt x="6671" y="2126"/>
                  </a:lnTo>
                  <a:lnTo>
                    <a:pt x="6648" y="2182"/>
                  </a:lnTo>
                  <a:lnTo>
                    <a:pt x="6648" y="2204"/>
                  </a:lnTo>
                  <a:lnTo>
                    <a:pt x="6671" y="2254"/>
                  </a:lnTo>
                  <a:lnTo>
                    <a:pt x="6706" y="2311"/>
                  </a:lnTo>
                  <a:lnTo>
                    <a:pt x="6742" y="2362"/>
                  </a:lnTo>
                  <a:lnTo>
                    <a:pt x="6782" y="2413"/>
                  </a:lnTo>
                  <a:lnTo>
                    <a:pt x="6823" y="2462"/>
                  </a:lnTo>
                  <a:lnTo>
                    <a:pt x="6863" y="2513"/>
                  </a:lnTo>
                  <a:lnTo>
                    <a:pt x="6893" y="2563"/>
                  </a:lnTo>
                  <a:lnTo>
                    <a:pt x="6927" y="2631"/>
                  </a:lnTo>
                  <a:lnTo>
                    <a:pt x="6950" y="2705"/>
                  </a:lnTo>
                  <a:lnTo>
                    <a:pt x="6974" y="2789"/>
                  </a:lnTo>
                  <a:lnTo>
                    <a:pt x="6991" y="2879"/>
                  </a:lnTo>
                  <a:lnTo>
                    <a:pt x="7015" y="2969"/>
                  </a:lnTo>
                  <a:lnTo>
                    <a:pt x="7033" y="3053"/>
                  </a:lnTo>
                  <a:lnTo>
                    <a:pt x="7049" y="3137"/>
                  </a:lnTo>
                  <a:lnTo>
                    <a:pt x="7067" y="3210"/>
                  </a:lnTo>
                  <a:lnTo>
                    <a:pt x="7102" y="3284"/>
                  </a:lnTo>
                  <a:lnTo>
                    <a:pt x="7148" y="3284"/>
                  </a:lnTo>
                  <a:lnTo>
                    <a:pt x="7201" y="3289"/>
                  </a:lnTo>
                  <a:lnTo>
                    <a:pt x="7224" y="3284"/>
                  </a:lnTo>
                  <a:lnTo>
                    <a:pt x="7253" y="3284"/>
                  </a:lnTo>
                  <a:lnTo>
                    <a:pt x="7282" y="3284"/>
                  </a:lnTo>
                  <a:lnTo>
                    <a:pt x="7317" y="3284"/>
                  </a:lnTo>
                  <a:lnTo>
                    <a:pt x="7335" y="3250"/>
                  </a:lnTo>
                  <a:lnTo>
                    <a:pt x="7352" y="3222"/>
                  </a:lnTo>
                  <a:lnTo>
                    <a:pt x="7410" y="3075"/>
                  </a:lnTo>
                  <a:lnTo>
                    <a:pt x="7474" y="2940"/>
                  </a:lnTo>
                  <a:lnTo>
                    <a:pt x="7532" y="2806"/>
                  </a:lnTo>
                  <a:lnTo>
                    <a:pt x="7596" y="2688"/>
                  </a:lnTo>
                  <a:lnTo>
                    <a:pt x="7654" y="2563"/>
                  </a:lnTo>
                  <a:lnTo>
                    <a:pt x="7730" y="2452"/>
                  </a:lnTo>
                  <a:lnTo>
                    <a:pt x="7804" y="2350"/>
                  </a:lnTo>
                  <a:lnTo>
                    <a:pt x="7903" y="2254"/>
                  </a:lnTo>
                  <a:lnTo>
                    <a:pt x="7898" y="2215"/>
                  </a:lnTo>
                  <a:lnTo>
                    <a:pt x="7875" y="2176"/>
                  </a:lnTo>
                  <a:lnTo>
                    <a:pt x="7840" y="2136"/>
                  </a:lnTo>
                  <a:lnTo>
                    <a:pt x="7822" y="2114"/>
                  </a:lnTo>
                  <a:lnTo>
                    <a:pt x="7747" y="1991"/>
                  </a:lnTo>
                  <a:lnTo>
                    <a:pt x="7695" y="1849"/>
                  </a:lnTo>
                  <a:lnTo>
                    <a:pt x="7665" y="1692"/>
                  </a:lnTo>
                  <a:lnTo>
                    <a:pt x="7660" y="1540"/>
                  </a:lnTo>
                  <a:lnTo>
                    <a:pt x="7677" y="1388"/>
                  </a:lnTo>
                  <a:lnTo>
                    <a:pt x="7730" y="1254"/>
                  </a:lnTo>
                  <a:lnTo>
                    <a:pt x="7817" y="1147"/>
                  </a:lnTo>
                  <a:lnTo>
                    <a:pt x="7938" y="1074"/>
                  </a:lnTo>
                  <a:lnTo>
                    <a:pt x="7968" y="1057"/>
                  </a:lnTo>
                  <a:lnTo>
                    <a:pt x="8002" y="1040"/>
                  </a:lnTo>
                  <a:lnTo>
                    <a:pt x="8037" y="1029"/>
                  </a:lnTo>
                  <a:lnTo>
                    <a:pt x="8072" y="1029"/>
                  </a:lnTo>
                  <a:lnTo>
                    <a:pt x="8107" y="1023"/>
                  </a:lnTo>
                  <a:lnTo>
                    <a:pt x="8142" y="1029"/>
                  </a:lnTo>
                  <a:lnTo>
                    <a:pt x="8177" y="1029"/>
                  </a:lnTo>
                  <a:lnTo>
                    <a:pt x="8217" y="1045"/>
                  </a:lnTo>
                  <a:lnTo>
                    <a:pt x="8247" y="1057"/>
                  </a:lnTo>
                  <a:lnTo>
                    <a:pt x="8275" y="1074"/>
                  </a:lnTo>
                  <a:lnTo>
                    <a:pt x="8299" y="1096"/>
                  </a:lnTo>
                  <a:lnTo>
                    <a:pt x="8328" y="1125"/>
                  </a:lnTo>
                  <a:lnTo>
                    <a:pt x="8346" y="1147"/>
                  </a:lnTo>
                  <a:lnTo>
                    <a:pt x="8363" y="1180"/>
                  </a:lnTo>
                  <a:lnTo>
                    <a:pt x="8374" y="1214"/>
                  </a:lnTo>
                  <a:lnTo>
                    <a:pt x="8392" y="1248"/>
                  </a:lnTo>
                  <a:lnTo>
                    <a:pt x="8409" y="1344"/>
                  </a:lnTo>
                  <a:lnTo>
                    <a:pt x="8427" y="1445"/>
                  </a:lnTo>
                  <a:lnTo>
                    <a:pt x="8433" y="1552"/>
                  </a:lnTo>
                  <a:lnTo>
                    <a:pt x="8433" y="1665"/>
                  </a:lnTo>
                  <a:lnTo>
                    <a:pt x="8415" y="1766"/>
                  </a:lnTo>
                  <a:lnTo>
                    <a:pt x="8404" y="1872"/>
                  </a:lnTo>
                  <a:lnTo>
                    <a:pt x="8369" y="1962"/>
                  </a:lnTo>
                  <a:lnTo>
                    <a:pt x="8339" y="2047"/>
                  </a:lnTo>
                  <a:lnTo>
                    <a:pt x="8311" y="2075"/>
                  </a:lnTo>
                  <a:lnTo>
                    <a:pt x="8270" y="2114"/>
                  </a:lnTo>
                  <a:lnTo>
                    <a:pt x="8235" y="2148"/>
                  </a:lnTo>
                  <a:lnTo>
                    <a:pt x="8217" y="2182"/>
                  </a:lnTo>
                  <a:lnTo>
                    <a:pt x="8217" y="2221"/>
                  </a:lnTo>
                  <a:lnTo>
                    <a:pt x="8235" y="2278"/>
                  </a:lnTo>
                  <a:lnTo>
                    <a:pt x="8252" y="2322"/>
                  </a:lnTo>
                  <a:lnTo>
                    <a:pt x="8275" y="2362"/>
                  </a:lnTo>
                  <a:lnTo>
                    <a:pt x="8316" y="2350"/>
                  </a:lnTo>
                  <a:lnTo>
                    <a:pt x="8374" y="2356"/>
                  </a:lnTo>
                  <a:lnTo>
                    <a:pt x="8438" y="2362"/>
                  </a:lnTo>
                  <a:lnTo>
                    <a:pt x="8508" y="2384"/>
                  </a:lnTo>
                  <a:lnTo>
                    <a:pt x="8572" y="2401"/>
                  </a:lnTo>
                  <a:lnTo>
                    <a:pt x="8630" y="2428"/>
                  </a:lnTo>
                  <a:lnTo>
                    <a:pt x="8676" y="2457"/>
                  </a:lnTo>
                  <a:lnTo>
                    <a:pt x="8711" y="2491"/>
                  </a:lnTo>
                  <a:lnTo>
                    <a:pt x="8734" y="2536"/>
                  </a:lnTo>
                  <a:lnTo>
                    <a:pt x="8764" y="2592"/>
                  </a:lnTo>
                  <a:lnTo>
                    <a:pt x="8787" y="2659"/>
                  </a:lnTo>
                  <a:lnTo>
                    <a:pt x="8816" y="2727"/>
                  </a:lnTo>
                  <a:lnTo>
                    <a:pt x="8833" y="2794"/>
                  </a:lnTo>
                  <a:lnTo>
                    <a:pt x="8856" y="2862"/>
                  </a:lnTo>
                  <a:lnTo>
                    <a:pt x="8874" y="2918"/>
                  </a:lnTo>
                  <a:lnTo>
                    <a:pt x="8898" y="2980"/>
                  </a:lnTo>
                  <a:lnTo>
                    <a:pt x="8909" y="2867"/>
                  </a:lnTo>
                  <a:lnTo>
                    <a:pt x="8921" y="2755"/>
                  </a:lnTo>
                  <a:lnTo>
                    <a:pt x="8932" y="2637"/>
                  </a:lnTo>
                  <a:lnTo>
                    <a:pt x="8950" y="2519"/>
                  </a:lnTo>
                  <a:lnTo>
                    <a:pt x="8967" y="2401"/>
                  </a:lnTo>
                  <a:lnTo>
                    <a:pt x="8985" y="2288"/>
                  </a:lnTo>
                  <a:lnTo>
                    <a:pt x="9002" y="2187"/>
                  </a:lnTo>
                  <a:lnTo>
                    <a:pt x="9031" y="2102"/>
                  </a:lnTo>
                  <a:lnTo>
                    <a:pt x="9061" y="2047"/>
                  </a:lnTo>
                  <a:lnTo>
                    <a:pt x="9136" y="1979"/>
                  </a:lnTo>
                  <a:lnTo>
                    <a:pt x="9234" y="1895"/>
                  </a:lnTo>
                  <a:lnTo>
                    <a:pt x="9350" y="1817"/>
                  </a:lnTo>
                  <a:lnTo>
                    <a:pt x="9467" y="1732"/>
                  </a:lnTo>
                  <a:lnTo>
                    <a:pt x="9589" y="1665"/>
                  </a:lnTo>
                  <a:lnTo>
                    <a:pt x="9682" y="1614"/>
                  </a:lnTo>
                  <a:lnTo>
                    <a:pt x="9763" y="1586"/>
                  </a:lnTo>
                  <a:lnTo>
                    <a:pt x="9763" y="1552"/>
                  </a:lnTo>
                  <a:lnTo>
                    <a:pt x="9781" y="1535"/>
                  </a:lnTo>
                  <a:lnTo>
                    <a:pt x="9763" y="1496"/>
                  </a:lnTo>
                  <a:lnTo>
                    <a:pt x="9752" y="1462"/>
                  </a:lnTo>
                  <a:lnTo>
                    <a:pt x="9735" y="1428"/>
                  </a:lnTo>
                  <a:lnTo>
                    <a:pt x="9717" y="1400"/>
                  </a:lnTo>
                  <a:lnTo>
                    <a:pt x="9694" y="1366"/>
                  </a:lnTo>
                  <a:lnTo>
                    <a:pt x="9670" y="1339"/>
                  </a:lnTo>
                  <a:lnTo>
                    <a:pt x="9641" y="1305"/>
                  </a:lnTo>
                  <a:lnTo>
                    <a:pt x="9618" y="1271"/>
                  </a:lnTo>
                  <a:lnTo>
                    <a:pt x="9601" y="1243"/>
                  </a:lnTo>
                  <a:lnTo>
                    <a:pt x="9583" y="1204"/>
                  </a:lnTo>
                  <a:lnTo>
                    <a:pt x="9560" y="1147"/>
                  </a:lnTo>
                  <a:lnTo>
                    <a:pt x="9543" y="1091"/>
                  </a:lnTo>
                  <a:lnTo>
                    <a:pt x="9514" y="1029"/>
                  </a:lnTo>
                  <a:lnTo>
                    <a:pt x="9490" y="978"/>
                  </a:lnTo>
                  <a:lnTo>
                    <a:pt x="9472" y="934"/>
                  </a:lnTo>
                  <a:lnTo>
                    <a:pt x="9467" y="917"/>
                  </a:lnTo>
                  <a:lnTo>
                    <a:pt x="9444" y="860"/>
                  </a:lnTo>
                  <a:lnTo>
                    <a:pt x="9444" y="792"/>
                  </a:lnTo>
                  <a:lnTo>
                    <a:pt x="9449" y="714"/>
                  </a:lnTo>
                  <a:lnTo>
                    <a:pt x="9467" y="635"/>
                  </a:lnTo>
                  <a:lnTo>
                    <a:pt x="9484" y="551"/>
                  </a:lnTo>
                  <a:lnTo>
                    <a:pt x="9502" y="489"/>
                  </a:lnTo>
                  <a:lnTo>
                    <a:pt x="9514" y="444"/>
                  </a:lnTo>
                  <a:lnTo>
                    <a:pt x="9525" y="433"/>
                  </a:lnTo>
                  <a:lnTo>
                    <a:pt x="9525" y="416"/>
                  </a:lnTo>
                  <a:lnTo>
                    <a:pt x="9531" y="382"/>
                  </a:lnTo>
                  <a:lnTo>
                    <a:pt x="9537" y="338"/>
                  </a:lnTo>
                  <a:lnTo>
                    <a:pt x="9555" y="309"/>
                  </a:lnTo>
                  <a:lnTo>
                    <a:pt x="9566" y="282"/>
                  </a:lnTo>
                  <a:lnTo>
                    <a:pt x="9601" y="236"/>
                  </a:lnTo>
                  <a:lnTo>
                    <a:pt x="9641" y="186"/>
                  </a:lnTo>
                  <a:lnTo>
                    <a:pt x="9705" y="135"/>
                  </a:lnTo>
                  <a:lnTo>
                    <a:pt x="9769" y="79"/>
                  </a:lnTo>
                  <a:lnTo>
                    <a:pt x="9839" y="34"/>
                  </a:lnTo>
                  <a:lnTo>
                    <a:pt x="9903" y="5"/>
                  </a:lnTo>
                  <a:lnTo>
                    <a:pt x="9966" y="0"/>
                  </a:lnTo>
                  <a:lnTo>
                    <a:pt x="10065" y="12"/>
                  </a:lnTo>
                  <a:lnTo>
                    <a:pt x="10164" y="45"/>
                  </a:lnTo>
                  <a:lnTo>
                    <a:pt x="10245" y="90"/>
                  </a:lnTo>
                  <a:lnTo>
                    <a:pt x="10333" y="152"/>
                  </a:lnTo>
                  <a:lnTo>
                    <a:pt x="10402" y="219"/>
                  </a:lnTo>
                  <a:lnTo>
                    <a:pt x="10461" y="299"/>
                  </a:lnTo>
                  <a:lnTo>
                    <a:pt x="10501" y="382"/>
                  </a:lnTo>
                  <a:lnTo>
                    <a:pt x="10536" y="466"/>
                  </a:lnTo>
                  <a:lnTo>
                    <a:pt x="10536" y="517"/>
                  </a:lnTo>
                  <a:lnTo>
                    <a:pt x="10536" y="574"/>
                  </a:lnTo>
                  <a:lnTo>
                    <a:pt x="10536" y="624"/>
                  </a:lnTo>
                  <a:lnTo>
                    <a:pt x="10554" y="675"/>
                  </a:lnTo>
                  <a:lnTo>
                    <a:pt x="10566" y="680"/>
                  </a:lnTo>
                  <a:lnTo>
                    <a:pt x="10589" y="692"/>
                  </a:lnTo>
                  <a:lnTo>
                    <a:pt x="10607" y="697"/>
                  </a:lnTo>
                  <a:lnTo>
                    <a:pt x="10630" y="709"/>
                  </a:lnTo>
                  <a:lnTo>
                    <a:pt x="10630" y="736"/>
                  </a:lnTo>
                  <a:lnTo>
                    <a:pt x="10630" y="770"/>
                  </a:lnTo>
                  <a:lnTo>
                    <a:pt x="10630" y="809"/>
                  </a:lnTo>
                  <a:lnTo>
                    <a:pt x="10635" y="849"/>
                  </a:lnTo>
                  <a:lnTo>
                    <a:pt x="10635" y="888"/>
                  </a:lnTo>
                  <a:lnTo>
                    <a:pt x="10635" y="927"/>
                  </a:lnTo>
                  <a:lnTo>
                    <a:pt x="10630" y="961"/>
                  </a:lnTo>
                  <a:lnTo>
                    <a:pt x="10630" y="995"/>
                  </a:lnTo>
                  <a:lnTo>
                    <a:pt x="10607" y="1012"/>
                  </a:lnTo>
                  <a:lnTo>
                    <a:pt x="10577" y="1035"/>
                  </a:lnTo>
                  <a:lnTo>
                    <a:pt x="10548" y="1052"/>
                  </a:lnTo>
                  <a:lnTo>
                    <a:pt x="10524" y="1074"/>
                  </a:lnTo>
                  <a:lnTo>
                    <a:pt x="10496" y="1108"/>
                  </a:lnTo>
                  <a:lnTo>
                    <a:pt x="10484" y="1153"/>
                  </a:lnTo>
                  <a:lnTo>
                    <a:pt x="10461" y="1192"/>
                  </a:lnTo>
                  <a:lnTo>
                    <a:pt x="10443" y="1237"/>
                  </a:lnTo>
                  <a:lnTo>
                    <a:pt x="10409" y="1265"/>
                  </a:lnTo>
                  <a:lnTo>
                    <a:pt x="10374" y="1299"/>
                  </a:lnTo>
                  <a:lnTo>
                    <a:pt x="10339" y="1327"/>
                  </a:lnTo>
                  <a:lnTo>
                    <a:pt x="10303" y="1361"/>
                  </a:lnTo>
                  <a:lnTo>
                    <a:pt x="10269" y="1388"/>
                  </a:lnTo>
                  <a:lnTo>
                    <a:pt x="10245" y="1422"/>
                  </a:lnTo>
                  <a:lnTo>
                    <a:pt x="10222" y="1456"/>
                  </a:lnTo>
                  <a:lnTo>
                    <a:pt x="10217" y="1513"/>
                  </a:lnTo>
                  <a:lnTo>
                    <a:pt x="10275" y="1546"/>
                  </a:lnTo>
                  <a:lnTo>
                    <a:pt x="10362" y="1608"/>
                  </a:lnTo>
                  <a:lnTo>
                    <a:pt x="10461" y="1675"/>
                  </a:lnTo>
                  <a:lnTo>
                    <a:pt x="10571" y="1760"/>
                  </a:lnTo>
                  <a:lnTo>
                    <a:pt x="10670" y="1832"/>
                  </a:lnTo>
                  <a:lnTo>
                    <a:pt x="10762" y="1912"/>
                  </a:lnTo>
                  <a:lnTo>
                    <a:pt x="10827" y="1979"/>
                  </a:lnTo>
                  <a:lnTo>
                    <a:pt x="10868" y="2035"/>
                  </a:lnTo>
                  <a:lnTo>
                    <a:pt x="10896" y="2119"/>
                  </a:lnTo>
                  <a:lnTo>
                    <a:pt x="10919" y="2210"/>
                  </a:lnTo>
                  <a:lnTo>
                    <a:pt x="10932" y="2305"/>
                  </a:lnTo>
                  <a:lnTo>
                    <a:pt x="10944" y="2406"/>
                  </a:lnTo>
                  <a:lnTo>
                    <a:pt x="10944" y="2502"/>
                  </a:lnTo>
                  <a:lnTo>
                    <a:pt x="10944" y="2604"/>
                  </a:lnTo>
                  <a:lnTo>
                    <a:pt x="10949" y="2699"/>
                  </a:lnTo>
                  <a:lnTo>
                    <a:pt x="10967" y="2794"/>
                  </a:lnTo>
                  <a:lnTo>
                    <a:pt x="10967" y="2850"/>
                  </a:lnTo>
                  <a:lnTo>
                    <a:pt x="10984" y="2918"/>
                  </a:lnTo>
                  <a:lnTo>
                    <a:pt x="11001" y="2991"/>
                  </a:lnTo>
                  <a:lnTo>
                    <a:pt x="11018" y="3070"/>
                  </a:lnTo>
                  <a:lnTo>
                    <a:pt x="11030" y="3143"/>
                  </a:lnTo>
                  <a:lnTo>
                    <a:pt x="11048" y="3216"/>
                  </a:lnTo>
                  <a:lnTo>
                    <a:pt x="11059" y="3278"/>
                  </a:lnTo>
                  <a:lnTo>
                    <a:pt x="11071" y="3340"/>
                  </a:lnTo>
                  <a:lnTo>
                    <a:pt x="11066" y="3362"/>
                  </a:lnTo>
                  <a:lnTo>
                    <a:pt x="11059" y="3396"/>
                  </a:lnTo>
                  <a:lnTo>
                    <a:pt x="11048" y="3430"/>
                  </a:lnTo>
                  <a:lnTo>
                    <a:pt x="11036" y="3470"/>
                  </a:lnTo>
                  <a:lnTo>
                    <a:pt x="11018" y="3502"/>
                  </a:lnTo>
                  <a:lnTo>
                    <a:pt x="11001" y="3542"/>
                  </a:lnTo>
                  <a:lnTo>
                    <a:pt x="10990" y="3576"/>
                  </a:lnTo>
                  <a:lnTo>
                    <a:pt x="10990" y="3610"/>
                  </a:lnTo>
                  <a:lnTo>
                    <a:pt x="10978" y="3654"/>
                  </a:lnTo>
                  <a:lnTo>
                    <a:pt x="10972" y="3705"/>
                  </a:lnTo>
                  <a:lnTo>
                    <a:pt x="10972" y="3756"/>
                  </a:lnTo>
                  <a:lnTo>
                    <a:pt x="10972" y="3812"/>
                  </a:lnTo>
                  <a:lnTo>
                    <a:pt x="10967" y="3857"/>
                  </a:lnTo>
                  <a:lnTo>
                    <a:pt x="10967" y="3907"/>
                  </a:lnTo>
                  <a:lnTo>
                    <a:pt x="10967" y="3958"/>
                  </a:lnTo>
                  <a:lnTo>
                    <a:pt x="10967" y="4009"/>
                  </a:lnTo>
                  <a:lnTo>
                    <a:pt x="10955" y="4161"/>
                  </a:lnTo>
                  <a:lnTo>
                    <a:pt x="10955" y="4313"/>
                  </a:lnTo>
                  <a:lnTo>
                    <a:pt x="10960" y="4459"/>
                  </a:lnTo>
                  <a:lnTo>
                    <a:pt x="10972" y="4605"/>
                  </a:lnTo>
                  <a:lnTo>
                    <a:pt x="10978" y="4740"/>
                  </a:lnTo>
                  <a:lnTo>
                    <a:pt x="10984" y="4880"/>
                  </a:lnTo>
                  <a:lnTo>
                    <a:pt x="10978" y="5015"/>
                  </a:lnTo>
                  <a:lnTo>
                    <a:pt x="10978" y="5155"/>
                  </a:lnTo>
                  <a:lnTo>
                    <a:pt x="10937" y="5426"/>
                  </a:lnTo>
                  <a:lnTo>
                    <a:pt x="10903" y="5712"/>
                  </a:lnTo>
                  <a:lnTo>
                    <a:pt x="10856" y="6005"/>
                  </a:lnTo>
                  <a:lnTo>
                    <a:pt x="10827" y="6303"/>
                  </a:lnTo>
                  <a:lnTo>
                    <a:pt x="10804" y="6595"/>
                  </a:lnTo>
                  <a:lnTo>
                    <a:pt x="10810" y="6888"/>
                  </a:lnTo>
                  <a:lnTo>
                    <a:pt x="10838" y="7175"/>
                  </a:lnTo>
                  <a:lnTo>
                    <a:pt x="10908" y="7461"/>
                  </a:lnTo>
                  <a:lnTo>
                    <a:pt x="10861" y="7461"/>
                  </a:lnTo>
                  <a:lnTo>
                    <a:pt x="10821" y="7467"/>
                  </a:lnTo>
                  <a:lnTo>
                    <a:pt x="10780" y="7467"/>
                  </a:lnTo>
                  <a:lnTo>
                    <a:pt x="10739" y="7472"/>
                  </a:lnTo>
                  <a:lnTo>
                    <a:pt x="10693" y="7467"/>
                  </a:lnTo>
                  <a:lnTo>
                    <a:pt x="10653" y="7461"/>
                  </a:lnTo>
                  <a:lnTo>
                    <a:pt x="10607" y="7455"/>
                  </a:lnTo>
                  <a:lnTo>
                    <a:pt x="10566" y="7450"/>
                  </a:lnTo>
                  <a:lnTo>
                    <a:pt x="10566" y="7461"/>
                  </a:lnTo>
                  <a:lnTo>
                    <a:pt x="10566" y="7484"/>
                  </a:lnTo>
                  <a:lnTo>
                    <a:pt x="10566" y="7506"/>
                  </a:lnTo>
                  <a:lnTo>
                    <a:pt x="10566" y="7523"/>
                  </a:lnTo>
                  <a:lnTo>
                    <a:pt x="10612" y="7523"/>
                  </a:lnTo>
                  <a:lnTo>
                    <a:pt x="10658" y="7534"/>
                  </a:lnTo>
                  <a:lnTo>
                    <a:pt x="10705" y="7540"/>
                  </a:lnTo>
                  <a:lnTo>
                    <a:pt x="10751" y="7551"/>
                  </a:lnTo>
                  <a:lnTo>
                    <a:pt x="10792" y="7556"/>
                  </a:lnTo>
                  <a:lnTo>
                    <a:pt x="10838" y="7568"/>
                  </a:lnTo>
                  <a:lnTo>
                    <a:pt x="10879" y="7573"/>
                  </a:lnTo>
                  <a:lnTo>
                    <a:pt x="10926" y="7590"/>
                  </a:lnTo>
                  <a:lnTo>
                    <a:pt x="10926" y="7619"/>
                  </a:lnTo>
                  <a:lnTo>
                    <a:pt x="10926" y="7647"/>
                  </a:lnTo>
                  <a:lnTo>
                    <a:pt x="10926" y="7669"/>
                  </a:lnTo>
                  <a:lnTo>
                    <a:pt x="10932" y="7698"/>
                  </a:lnTo>
                  <a:lnTo>
                    <a:pt x="10932" y="7742"/>
                  </a:lnTo>
                  <a:lnTo>
                    <a:pt x="10949" y="7798"/>
                  </a:lnTo>
                  <a:lnTo>
                    <a:pt x="10850" y="7798"/>
                  </a:lnTo>
                  <a:lnTo>
                    <a:pt x="10705" y="7810"/>
                  </a:lnTo>
                  <a:lnTo>
                    <a:pt x="10536" y="7821"/>
                  </a:lnTo>
                  <a:lnTo>
                    <a:pt x="10356" y="7838"/>
                  </a:lnTo>
                  <a:lnTo>
                    <a:pt x="10176" y="7838"/>
                  </a:lnTo>
                  <a:lnTo>
                    <a:pt x="10031" y="7832"/>
                  </a:lnTo>
                  <a:lnTo>
                    <a:pt x="9915" y="7815"/>
                  </a:lnTo>
                  <a:lnTo>
                    <a:pt x="9868" y="7781"/>
                  </a:lnTo>
                  <a:lnTo>
                    <a:pt x="9851" y="7747"/>
                  </a:lnTo>
                  <a:lnTo>
                    <a:pt x="9845" y="7715"/>
                  </a:lnTo>
                  <a:lnTo>
                    <a:pt x="9845" y="7681"/>
                  </a:lnTo>
                  <a:lnTo>
                    <a:pt x="9845" y="7647"/>
                  </a:lnTo>
                  <a:lnTo>
                    <a:pt x="9839" y="7613"/>
                  </a:lnTo>
                  <a:lnTo>
                    <a:pt x="9839" y="7580"/>
                  </a:lnTo>
                  <a:lnTo>
                    <a:pt x="9834" y="7551"/>
                  </a:lnTo>
                  <a:lnTo>
                    <a:pt x="9834" y="7534"/>
                  </a:lnTo>
                  <a:lnTo>
                    <a:pt x="9816" y="7580"/>
                  </a:lnTo>
                  <a:lnTo>
                    <a:pt x="9804" y="7630"/>
                  </a:lnTo>
                  <a:lnTo>
                    <a:pt x="9786" y="7686"/>
                  </a:lnTo>
                  <a:lnTo>
                    <a:pt x="9775" y="7742"/>
                  </a:lnTo>
                  <a:lnTo>
                    <a:pt x="9758" y="7793"/>
                  </a:lnTo>
                  <a:lnTo>
                    <a:pt x="9746" y="7849"/>
                  </a:lnTo>
                  <a:lnTo>
                    <a:pt x="9735" y="7899"/>
                  </a:lnTo>
                  <a:lnTo>
                    <a:pt x="9728" y="7950"/>
                  </a:lnTo>
                  <a:lnTo>
                    <a:pt x="9682" y="7945"/>
                  </a:lnTo>
                  <a:lnTo>
                    <a:pt x="9636" y="7939"/>
                  </a:lnTo>
                  <a:lnTo>
                    <a:pt x="9595" y="7933"/>
                  </a:lnTo>
                  <a:lnTo>
                    <a:pt x="9566" y="7933"/>
                  </a:lnTo>
                  <a:lnTo>
                    <a:pt x="9555" y="7933"/>
                  </a:lnTo>
                  <a:lnTo>
                    <a:pt x="9531" y="7939"/>
                  </a:lnTo>
                  <a:lnTo>
                    <a:pt x="9502" y="7933"/>
                  </a:lnTo>
                  <a:lnTo>
                    <a:pt x="9472" y="7933"/>
                  </a:lnTo>
                  <a:lnTo>
                    <a:pt x="9438" y="7911"/>
                  </a:lnTo>
                  <a:lnTo>
                    <a:pt x="9415" y="7882"/>
                  </a:lnTo>
                  <a:lnTo>
                    <a:pt x="9391" y="7843"/>
                  </a:lnTo>
                  <a:lnTo>
                    <a:pt x="9368" y="7821"/>
                  </a:lnTo>
                  <a:lnTo>
                    <a:pt x="9304" y="7781"/>
                  </a:lnTo>
                  <a:lnTo>
                    <a:pt x="9246" y="7754"/>
                  </a:lnTo>
                  <a:lnTo>
                    <a:pt x="9188" y="7720"/>
                  </a:lnTo>
                  <a:lnTo>
                    <a:pt x="9142" y="7681"/>
                  </a:lnTo>
                  <a:lnTo>
                    <a:pt x="9142" y="7658"/>
                  </a:lnTo>
                  <a:lnTo>
                    <a:pt x="9147" y="7619"/>
                  </a:lnTo>
                  <a:lnTo>
                    <a:pt x="9159" y="7563"/>
                  </a:lnTo>
                  <a:lnTo>
                    <a:pt x="9170" y="7501"/>
                  </a:lnTo>
                  <a:lnTo>
                    <a:pt x="9170" y="7433"/>
                  </a:lnTo>
                  <a:lnTo>
                    <a:pt x="9177" y="7366"/>
                  </a:lnTo>
                  <a:lnTo>
                    <a:pt x="9170" y="7298"/>
                  </a:lnTo>
                  <a:lnTo>
                    <a:pt x="9165" y="7254"/>
                  </a:lnTo>
                  <a:lnTo>
                    <a:pt x="9142" y="7225"/>
                  </a:lnTo>
                  <a:lnTo>
                    <a:pt x="9112" y="7208"/>
                  </a:lnTo>
                  <a:lnTo>
                    <a:pt x="9095" y="7191"/>
                  </a:lnTo>
                  <a:lnTo>
                    <a:pt x="9089" y="7180"/>
                  </a:lnTo>
                  <a:lnTo>
                    <a:pt x="9084" y="7158"/>
                  </a:lnTo>
                  <a:lnTo>
                    <a:pt x="9084" y="7135"/>
                  </a:lnTo>
                  <a:lnTo>
                    <a:pt x="9084" y="7068"/>
                  </a:lnTo>
                  <a:lnTo>
                    <a:pt x="9095" y="7006"/>
                  </a:lnTo>
                  <a:lnTo>
                    <a:pt x="9101" y="6933"/>
                  </a:lnTo>
                  <a:lnTo>
                    <a:pt x="9119" y="6859"/>
                  </a:lnTo>
                  <a:lnTo>
                    <a:pt x="9130" y="6781"/>
                  </a:lnTo>
                  <a:lnTo>
                    <a:pt x="9147" y="6707"/>
                  </a:lnTo>
                  <a:lnTo>
                    <a:pt x="9159" y="6634"/>
                  </a:lnTo>
                  <a:lnTo>
                    <a:pt x="9177" y="6573"/>
                  </a:lnTo>
                  <a:lnTo>
                    <a:pt x="9205" y="63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414120" y="4618440"/>
              <a:ext cx="110520" cy="255600"/>
            </a:xfrm>
            <a:custGeom>
              <a:avLst/>
              <a:gdLst/>
              <a:ahLst/>
              <a:rect l="l" t="t" r="r" b="b"/>
              <a:pathLst>
                <a:path w="575" h="1197">
                  <a:moveTo>
                    <a:pt x="291" y="106"/>
                  </a:moveTo>
                  <a:lnTo>
                    <a:pt x="314" y="140"/>
                  </a:lnTo>
                  <a:lnTo>
                    <a:pt x="349" y="157"/>
                  </a:lnTo>
                  <a:lnTo>
                    <a:pt x="390" y="157"/>
                  </a:lnTo>
                  <a:lnTo>
                    <a:pt x="431" y="147"/>
                  </a:lnTo>
                  <a:lnTo>
                    <a:pt x="466" y="118"/>
                  </a:lnTo>
                  <a:lnTo>
                    <a:pt x="506" y="84"/>
                  </a:lnTo>
                  <a:lnTo>
                    <a:pt x="535" y="39"/>
                  </a:lnTo>
                  <a:lnTo>
                    <a:pt x="565" y="0"/>
                  </a:lnTo>
                  <a:lnTo>
                    <a:pt x="565" y="34"/>
                  </a:lnTo>
                  <a:lnTo>
                    <a:pt x="570" y="79"/>
                  </a:lnTo>
                  <a:lnTo>
                    <a:pt x="570" y="118"/>
                  </a:lnTo>
                  <a:lnTo>
                    <a:pt x="575" y="140"/>
                  </a:lnTo>
                  <a:lnTo>
                    <a:pt x="541" y="157"/>
                  </a:lnTo>
                  <a:lnTo>
                    <a:pt x="517" y="186"/>
                  </a:lnTo>
                  <a:lnTo>
                    <a:pt x="494" y="214"/>
                  </a:lnTo>
                  <a:lnTo>
                    <a:pt x="471" y="242"/>
                  </a:lnTo>
                  <a:lnTo>
                    <a:pt x="425" y="275"/>
                  </a:lnTo>
                  <a:lnTo>
                    <a:pt x="384" y="321"/>
                  </a:lnTo>
                  <a:lnTo>
                    <a:pt x="349" y="371"/>
                  </a:lnTo>
                  <a:lnTo>
                    <a:pt x="337" y="427"/>
                  </a:lnTo>
                  <a:lnTo>
                    <a:pt x="332" y="461"/>
                  </a:lnTo>
                  <a:lnTo>
                    <a:pt x="332" y="506"/>
                  </a:lnTo>
                  <a:lnTo>
                    <a:pt x="332" y="545"/>
                  </a:lnTo>
                  <a:lnTo>
                    <a:pt x="337" y="596"/>
                  </a:lnTo>
                  <a:lnTo>
                    <a:pt x="337" y="641"/>
                  </a:lnTo>
                  <a:lnTo>
                    <a:pt x="344" y="686"/>
                  </a:lnTo>
                  <a:lnTo>
                    <a:pt x="344" y="731"/>
                  </a:lnTo>
                  <a:lnTo>
                    <a:pt x="349" y="776"/>
                  </a:lnTo>
                  <a:lnTo>
                    <a:pt x="355" y="776"/>
                  </a:lnTo>
                  <a:lnTo>
                    <a:pt x="378" y="776"/>
                  </a:lnTo>
                  <a:lnTo>
                    <a:pt x="395" y="782"/>
                  </a:lnTo>
                  <a:lnTo>
                    <a:pt x="413" y="787"/>
                  </a:lnTo>
                  <a:lnTo>
                    <a:pt x="413" y="793"/>
                  </a:lnTo>
                  <a:lnTo>
                    <a:pt x="418" y="815"/>
                  </a:lnTo>
                  <a:lnTo>
                    <a:pt x="418" y="832"/>
                  </a:lnTo>
                  <a:lnTo>
                    <a:pt x="413" y="838"/>
                  </a:lnTo>
                  <a:lnTo>
                    <a:pt x="395" y="961"/>
                  </a:lnTo>
                  <a:lnTo>
                    <a:pt x="384" y="1062"/>
                  </a:lnTo>
                  <a:lnTo>
                    <a:pt x="367" y="1124"/>
                  </a:lnTo>
                  <a:lnTo>
                    <a:pt x="344" y="1170"/>
                  </a:lnTo>
                  <a:lnTo>
                    <a:pt x="291" y="1192"/>
                  </a:lnTo>
                  <a:lnTo>
                    <a:pt x="221" y="1197"/>
                  </a:lnTo>
                  <a:lnTo>
                    <a:pt x="129" y="1187"/>
                  </a:lnTo>
                  <a:lnTo>
                    <a:pt x="0" y="1175"/>
                  </a:lnTo>
                  <a:lnTo>
                    <a:pt x="0" y="1119"/>
                  </a:lnTo>
                  <a:lnTo>
                    <a:pt x="7" y="1062"/>
                  </a:lnTo>
                  <a:lnTo>
                    <a:pt x="7" y="1006"/>
                  </a:lnTo>
                  <a:lnTo>
                    <a:pt x="12" y="950"/>
                  </a:lnTo>
                  <a:lnTo>
                    <a:pt x="12" y="888"/>
                  </a:lnTo>
                  <a:lnTo>
                    <a:pt x="12" y="832"/>
                  </a:lnTo>
                  <a:lnTo>
                    <a:pt x="18" y="770"/>
                  </a:lnTo>
                  <a:lnTo>
                    <a:pt x="30" y="719"/>
                  </a:lnTo>
                  <a:lnTo>
                    <a:pt x="65" y="714"/>
                  </a:lnTo>
                  <a:lnTo>
                    <a:pt x="99" y="709"/>
                  </a:lnTo>
                  <a:lnTo>
                    <a:pt x="81" y="608"/>
                  </a:lnTo>
                  <a:lnTo>
                    <a:pt x="76" y="523"/>
                  </a:lnTo>
                  <a:lnTo>
                    <a:pt x="76" y="439"/>
                  </a:lnTo>
                  <a:lnTo>
                    <a:pt x="88" y="371"/>
                  </a:lnTo>
                  <a:lnTo>
                    <a:pt x="99" y="297"/>
                  </a:lnTo>
                  <a:lnTo>
                    <a:pt x="122" y="236"/>
                  </a:lnTo>
                  <a:lnTo>
                    <a:pt x="157" y="174"/>
                  </a:lnTo>
                  <a:lnTo>
                    <a:pt x="198" y="118"/>
                  </a:lnTo>
                  <a:lnTo>
                    <a:pt x="291" y="106"/>
                  </a:lnTo>
                  <a:close/>
                </a:path>
              </a:pathLst>
            </a:custGeom>
            <a:solidFill>
              <a:srgbClr val="66ff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22400" y="4305240"/>
              <a:ext cx="184320" cy="280440"/>
            </a:xfrm>
            <a:custGeom>
              <a:avLst/>
              <a:gdLst/>
              <a:ahLst/>
              <a:rect l="l" t="t" r="r" b="b"/>
              <a:pathLst>
                <a:path w="947" h="1310">
                  <a:moveTo>
                    <a:pt x="412" y="0"/>
                  </a:moveTo>
                  <a:lnTo>
                    <a:pt x="243" y="79"/>
                  </a:lnTo>
                  <a:lnTo>
                    <a:pt x="116" y="253"/>
                  </a:lnTo>
                  <a:lnTo>
                    <a:pt x="28" y="477"/>
                  </a:lnTo>
                  <a:lnTo>
                    <a:pt x="0" y="731"/>
                  </a:lnTo>
                  <a:lnTo>
                    <a:pt x="17" y="967"/>
                  </a:lnTo>
                  <a:lnTo>
                    <a:pt x="110" y="1163"/>
                  </a:lnTo>
                  <a:lnTo>
                    <a:pt x="266" y="1288"/>
                  </a:lnTo>
                  <a:lnTo>
                    <a:pt x="517" y="1310"/>
                  </a:lnTo>
                  <a:lnTo>
                    <a:pt x="732" y="1214"/>
                  </a:lnTo>
                  <a:lnTo>
                    <a:pt x="877" y="1040"/>
                  </a:lnTo>
                  <a:lnTo>
                    <a:pt x="941" y="809"/>
                  </a:lnTo>
                  <a:lnTo>
                    <a:pt x="947" y="567"/>
                  </a:lnTo>
                  <a:lnTo>
                    <a:pt x="883" y="331"/>
                  </a:lnTo>
                  <a:lnTo>
                    <a:pt x="773" y="140"/>
                  </a:lnTo>
                  <a:lnTo>
                    <a:pt x="610" y="16"/>
                  </a:lnTo>
                  <a:lnTo>
                    <a:pt x="412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868880" y="4522680"/>
              <a:ext cx="127080" cy="230400"/>
            </a:xfrm>
            <a:custGeom>
              <a:avLst/>
              <a:gdLst/>
              <a:ahLst/>
              <a:rect l="l" t="t" r="r" b="b"/>
              <a:pathLst>
                <a:path w="651" h="1080">
                  <a:moveTo>
                    <a:pt x="390" y="0"/>
                  </a:moveTo>
                  <a:lnTo>
                    <a:pt x="215" y="45"/>
                  </a:lnTo>
                  <a:lnTo>
                    <a:pt x="99" y="158"/>
                  </a:lnTo>
                  <a:lnTo>
                    <a:pt x="24" y="310"/>
                  </a:lnTo>
                  <a:lnTo>
                    <a:pt x="0" y="495"/>
                  </a:lnTo>
                  <a:lnTo>
                    <a:pt x="0" y="675"/>
                  </a:lnTo>
                  <a:lnTo>
                    <a:pt x="53" y="849"/>
                  </a:lnTo>
                  <a:lnTo>
                    <a:pt x="129" y="990"/>
                  </a:lnTo>
                  <a:lnTo>
                    <a:pt x="245" y="1080"/>
                  </a:lnTo>
                  <a:lnTo>
                    <a:pt x="256" y="1080"/>
                  </a:lnTo>
                  <a:lnTo>
                    <a:pt x="274" y="1080"/>
                  </a:lnTo>
                  <a:lnTo>
                    <a:pt x="286" y="1080"/>
                  </a:lnTo>
                  <a:lnTo>
                    <a:pt x="297" y="1080"/>
                  </a:lnTo>
                  <a:lnTo>
                    <a:pt x="448" y="1029"/>
                  </a:lnTo>
                  <a:lnTo>
                    <a:pt x="558" y="906"/>
                  </a:lnTo>
                  <a:lnTo>
                    <a:pt x="623" y="725"/>
                  </a:lnTo>
                  <a:lnTo>
                    <a:pt x="651" y="529"/>
                  </a:lnTo>
                  <a:lnTo>
                    <a:pt x="634" y="326"/>
                  </a:lnTo>
                  <a:lnTo>
                    <a:pt x="588" y="158"/>
                  </a:lnTo>
                  <a:lnTo>
                    <a:pt x="501" y="34"/>
                  </a:lnTo>
                  <a:lnTo>
                    <a:pt x="390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570440" y="4539600"/>
              <a:ext cx="121320" cy="199800"/>
            </a:xfrm>
            <a:custGeom>
              <a:avLst/>
              <a:gdLst/>
              <a:ahLst/>
              <a:rect l="l" t="t" r="r" b="b"/>
              <a:pathLst>
                <a:path w="622" h="938">
                  <a:moveTo>
                    <a:pt x="325" y="0"/>
                  </a:moveTo>
                  <a:lnTo>
                    <a:pt x="221" y="50"/>
                  </a:lnTo>
                  <a:lnTo>
                    <a:pt x="129" y="175"/>
                  </a:lnTo>
                  <a:lnTo>
                    <a:pt x="46" y="332"/>
                  </a:lnTo>
                  <a:lnTo>
                    <a:pt x="6" y="511"/>
                  </a:lnTo>
                  <a:lnTo>
                    <a:pt x="0" y="680"/>
                  </a:lnTo>
                  <a:lnTo>
                    <a:pt x="46" y="827"/>
                  </a:lnTo>
                  <a:lnTo>
                    <a:pt x="152" y="916"/>
                  </a:lnTo>
                  <a:lnTo>
                    <a:pt x="337" y="938"/>
                  </a:lnTo>
                  <a:lnTo>
                    <a:pt x="466" y="877"/>
                  </a:lnTo>
                  <a:lnTo>
                    <a:pt x="558" y="753"/>
                  </a:lnTo>
                  <a:lnTo>
                    <a:pt x="605" y="590"/>
                  </a:lnTo>
                  <a:lnTo>
                    <a:pt x="622" y="416"/>
                  </a:lnTo>
                  <a:lnTo>
                    <a:pt x="593" y="241"/>
                  </a:lnTo>
                  <a:lnTo>
                    <a:pt x="541" y="101"/>
                  </a:lnTo>
                  <a:lnTo>
                    <a:pt x="448" y="11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823800" y="4551840"/>
              <a:ext cx="74520" cy="124200"/>
            </a:xfrm>
            <a:custGeom>
              <a:avLst/>
              <a:gdLst/>
              <a:ahLst/>
              <a:rect l="l" t="t" r="r" b="b"/>
              <a:pathLst>
                <a:path w="384" h="579">
                  <a:moveTo>
                    <a:pt x="209" y="0"/>
                  </a:moveTo>
                  <a:lnTo>
                    <a:pt x="133" y="22"/>
                  </a:lnTo>
                  <a:lnTo>
                    <a:pt x="70" y="90"/>
                  </a:lnTo>
                  <a:lnTo>
                    <a:pt x="24" y="174"/>
                  </a:lnTo>
                  <a:lnTo>
                    <a:pt x="6" y="280"/>
                  </a:lnTo>
                  <a:lnTo>
                    <a:pt x="0" y="382"/>
                  </a:lnTo>
                  <a:lnTo>
                    <a:pt x="24" y="478"/>
                  </a:lnTo>
                  <a:lnTo>
                    <a:pt x="75" y="545"/>
                  </a:lnTo>
                  <a:lnTo>
                    <a:pt x="168" y="579"/>
                  </a:lnTo>
                  <a:lnTo>
                    <a:pt x="239" y="551"/>
                  </a:lnTo>
                  <a:lnTo>
                    <a:pt x="302" y="489"/>
                  </a:lnTo>
                  <a:lnTo>
                    <a:pt x="349" y="393"/>
                  </a:lnTo>
                  <a:lnTo>
                    <a:pt x="384" y="287"/>
                  </a:lnTo>
                  <a:lnTo>
                    <a:pt x="384" y="174"/>
                  </a:lnTo>
                  <a:lnTo>
                    <a:pt x="361" y="84"/>
                  </a:lnTo>
                  <a:lnTo>
                    <a:pt x="302" y="17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e3b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958000" y="4564440"/>
              <a:ext cx="279720" cy="309600"/>
            </a:xfrm>
            <a:custGeom>
              <a:avLst/>
              <a:gdLst/>
              <a:ahLst/>
              <a:rect l="l" t="t" r="r" b="b"/>
              <a:pathLst>
                <a:path w="1442" h="1450">
                  <a:moveTo>
                    <a:pt x="541" y="0"/>
                  </a:moveTo>
                  <a:lnTo>
                    <a:pt x="564" y="17"/>
                  </a:lnTo>
                  <a:lnTo>
                    <a:pt x="588" y="45"/>
                  </a:lnTo>
                  <a:lnTo>
                    <a:pt x="599" y="79"/>
                  </a:lnTo>
                  <a:lnTo>
                    <a:pt x="611" y="118"/>
                  </a:lnTo>
                  <a:lnTo>
                    <a:pt x="616" y="157"/>
                  </a:lnTo>
                  <a:lnTo>
                    <a:pt x="623" y="202"/>
                  </a:lnTo>
                  <a:lnTo>
                    <a:pt x="623" y="248"/>
                  </a:lnTo>
                  <a:lnTo>
                    <a:pt x="640" y="292"/>
                  </a:lnTo>
                  <a:lnTo>
                    <a:pt x="669" y="219"/>
                  </a:lnTo>
                  <a:lnTo>
                    <a:pt x="704" y="163"/>
                  </a:lnTo>
                  <a:lnTo>
                    <a:pt x="750" y="123"/>
                  </a:lnTo>
                  <a:lnTo>
                    <a:pt x="803" y="96"/>
                  </a:lnTo>
                  <a:lnTo>
                    <a:pt x="854" y="67"/>
                  </a:lnTo>
                  <a:lnTo>
                    <a:pt x="907" y="50"/>
                  </a:lnTo>
                  <a:lnTo>
                    <a:pt x="960" y="28"/>
                  </a:lnTo>
                  <a:lnTo>
                    <a:pt x="1011" y="11"/>
                  </a:lnTo>
                  <a:lnTo>
                    <a:pt x="1034" y="34"/>
                  </a:lnTo>
                  <a:lnTo>
                    <a:pt x="1064" y="62"/>
                  </a:lnTo>
                  <a:lnTo>
                    <a:pt x="1082" y="96"/>
                  </a:lnTo>
                  <a:lnTo>
                    <a:pt x="1105" y="135"/>
                  </a:lnTo>
                  <a:lnTo>
                    <a:pt x="1174" y="62"/>
                  </a:lnTo>
                  <a:lnTo>
                    <a:pt x="1232" y="50"/>
                  </a:lnTo>
                  <a:lnTo>
                    <a:pt x="1267" y="84"/>
                  </a:lnTo>
                  <a:lnTo>
                    <a:pt x="1297" y="157"/>
                  </a:lnTo>
                  <a:lnTo>
                    <a:pt x="1308" y="236"/>
                  </a:lnTo>
                  <a:lnTo>
                    <a:pt x="1313" y="320"/>
                  </a:lnTo>
                  <a:lnTo>
                    <a:pt x="1320" y="388"/>
                  </a:lnTo>
                  <a:lnTo>
                    <a:pt x="1331" y="433"/>
                  </a:lnTo>
                  <a:lnTo>
                    <a:pt x="1343" y="461"/>
                  </a:lnTo>
                  <a:lnTo>
                    <a:pt x="1378" y="506"/>
                  </a:lnTo>
                  <a:lnTo>
                    <a:pt x="1407" y="550"/>
                  </a:lnTo>
                  <a:lnTo>
                    <a:pt x="1430" y="601"/>
                  </a:lnTo>
                  <a:lnTo>
                    <a:pt x="1419" y="641"/>
                  </a:lnTo>
                  <a:lnTo>
                    <a:pt x="1407" y="675"/>
                  </a:lnTo>
                  <a:lnTo>
                    <a:pt x="1384" y="702"/>
                  </a:lnTo>
                  <a:lnTo>
                    <a:pt x="1372" y="731"/>
                  </a:lnTo>
                  <a:lnTo>
                    <a:pt x="1366" y="753"/>
                  </a:lnTo>
                  <a:lnTo>
                    <a:pt x="1372" y="787"/>
                  </a:lnTo>
                  <a:lnTo>
                    <a:pt x="1378" y="827"/>
                  </a:lnTo>
                  <a:lnTo>
                    <a:pt x="1389" y="866"/>
                  </a:lnTo>
                  <a:lnTo>
                    <a:pt x="1401" y="900"/>
                  </a:lnTo>
                  <a:lnTo>
                    <a:pt x="1412" y="939"/>
                  </a:lnTo>
                  <a:lnTo>
                    <a:pt x="1419" y="967"/>
                  </a:lnTo>
                  <a:lnTo>
                    <a:pt x="1430" y="1001"/>
                  </a:lnTo>
                  <a:lnTo>
                    <a:pt x="1436" y="1063"/>
                  </a:lnTo>
                  <a:lnTo>
                    <a:pt x="1442" y="1124"/>
                  </a:lnTo>
                  <a:lnTo>
                    <a:pt x="1436" y="1187"/>
                  </a:lnTo>
                  <a:lnTo>
                    <a:pt x="1436" y="1254"/>
                  </a:lnTo>
                  <a:lnTo>
                    <a:pt x="1419" y="1310"/>
                  </a:lnTo>
                  <a:lnTo>
                    <a:pt x="1396" y="1361"/>
                  </a:lnTo>
                  <a:lnTo>
                    <a:pt x="1361" y="1394"/>
                  </a:lnTo>
                  <a:lnTo>
                    <a:pt x="1320" y="1428"/>
                  </a:lnTo>
                  <a:lnTo>
                    <a:pt x="1267" y="1433"/>
                  </a:lnTo>
                  <a:lnTo>
                    <a:pt x="1204" y="1445"/>
                  </a:lnTo>
                  <a:lnTo>
                    <a:pt x="1133" y="1445"/>
                  </a:lnTo>
                  <a:lnTo>
                    <a:pt x="1059" y="1450"/>
                  </a:lnTo>
                  <a:lnTo>
                    <a:pt x="977" y="1445"/>
                  </a:lnTo>
                  <a:lnTo>
                    <a:pt x="907" y="1440"/>
                  </a:lnTo>
                  <a:lnTo>
                    <a:pt x="837" y="1423"/>
                  </a:lnTo>
                  <a:lnTo>
                    <a:pt x="791" y="1411"/>
                  </a:lnTo>
                  <a:lnTo>
                    <a:pt x="762" y="1400"/>
                  </a:lnTo>
                  <a:lnTo>
                    <a:pt x="732" y="1389"/>
                  </a:lnTo>
                  <a:lnTo>
                    <a:pt x="704" y="1372"/>
                  </a:lnTo>
                  <a:lnTo>
                    <a:pt x="692" y="1361"/>
                  </a:lnTo>
                  <a:lnTo>
                    <a:pt x="681" y="1310"/>
                  </a:lnTo>
                  <a:lnTo>
                    <a:pt x="686" y="1271"/>
                  </a:lnTo>
                  <a:lnTo>
                    <a:pt x="692" y="1226"/>
                  </a:lnTo>
                  <a:lnTo>
                    <a:pt x="709" y="1192"/>
                  </a:lnTo>
                  <a:lnTo>
                    <a:pt x="721" y="1146"/>
                  </a:lnTo>
                  <a:lnTo>
                    <a:pt x="732" y="1107"/>
                  </a:lnTo>
                  <a:lnTo>
                    <a:pt x="739" y="1068"/>
                  </a:lnTo>
                  <a:lnTo>
                    <a:pt x="745" y="1029"/>
                  </a:lnTo>
                  <a:lnTo>
                    <a:pt x="732" y="989"/>
                  </a:lnTo>
                  <a:lnTo>
                    <a:pt x="721" y="956"/>
                  </a:lnTo>
                  <a:lnTo>
                    <a:pt x="704" y="922"/>
                  </a:lnTo>
                  <a:lnTo>
                    <a:pt x="692" y="888"/>
                  </a:lnTo>
                  <a:lnTo>
                    <a:pt x="674" y="849"/>
                  </a:lnTo>
                  <a:lnTo>
                    <a:pt x="657" y="815"/>
                  </a:lnTo>
                  <a:lnTo>
                    <a:pt x="640" y="776"/>
                  </a:lnTo>
                  <a:lnTo>
                    <a:pt x="628" y="742"/>
                  </a:lnTo>
                  <a:lnTo>
                    <a:pt x="535" y="736"/>
                  </a:lnTo>
                  <a:lnTo>
                    <a:pt x="459" y="736"/>
                  </a:lnTo>
                  <a:lnTo>
                    <a:pt x="384" y="726"/>
                  </a:lnTo>
                  <a:lnTo>
                    <a:pt x="314" y="714"/>
                  </a:lnTo>
                  <a:lnTo>
                    <a:pt x="245" y="692"/>
                  </a:lnTo>
                  <a:lnTo>
                    <a:pt x="175" y="675"/>
                  </a:lnTo>
                  <a:lnTo>
                    <a:pt x="99" y="658"/>
                  </a:lnTo>
                  <a:lnTo>
                    <a:pt x="30" y="641"/>
                  </a:lnTo>
                  <a:lnTo>
                    <a:pt x="18" y="579"/>
                  </a:lnTo>
                  <a:lnTo>
                    <a:pt x="12" y="523"/>
                  </a:lnTo>
                  <a:lnTo>
                    <a:pt x="0" y="467"/>
                  </a:lnTo>
                  <a:lnTo>
                    <a:pt x="0" y="410"/>
                  </a:lnTo>
                  <a:lnTo>
                    <a:pt x="7" y="388"/>
                  </a:lnTo>
                  <a:lnTo>
                    <a:pt x="23" y="343"/>
                  </a:lnTo>
                  <a:lnTo>
                    <a:pt x="41" y="287"/>
                  </a:lnTo>
                  <a:lnTo>
                    <a:pt x="58" y="258"/>
                  </a:lnTo>
                  <a:lnTo>
                    <a:pt x="58" y="208"/>
                  </a:lnTo>
                  <a:lnTo>
                    <a:pt x="58" y="174"/>
                  </a:lnTo>
                  <a:lnTo>
                    <a:pt x="58" y="140"/>
                  </a:lnTo>
                  <a:lnTo>
                    <a:pt x="58" y="123"/>
                  </a:lnTo>
                  <a:lnTo>
                    <a:pt x="58" y="101"/>
                  </a:lnTo>
                  <a:lnTo>
                    <a:pt x="81" y="84"/>
                  </a:lnTo>
                  <a:lnTo>
                    <a:pt x="116" y="74"/>
                  </a:lnTo>
                  <a:lnTo>
                    <a:pt x="175" y="62"/>
                  </a:lnTo>
                  <a:lnTo>
                    <a:pt x="198" y="101"/>
                  </a:lnTo>
                  <a:lnTo>
                    <a:pt x="221" y="169"/>
                  </a:lnTo>
                  <a:lnTo>
                    <a:pt x="238" y="241"/>
                  </a:lnTo>
                  <a:lnTo>
                    <a:pt x="256" y="332"/>
                  </a:lnTo>
                  <a:lnTo>
                    <a:pt x="261" y="416"/>
                  </a:lnTo>
                  <a:lnTo>
                    <a:pt x="274" y="511"/>
                  </a:lnTo>
                  <a:lnTo>
                    <a:pt x="279" y="596"/>
                  </a:lnTo>
                  <a:lnTo>
                    <a:pt x="291" y="675"/>
                  </a:lnTo>
                  <a:lnTo>
                    <a:pt x="291" y="646"/>
                  </a:lnTo>
                  <a:lnTo>
                    <a:pt x="309" y="601"/>
                  </a:lnTo>
                  <a:lnTo>
                    <a:pt x="326" y="540"/>
                  </a:lnTo>
                  <a:lnTo>
                    <a:pt x="344" y="478"/>
                  </a:lnTo>
                  <a:lnTo>
                    <a:pt x="355" y="410"/>
                  </a:lnTo>
                  <a:lnTo>
                    <a:pt x="372" y="349"/>
                  </a:lnTo>
                  <a:lnTo>
                    <a:pt x="384" y="304"/>
                  </a:lnTo>
                  <a:lnTo>
                    <a:pt x="402" y="287"/>
                  </a:lnTo>
                  <a:lnTo>
                    <a:pt x="425" y="236"/>
                  </a:lnTo>
                  <a:lnTo>
                    <a:pt x="431" y="197"/>
                  </a:lnTo>
                  <a:lnTo>
                    <a:pt x="431" y="169"/>
                  </a:lnTo>
                  <a:lnTo>
                    <a:pt x="431" y="146"/>
                  </a:lnTo>
                  <a:lnTo>
                    <a:pt x="431" y="106"/>
                  </a:lnTo>
                  <a:lnTo>
                    <a:pt x="443" y="74"/>
                  </a:lnTo>
                  <a:lnTo>
                    <a:pt x="448" y="40"/>
                  </a:lnTo>
                  <a:lnTo>
                    <a:pt x="477" y="28"/>
                  </a:lnTo>
                  <a:lnTo>
                    <a:pt x="506" y="11"/>
                  </a:lnTo>
                  <a:lnTo>
                    <a:pt x="5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41320" y="4561200"/>
              <a:ext cx="102600" cy="321120"/>
            </a:xfrm>
            <a:custGeom>
              <a:avLst/>
              <a:gdLst/>
              <a:ahLst/>
              <a:rect l="l" t="t" r="r" b="b"/>
              <a:pathLst>
                <a:path w="528" h="1501">
                  <a:moveTo>
                    <a:pt x="87" y="410"/>
                  </a:moveTo>
                  <a:lnTo>
                    <a:pt x="70" y="383"/>
                  </a:lnTo>
                  <a:lnTo>
                    <a:pt x="41" y="332"/>
                  </a:lnTo>
                  <a:lnTo>
                    <a:pt x="23" y="298"/>
                  </a:lnTo>
                  <a:lnTo>
                    <a:pt x="11" y="265"/>
                  </a:lnTo>
                  <a:lnTo>
                    <a:pt x="0" y="236"/>
                  </a:lnTo>
                  <a:lnTo>
                    <a:pt x="6" y="219"/>
                  </a:lnTo>
                  <a:lnTo>
                    <a:pt x="6" y="186"/>
                  </a:lnTo>
                  <a:lnTo>
                    <a:pt x="23" y="152"/>
                  </a:lnTo>
                  <a:lnTo>
                    <a:pt x="41" y="118"/>
                  </a:lnTo>
                  <a:lnTo>
                    <a:pt x="70" y="84"/>
                  </a:lnTo>
                  <a:lnTo>
                    <a:pt x="93" y="51"/>
                  </a:lnTo>
                  <a:lnTo>
                    <a:pt x="122" y="23"/>
                  </a:lnTo>
                  <a:lnTo>
                    <a:pt x="151" y="6"/>
                  </a:lnTo>
                  <a:lnTo>
                    <a:pt x="180" y="0"/>
                  </a:lnTo>
                  <a:lnTo>
                    <a:pt x="244" y="0"/>
                  </a:lnTo>
                  <a:lnTo>
                    <a:pt x="302" y="40"/>
                  </a:lnTo>
                  <a:lnTo>
                    <a:pt x="343" y="96"/>
                  </a:lnTo>
                  <a:lnTo>
                    <a:pt x="378" y="174"/>
                  </a:lnTo>
                  <a:lnTo>
                    <a:pt x="389" y="248"/>
                  </a:lnTo>
                  <a:lnTo>
                    <a:pt x="384" y="326"/>
                  </a:lnTo>
                  <a:lnTo>
                    <a:pt x="360" y="376"/>
                  </a:lnTo>
                  <a:lnTo>
                    <a:pt x="325" y="410"/>
                  </a:lnTo>
                  <a:lnTo>
                    <a:pt x="279" y="410"/>
                  </a:lnTo>
                  <a:lnTo>
                    <a:pt x="256" y="400"/>
                  </a:lnTo>
                  <a:lnTo>
                    <a:pt x="221" y="383"/>
                  </a:lnTo>
                  <a:lnTo>
                    <a:pt x="175" y="376"/>
                  </a:lnTo>
                  <a:lnTo>
                    <a:pt x="256" y="478"/>
                  </a:lnTo>
                  <a:lnTo>
                    <a:pt x="262" y="495"/>
                  </a:lnTo>
                  <a:lnTo>
                    <a:pt x="274" y="523"/>
                  </a:lnTo>
                  <a:lnTo>
                    <a:pt x="285" y="557"/>
                  </a:lnTo>
                  <a:lnTo>
                    <a:pt x="302" y="601"/>
                  </a:lnTo>
                  <a:lnTo>
                    <a:pt x="320" y="652"/>
                  </a:lnTo>
                  <a:lnTo>
                    <a:pt x="348" y="702"/>
                  </a:lnTo>
                  <a:lnTo>
                    <a:pt x="373" y="743"/>
                  </a:lnTo>
                  <a:lnTo>
                    <a:pt x="384" y="759"/>
                  </a:lnTo>
                  <a:lnTo>
                    <a:pt x="413" y="753"/>
                  </a:lnTo>
                  <a:lnTo>
                    <a:pt x="436" y="759"/>
                  </a:lnTo>
                  <a:lnTo>
                    <a:pt x="454" y="759"/>
                  </a:lnTo>
                  <a:lnTo>
                    <a:pt x="471" y="776"/>
                  </a:lnTo>
                  <a:lnTo>
                    <a:pt x="494" y="804"/>
                  </a:lnTo>
                  <a:lnTo>
                    <a:pt x="528" y="849"/>
                  </a:lnTo>
                  <a:lnTo>
                    <a:pt x="512" y="878"/>
                  </a:lnTo>
                  <a:lnTo>
                    <a:pt x="500" y="905"/>
                  </a:lnTo>
                  <a:lnTo>
                    <a:pt x="482" y="922"/>
                  </a:lnTo>
                  <a:lnTo>
                    <a:pt x="477" y="945"/>
                  </a:lnTo>
                  <a:lnTo>
                    <a:pt x="454" y="956"/>
                  </a:lnTo>
                  <a:lnTo>
                    <a:pt x="430" y="967"/>
                  </a:lnTo>
                  <a:lnTo>
                    <a:pt x="396" y="973"/>
                  </a:lnTo>
                  <a:lnTo>
                    <a:pt x="355" y="979"/>
                  </a:lnTo>
                  <a:lnTo>
                    <a:pt x="360" y="1046"/>
                  </a:lnTo>
                  <a:lnTo>
                    <a:pt x="366" y="1114"/>
                  </a:lnTo>
                  <a:lnTo>
                    <a:pt x="366" y="1180"/>
                  </a:lnTo>
                  <a:lnTo>
                    <a:pt x="378" y="1248"/>
                  </a:lnTo>
                  <a:lnTo>
                    <a:pt x="389" y="1305"/>
                  </a:lnTo>
                  <a:lnTo>
                    <a:pt x="407" y="1366"/>
                  </a:lnTo>
                  <a:lnTo>
                    <a:pt x="424" y="1417"/>
                  </a:lnTo>
                  <a:lnTo>
                    <a:pt x="459" y="1467"/>
                  </a:lnTo>
                  <a:lnTo>
                    <a:pt x="401" y="1479"/>
                  </a:lnTo>
                  <a:lnTo>
                    <a:pt x="343" y="1490"/>
                  </a:lnTo>
                  <a:lnTo>
                    <a:pt x="285" y="1496"/>
                  </a:lnTo>
                  <a:lnTo>
                    <a:pt x="233" y="1501"/>
                  </a:lnTo>
                  <a:lnTo>
                    <a:pt x="175" y="1496"/>
                  </a:lnTo>
                  <a:lnTo>
                    <a:pt x="122" y="1496"/>
                  </a:lnTo>
                  <a:lnTo>
                    <a:pt x="70" y="1479"/>
                  </a:lnTo>
                  <a:lnTo>
                    <a:pt x="23" y="1467"/>
                  </a:lnTo>
                  <a:lnTo>
                    <a:pt x="18" y="1400"/>
                  </a:lnTo>
                  <a:lnTo>
                    <a:pt x="23" y="1332"/>
                  </a:lnTo>
                  <a:lnTo>
                    <a:pt x="29" y="1265"/>
                  </a:lnTo>
                  <a:lnTo>
                    <a:pt x="46" y="1204"/>
                  </a:lnTo>
                  <a:lnTo>
                    <a:pt x="59" y="1136"/>
                  </a:lnTo>
                  <a:lnTo>
                    <a:pt x="70" y="1069"/>
                  </a:lnTo>
                  <a:lnTo>
                    <a:pt x="70" y="1001"/>
                  </a:lnTo>
                  <a:lnTo>
                    <a:pt x="76" y="939"/>
                  </a:lnTo>
                  <a:lnTo>
                    <a:pt x="64" y="883"/>
                  </a:lnTo>
                  <a:lnTo>
                    <a:pt x="52" y="832"/>
                  </a:lnTo>
                  <a:lnTo>
                    <a:pt x="41" y="782"/>
                  </a:lnTo>
                  <a:lnTo>
                    <a:pt x="35" y="731"/>
                  </a:lnTo>
                  <a:lnTo>
                    <a:pt x="23" y="680"/>
                  </a:lnTo>
                  <a:lnTo>
                    <a:pt x="23" y="630"/>
                  </a:lnTo>
                  <a:lnTo>
                    <a:pt x="23" y="579"/>
                  </a:lnTo>
                  <a:lnTo>
                    <a:pt x="46" y="528"/>
                  </a:lnTo>
                  <a:lnTo>
                    <a:pt x="52" y="501"/>
                  </a:lnTo>
                  <a:lnTo>
                    <a:pt x="70" y="456"/>
                  </a:lnTo>
                  <a:lnTo>
                    <a:pt x="87" y="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53200" y="4654800"/>
              <a:ext cx="73080" cy="219240"/>
            </a:xfrm>
            <a:custGeom>
              <a:avLst/>
              <a:gdLst/>
              <a:ahLst/>
              <a:rect l="l" t="t" r="r" b="b"/>
              <a:pathLst>
                <a:path w="377" h="1028">
                  <a:moveTo>
                    <a:pt x="58" y="5"/>
                  </a:moveTo>
                  <a:lnTo>
                    <a:pt x="40" y="62"/>
                  </a:lnTo>
                  <a:lnTo>
                    <a:pt x="28" y="118"/>
                  </a:lnTo>
                  <a:lnTo>
                    <a:pt x="17" y="168"/>
                  </a:lnTo>
                  <a:lnTo>
                    <a:pt x="17" y="224"/>
                  </a:lnTo>
                  <a:lnTo>
                    <a:pt x="17" y="275"/>
                  </a:lnTo>
                  <a:lnTo>
                    <a:pt x="23" y="331"/>
                  </a:lnTo>
                  <a:lnTo>
                    <a:pt x="34" y="382"/>
                  </a:lnTo>
                  <a:lnTo>
                    <a:pt x="51" y="449"/>
                  </a:lnTo>
                  <a:lnTo>
                    <a:pt x="51" y="466"/>
                  </a:lnTo>
                  <a:lnTo>
                    <a:pt x="58" y="500"/>
                  </a:lnTo>
                  <a:lnTo>
                    <a:pt x="63" y="523"/>
                  </a:lnTo>
                  <a:lnTo>
                    <a:pt x="69" y="540"/>
                  </a:lnTo>
                  <a:lnTo>
                    <a:pt x="58" y="550"/>
                  </a:lnTo>
                  <a:lnTo>
                    <a:pt x="46" y="596"/>
                  </a:lnTo>
                  <a:lnTo>
                    <a:pt x="34" y="658"/>
                  </a:lnTo>
                  <a:lnTo>
                    <a:pt x="28" y="731"/>
                  </a:lnTo>
                  <a:lnTo>
                    <a:pt x="11" y="804"/>
                  </a:lnTo>
                  <a:lnTo>
                    <a:pt x="5" y="876"/>
                  </a:lnTo>
                  <a:lnTo>
                    <a:pt x="0" y="933"/>
                  </a:lnTo>
                  <a:lnTo>
                    <a:pt x="0" y="978"/>
                  </a:lnTo>
                  <a:lnTo>
                    <a:pt x="17" y="989"/>
                  </a:lnTo>
                  <a:lnTo>
                    <a:pt x="46" y="1001"/>
                  </a:lnTo>
                  <a:lnTo>
                    <a:pt x="75" y="1011"/>
                  </a:lnTo>
                  <a:lnTo>
                    <a:pt x="98" y="1028"/>
                  </a:lnTo>
                  <a:lnTo>
                    <a:pt x="150" y="1028"/>
                  </a:lnTo>
                  <a:lnTo>
                    <a:pt x="208" y="1023"/>
                  </a:lnTo>
                  <a:lnTo>
                    <a:pt x="255" y="1011"/>
                  </a:lnTo>
                  <a:lnTo>
                    <a:pt x="307" y="1006"/>
                  </a:lnTo>
                  <a:lnTo>
                    <a:pt x="289" y="933"/>
                  </a:lnTo>
                  <a:lnTo>
                    <a:pt x="284" y="859"/>
                  </a:lnTo>
                  <a:lnTo>
                    <a:pt x="278" y="781"/>
                  </a:lnTo>
                  <a:lnTo>
                    <a:pt x="272" y="714"/>
                  </a:lnTo>
                  <a:lnTo>
                    <a:pt x="255" y="641"/>
                  </a:lnTo>
                  <a:lnTo>
                    <a:pt x="238" y="584"/>
                  </a:lnTo>
                  <a:lnTo>
                    <a:pt x="197" y="534"/>
                  </a:lnTo>
                  <a:lnTo>
                    <a:pt x="150" y="511"/>
                  </a:lnTo>
                  <a:lnTo>
                    <a:pt x="162" y="461"/>
                  </a:lnTo>
                  <a:lnTo>
                    <a:pt x="203" y="461"/>
                  </a:lnTo>
                  <a:lnTo>
                    <a:pt x="249" y="466"/>
                  </a:lnTo>
                  <a:lnTo>
                    <a:pt x="284" y="472"/>
                  </a:lnTo>
                  <a:lnTo>
                    <a:pt x="307" y="478"/>
                  </a:lnTo>
                  <a:lnTo>
                    <a:pt x="342" y="461"/>
                  </a:lnTo>
                  <a:lnTo>
                    <a:pt x="360" y="455"/>
                  </a:lnTo>
                  <a:lnTo>
                    <a:pt x="360" y="444"/>
                  </a:lnTo>
                  <a:lnTo>
                    <a:pt x="365" y="427"/>
                  </a:lnTo>
                  <a:lnTo>
                    <a:pt x="365" y="405"/>
                  </a:lnTo>
                  <a:lnTo>
                    <a:pt x="377" y="371"/>
                  </a:lnTo>
                  <a:lnTo>
                    <a:pt x="337" y="371"/>
                  </a:lnTo>
                  <a:lnTo>
                    <a:pt x="296" y="376"/>
                  </a:lnTo>
                  <a:lnTo>
                    <a:pt x="255" y="382"/>
                  </a:lnTo>
                  <a:lnTo>
                    <a:pt x="215" y="388"/>
                  </a:lnTo>
                  <a:lnTo>
                    <a:pt x="203" y="382"/>
                  </a:lnTo>
                  <a:lnTo>
                    <a:pt x="191" y="382"/>
                  </a:lnTo>
                  <a:lnTo>
                    <a:pt x="162" y="376"/>
                  </a:lnTo>
                  <a:lnTo>
                    <a:pt x="132" y="371"/>
                  </a:lnTo>
                  <a:lnTo>
                    <a:pt x="121" y="314"/>
                  </a:lnTo>
                  <a:lnTo>
                    <a:pt x="116" y="263"/>
                  </a:lnTo>
                  <a:lnTo>
                    <a:pt x="116" y="219"/>
                  </a:lnTo>
                  <a:lnTo>
                    <a:pt x="121" y="196"/>
                  </a:lnTo>
                  <a:lnTo>
                    <a:pt x="121" y="179"/>
                  </a:lnTo>
                  <a:lnTo>
                    <a:pt x="127" y="191"/>
                  </a:lnTo>
                  <a:lnTo>
                    <a:pt x="139" y="230"/>
                  </a:lnTo>
                  <a:lnTo>
                    <a:pt x="162" y="309"/>
                  </a:lnTo>
                  <a:lnTo>
                    <a:pt x="180" y="320"/>
                  </a:lnTo>
                  <a:lnTo>
                    <a:pt x="215" y="331"/>
                  </a:lnTo>
                  <a:lnTo>
                    <a:pt x="215" y="314"/>
                  </a:lnTo>
                  <a:lnTo>
                    <a:pt x="215" y="297"/>
                  </a:lnTo>
                  <a:lnTo>
                    <a:pt x="208" y="280"/>
                  </a:lnTo>
                  <a:lnTo>
                    <a:pt x="203" y="280"/>
                  </a:lnTo>
                  <a:lnTo>
                    <a:pt x="203" y="258"/>
                  </a:lnTo>
                  <a:lnTo>
                    <a:pt x="203" y="241"/>
                  </a:lnTo>
                  <a:lnTo>
                    <a:pt x="191" y="185"/>
                  </a:lnTo>
                  <a:lnTo>
                    <a:pt x="185" y="128"/>
                  </a:lnTo>
                  <a:lnTo>
                    <a:pt x="180" y="79"/>
                  </a:lnTo>
                  <a:lnTo>
                    <a:pt x="180" y="39"/>
                  </a:lnTo>
                  <a:lnTo>
                    <a:pt x="157" y="28"/>
                  </a:lnTo>
                  <a:lnTo>
                    <a:pt x="116" y="11"/>
                  </a:lnTo>
                  <a:lnTo>
                    <a:pt x="75" y="0"/>
                  </a:lnTo>
                  <a:lnTo>
                    <a:pt x="58" y="5"/>
                  </a:lnTo>
                  <a:close/>
                </a:path>
              </a:pathLst>
            </a:custGeom>
            <a:solidFill>
              <a:srgbClr val="be6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886000" y="4574520"/>
              <a:ext cx="62640" cy="135360"/>
            </a:xfrm>
            <a:custGeom>
              <a:avLst/>
              <a:gdLst/>
              <a:ahLst/>
              <a:rect l="l" t="t" r="r" b="b"/>
              <a:pathLst>
                <a:path w="319" h="635">
                  <a:moveTo>
                    <a:pt x="133" y="0"/>
                  </a:moveTo>
                  <a:lnTo>
                    <a:pt x="162" y="24"/>
                  </a:lnTo>
                  <a:lnTo>
                    <a:pt x="198" y="73"/>
                  </a:lnTo>
                  <a:lnTo>
                    <a:pt x="221" y="119"/>
                  </a:lnTo>
                  <a:lnTo>
                    <a:pt x="249" y="164"/>
                  </a:lnTo>
                  <a:lnTo>
                    <a:pt x="249" y="198"/>
                  </a:lnTo>
                  <a:lnTo>
                    <a:pt x="244" y="237"/>
                  </a:lnTo>
                  <a:lnTo>
                    <a:pt x="232" y="265"/>
                  </a:lnTo>
                  <a:lnTo>
                    <a:pt x="221" y="287"/>
                  </a:lnTo>
                  <a:lnTo>
                    <a:pt x="232" y="338"/>
                  </a:lnTo>
                  <a:lnTo>
                    <a:pt x="261" y="400"/>
                  </a:lnTo>
                  <a:lnTo>
                    <a:pt x="284" y="461"/>
                  </a:lnTo>
                  <a:lnTo>
                    <a:pt x="313" y="524"/>
                  </a:lnTo>
                  <a:lnTo>
                    <a:pt x="319" y="568"/>
                  </a:lnTo>
                  <a:lnTo>
                    <a:pt x="307" y="608"/>
                  </a:lnTo>
                  <a:lnTo>
                    <a:pt x="261" y="630"/>
                  </a:lnTo>
                  <a:lnTo>
                    <a:pt x="186" y="635"/>
                  </a:lnTo>
                  <a:lnTo>
                    <a:pt x="133" y="630"/>
                  </a:lnTo>
                  <a:lnTo>
                    <a:pt x="81" y="635"/>
                  </a:lnTo>
                  <a:lnTo>
                    <a:pt x="34" y="630"/>
                  </a:lnTo>
                  <a:lnTo>
                    <a:pt x="0" y="625"/>
                  </a:lnTo>
                  <a:lnTo>
                    <a:pt x="5" y="585"/>
                  </a:lnTo>
                  <a:lnTo>
                    <a:pt x="23" y="546"/>
                  </a:lnTo>
                  <a:lnTo>
                    <a:pt x="41" y="495"/>
                  </a:lnTo>
                  <a:lnTo>
                    <a:pt x="58" y="445"/>
                  </a:lnTo>
                  <a:lnTo>
                    <a:pt x="69" y="394"/>
                  </a:lnTo>
                  <a:lnTo>
                    <a:pt x="87" y="343"/>
                  </a:lnTo>
                  <a:lnTo>
                    <a:pt x="92" y="299"/>
                  </a:lnTo>
                  <a:lnTo>
                    <a:pt x="99" y="265"/>
                  </a:lnTo>
                  <a:lnTo>
                    <a:pt x="87" y="208"/>
                  </a:lnTo>
                  <a:lnTo>
                    <a:pt x="75" y="174"/>
                  </a:lnTo>
                  <a:lnTo>
                    <a:pt x="58" y="141"/>
                  </a:lnTo>
                  <a:lnTo>
                    <a:pt x="52" y="113"/>
                  </a:lnTo>
                  <a:lnTo>
                    <a:pt x="46" y="85"/>
                  </a:lnTo>
                  <a:lnTo>
                    <a:pt x="58" y="63"/>
                  </a:lnTo>
                  <a:lnTo>
                    <a:pt x="81" y="29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349760" y="4569840"/>
              <a:ext cx="112680" cy="142200"/>
            </a:xfrm>
            <a:custGeom>
              <a:avLst/>
              <a:gdLst/>
              <a:ahLst/>
              <a:rect l="l" t="t" r="r" b="b"/>
              <a:pathLst>
                <a:path w="586" h="669">
                  <a:moveTo>
                    <a:pt x="342" y="0"/>
                  </a:moveTo>
                  <a:lnTo>
                    <a:pt x="208" y="27"/>
                  </a:lnTo>
                  <a:lnTo>
                    <a:pt x="109" y="106"/>
                  </a:lnTo>
                  <a:lnTo>
                    <a:pt x="40" y="201"/>
                  </a:lnTo>
                  <a:lnTo>
                    <a:pt x="5" y="314"/>
                  </a:lnTo>
                  <a:lnTo>
                    <a:pt x="0" y="421"/>
                  </a:lnTo>
                  <a:lnTo>
                    <a:pt x="40" y="527"/>
                  </a:lnTo>
                  <a:lnTo>
                    <a:pt x="122" y="612"/>
                  </a:lnTo>
                  <a:lnTo>
                    <a:pt x="256" y="669"/>
                  </a:lnTo>
                  <a:lnTo>
                    <a:pt x="400" y="662"/>
                  </a:lnTo>
                  <a:lnTo>
                    <a:pt x="505" y="595"/>
                  </a:lnTo>
                  <a:lnTo>
                    <a:pt x="563" y="488"/>
                  </a:lnTo>
                  <a:lnTo>
                    <a:pt x="586" y="360"/>
                  </a:lnTo>
                  <a:lnTo>
                    <a:pt x="568" y="218"/>
                  </a:lnTo>
                  <a:lnTo>
                    <a:pt x="517" y="100"/>
                  </a:lnTo>
                  <a:lnTo>
                    <a:pt x="441" y="17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51600" y="4572360"/>
              <a:ext cx="21600" cy="41760"/>
            </a:xfrm>
            <a:custGeom>
              <a:avLst/>
              <a:gdLst/>
              <a:ahLst/>
              <a:rect l="l" t="t" r="r" b="b"/>
              <a:pathLst>
                <a:path w="116" h="197">
                  <a:moveTo>
                    <a:pt x="58" y="0"/>
                  </a:moveTo>
                  <a:lnTo>
                    <a:pt x="29" y="28"/>
                  </a:lnTo>
                  <a:lnTo>
                    <a:pt x="12" y="55"/>
                  </a:lnTo>
                  <a:lnTo>
                    <a:pt x="0" y="79"/>
                  </a:lnTo>
                  <a:lnTo>
                    <a:pt x="0" y="101"/>
                  </a:lnTo>
                  <a:lnTo>
                    <a:pt x="0" y="118"/>
                  </a:lnTo>
                  <a:lnTo>
                    <a:pt x="17" y="140"/>
                  </a:lnTo>
                  <a:lnTo>
                    <a:pt x="40" y="163"/>
                  </a:lnTo>
                  <a:lnTo>
                    <a:pt x="81" y="197"/>
                  </a:lnTo>
                  <a:lnTo>
                    <a:pt x="98" y="157"/>
                  </a:lnTo>
                  <a:lnTo>
                    <a:pt x="111" y="135"/>
                  </a:lnTo>
                  <a:lnTo>
                    <a:pt x="111" y="106"/>
                  </a:lnTo>
                  <a:lnTo>
                    <a:pt x="116" y="89"/>
                  </a:lnTo>
                  <a:lnTo>
                    <a:pt x="105" y="67"/>
                  </a:lnTo>
                  <a:lnTo>
                    <a:pt x="93" y="50"/>
                  </a:lnTo>
                  <a:lnTo>
                    <a:pt x="75" y="28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e6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86920" y="4572360"/>
              <a:ext cx="38160" cy="59760"/>
            </a:xfrm>
            <a:custGeom>
              <a:avLst/>
              <a:gdLst/>
              <a:ahLst/>
              <a:rect l="l" t="t" r="r" b="b"/>
              <a:pathLst>
                <a:path w="197" h="286">
                  <a:moveTo>
                    <a:pt x="46" y="0"/>
                  </a:moveTo>
                  <a:lnTo>
                    <a:pt x="23" y="28"/>
                  </a:lnTo>
                  <a:lnTo>
                    <a:pt x="12" y="79"/>
                  </a:lnTo>
                  <a:lnTo>
                    <a:pt x="0" y="135"/>
                  </a:lnTo>
                  <a:lnTo>
                    <a:pt x="5" y="197"/>
                  </a:lnTo>
                  <a:lnTo>
                    <a:pt x="12" y="241"/>
                  </a:lnTo>
                  <a:lnTo>
                    <a:pt x="35" y="275"/>
                  </a:lnTo>
                  <a:lnTo>
                    <a:pt x="70" y="286"/>
                  </a:lnTo>
                  <a:lnTo>
                    <a:pt x="128" y="270"/>
                  </a:lnTo>
                  <a:lnTo>
                    <a:pt x="169" y="224"/>
                  </a:lnTo>
                  <a:lnTo>
                    <a:pt x="197" y="190"/>
                  </a:lnTo>
                  <a:lnTo>
                    <a:pt x="197" y="146"/>
                  </a:lnTo>
                  <a:lnTo>
                    <a:pt x="197" y="112"/>
                  </a:lnTo>
                  <a:lnTo>
                    <a:pt x="169" y="72"/>
                  </a:lnTo>
                  <a:lnTo>
                    <a:pt x="139" y="45"/>
                  </a:lnTo>
                  <a:lnTo>
                    <a:pt x="93" y="16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639120" y="4570920"/>
              <a:ext cx="51120" cy="83880"/>
            </a:xfrm>
            <a:custGeom>
              <a:avLst/>
              <a:gdLst/>
              <a:ahLst/>
              <a:rect l="l" t="t" r="r" b="b"/>
              <a:pathLst>
                <a:path w="261" h="394">
                  <a:moveTo>
                    <a:pt x="122" y="6"/>
                  </a:moveTo>
                  <a:lnTo>
                    <a:pt x="46" y="22"/>
                  </a:lnTo>
                  <a:lnTo>
                    <a:pt x="11" y="61"/>
                  </a:lnTo>
                  <a:lnTo>
                    <a:pt x="0" y="118"/>
                  </a:lnTo>
                  <a:lnTo>
                    <a:pt x="11" y="186"/>
                  </a:lnTo>
                  <a:lnTo>
                    <a:pt x="28" y="247"/>
                  </a:lnTo>
                  <a:lnTo>
                    <a:pt x="69" y="309"/>
                  </a:lnTo>
                  <a:lnTo>
                    <a:pt x="104" y="360"/>
                  </a:lnTo>
                  <a:lnTo>
                    <a:pt x="145" y="394"/>
                  </a:lnTo>
                  <a:lnTo>
                    <a:pt x="168" y="360"/>
                  </a:lnTo>
                  <a:lnTo>
                    <a:pt x="203" y="338"/>
                  </a:lnTo>
                  <a:lnTo>
                    <a:pt x="226" y="304"/>
                  </a:lnTo>
                  <a:lnTo>
                    <a:pt x="249" y="276"/>
                  </a:lnTo>
                  <a:lnTo>
                    <a:pt x="256" y="220"/>
                  </a:lnTo>
                  <a:lnTo>
                    <a:pt x="261" y="169"/>
                  </a:lnTo>
                  <a:lnTo>
                    <a:pt x="256" y="124"/>
                  </a:lnTo>
                  <a:lnTo>
                    <a:pt x="244" y="85"/>
                  </a:lnTo>
                  <a:lnTo>
                    <a:pt x="221" y="46"/>
                  </a:lnTo>
                  <a:lnTo>
                    <a:pt x="198" y="17"/>
                  </a:lnTo>
                  <a:lnTo>
                    <a:pt x="162" y="0"/>
                  </a:lnTo>
                  <a:lnTo>
                    <a:pt x="122" y="6"/>
                  </a:lnTo>
                  <a:close/>
                </a:path>
              </a:pathLst>
            </a:custGeom>
            <a:solidFill>
              <a:srgbClr val="e3b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128360" y="4573440"/>
              <a:ext cx="81720" cy="169560"/>
            </a:xfrm>
            <a:custGeom>
              <a:avLst/>
              <a:gdLst/>
              <a:ahLst/>
              <a:rect l="l" t="t" r="r" b="b"/>
              <a:pathLst>
                <a:path w="425" h="787">
                  <a:moveTo>
                    <a:pt x="151" y="0"/>
                  </a:moveTo>
                  <a:lnTo>
                    <a:pt x="105" y="73"/>
                  </a:lnTo>
                  <a:lnTo>
                    <a:pt x="58" y="191"/>
                  </a:lnTo>
                  <a:lnTo>
                    <a:pt x="18" y="326"/>
                  </a:lnTo>
                  <a:lnTo>
                    <a:pt x="0" y="473"/>
                  </a:lnTo>
                  <a:lnTo>
                    <a:pt x="0" y="601"/>
                  </a:lnTo>
                  <a:lnTo>
                    <a:pt x="41" y="708"/>
                  </a:lnTo>
                  <a:lnTo>
                    <a:pt x="122" y="775"/>
                  </a:lnTo>
                  <a:lnTo>
                    <a:pt x="261" y="787"/>
                  </a:lnTo>
                  <a:lnTo>
                    <a:pt x="332" y="748"/>
                  </a:lnTo>
                  <a:lnTo>
                    <a:pt x="384" y="691"/>
                  </a:lnTo>
                  <a:lnTo>
                    <a:pt x="413" y="607"/>
                  </a:lnTo>
                  <a:lnTo>
                    <a:pt x="425" y="512"/>
                  </a:lnTo>
                  <a:lnTo>
                    <a:pt x="418" y="405"/>
                  </a:lnTo>
                  <a:lnTo>
                    <a:pt x="402" y="309"/>
                  </a:lnTo>
                  <a:lnTo>
                    <a:pt x="378" y="219"/>
                  </a:lnTo>
                  <a:lnTo>
                    <a:pt x="355" y="157"/>
                  </a:lnTo>
                  <a:lnTo>
                    <a:pt x="314" y="101"/>
                  </a:lnTo>
                  <a:lnTo>
                    <a:pt x="268" y="61"/>
                  </a:lnTo>
                  <a:lnTo>
                    <a:pt x="210" y="29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73000" y="4578120"/>
              <a:ext cx="34920" cy="61920"/>
            </a:xfrm>
            <a:custGeom>
              <a:avLst/>
              <a:gdLst/>
              <a:ahLst/>
              <a:rect l="l" t="t" r="r" b="b"/>
              <a:pathLst>
                <a:path w="180" h="292">
                  <a:moveTo>
                    <a:pt x="28" y="0"/>
                  </a:moveTo>
                  <a:lnTo>
                    <a:pt x="12" y="51"/>
                  </a:lnTo>
                  <a:lnTo>
                    <a:pt x="5" y="107"/>
                  </a:lnTo>
                  <a:lnTo>
                    <a:pt x="0" y="140"/>
                  </a:lnTo>
                  <a:lnTo>
                    <a:pt x="12" y="179"/>
                  </a:lnTo>
                  <a:lnTo>
                    <a:pt x="23" y="208"/>
                  </a:lnTo>
                  <a:lnTo>
                    <a:pt x="53" y="236"/>
                  </a:lnTo>
                  <a:lnTo>
                    <a:pt x="93" y="258"/>
                  </a:lnTo>
                  <a:lnTo>
                    <a:pt x="151" y="292"/>
                  </a:lnTo>
                  <a:lnTo>
                    <a:pt x="162" y="242"/>
                  </a:lnTo>
                  <a:lnTo>
                    <a:pt x="180" y="196"/>
                  </a:lnTo>
                  <a:lnTo>
                    <a:pt x="174" y="146"/>
                  </a:lnTo>
                  <a:lnTo>
                    <a:pt x="174" y="107"/>
                  </a:lnTo>
                  <a:lnTo>
                    <a:pt x="151" y="67"/>
                  </a:lnTo>
                  <a:lnTo>
                    <a:pt x="122" y="34"/>
                  </a:lnTo>
                  <a:lnTo>
                    <a:pt x="81" y="1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6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391800" y="4578120"/>
              <a:ext cx="27720" cy="49680"/>
            </a:xfrm>
            <a:custGeom>
              <a:avLst/>
              <a:gdLst/>
              <a:ahLst/>
              <a:rect l="l" t="t" r="r" b="b"/>
              <a:pathLst>
                <a:path w="145" h="230">
                  <a:moveTo>
                    <a:pt x="34" y="0"/>
                  </a:moveTo>
                  <a:lnTo>
                    <a:pt x="6" y="73"/>
                  </a:lnTo>
                  <a:lnTo>
                    <a:pt x="0" y="129"/>
                  </a:lnTo>
                  <a:lnTo>
                    <a:pt x="6" y="169"/>
                  </a:lnTo>
                  <a:lnTo>
                    <a:pt x="29" y="202"/>
                  </a:lnTo>
                  <a:lnTo>
                    <a:pt x="70" y="230"/>
                  </a:lnTo>
                  <a:lnTo>
                    <a:pt x="87" y="230"/>
                  </a:lnTo>
                  <a:lnTo>
                    <a:pt x="117" y="196"/>
                  </a:lnTo>
                  <a:lnTo>
                    <a:pt x="140" y="169"/>
                  </a:lnTo>
                  <a:lnTo>
                    <a:pt x="145" y="135"/>
                  </a:lnTo>
                  <a:lnTo>
                    <a:pt x="145" y="107"/>
                  </a:lnTo>
                  <a:lnTo>
                    <a:pt x="128" y="73"/>
                  </a:lnTo>
                  <a:lnTo>
                    <a:pt x="105" y="39"/>
                  </a:lnTo>
                  <a:lnTo>
                    <a:pt x="70" y="1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2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997680" y="4578120"/>
              <a:ext cx="69840" cy="115200"/>
            </a:xfrm>
            <a:custGeom>
              <a:avLst/>
              <a:gdLst/>
              <a:ahLst/>
              <a:rect l="l" t="t" r="r" b="b"/>
              <a:pathLst>
                <a:path w="355" h="539">
                  <a:moveTo>
                    <a:pt x="157" y="0"/>
                  </a:moveTo>
                  <a:lnTo>
                    <a:pt x="87" y="27"/>
                  </a:lnTo>
                  <a:lnTo>
                    <a:pt x="41" y="101"/>
                  </a:lnTo>
                  <a:lnTo>
                    <a:pt x="6" y="191"/>
                  </a:lnTo>
                  <a:lnTo>
                    <a:pt x="0" y="297"/>
                  </a:lnTo>
                  <a:lnTo>
                    <a:pt x="11" y="393"/>
                  </a:lnTo>
                  <a:lnTo>
                    <a:pt x="46" y="478"/>
                  </a:lnTo>
                  <a:lnTo>
                    <a:pt x="99" y="528"/>
                  </a:lnTo>
                  <a:lnTo>
                    <a:pt x="180" y="539"/>
                  </a:lnTo>
                  <a:lnTo>
                    <a:pt x="256" y="495"/>
                  </a:lnTo>
                  <a:lnTo>
                    <a:pt x="313" y="422"/>
                  </a:lnTo>
                  <a:lnTo>
                    <a:pt x="343" y="326"/>
                  </a:lnTo>
                  <a:lnTo>
                    <a:pt x="355" y="230"/>
                  </a:lnTo>
                  <a:lnTo>
                    <a:pt x="331" y="129"/>
                  </a:lnTo>
                  <a:lnTo>
                    <a:pt x="297" y="51"/>
                  </a:lnTo>
                  <a:lnTo>
                    <a:pt x="232" y="0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f2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135480" y="4580280"/>
              <a:ext cx="26640" cy="47160"/>
            </a:xfrm>
            <a:custGeom>
              <a:avLst/>
              <a:gdLst/>
              <a:ahLst/>
              <a:rect l="l" t="t" r="r" b="b"/>
              <a:pathLst>
                <a:path w="139" h="218">
                  <a:moveTo>
                    <a:pt x="64" y="0"/>
                  </a:moveTo>
                  <a:lnTo>
                    <a:pt x="23" y="39"/>
                  </a:lnTo>
                  <a:lnTo>
                    <a:pt x="6" y="89"/>
                  </a:lnTo>
                  <a:lnTo>
                    <a:pt x="0" y="111"/>
                  </a:lnTo>
                  <a:lnTo>
                    <a:pt x="0" y="145"/>
                  </a:lnTo>
                  <a:lnTo>
                    <a:pt x="0" y="174"/>
                  </a:lnTo>
                  <a:lnTo>
                    <a:pt x="6" y="218"/>
                  </a:lnTo>
                  <a:lnTo>
                    <a:pt x="17" y="213"/>
                  </a:lnTo>
                  <a:lnTo>
                    <a:pt x="47" y="213"/>
                  </a:lnTo>
                  <a:lnTo>
                    <a:pt x="70" y="207"/>
                  </a:lnTo>
                  <a:lnTo>
                    <a:pt x="75" y="207"/>
                  </a:lnTo>
                  <a:lnTo>
                    <a:pt x="93" y="174"/>
                  </a:lnTo>
                  <a:lnTo>
                    <a:pt x="116" y="145"/>
                  </a:lnTo>
                  <a:lnTo>
                    <a:pt x="128" y="117"/>
                  </a:lnTo>
                  <a:lnTo>
                    <a:pt x="139" y="95"/>
                  </a:lnTo>
                  <a:lnTo>
                    <a:pt x="133" y="66"/>
                  </a:lnTo>
                  <a:lnTo>
                    <a:pt x="121" y="44"/>
                  </a:lnTo>
                  <a:lnTo>
                    <a:pt x="98" y="2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e6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480720" y="4580280"/>
              <a:ext cx="30240" cy="54000"/>
            </a:xfrm>
            <a:custGeom>
              <a:avLst/>
              <a:gdLst/>
              <a:ahLst/>
              <a:rect l="l" t="t" r="r" b="b"/>
              <a:pathLst>
                <a:path w="156" h="252">
                  <a:moveTo>
                    <a:pt x="34" y="0"/>
                  </a:moveTo>
                  <a:lnTo>
                    <a:pt x="16" y="32"/>
                  </a:lnTo>
                  <a:lnTo>
                    <a:pt x="11" y="83"/>
                  </a:lnTo>
                  <a:lnTo>
                    <a:pt x="0" y="134"/>
                  </a:lnTo>
                  <a:lnTo>
                    <a:pt x="5" y="184"/>
                  </a:lnTo>
                  <a:lnTo>
                    <a:pt x="5" y="218"/>
                  </a:lnTo>
                  <a:lnTo>
                    <a:pt x="28" y="246"/>
                  </a:lnTo>
                  <a:lnTo>
                    <a:pt x="51" y="252"/>
                  </a:lnTo>
                  <a:lnTo>
                    <a:pt x="99" y="241"/>
                  </a:lnTo>
                  <a:lnTo>
                    <a:pt x="133" y="207"/>
                  </a:lnTo>
                  <a:lnTo>
                    <a:pt x="156" y="174"/>
                  </a:lnTo>
                  <a:lnTo>
                    <a:pt x="156" y="140"/>
                  </a:lnTo>
                  <a:lnTo>
                    <a:pt x="156" y="106"/>
                  </a:lnTo>
                  <a:lnTo>
                    <a:pt x="133" y="72"/>
                  </a:lnTo>
                  <a:lnTo>
                    <a:pt x="110" y="44"/>
                  </a:lnTo>
                  <a:lnTo>
                    <a:pt x="69" y="15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e3b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04360" y="4582440"/>
              <a:ext cx="23040" cy="38160"/>
            </a:xfrm>
            <a:custGeom>
              <a:avLst/>
              <a:gdLst/>
              <a:ahLst/>
              <a:rect l="l" t="t" r="r" b="b"/>
              <a:pathLst>
                <a:path w="122" h="180">
                  <a:moveTo>
                    <a:pt x="53" y="0"/>
                  </a:moveTo>
                  <a:lnTo>
                    <a:pt x="23" y="29"/>
                  </a:lnTo>
                  <a:lnTo>
                    <a:pt x="12" y="51"/>
                  </a:lnTo>
                  <a:lnTo>
                    <a:pt x="0" y="68"/>
                  </a:lnTo>
                  <a:lnTo>
                    <a:pt x="7" y="90"/>
                  </a:lnTo>
                  <a:lnTo>
                    <a:pt x="7" y="101"/>
                  </a:lnTo>
                  <a:lnTo>
                    <a:pt x="12" y="124"/>
                  </a:lnTo>
                  <a:lnTo>
                    <a:pt x="23" y="140"/>
                  </a:lnTo>
                  <a:lnTo>
                    <a:pt x="41" y="180"/>
                  </a:lnTo>
                  <a:lnTo>
                    <a:pt x="88" y="180"/>
                  </a:lnTo>
                  <a:lnTo>
                    <a:pt x="117" y="174"/>
                  </a:lnTo>
                  <a:lnTo>
                    <a:pt x="122" y="152"/>
                  </a:lnTo>
                  <a:lnTo>
                    <a:pt x="117" y="130"/>
                  </a:lnTo>
                  <a:lnTo>
                    <a:pt x="94" y="96"/>
                  </a:lnTo>
                  <a:lnTo>
                    <a:pt x="76" y="62"/>
                  </a:lnTo>
                  <a:lnTo>
                    <a:pt x="58" y="29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ae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536520" y="4582440"/>
              <a:ext cx="21960" cy="61200"/>
            </a:xfrm>
            <a:custGeom>
              <a:avLst/>
              <a:gdLst/>
              <a:ahLst/>
              <a:rect l="l" t="t" r="r" b="b"/>
              <a:pathLst>
                <a:path w="111" h="282">
                  <a:moveTo>
                    <a:pt x="35" y="0"/>
                  </a:moveTo>
                  <a:lnTo>
                    <a:pt x="17" y="39"/>
                  </a:lnTo>
                  <a:lnTo>
                    <a:pt x="6" y="79"/>
                  </a:lnTo>
                  <a:lnTo>
                    <a:pt x="0" y="113"/>
                  </a:lnTo>
                  <a:lnTo>
                    <a:pt x="0" y="152"/>
                  </a:lnTo>
                  <a:lnTo>
                    <a:pt x="0" y="186"/>
                  </a:lnTo>
                  <a:lnTo>
                    <a:pt x="12" y="220"/>
                  </a:lnTo>
                  <a:lnTo>
                    <a:pt x="29" y="248"/>
                  </a:lnTo>
                  <a:lnTo>
                    <a:pt x="63" y="282"/>
                  </a:lnTo>
                  <a:lnTo>
                    <a:pt x="75" y="242"/>
                  </a:lnTo>
                  <a:lnTo>
                    <a:pt x="88" y="203"/>
                  </a:lnTo>
                  <a:lnTo>
                    <a:pt x="98" y="164"/>
                  </a:lnTo>
                  <a:lnTo>
                    <a:pt x="111" y="130"/>
                  </a:lnTo>
                  <a:lnTo>
                    <a:pt x="104" y="90"/>
                  </a:lnTo>
                  <a:lnTo>
                    <a:pt x="98" y="56"/>
                  </a:lnTo>
                  <a:lnTo>
                    <a:pt x="70" y="2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2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807520" y="4586040"/>
              <a:ext cx="65160" cy="145440"/>
            </a:xfrm>
            <a:custGeom>
              <a:avLst/>
              <a:gdLst/>
              <a:ahLst/>
              <a:rect l="l" t="t" r="r" b="b"/>
              <a:pathLst>
                <a:path w="332" h="685">
                  <a:moveTo>
                    <a:pt x="152" y="0"/>
                  </a:moveTo>
                  <a:lnTo>
                    <a:pt x="180" y="5"/>
                  </a:lnTo>
                  <a:lnTo>
                    <a:pt x="215" y="17"/>
                  </a:lnTo>
                  <a:lnTo>
                    <a:pt x="238" y="27"/>
                  </a:lnTo>
                  <a:lnTo>
                    <a:pt x="268" y="50"/>
                  </a:lnTo>
                  <a:lnTo>
                    <a:pt x="286" y="95"/>
                  </a:lnTo>
                  <a:lnTo>
                    <a:pt x="286" y="152"/>
                  </a:lnTo>
                  <a:lnTo>
                    <a:pt x="286" y="174"/>
                  </a:lnTo>
                  <a:lnTo>
                    <a:pt x="286" y="208"/>
                  </a:lnTo>
                  <a:lnTo>
                    <a:pt x="286" y="236"/>
                  </a:lnTo>
                  <a:lnTo>
                    <a:pt x="291" y="270"/>
                  </a:lnTo>
                  <a:lnTo>
                    <a:pt x="297" y="314"/>
                  </a:lnTo>
                  <a:lnTo>
                    <a:pt x="314" y="382"/>
                  </a:lnTo>
                  <a:lnTo>
                    <a:pt x="320" y="449"/>
                  </a:lnTo>
                  <a:lnTo>
                    <a:pt x="332" y="522"/>
                  </a:lnTo>
                  <a:lnTo>
                    <a:pt x="326" y="579"/>
                  </a:lnTo>
                  <a:lnTo>
                    <a:pt x="303" y="630"/>
                  </a:lnTo>
                  <a:lnTo>
                    <a:pt x="256" y="663"/>
                  </a:lnTo>
                  <a:lnTo>
                    <a:pt x="187" y="685"/>
                  </a:lnTo>
                  <a:lnTo>
                    <a:pt x="81" y="669"/>
                  </a:lnTo>
                  <a:lnTo>
                    <a:pt x="30" y="640"/>
                  </a:lnTo>
                  <a:lnTo>
                    <a:pt x="0" y="589"/>
                  </a:lnTo>
                  <a:lnTo>
                    <a:pt x="7" y="528"/>
                  </a:lnTo>
                  <a:lnTo>
                    <a:pt x="18" y="461"/>
                  </a:lnTo>
                  <a:lnTo>
                    <a:pt x="41" y="393"/>
                  </a:lnTo>
                  <a:lnTo>
                    <a:pt x="65" y="331"/>
                  </a:lnTo>
                  <a:lnTo>
                    <a:pt x="81" y="287"/>
                  </a:lnTo>
                  <a:lnTo>
                    <a:pt x="81" y="230"/>
                  </a:lnTo>
                  <a:lnTo>
                    <a:pt x="88" y="191"/>
                  </a:lnTo>
                  <a:lnTo>
                    <a:pt x="88" y="157"/>
                  </a:lnTo>
                  <a:lnTo>
                    <a:pt x="93" y="123"/>
                  </a:lnTo>
                  <a:lnTo>
                    <a:pt x="93" y="89"/>
                  </a:lnTo>
                  <a:lnTo>
                    <a:pt x="111" y="61"/>
                  </a:lnTo>
                  <a:lnTo>
                    <a:pt x="123" y="27"/>
                  </a:lnTo>
                  <a:lnTo>
                    <a:pt x="15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76720" y="4586040"/>
              <a:ext cx="12960" cy="30240"/>
            </a:xfrm>
            <a:custGeom>
              <a:avLst/>
              <a:gdLst/>
              <a:ahLst/>
              <a:rect l="l" t="t" r="r" b="b"/>
              <a:pathLst>
                <a:path w="71" h="145">
                  <a:moveTo>
                    <a:pt x="29" y="0"/>
                  </a:moveTo>
                  <a:lnTo>
                    <a:pt x="6" y="44"/>
                  </a:lnTo>
                  <a:lnTo>
                    <a:pt x="0" y="73"/>
                  </a:lnTo>
                  <a:lnTo>
                    <a:pt x="13" y="101"/>
                  </a:lnTo>
                  <a:lnTo>
                    <a:pt x="29" y="145"/>
                  </a:lnTo>
                  <a:lnTo>
                    <a:pt x="41" y="112"/>
                  </a:lnTo>
                  <a:lnTo>
                    <a:pt x="47" y="89"/>
                  </a:lnTo>
                  <a:lnTo>
                    <a:pt x="53" y="56"/>
                  </a:lnTo>
                  <a:lnTo>
                    <a:pt x="71" y="17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ae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726960" y="4586040"/>
              <a:ext cx="51120" cy="73080"/>
            </a:xfrm>
            <a:custGeom>
              <a:avLst/>
              <a:gdLst/>
              <a:ahLst/>
              <a:rect l="l" t="t" r="r" b="b"/>
              <a:pathLst>
                <a:path w="262" h="348">
                  <a:moveTo>
                    <a:pt x="70" y="0"/>
                  </a:moveTo>
                  <a:lnTo>
                    <a:pt x="40" y="50"/>
                  </a:lnTo>
                  <a:lnTo>
                    <a:pt x="24" y="118"/>
                  </a:lnTo>
                  <a:lnTo>
                    <a:pt x="0" y="185"/>
                  </a:lnTo>
                  <a:lnTo>
                    <a:pt x="0" y="253"/>
                  </a:lnTo>
                  <a:lnTo>
                    <a:pt x="6" y="304"/>
                  </a:lnTo>
                  <a:lnTo>
                    <a:pt x="29" y="337"/>
                  </a:lnTo>
                  <a:lnTo>
                    <a:pt x="81" y="348"/>
                  </a:lnTo>
                  <a:lnTo>
                    <a:pt x="163" y="326"/>
                  </a:lnTo>
                  <a:lnTo>
                    <a:pt x="215" y="287"/>
                  </a:lnTo>
                  <a:lnTo>
                    <a:pt x="250" y="241"/>
                  </a:lnTo>
                  <a:lnTo>
                    <a:pt x="262" y="196"/>
                  </a:lnTo>
                  <a:lnTo>
                    <a:pt x="256" y="152"/>
                  </a:lnTo>
                  <a:lnTo>
                    <a:pt x="227" y="101"/>
                  </a:lnTo>
                  <a:lnTo>
                    <a:pt x="192" y="56"/>
                  </a:lnTo>
                  <a:lnTo>
                    <a:pt x="134" y="22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2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252120" y="4589280"/>
              <a:ext cx="11520" cy="40680"/>
            </a:xfrm>
            <a:custGeom>
              <a:avLst/>
              <a:gdLst/>
              <a:ahLst/>
              <a:rect l="l" t="t" r="r" b="b"/>
              <a:pathLst>
                <a:path w="58" h="191">
                  <a:moveTo>
                    <a:pt x="47" y="0"/>
                  </a:moveTo>
                  <a:lnTo>
                    <a:pt x="18" y="16"/>
                  </a:lnTo>
                  <a:lnTo>
                    <a:pt x="7" y="39"/>
                  </a:lnTo>
                  <a:lnTo>
                    <a:pt x="0" y="67"/>
                  </a:lnTo>
                  <a:lnTo>
                    <a:pt x="12" y="101"/>
                  </a:lnTo>
                  <a:lnTo>
                    <a:pt x="35" y="151"/>
                  </a:lnTo>
                  <a:lnTo>
                    <a:pt x="58" y="191"/>
                  </a:lnTo>
                  <a:lnTo>
                    <a:pt x="53" y="168"/>
                  </a:lnTo>
                  <a:lnTo>
                    <a:pt x="53" y="140"/>
                  </a:lnTo>
                  <a:lnTo>
                    <a:pt x="53" y="106"/>
                  </a:lnTo>
                  <a:lnTo>
                    <a:pt x="53" y="78"/>
                  </a:lnTo>
                  <a:lnTo>
                    <a:pt x="47" y="44"/>
                  </a:lnTo>
                  <a:lnTo>
                    <a:pt x="47" y="16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8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094440" y="4591440"/>
              <a:ext cx="28800" cy="59760"/>
            </a:xfrm>
            <a:custGeom>
              <a:avLst/>
              <a:gdLst/>
              <a:ahLst/>
              <a:rect l="l" t="t" r="r" b="b"/>
              <a:pathLst>
                <a:path w="145" h="287">
                  <a:moveTo>
                    <a:pt x="87" y="0"/>
                  </a:moveTo>
                  <a:lnTo>
                    <a:pt x="35" y="46"/>
                  </a:lnTo>
                  <a:lnTo>
                    <a:pt x="11" y="91"/>
                  </a:lnTo>
                  <a:lnTo>
                    <a:pt x="0" y="135"/>
                  </a:lnTo>
                  <a:lnTo>
                    <a:pt x="11" y="186"/>
                  </a:lnTo>
                  <a:lnTo>
                    <a:pt x="23" y="220"/>
                  </a:lnTo>
                  <a:lnTo>
                    <a:pt x="35" y="253"/>
                  </a:lnTo>
                  <a:lnTo>
                    <a:pt x="46" y="277"/>
                  </a:lnTo>
                  <a:lnTo>
                    <a:pt x="58" y="287"/>
                  </a:lnTo>
                  <a:lnTo>
                    <a:pt x="87" y="253"/>
                  </a:lnTo>
                  <a:lnTo>
                    <a:pt x="116" y="226"/>
                  </a:lnTo>
                  <a:lnTo>
                    <a:pt x="127" y="197"/>
                  </a:lnTo>
                  <a:lnTo>
                    <a:pt x="139" y="175"/>
                  </a:lnTo>
                  <a:lnTo>
                    <a:pt x="139" y="135"/>
                  </a:lnTo>
                  <a:lnTo>
                    <a:pt x="145" y="101"/>
                  </a:lnTo>
                  <a:lnTo>
                    <a:pt x="139" y="57"/>
                  </a:lnTo>
                  <a:lnTo>
                    <a:pt x="139" y="12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e6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178320" y="4592520"/>
              <a:ext cx="31320" cy="54360"/>
            </a:xfrm>
            <a:custGeom>
              <a:avLst/>
              <a:gdLst/>
              <a:ahLst/>
              <a:rect l="l" t="t" r="r" b="b"/>
              <a:pathLst>
                <a:path w="164" h="248">
                  <a:moveTo>
                    <a:pt x="41" y="0"/>
                  </a:moveTo>
                  <a:lnTo>
                    <a:pt x="24" y="28"/>
                  </a:lnTo>
                  <a:lnTo>
                    <a:pt x="12" y="79"/>
                  </a:lnTo>
                  <a:lnTo>
                    <a:pt x="0" y="123"/>
                  </a:lnTo>
                  <a:lnTo>
                    <a:pt x="0" y="174"/>
                  </a:lnTo>
                  <a:lnTo>
                    <a:pt x="0" y="208"/>
                  </a:lnTo>
                  <a:lnTo>
                    <a:pt x="18" y="236"/>
                  </a:lnTo>
                  <a:lnTo>
                    <a:pt x="47" y="248"/>
                  </a:lnTo>
                  <a:lnTo>
                    <a:pt x="94" y="248"/>
                  </a:lnTo>
                  <a:lnTo>
                    <a:pt x="134" y="219"/>
                  </a:lnTo>
                  <a:lnTo>
                    <a:pt x="157" y="191"/>
                  </a:lnTo>
                  <a:lnTo>
                    <a:pt x="164" y="152"/>
                  </a:lnTo>
                  <a:lnTo>
                    <a:pt x="164" y="118"/>
                  </a:lnTo>
                  <a:lnTo>
                    <a:pt x="140" y="79"/>
                  </a:lnTo>
                  <a:lnTo>
                    <a:pt x="111" y="50"/>
                  </a:lnTo>
                  <a:lnTo>
                    <a:pt x="76" y="17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e6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32000" y="4599360"/>
              <a:ext cx="19800" cy="31320"/>
            </a:xfrm>
            <a:custGeom>
              <a:avLst/>
              <a:gdLst/>
              <a:ahLst/>
              <a:rect l="l" t="t" r="r" b="b"/>
              <a:pathLst>
                <a:path w="104" h="152">
                  <a:moveTo>
                    <a:pt x="29" y="0"/>
                  </a:moveTo>
                  <a:lnTo>
                    <a:pt x="11" y="28"/>
                  </a:lnTo>
                  <a:lnTo>
                    <a:pt x="6" y="61"/>
                  </a:lnTo>
                  <a:lnTo>
                    <a:pt x="0" y="85"/>
                  </a:lnTo>
                  <a:lnTo>
                    <a:pt x="6" y="107"/>
                  </a:lnTo>
                  <a:lnTo>
                    <a:pt x="6" y="118"/>
                  </a:lnTo>
                  <a:lnTo>
                    <a:pt x="23" y="129"/>
                  </a:lnTo>
                  <a:lnTo>
                    <a:pt x="46" y="141"/>
                  </a:lnTo>
                  <a:lnTo>
                    <a:pt x="81" y="152"/>
                  </a:lnTo>
                  <a:lnTo>
                    <a:pt x="87" y="118"/>
                  </a:lnTo>
                  <a:lnTo>
                    <a:pt x="99" y="95"/>
                  </a:lnTo>
                  <a:lnTo>
                    <a:pt x="99" y="78"/>
                  </a:lnTo>
                  <a:lnTo>
                    <a:pt x="104" y="61"/>
                  </a:lnTo>
                  <a:lnTo>
                    <a:pt x="99" y="45"/>
                  </a:lnTo>
                  <a:lnTo>
                    <a:pt x="87" y="28"/>
                  </a:lnTo>
                  <a:lnTo>
                    <a:pt x="64" y="1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ae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274960" y="4599360"/>
              <a:ext cx="70920" cy="106920"/>
            </a:xfrm>
            <a:custGeom>
              <a:avLst/>
              <a:gdLst/>
              <a:ahLst/>
              <a:rect l="l" t="t" r="r" b="b"/>
              <a:pathLst>
                <a:path w="367" h="500">
                  <a:moveTo>
                    <a:pt x="222" y="0"/>
                  </a:moveTo>
                  <a:lnTo>
                    <a:pt x="99" y="22"/>
                  </a:lnTo>
                  <a:lnTo>
                    <a:pt x="36" y="73"/>
                  </a:lnTo>
                  <a:lnTo>
                    <a:pt x="0" y="135"/>
                  </a:lnTo>
                  <a:lnTo>
                    <a:pt x="7" y="213"/>
                  </a:lnTo>
                  <a:lnTo>
                    <a:pt x="30" y="287"/>
                  </a:lnTo>
                  <a:lnTo>
                    <a:pt x="65" y="365"/>
                  </a:lnTo>
                  <a:lnTo>
                    <a:pt x="106" y="438"/>
                  </a:lnTo>
                  <a:lnTo>
                    <a:pt x="146" y="500"/>
                  </a:lnTo>
                  <a:lnTo>
                    <a:pt x="164" y="478"/>
                  </a:lnTo>
                  <a:lnTo>
                    <a:pt x="193" y="461"/>
                  </a:lnTo>
                  <a:lnTo>
                    <a:pt x="228" y="433"/>
                  </a:lnTo>
                  <a:lnTo>
                    <a:pt x="263" y="404"/>
                  </a:lnTo>
                  <a:lnTo>
                    <a:pt x="314" y="343"/>
                  </a:lnTo>
                  <a:lnTo>
                    <a:pt x="355" y="298"/>
                  </a:lnTo>
                  <a:lnTo>
                    <a:pt x="362" y="242"/>
                  </a:lnTo>
                  <a:lnTo>
                    <a:pt x="367" y="191"/>
                  </a:lnTo>
                  <a:lnTo>
                    <a:pt x="362" y="135"/>
                  </a:lnTo>
                  <a:lnTo>
                    <a:pt x="350" y="90"/>
                  </a:lnTo>
                  <a:lnTo>
                    <a:pt x="327" y="45"/>
                  </a:lnTo>
                  <a:lnTo>
                    <a:pt x="297" y="17"/>
                  </a:lnTo>
                  <a:lnTo>
                    <a:pt x="263" y="0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58560" y="4601520"/>
              <a:ext cx="45360" cy="124200"/>
            </a:xfrm>
            <a:custGeom>
              <a:avLst/>
              <a:gdLst/>
              <a:ahLst/>
              <a:rect l="l" t="t" r="r" b="b"/>
              <a:pathLst>
                <a:path w="232" h="579">
                  <a:moveTo>
                    <a:pt x="122" y="0"/>
                  </a:moveTo>
                  <a:lnTo>
                    <a:pt x="140" y="34"/>
                  </a:lnTo>
                  <a:lnTo>
                    <a:pt x="168" y="113"/>
                  </a:lnTo>
                  <a:lnTo>
                    <a:pt x="197" y="209"/>
                  </a:lnTo>
                  <a:lnTo>
                    <a:pt x="227" y="321"/>
                  </a:lnTo>
                  <a:lnTo>
                    <a:pt x="232" y="422"/>
                  </a:lnTo>
                  <a:lnTo>
                    <a:pt x="227" y="511"/>
                  </a:lnTo>
                  <a:lnTo>
                    <a:pt x="186" y="568"/>
                  </a:lnTo>
                  <a:lnTo>
                    <a:pt x="110" y="579"/>
                  </a:lnTo>
                  <a:lnTo>
                    <a:pt x="52" y="557"/>
                  </a:lnTo>
                  <a:lnTo>
                    <a:pt x="17" y="523"/>
                  </a:lnTo>
                  <a:lnTo>
                    <a:pt x="0" y="484"/>
                  </a:lnTo>
                  <a:lnTo>
                    <a:pt x="0" y="439"/>
                  </a:lnTo>
                  <a:lnTo>
                    <a:pt x="6" y="388"/>
                  </a:lnTo>
                  <a:lnTo>
                    <a:pt x="23" y="337"/>
                  </a:lnTo>
                  <a:lnTo>
                    <a:pt x="34" y="287"/>
                  </a:lnTo>
                  <a:lnTo>
                    <a:pt x="46" y="248"/>
                  </a:lnTo>
                  <a:lnTo>
                    <a:pt x="34" y="197"/>
                  </a:lnTo>
                  <a:lnTo>
                    <a:pt x="23" y="146"/>
                  </a:lnTo>
                  <a:lnTo>
                    <a:pt x="17" y="90"/>
                  </a:lnTo>
                  <a:lnTo>
                    <a:pt x="46" y="40"/>
                  </a:lnTo>
                  <a:lnTo>
                    <a:pt x="52" y="28"/>
                  </a:lnTo>
                  <a:lnTo>
                    <a:pt x="82" y="17"/>
                  </a:lnTo>
                  <a:lnTo>
                    <a:pt x="105" y="6"/>
                  </a:lnTo>
                  <a:lnTo>
                    <a:pt x="12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83600" y="4607280"/>
              <a:ext cx="173520" cy="109440"/>
            </a:xfrm>
            <a:custGeom>
              <a:avLst/>
              <a:gdLst/>
              <a:ahLst/>
              <a:rect l="l" t="t" r="r" b="b"/>
              <a:pathLst>
                <a:path w="895" h="517">
                  <a:moveTo>
                    <a:pt x="773" y="5"/>
                  </a:moveTo>
                  <a:lnTo>
                    <a:pt x="826" y="0"/>
                  </a:lnTo>
                  <a:lnTo>
                    <a:pt x="866" y="22"/>
                  </a:lnTo>
                  <a:lnTo>
                    <a:pt x="889" y="56"/>
                  </a:lnTo>
                  <a:lnTo>
                    <a:pt x="895" y="101"/>
                  </a:lnTo>
                  <a:lnTo>
                    <a:pt x="889" y="140"/>
                  </a:lnTo>
                  <a:lnTo>
                    <a:pt x="884" y="179"/>
                  </a:lnTo>
                  <a:lnTo>
                    <a:pt x="872" y="203"/>
                  </a:lnTo>
                  <a:lnTo>
                    <a:pt x="877" y="213"/>
                  </a:lnTo>
                  <a:lnTo>
                    <a:pt x="877" y="242"/>
                  </a:lnTo>
                  <a:lnTo>
                    <a:pt x="884" y="275"/>
                  </a:lnTo>
                  <a:lnTo>
                    <a:pt x="884" y="314"/>
                  </a:lnTo>
                  <a:lnTo>
                    <a:pt x="884" y="360"/>
                  </a:lnTo>
                  <a:lnTo>
                    <a:pt x="877" y="399"/>
                  </a:lnTo>
                  <a:lnTo>
                    <a:pt x="877" y="438"/>
                  </a:lnTo>
                  <a:lnTo>
                    <a:pt x="872" y="478"/>
                  </a:lnTo>
                  <a:lnTo>
                    <a:pt x="866" y="517"/>
                  </a:lnTo>
                  <a:lnTo>
                    <a:pt x="819" y="512"/>
                  </a:lnTo>
                  <a:lnTo>
                    <a:pt x="778" y="512"/>
                  </a:lnTo>
                  <a:lnTo>
                    <a:pt x="732" y="505"/>
                  </a:lnTo>
                  <a:lnTo>
                    <a:pt x="692" y="505"/>
                  </a:lnTo>
                  <a:lnTo>
                    <a:pt x="680" y="455"/>
                  </a:lnTo>
                  <a:lnTo>
                    <a:pt x="646" y="455"/>
                  </a:lnTo>
                  <a:lnTo>
                    <a:pt x="610" y="478"/>
                  </a:lnTo>
                  <a:lnTo>
                    <a:pt x="575" y="500"/>
                  </a:lnTo>
                  <a:lnTo>
                    <a:pt x="547" y="517"/>
                  </a:lnTo>
                  <a:lnTo>
                    <a:pt x="489" y="512"/>
                  </a:lnTo>
                  <a:lnTo>
                    <a:pt x="453" y="495"/>
                  </a:lnTo>
                  <a:lnTo>
                    <a:pt x="418" y="472"/>
                  </a:lnTo>
                  <a:lnTo>
                    <a:pt x="395" y="466"/>
                  </a:lnTo>
                  <a:lnTo>
                    <a:pt x="349" y="455"/>
                  </a:lnTo>
                  <a:lnTo>
                    <a:pt x="302" y="455"/>
                  </a:lnTo>
                  <a:lnTo>
                    <a:pt x="256" y="455"/>
                  </a:lnTo>
                  <a:lnTo>
                    <a:pt x="210" y="461"/>
                  </a:lnTo>
                  <a:lnTo>
                    <a:pt x="157" y="455"/>
                  </a:lnTo>
                  <a:lnTo>
                    <a:pt x="111" y="455"/>
                  </a:lnTo>
                  <a:lnTo>
                    <a:pt x="64" y="455"/>
                  </a:lnTo>
                  <a:lnTo>
                    <a:pt x="23" y="455"/>
                  </a:lnTo>
                  <a:lnTo>
                    <a:pt x="5" y="387"/>
                  </a:lnTo>
                  <a:lnTo>
                    <a:pt x="0" y="321"/>
                  </a:lnTo>
                  <a:lnTo>
                    <a:pt x="0" y="247"/>
                  </a:lnTo>
                  <a:lnTo>
                    <a:pt x="17" y="191"/>
                  </a:lnTo>
                  <a:lnTo>
                    <a:pt x="35" y="140"/>
                  </a:lnTo>
                  <a:lnTo>
                    <a:pt x="70" y="118"/>
                  </a:lnTo>
                  <a:lnTo>
                    <a:pt x="116" y="118"/>
                  </a:lnTo>
                  <a:lnTo>
                    <a:pt x="185" y="157"/>
                  </a:lnTo>
                  <a:lnTo>
                    <a:pt x="210" y="112"/>
                  </a:lnTo>
                  <a:lnTo>
                    <a:pt x="238" y="84"/>
                  </a:lnTo>
                  <a:lnTo>
                    <a:pt x="268" y="61"/>
                  </a:lnTo>
                  <a:lnTo>
                    <a:pt x="296" y="56"/>
                  </a:lnTo>
                  <a:lnTo>
                    <a:pt x="319" y="56"/>
                  </a:lnTo>
                  <a:lnTo>
                    <a:pt x="342" y="73"/>
                  </a:lnTo>
                  <a:lnTo>
                    <a:pt x="367" y="107"/>
                  </a:lnTo>
                  <a:lnTo>
                    <a:pt x="395" y="157"/>
                  </a:lnTo>
                  <a:lnTo>
                    <a:pt x="441" y="112"/>
                  </a:lnTo>
                  <a:lnTo>
                    <a:pt x="489" y="84"/>
                  </a:lnTo>
                  <a:lnTo>
                    <a:pt x="523" y="61"/>
                  </a:lnTo>
                  <a:lnTo>
                    <a:pt x="564" y="61"/>
                  </a:lnTo>
                  <a:lnTo>
                    <a:pt x="593" y="67"/>
                  </a:lnTo>
                  <a:lnTo>
                    <a:pt x="628" y="9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704920" y="4608360"/>
              <a:ext cx="27720" cy="46080"/>
            </a:xfrm>
            <a:custGeom>
              <a:avLst/>
              <a:gdLst/>
              <a:ahLst/>
              <a:rect l="l" t="t" r="r" b="b"/>
              <a:pathLst>
                <a:path w="145" h="220">
                  <a:moveTo>
                    <a:pt x="0" y="90"/>
                  </a:moveTo>
                  <a:lnTo>
                    <a:pt x="23" y="141"/>
                  </a:lnTo>
                  <a:lnTo>
                    <a:pt x="52" y="220"/>
                  </a:lnTo>
                  <a:lnTo>
                    <a:pt x="52" y="169"/>
                  </a:lnTo>
                  <a:lnTo>
                    <a:pt x="64" y="124"/>
                  </a:lnTo>
                  <a:lnTo>
                    <a:pt x="76" y="79"/>
                  </a:lnTo>
                  <a:lnTo>
                    <a:pt x="92" y="51"/>
                  </a:lnTo>
                  <a:lnTo>
                    <a:pt x="110" y="17"/>
                  </a:lnTo>
                  <a:lnTo>
                    <a:pt x="145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76200" y="4618440"/>
              <a:ext cx="11520" cy="20520"/>
            </a:xfrm>
            <a:custGeom>
              <a:avLst/>
              <a:gdLst/>
              <a:ahLst/>
              <a:rect l="l" t="t" r="r" b="b"/>
              <a:pathLst>
                <a:path w="58" h="96">
                  <a:moveTo>
                    <a:pt x="5" y="0"/>
                  </a:moveTo>
                  <a:lnTo>
                    <a:pt x="0" y="39"/>
                  </a:lnTo>
                  <a:lnTo>
                    <a:pt x="0" y="67"/>
                  </a:lnTo>
                  <a:lnTo>
                    <a:pt x="5" y="84"/>
                  </a:lnTo>
                  <a:lnTo>
                    <a:pt x="12" y="96"/>
                  </a:lnTo>
                  <a:lnTo>
                    <a:pt x="17" y="90"/>
                  </a:lnTo>
                  <a:lnTo>
                    <a:pt x="29" y="90"/>
                  </a:lnTo>
                  <a:lnTo>
                    <a:pt x="58" y="84"/>
                  </a:lnTo>
                  <a:lnTo>
                    <a:pt x="47" y="51"/>
                  </a:lnTo>
                  <a:lnTo>
                    <a:pt x="17" y="1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ae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966280" y="4618440"/>
              <a:ext cx="31320" cy="28440"/>
            </a:xfrm>
            <a:custGeom>
              <a:avLst/>
              <a:gdLst/>
              <a:ahLst/>
              <a:rect l="l" t="t" r="r" b="b"/>
              <a:pathLst>
                <a:path w="163" h="130">
                  <a:moveTo>
                    <a:pt x="146" y="0"/>
                  </a:moveTo>
                  <a:lnTo>
                    <a:pt x="128" y="5"/>
                  </a:lnTo>
                  <a:lnTo>
                    <a:pt x="99" y="22"/>
                  </a:lnTo>
                  <a:lnTo>
                    <a:pt x="65" y="39"/>
                  </a:lnTo>
                  <a:lnTo>
                    <a:pt x="35" y="62"/>
                  </a:lnTo>
                  <a:lnTo>
                    <a:pt x="6" y="79"/>
                  </a:lnTo>
                  <a:lnTo>
                    <a:pt x="0" y="101"/>
                  </a:lnTo>
                  <a:lnTo>
                    <a:pt x="12" y="118"/>
                  </a:lnTo>
                  <a:lnTo>
                    <a:pt x="52" y="130"/>
                  </a:lnTo>
                  <a:lnTo>
                    <a:pt x="99" y="123"/>
                  </a:lnTo>
                  <a:lnTo>
                    <a:pt x="134" y="118"/>
                  </a:lnTo>
                  <a:lnTo>
                    <a:pt x="151" y="101"/>
                  </a:lnTo>
                  <a:lnTo>
                    <a:pt x="163" y="84"/>
                  </a:lnTo>
                  <a:lnTo>
                    <a:pt x="157" y="39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7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563520" y="4618440"/>
              <a:ext cx="86040" cy="143640"/>
            </a:xfrm>
            <a:custGeom>
              <a:avLst/>
              <a:gdLst/>
              <a:ahLst/>
              <a:rect l="l" t="t" r="r" b="b"/>
              <a:pathLst>
                <a:path w="442" h="669">
                  <a:moveTo>
                    <a:pt x="349" y="0"/>
                  </a:moveTo>
                  <a:lnTo>
                    <a:pt x="332" y="22"/>
                  </a:lnTo>
                  <a:lnTo>
                    <a:pt x="326" y="51"/>
                  </a:lnTo>
                  <a:lnTo>
                    <a:pt x="302" y="73"/>
                  </a:lnTo>
                  <a:lnTo>
                    <a:pt x="279" y="90"/>
                  </a:lnTo>
                  <a:lnTo>
                    <a:pt x="238" y="106"/>
                  </a:lnTo>
                  <a:lnTo>
                    <a:pt x="198" y="123"/>
                  </a:lnTo>
                  <a:lnTo>
                    <a:pt x="152" y="140"/>
                  </a:lnTo>
                  <a:lnTo>
                    <a:pt x="122" y="169"/>
                  </a:lnTo>
                  <a:lnTo>
                    <a:pt x="88" y="202"/>
                  </a:lnTo>
                  <a:lnTo>
                    <a:pt x="70" y="258"/>
                  </a:lnTo>
                  <a:lnTo>
                    <a:pt x="47" y="314"/>
                  </a:lnTo>
                  <a:lnTo>
                    <a:pt x="35" y="382"/>
                  </a:lnTo>
                  <a:lnTo>
                    <a:pt x="18" y="444"/>
                  </a:lnTo>
                  <a:lnTo>
                    <a:pt x="12" y="512"/>
                  </a:lnTo>
                  <a:lnTo>
                    <a:pt x="0" y="579"/>
                  </a:lnTo>
                  <a:lnTo>
                    <a:pt x="0" y="647"/>
                  </a:lnTo>
                  <a:lnTo>
                    <a:pt x="23" y="647"/>
                  </a:lnTo>
                  <a:lnTo>
                    <a:pt x="53" y="658"/>
                  </a:lnTo>
                  <a:lnTo>
                    <a:pt x="81" y="663"/>
                  </a:lnTo>
                  <a:lnTo>
                    <a:pt x="111" y="669"/>
                  </a:lnTo>
                  <a:lnTo>
                    <a:pt x="117" y="624"/>
                  </a:lnTo>
                  <a:lnTo>
                    <a:pt x="134" y="579"/>
                  </a:lnTo>
                  <a:lnTo>
                    <a:pt x="146" y="528"/>
                  </a:lnTo>
                  <a:lnTo>
                    <a:pt x="175" y="489"/>
                  </a:lnTo>
                  <a:lnTo>
                    <a:pt x="198" y="456"/>
                  </a:lnTo>
                  <a:lnTo>
                    <a:pt x="245" y="422"/>
                  </a:lnTo>
                  <a:lnTo>
                    <a:pt x="291" y="388"/>
                  </a:lnTo>
                  <a:lnTo>
                    <a:pt x="337" y="360"/>
                  </a:lnTo>
                  <a:lnTo>
                    <a:pt x="378" y="314"/>
                  </a:lnTo>
                  <a:lnTo>
                    <a:pt x="413" y="275"/>
                  </a:lnTo>
                  <a:lnTo>
                    <a:pt x="436" y="225"/>
                  </a:lnTo>
                  <a:lnTo>
                    <a:pt x="442" y="180"/>
                  </a:lnTo>
                  <a:lnTo>
                    <a:pt x="425" y="147"/>
                  </a:lnTo>
                  <a:lnTo>
                    <a:pt x="395" y="101"/>
                  </a:lnTo>
                  <a:lnTo>
                    <a:pt x="360" y="51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fd9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28320" y="4619880"/>
              <a:ext cx="17280" cy="15840"/>
            </a:xfrm>
            <a:custGeom>
              <a:avLst/>
              <a:gdLst/>
              <a:ahLst/>
              <a:rect l="l" t="t" r="r" b="b"/>
              <a:pathLst>
                <a:path w="93" h="74">
                  <a:moveTo>
                    <a:pt x="41" y="6"/>
                  </a:moveTo>
                  <a:lnTo>
                    <a:pt x="11" y="12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17" y="46"/>
                  </a:lnTo>
                  <a:lnTo>
                    <a:pt x="46" y="62"/>
                  </a:lnTo>
                  <a:lnTo>
                    <a:pt x="64" y="74"/>
                  </a:lnTo>
                  <a:lnTo>
                    <a:pt x="82" y="46"/>
                  </a:lnTo>
                  <a:lnTo>
                    <a:pt x="93" y="23"/>
                  </a:lnTo>
                  <a:lnTo>
                    <a:pt x="87" y="6"/>
                  </a:lnTo>
                  <a:lnTo>
                    <a:pt x="82" y="0"/>
                  </a:lnTo>
                  <a:lnTo>
                    <a:pt x="64" y="0"/>
                  </a:lnTo>
                  <a:lnTo>
                    <a:pt x="41" y="6"/>
                  </a:lnTo>
                  <a:close/>
                </a:path>
              </a:pathLst>
            </a:custGeom>
            <a:solidFill>
              <a:srgbClr val="fae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137640" y="4620960"/>
              <a:ext cx="31320" cy="38160"/>
            </a:xfrm>
            <a:custGeom>
              <a:avLst/>
              <a:gdLst/>
              <a:ahLst/>
              <a:rect l="l" t="t" r="r" b="b"/>
              <a:pathLst>
                <a:path w="162" h="180">
                  <a:moveTo>
                    <a:pt x="145" y="0"/>
                  </a:moveTo>
                  <a:lnTo>
                    <a:pt x="104" y="17"/>
                  </a:lnTo>
                  <a:lnTo>
                    <a:pt x="69" y="34"/>
                  </a:lnTo>
                  <a:lnTo>
                    <a:pt x="40" y="51"/>
                  </a:lnTo>
                  <a:lnTo>
                    <a:pt x="17" y="68"/>
                  </a:lnTo>
                  <a:lnTo>
                    <a:pt x="0" y="85"/>
                  </a:lnTo>
                  <a:lnTo>
                    <a:pt x="5" y="107"/>
                  </a:lnTo>
                  <a:lnTo>
                    <a:pt x="23" y="124"/>
                  </a:lnTo>
                  <a:lnTo>
                    <a:pt x="63" y="158"/>
                  </a:lnTo>
                  <a:lnTo>
                    <a:pt x="104" y="175"/>
                  </a:lnTo>
                  <a:lnTo>
                    <a:pt x="134" y="180"/>
                  </a:lnTo>
                  <a:lnTo>
                    <a:pt x="150" y="169"/>
                  </a:lnTo>
                  <a:lnTo>
                    <a:pt x="162" y="152"/>
                  </a:lnTo>
                  <a:lnTo>
                    <a:pt x="157" y="119"/>
                  </a:lnTo>
                  <a:lnTo>
                    <a:pt x="157" y="85"/>
                  </a:lnTo>
                  <a:lnTo>
                    <a:pt x="150" y="4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e6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30360" y="4625280"/>
              <a:ext cx="40680" cy="29160"/>
            </a:xfrm>
            <a:custGeom>
              <a:avLst/>
              <a:gdLst/>
              <a:ahLst/>
              <a:rect l="l" t="t" r="r" b="b"/>
              <a:pathLst>
                <a:path w="210" h="141">
                  <a:moveTo>
                    <a:pt x="111" y="0"/>
                  </a:moveTo>
                  <a:lnTo>
                    <a:pt x="82" y="17"/>
                  </a:lnTo>
                  <a:lnTo>
                    <a:pt x="53" y="45"/>
                  </a:lnTo>
                  <a:lnTo>
                    <a:pt x="23" y="73"/>
                  </a:lnTo>
                  <a:lnTo>
                    <a:pt x="12" y="107"/>
                  </a:lnTo>
                  <a:lnTo>
                    <a:pt x="0" y="124"/>
                  </a:lnTo>
                  <a:lnTo>
                    <a:pt x="12" y="141"/>
                  </a:lnTo>
                  <a:lnTo>
                    <a:pt x="35" y="141"/>
                  </a:lnTo>
                  <a:lnTo>
                    <a:pt x="94" y="129"/>
                  </a:lnTo>
                  <a:lnTo>
                    <a:pt x="140" y="102"/>
                  </a:lnTo>
                  <a:lnTo>
                    <a:pt x="175" y="85"/>
                  </a:lnTo>
                  <a:lnTo>
                    <a:pt x="198" y="68"/>
                  </a:lnTo>
                  <a:lnTo>
                    <a:pt x="210" y="56"/>
                  </a:lnTo>
                  <a:lnTo>
                    <a:pt x="203" y="39"/>
                  </a:lnTo>
                  <a:lnTo>
                    <a:pt x="186" y="28"/>
                  </a:lnTo>
                  <a:lnTo>
                    <a:pt x="152" y="11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eba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81720" y="4629960"/>
              <a:ext cx="66240" cy="132120"/>
            </a:xfrm>
            <a:custGeom>
              <a:avLst/>
              <a:gdLst/>
              <a:ahLst/>
              <a:rect l="l" t="t" r="r" b="b"/>
              <a:pathLst>
                <a:path w="337" h="613">
                  <a:moveTo>
                    <a:pt x="203" y="6"/>
                  </a:moveTo>
                  <a:lnTo>
                    <a:pt x="134" y="34"/>
                  </a:lnTo>
                  <a:lnTo>
                    <a:pt x="86" y="91"/>
                  </a:lnTo>
                  <a:lnTo>
                    <a:pt x="46" y="158"/>
                  </a:lnTo>
                  <a:lnTo>
                    <a:pt x="29" y="241"/>
                  </a:lnTo>
                  <a:lnTo>
                    <a:pt x="5" y="326"/>
                  </a:lnTo>
                  <a:lnTo>
                    <a:pt x="5" y="427"/>
                  </a:lnTo>
                  <a:lnTo>
                    <a:pt x="0" y="518"/>
                  </a:lnTo>
                  <a:lnTo>
                    <a:pt x="17" y="613"/>
                  </a:lnTo>
                  <a:lnTo>
                    <a:pt x="52" y="613"/>
                  </a:lnTo>
                  <a:lnTo>
                    <a:pt x="93" y="607"/>
                  </a:lnTo>
                  <a:lnTo>
                    <a:pt x="122" y="602"/>
                  </a:lnTo>
                  <a:lnTo>
                    <a:pt x="151" y="602"/>
                  </a:lnTo>
                  <a:lnTo>
                    <a:pt x="192" y="591"/>
                  </a:lnTo>
                  <a:lnTo>
                    <a:pt x="192" y="506"/>
                  </a:lnTo>
                  <a:lnTo>
                    <a:pt x="203" y="439"/>
                  </a:lnTo>
                  <a:lnTo>
                    <a:pt x="220" y="371"/>
                  </a:lnTo>
                  <a:lnTo>
                    <a:pt x="238" y="304"/>
                  </a:lnTo>
                  <a:lnTo>
                    <a:pt x="255" y="236"/>
                  </a:lnTo>
                  <a:lnTo>
                    <a:pt x="279" y="180"/>
                  </a:lnTo>
                  <a:lnTo>
                    <a:pt x="302" y="113"/>
                  </a:lnTo>
                  <a:lnTo>
                    <a:pt x="337" y="57"/>
                  </a:lnTo>
                  <a:lnTo>
                    <a:pt x="308" y="34"/>
                  </a:lnTo>
                  <a:lnTo>
                    <a:pt x="279" y="11"/>
                  </a:lnTo>
                  <a:lnTo>
                    <a:pt x="238" y="0"/>
                  </a:lnTo>
                  <a:lnTo>
                    <a:pt x="203" y="6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25360" y="4635720"/>
              <a:ext cx="24480" cy="59760"/>
            </a:xfrm>
            <a:custGeom>
              <a:avLst/>
              <a:gdLst/>
              <a:ahLst/>
              <a:rect l="l" t="t" r="r" b="b"/>
              <a:pathLst>
                <a:path w="121" h="281">
                  <a:moveTo>
                    <a:pt x="58" y="0"/>
                  </a:moveTo>
                  <a:lnTo>
                    <a:pt x="29" y="39"/>
                  </a:lnTo>
                  <a:lnTo>
                    <a:pt x="12" y="78"/>
                  </a:lnTo>
                  <a:lnTo>
                    <a:pt x="0" y="112"/>
                  </a:lnTo>
                  <a:lnTo>
                    <a:pt x="0" y="146"/>
                  </a:lnTo>
                  <a:lnTo>
                    <a:pt x="0" y="179"/>
                  </a:lnTo>
                  <a:lnTo>
                    <a:pt x="12" y="213"/>
                  </a:lnTo>
                  <a:lnTo>
                    <a:pt x="23" y="247"/>
                  </a:lnTo>
                  <a:lnTo>
                    <a:pt x="47" y="281"/>
                  </a:lnTo>
                  <a:lnTo>
                    <a:pt x="40" y="281"/>
                  </a:lnTo>
                  <a:lnTo>
                    <a:pt x="58" y="281"/>
                  </a:lnTo>
                  <a:lnTo>
                    <a:pt x="75" y="281"/>
                  </a:lnTo>
                  <a:lnTo>
                    <a:pt x="98" y="281"/>
                  </a:lnTo>
                  <a:lnTo>
                    <a:pt x="98" y="247"/>
                  </a:lnTo>
                  <a:lnTo>
                    <a:pt x="111" y="218"/>
                  </a:lnTo>
                  <a:lnTo>
                    <a:pt x="111" y="186"/>
                  </a:lnTo>
                  <a:lnTo>
                    <a:pt x="121" y="157"/>
                  </a:lnTo>
                  <a:lnTo>
                    <a:pt x="121" y="118"/>
                  </a:lnTo>
                  <a:lnTo>
                    <a:pt x="121" y="84"/>
                  </a:lnTo>
                  <a:lnTo>
                    <a:pt x="116" y="51"/>
                  </a:lnTo>
                  <a:lnTo>
                    <a:pt x="111" y="22"/>
                  </a:lnTo>
                  <a:lnTo>
                    <a:pt x="81" y="11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ebf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668560" y="4635720"/>
              <a:ext cx="31320" cy="68760"/>
            </a:xfrm>
            <a:custGeom>
              <a:avLst/>
              <a:gdLst/>
              <a:ahLst/>
              <a:rect l="l" t="t" r="r" b="b"/>
              <a:pathLst>
                <a:path w="164" h="320">
                  <a:moveTo>
                    <a:pt x="106" y="0"/>
                  </a:moveTo>
                  <a:lnTo>
                    <a:pt x="59" y="34"/>
                  </a:lnTo>
                  <a:lnTo>
                    <a:pt x="30" y="68"/>
                  </a:lnTo>
                  <a:lnTo>
                    <a:pt x="12" y="101"/>
                  </a:lnTo>
                  <a:lnTo>
                    <a:pt x="7" y="140"/>
                  </a:lnTo>
                  <a:lnTo>
                    <a:pt x="0" y="174"/>
                  </a:lnTo>
                  <a:lnTo>
                    <a:pt x="12" y="218"/>
                  </a:lnTo>
                  <a:lnTo>
                    <a:pt x="24" y="264"/>
                  </a:lnTo>
                  <a:lnTo>
                    <a:pt x="53" y="320"/>
                  </a:lnTo>
                  <a:lnTo>
                    <a:pt x="106" y="292"/>
                  </a:lnTo>
                  <a:lnTo>
                    <a:pt x="146" y="258"/>
                  </a:lnTo>
                  <a:lnTo>
                    <a:pt x="157" y="218"/>
                  </a:lnTo>
                  <a:lnTo>
                    <a:pt x="164" y="179"/>
                  </a:lnTo>
                  <a:lnTo>
                    <a:pt x="146" y="129"/>
                  </a:lnTo>
                  <a:lnTo>
                    <a:pt x="134" y="84"/>
                  </a:lnTo>
                  <a:lnTo>
                    <a:pt x="117" y="34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c4fc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110440" y="4640040"/>
              <a:ext cx="393120" cy="703440"/>
            </a:xfrm>
            <a:custGeom>
              <a:avLst/>
              <a:gdLst/>
              <a:ahLst/>
              <a:rect l="l" t="t" r="r" b="b"/>
              <a:pathLst>
                <a:path w="2023" h="3289">
                  <a:moveTo>
                    <a:pt x="1262" y="0"/>
                  </a:moveTo>
                  <a:lnTo>
                    <a:pt x="1262" y="17"/>
                  </a:lnTo>
                  <a:lnTo>
                    <a:pt x="1267" y="56"/>
                  </a:lnTo>
                  <a:lnTo>
                    <a:pt x="1273" y="96"/>
                  </a:lnTo>
                  <a:lnTo>
                    <a:pt x="1278" y="118"/>
                  </a:lnTo>
                  <a:lnTo>
                    <a:pt x="1227" y="164"/>
                  </a:lnTo>
                  <a:lnTo>
                    <a:pt x="1179" y="225"/>
                  </a:lnTo>
                  <a:lnTo>
                    <a:pt x="1133" y="281"/>
                  </a:lnTo>
                  <a:lnTo>
                    <a:pt x="1093" y="331"/>
                  </a:lnTo>
                  <a:lnTo>
                    <a:pt x="1047" y="360"/>
                  </a:lnTo>
                  <a:lnTo>
                    <a:pt x="999" y="372"/>
                  </a:lnTo>
                  <a:lnTo>
                    <a:pt x="941" y="348"/>
                  </a:lnTo>
                  <a:lnTo>
                    <a:pt x="890" y="287"/>
                  </a:lnTo>
                  <a:lnTo>
                    <a:pt x="849" y="230"/>
                  </a:lnTo>
                  <a:lnTo>
                    <a:pt x="814" y="181"/>
                  </a:lnTo>
                  <a:lnTo>
                    <a:pt x="796" y="147"/>
                  </a:lnTo>
                  <a:lnTo>
                    <a:pt x="779" y="118"/>
                  </a:lnTo>
                  <a:lnTo>
                    <a:pt x="768" y="85"/>
                  </a:lnTo>
                  <a:lnTo>
                    <a:pt x="761" y="56"/>
                  </a:lnTo>
                  <a:lnTo>
                    <a:pt x="686" y="90"/>
                  </a:lnTo>
                  <a:lnTo>
                    <a:pt x="599" y="141"/>
                  </a:lnTo>
                  <a:lnTo>
                    <a:pt x="505" y="191"/>
                  </a:lnTo>
                  <a:lnTo>
                    <a:pt x="419" y="253"/>
                  </a:lnTo>
                  <a:lnTo>
                    <a:pt x="325" y="315"/>
                  </a:lnTo>
                  <a:lnTo>
                    <a:pt x="251" y="377"/>
                  </a:lnTo>
                  <a:lnTo>
                    <a:pt x="186" y="439"/>
                  </a:lnTo>
                  <a:lnTo>
                    <a:pt x="145" y="507"/>
                  </a:lnTo>
                  <a:lnTo>
                    <a:pt x="111" y="574"/>
                  </a:lnTo>
                  <a:lnTo>
                    <a:pt x="87" y="675"/>
                  </a:lnTo>
                  <a:lnTo>
                    <a:pt x="71" y="799"/>
                  </a:lnTo>
                  <a:lnTo>
                    <a:pt x="53" y="939"/>
                  </a:lnTo>
                  <a:lnTo>
                    <a:pt x="35" y="1074"/>
                  </a:lnTo>
                  <a:lnTo>
                    <a:pt x="23" y="1209"/>
                  </a:lnTo>
                  <a:lnTo>
                    <a:pt x="12" y="1327"/>
                  </a:lnTo>
                  <a:lnTo>
                    <a:pt x="12" y="1429"/>
                  </a:lnTo>
                  <a:lnTo>
                    <a:pt x="0" y="1564"/>
                  </a:lnTo>
                  <a:lnTo>
                    <a:pt x="0" y="1682"/>
                  </a:lnTo>
                  <a:lnTo>
                    <a:pt x="6" y="1783"/>
                  </a:lnTo>
                  <a:lnTo>
                    <a:pt x="29" y="1890"/>
                  </a:lnTo>
                  <a:lnTo>
                    <a:pt x="53" y="1979"/>
                  </a:lnTo>
                  <a:lnTo>
                    <a:pt x="94" y="2075"/>
                  </a:lnTo>
                  <a:lnTo>
                    <a:pt x="140" y="2170"/>
                  </a:lnTo>
                  <a:lnTo>
                    <a:pt x="198" y="2283"/>
                  </a:lnTo>
                  <a:lnTo>
                    <a:pt x="226" y="2339"/>
                  </a:lnTo>
                  <a:lnTo>
                    <a:pt x="256" y="2401"/>
                  </a:lnTo>
                  <a:lnTo>
                    <a:pt x="285" y="2457"/>
                  </a:lnTo>
                  <a:lnTo>
                    <a:pt x="320" y="2513"/>
                  </a:lnTo>
                  <a:lnTo>
                    <a:pt x="343" y="2457"/>
                  </a:lnTo>
                  <a:lnTo>
                    <a:pt x="372" y="2406"/>
                  </a:lnTo>
                  <a:lnTo>
                    <a:pt x="408" y="2356"/>
                  </a:lnTo>
                  <a:lnTo>
                    <a:pt x="442" y="2305"/>
                  </a:lnTo>
                  <a:lnTo>
                    <a:pt x="477" y="2255"/>
                  </a:lnTo>
                  <a:lnTo>
                    <a:pt x="512" y="2204"/>
                  </a:lnTo>
                  <a:lnTo>
                    <a:pt x="553" y="2160"/>
                  </a:lnTo>
                  <a:lnTo>
                    <a:pt x="599" y="2126"/>
                  </a:lnTo>
                  <a:lnTo>
                    <a:pt x="564" y="2047"/>
                  </a:lnTo>
                  <a:lnTo>
                    <a:pt x="523" y="1968"/>
                  </a:lnTo>
                  <a:lnTo>
                    <a:pt x="471" y="1883"/>
                  </a:lnTo>
                  <a:lnTo>
                    <a:pt x="424" y="1800"/>
                  </a:lnTo>
                  <a:lnTo>
                    <a:pt x="372" y="1715"/>
                  </a:lnTo>
                  <a:lnTo>
                    <a:pt x="337" y="1631"/>
                  </a:lnTo>
                  <a:lnTo>
                    <a:pt x="314" y="1552"/>
                  </a:lnTo>
                  <a:lnTo>
                    <a:pt x="320" y="1484"/>
                  </a:lnTo>
                  <a:lnTo>
                    <a:pt x="320" y="1451"/>
                  </a:lnTo>
                  <a:lnTo>
                    <a:pt x="325" y="1405"/>
                  </a:lnTo>
                  <a:lnTo>
                    <a:pt x="332" y="1361"/>
                  </a:lnTo>
                  <a:lnTo>
                    <a:pt x="349" y="1327"/>
                  </a:lnTo>
                  <a:lnTo>
                    <a:pt x="366" y="1277"/>
                  </a:lnTo>
                  <a:lnTo>
                    <a:pt x="383" y="1287"/>
                  </a:lnTo>
                  <a:lnTo>
                    <a:pt x="401" y="1333"/>
                  </a:lnTo>
                  <a:lnTo>
                    <a:pt x="419" y="1412"/>
                  </a:lnTo>
                  <a:lnTo>
                    <a:pt x="431" y="1496"/>
                  </a:lnTo>
                  <a:lnTo>
                    <a:pt x="442" y="1586"/>
                  </a:lnTo>
                  <a:lnTo>
                    <a:pt x="459" y="1659"/>
                  </a:lnTo>
                  <a:lnTo>
                    <a:pt x="477" y="1715"/>
                  </a:lnTo>
                  <a:lnTo>
                    <a:pt x="500" y="1755"/>
                  </a:lnTo>
                  <a:lnTo>
                    <a:pt x="535" y="1800"/>
                  </a:lnTo>
                  <a:lnTo>
                    <a:pt x="570" y="1844"/>
                  </a:lnTo>
                  <a:lnTo>
                    <a:pt x="604" y="1895"/>
                  </a:lnTo>
                  <a:lnTo>
                    <a:pt x="634" y="1934"/>
                  </a:lnTo>
                  <a:lnTo>
                    <a:pt x="662" y="1979"/>
                  </a:lnTo>
                  <a:lnTo>
                    <a:pt x="692" y="2025"/>
                  </a:lnTo>
                  <a:lnTo>
                    <a:pt x="715" y="2075"/>
                  </a:lnTo>
                  <a:lnTo>
                    <a:pt x="715" y="2097"/>
                  </a:lnTo>
                  <a:lnTo>
                    <a:pt x="721" y="2120"/>
                  </a:lnTo>
                  <a:lnTo>
                    <a:pt x="715" y="2143"/>
                  </a:lnTo>
                  <a:lnTo>
                    <a:pt x="715" y="2153"/>
                  </a:lnTo>
                  <a:lnTo>
                    <a:pt x="715" y="2170"/>
                  </a:lnTo>
                  <a:lnTo>
                    <a:pt x="715" y="2193"/>
                  </a:lnTo>
                  <a:lnTo>
                    <a:pt x="727" y="2199"/>
                  </a:lnTo>
                  <a:lnTo>
                    <a:pt x="733" y="2216"/>
                  </a:lnTo>
                  <a:lnTo>
                    <a:pt x="750" y="2249"/>
                  </a:lnTo>
                  <a:lnTo>
                    <a:pt x="779" y="2283"/>
                  </a:lnTo>
                  <a:lnTo>
                    <a:pt x="796" y="2322"/>
                  </a:lnTo>
                  <a:lnTo>
                    <a:pt x="826" y="2361"/>
                  </a:lnTo>
                  <a:lnTo>
                    <a:pt x="842" y="2395"/>
                  </a:lnTo>
                  <a:lnTo>
                    <a:pt x="860" y="2440"/>
                  </a:lnTo>
                  <a:lnTo>
                    <a:pt x="872" y="2491"/>
                  </a:lnTo>
                  <a:lnTo>
                    <a:pt x="890" y="2541"/>
                  </a:lnTo>
                  <a:lnTo>
                    <a:pt x="890" y="2643"/>
                  </a:lnTo>
                  <a:lnTo>
                    <a:pt x="872" y="2722"/>
                  </a:lnTo>
                  <a:lnTo>
                    <a:pt x="837" y="2778"/>
                  </a:lnTo>
                  <a:lnTo>
                    <a:pt x="785" y="2817"/>
                  </a:lnTo>
                  <a:lnTo>
                    <a:pt x="715" y="2828"/>
                  </a:lnTo>
                  <a:lnTo>
                    <a:pt x="639" y="2828"/>
                  </a:lnTo>
                  <a:lnTo>
                    <a:pt x="553" y="2817"/>
                  </a:lnTo>
                  <a:lnTo>
                    <a:pt x="465" y="2795"/>
                  </a:lnTo>
                  <a:lnTo>
                    <a:pt x="448" y="2834"/>
                  </a:lnTo>
                  <a:lnTo>
                    <a:pt x="442" y="2891"/>
                  </a:lnTo>
                  <a:lnTo>
                    <a:pt x="431" y="2947"/>
                  </a:lnTo>
                  <a:lnTo>
                    <a:pt x="431" y="3014"/>
                  </a:lnTo>
                  <a:lnTo>
                    <a:pt x="431" y="3070"/>
                  </a:lnTo>
                  <a:lnTo>
                    <a:pt x="431" y="3132"/>
                  </a:lnTo>
                  <a:lnTo>
                    <a:pt x="431" y="3183"/>
                  </a:lnTo>
                  <a:lnTo>
                    <a:pt x="436" y="3234"/>
                  </a:lnTo>
                  <a:lnTo>
                    <a:pt x="505" y="3234"/>
                  </a:lnTo>
                  <a:lnTo>
                    <a:pt x="593" y="3244"/>
                  </a:lnTo>
                  <a:lnTo>
                    <a:pt x="674" y="3256"/>
                  </a:lnTo>
                  <a:lnTo>
                    <a:pt x="761" y="3267"/>
                  </a:lnTo>
                  <a:lnTo>
                    <a:pt x="842" y="3273"/>
                  </a:lnTo>
                  <a:lnTo>
                    <a:pt x="930" y="3278"/>
                  </a:lnTo>
                  <a:lnTo>
                    <a:pt x="1017" y="3284"/>
                  </a:lnTo>
                  <a:lnTo>
                    <a:pt x="1105" y="3289"/>
                  </a:lnTo>
                  <a:lnTo>
                    <a:pt x="1156" y="3284"/>
                  </a:lnTo>
                  <a:lnTo>
                    <a:pt x="1220" y="3289"/>
                  </a:lnTo>
                  <a:lnTo>
                    <a:pt x="1273" y="3289"/>
                  </a:lnTo>
                  <a:lnTo>
                    <a:pt x="1331" y="3289"/>
                  </a:lnTo>
                  <a:lnTo>
                    <a:pt x="1366" y="3273"/>
                  </a:lnTo>
                  <a:lnTo>
                    <a:pt x="1442" y="3239"/>
                  </a:lnTo>
                  <a:lnTo>
                    <a:pt x="1541" y="3188"/>
                  </a:lnTo>
                  <a:lnTo>
                    <a:pt x="1656" y="3143"/>
                  </a:lnTo>
                  <a:lnTo>
                    <a:pt x="1767" y="3087"/>
                  </a:lnTo>
                  <a:lnTo>
                    <a:pt x="1860" y="3048"/>
                  </a:lnTo>
                  <a:lnTo>
                    <a:pt x="1929" y="3014"/>
                  </a:lnTo>
                  <a:lnTo>
                    <a:pt x="1959" y="3003"/>
                  </a:lnTo>
                  <a:lnTo>
                    <a:pt x="1970" y="2935"/>
                  </a:lnTo>
                  <a:lnTo>
                    <a:pt x="1977" y="2862"/>
                  </a:lnTo>
                  <a:lnTo>
                    <a:pt x="1965" y="2783"/>
                  </a:lnTo>
                  <a:lnTo>
                    <a:pt x="1959" y="2710"/>
                  </a:lnTo>
                  <a:lnTo>
                    <a:pt x="1941" y="2637"/>
                  </a:lnTo>
                  <a:lnTo>
                    <a:pt x="1924" y="2570"/>
                  </a:lnTo>
                  <a:lnTo>
                    <a:pt x="1906" y="2513"/>
                  </a:lnTo>
                  <a:lnTo>
                    <a:pt x="1901" y="2474"/>
                  </a:lnTo>
                  <a:lnTo>
                    <a:pt x="1894" y="2502"/>
                  </a:lnTo>
                  <a:lnTo>
                    <a:pt x="1894" y="2536"/>
                  </a:lnTo>
                  <a:lnTo>
                    <a:pt x="1889" y="2564"/>
                  </a:lnTo>
                  <a:lnTo>
                    <a:pt x="1889" y="2597"/>
                  </a:lnTo>
                  <a:lnTo>
                    <a:pt x="1883" y="2626"/>
                  </a:lnTo>
                  <a:lnTo>
                    <a:pt x="1883" y="2654"/>
                  </a:lnTo>
                  <a:lnTo>
                    <a:pt x="1871" y="2688"/>
                  </a:lnTo>
                  <a:lnTo>
                    <a:pt x="1866" y="2722"/>
                  </a:lnTo>
                  <a:lnTo>
                    <a:pt x="1843" y="2749"/>
                  </a:lnTo>
                  <a:lnTo>
                    <a:pt x="1825" y="2773"/>
                  </a:lnTo>
                  <a:lnTo>
                    <a:pt x="1808" y="2778"/>
                  </a:lnTo>
                  <a:lnTo>
                    <a:pt x="1790" y="2783"/>
                  </a:lnTo>
                  <a:lnTo>
                    <a:pt x="1761" y="2778"/>
                  </a:lnTo>
                  <a:lnTo>
                    <a:pt x="1738" y="2778"/>
                  </a:lnTo>
                  <a:lnTo>
                    <a:pt x="1709" y="2778"/>
                  </a:lnTo>
                  <a:lnTo>
                    <a:pt x="1680" y="2783"/>
                  </a:lnTo>
                  <a:lnTo>
                    <a:pt x="1622" y="2795"/>
                  </a:lnTo>
                  <a:lnTo>
                    <a:pt x="1569" y="2817"/>
                  </a:lnTo>
                  <a:lnTo>
                    <a:pt x="1506" y="2840"/>
                  </a:lnTo>
                  <a:lnTo>
                    <a:pt x="1453" y="2857"/>
                  </a:lnTo>
                  <a:lnTo>
                    <a:pt x="1395" y="2857"/>
                  </a:lnTo>
                  <a:lnTo>
                    <a:pt x="1349" y="2840"/>
                  </a:lnTo>
                  <a:lnTo>
                    <a:pt x="1302" y="2795"/>
                  </a:lnTo>
                  <a:lnTo>
                    <a:pt x="1278" y="2722"/>
                  </a:lnTo>
                  <a:lnTo>
                    <a:pt x="1267" y="2665"/>
                  </a:lnTo>
                  <a:lnTo>
                    <a:pt x="1267" y="2614"/>
                  </a:lnTo>
                  <a:lnTo>
                    <a:pt x="1267" y="2564"/>
                  </a:lnTo>
                  <a:lnTo>
                    <a:pt x="1278" y="2513"/>
                  </a:lnTo>
                  <a:lnTo>
                    <a:pt x="1285" y="2462"/>
                  </a:lnTo>
                  <a:lnTo>
                    <a:pt x="1302" y="2418"/>
                  </a:lnTo>
                  <a:lnTo>
                    <a:pt x="1313" y="2378"/>
                  </a:lnTo>
                  <a:lnTo>
                    <a:pt x="1331" y="2345"/>
                  </a:lnTo>
                  <a:lnTo>
                    <a:pt x="1366" y="2210"/>
                  </a:lnTo>
                  <a:lnTo>
                    <a:pt x="1412" y="2092"/>
                  </a:lnTo>
                  <a:lnTo>
                    <a:pt x="1459" y="1968"/>
                  </a:lnTo>
                  <a:lnTo>
                    <a:pt x="1500" y="1844"/>
                  </a:lnTo>
                  <a:lnTo>
                    <a:pt x="1529" y="1709"/>
                  </a:lnTo>
                  <a:lnTo>
                    <a:pt x="1546" y="1574"/>
                  </a:lnTo>
                  <a:lnTo>
                    <a:pt x="1552" y="1422"/>
                  </a:lnTo>
                  <a:lnTo>
                    <a:pt x="1541" y="1265"/>
                  </a:lnTo>
                  <a:lnTo>
                    <a:pt x="1534" y="1254"/>
                  </a:lnTo>
                  <a:lnTo>
                    <a:pt x="1534" y="1231"/>
                  </a:lnTo>
                  <a:lnTo>
                    <a:pt x="1529" y="1204"/>
                  </a:lnTo>
                  <a:lnTo>
                    <a:pt x="1529" y="1187"/>
                  </a:lnTo>
                  <a:lnTo>
                    <a:pt x="1534" y="1175"/>
                  </a:lnTo>
                  <a:lnTo>
                    <a:pt x="1552" y="1170"/>
                  </a:lnTo>
                  <a:lnTo>
                    <a:pt x="1564" y="1164"/>
                  </a:lnTo>
                  <a:lnTo>
                    <a:pt x="1569" y="1175"/>
                  </a:lnTo>
                  <a:lnTo>
                    <a:pt x="1599" y="1175"/>
                  </a:lnTo>
                  <a:lnTo>
                    <a:pt x="1599" y="1226"/>
                  </a:lnTo>
                  <a:lnTo>
                    <a:pt x="1610" y="1282"/>
                  </a:lnTo>
                  <a:lnTo>
                    <a:pt x="1622" y="1344"/>
                  </a:lnTo>
                  <a:lnTo>
                    <a:pt x="1640" y="1412"/>
                  </a:lnTo>
                  <a:lnTo>
                    <a:pt x="1645" y="1473"/>
                  </a:lnTo>
                  <a:lnTo>
                    <a:pt x="1651" y="1540"/>
                  </a:lnTo>
                  <a:lnTo>
                    <a:pt x="1651" y="1608"/>
                  </a:lnTo>
                  <a:lnTo>
                    <a:pt x="1651" y="1675"/>
                  </a:lnTo>
                  <a:lnTo>
                    <a:pt x="1633" y="1721"/>
                  </a:lnTo>
                  <a:lnTo>
                    <a:pt x="1610" y="1783"/>
                  </a:lnTo>
                  <a:lnTo>
                    <a:pt x="1581" y="1861"/>
                  </a:lnTo>
                  <a:lnTo>
                    <a:pt x="1552" y="1945"/>
                  </a:lnTo>
                  <a:lnTo>
                    <a:pt x="1517" y="2025"/>
                  </a:lnTo>
                  <a:lnTo>
                    <a:pt x="1483" y="2109"/>
                  </a:lnTo>
                  <a:lnTo>
                    <a:pt x="1453" y="2182"/>
                  </a:lnTo>
                  <a:lnTo>
                    <a:pt x="1435" y="2244"/>
                  </a:lnTo>
                  <a:lnTo>
                    <a:pt x="1483" y="2271"/>
                  </a:lnTo>
                  <a:lnTo>
                    <a:pt x="1534" y="2305"/>
                  </a:lnTo>
                  <a:lnTo>
                    <a:pt x="1581" y="2345"/>
                  </a:lnTo>
                  <a:lnTo>
                    <a:pt x="1622" y="2384"/>
                  </a:lnTo>
                  <a:lnTo>
                    <a:pt x="1640" y="2412"/>
                  </a:lnTo>
                  <a:lnTo>
                    <a:pt x="1663" y="2446"/>
                  </a:lnTo>
                  <a:lnTo>
                    <a:pt x="1680" y="2479"/>
                  </a:lnTo>
                  <a:lnTo>
                    <a:pt x="1697" y="2513"/>
                  </a:lnTo>
                  <a:lnTo>
                    <a:pt x="1709" y="2541"/>
                  </a:lnTo>
                  <a:lnTo>
                    <a:pt x="1732" y="2570"/>
                  </a:lnTo>
                  <a:lnTo>
                    <a:pt x="1755" y="2597"/>
                  </a:lnTo>
                  <a:lnTo>
                    <a:pt x="1795" y="2631"/>
                  </a:lnTo>
                  <a:lnTo>
                    <a:pt x="1820" y="2525"/>
                  </a:lnTo>
                  <a:lnTo>
                    <a:pt x="1854" y="2418"/>
                  </a:lnTo>
                  <a:lnTo>
                    <a:pt x="1889" y="2305"/>
                  </a:lnTo>
                  <a:lnTo>
                    <a:pt x="1929" y="2193"/>
                  </a:lnTo>
                  <a:lnTo>
                    <a:pt x="1959" y="2075"/>
                  </a:lnTo>
                  <a:lnTo>
                    <a:pt x="1988" y="1968"/>
                  </a:lnTo>
                  <a:lnTo>
                    <a:pt x="2005" y="1861"/>
                  </a:lnTo>
                  <a:lnTo>
                    <a:pt x="2023" y="1766"/>
                  </a:lnTo>
                  <a:lnTo>
                    <a:pt x="2017" y="1692"/>
                  </a:lnTo>
                  <a:lnTo>
                    <a:pt x="2011" y="1619"/>
                  </a:lnTo>
                  <a:lnTo>
                    <a:pt x="2000" y="1540"/>
                  </a:lnTo>
                  <a:lnTo>
                    <a:pt x="1988" y="1462"/>
                  </a:lnTo>
                  <a:lnTo>
                    <a:pt x="1970" y="1378"/>
                  </a:lnTo>
                  <a:lnTo>
                    <a:pt x="1952" y="1299"/>
                  </a:lnTo>
                  <a:lnTo>
                    <a:pt x="1936" y="1221"/>
                  </a:lnTo>
                  <a:lnTo>
                    <a:pt x="1929" y="1158"/>
                  </a:lnTo>
                  <a:lnTo>
                    <a:pt x="1912" y="1063"/>
                  </a:lnTo>
                  <a:lnTo>
                    <a:pt x="1912" y="973"/>
                  </a:lnTo>
                  <a:lnTo>
                    <a:pt x="1906" y="877"/>
                  </a:lnTo>
                  <a:lnTo>
                    <a:pt x="1906" y="787"/>
                  </a:lnTo>
                  <a:lnTo>
                    <a:pt x="1894" y="698"/>
                  </a:lnTo>
                  <a:lnTo>
                    <a:pt x="1889" y="613"/>
                  </a:lnTo>
                  <a:lnTo>
                    <a:pt x="1866" y="534"/>
                  </a:lnTo>
                  <a:lnTo>
                    <a:pt x="1837" y="466"/>
                  </a:lnTo>
                  <a:lnTo>
                    <a:pt x="1790" y="399"/>
                  </a:lnTo>
                  <a:lnTo>
                    <a:pt x="1732" y="338"/>
                  </a:lnTo>
                  <a:lnTo>
                    <a:pt x="1663" y="270"/>
                  </a:lnTo>
                  <a:lnTo>
                    <a:pt x="1581" y="208"/>
                  </a:lnTo>
                  <a:lnTo>
                    <a:pt x="1494" y="141"/>
                  </a:lnTo>
                  <a:lnTo>
                    <a:pt x="1412" y="85"/>
                  </a:lnTo>
                  <a:lnTo>
                    <a:pt x="1326" y="34"/>
                  </a:lnTo>
                  <a:lnTo>
                    <a:pt x="1262" y="0"/>
                  </a:lnTo>
                  <a:close/>
                </a:path>
              </a:pathLst>
            </a:custGeom>
            <a:solidFill>
              <a:srgbClr val="bff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95000" y="4643640"/>
              <a:ext cx="42840" cy="63000"/>
            </a:xfrm>
            <a:custGeom>
              <a:avLst/>
              <a:gdLst/>
              <a:ahLst/>
              <a:rect l="l" t="t" r="r" b="b"/>
              <a:pathLst>
                <a:path w="221" h="297">
                  <a:moveTo>
                    <a:pt x="99" y="0"/>
                  </a:moveTo>
                  <a:lnTo>
                    <a:pt x="69" y="39"/>
                  </a:lnTo>
                  <a:lnTo>
                    <a:pt x="41" y="95"/>
                  </a:lnTo>
                  <a:lnTo>
                    <a:pt x="18" y="152"/>
                  </a:lnTo>
                  <a:lnTo>
                    <a:pt x="6" y="213"/>
                  </a:lnTo>
                  <a:lnTo>
                    <a:pt x="0" y="258"/>
                  </a:lnTo>
                  <a:lnTo>
                    <a:pt x="18" y="292"/>
                  </a:lnTo>
                  <a:lnTo>
                    <a:pt x="53" y="297"/>
                  </a:lnTo>
                  <a:lnTo>
                    <a:pt x="116" y="275"/>
                  </a:lnTo>
                  <a:lnTo>
                    <a:pt x="175" y="280"/>
                  </a:lnTo>
                  <a:lnTo>
                    <a:pt x="209" y="269"/>
                  </a:lnTo>
                  <a:lnTo>
                    <a:pt x="221" y="241"/>
                  </a:lnTo>
                  <a:lnTo>
                    <a:pt x="221" y="196"/>
                  </a:lnTo>
                  <a:lnTo>
                    <a:pt x="192" y="140"/>
                  </a:lnTo>
                  <a:lnTo>
                    <a:pt x="168" y="89"/>
                  </a:lnTo>
                  <a:lnTo>
                    <a:pt x="134" y="34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c3f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026760" y="4643640"/>
              <a:ext cx="68760" cy="73080"/>
            </a:xfrm>
            <a:custGeom>
              <a:avLst/>
              <a:gdLst/>
              <a:ahLst/>
              <a:rect l="l" t="t" r="r" b="b"/>
              <a:pathLst>
                <a:path w="354" h="348">
                  <a:moveTo>
                    <a:pt x="273" y="0"/>
                  </a:moveTo>
                  <a:lnTo>
                    <a:pt x="256" y="34"/>
                  </a:lnTo>
                  <a:lnTo>
                    <a:pt x="244" y="67"/>
                  </a:lnTo>
                  <a:lnTo>
                    <a:pt x="215" y="73"/>
                  </a:lnTo>
                  <a:lnTo>
                    <a:pt x="186" y="84"/>
                  </a:lnTo>
                  <a:lnTo>
                    <a:pt x="157" y="89"/>
                  </a:lnTo>
                  <a:lnTo>
                    <a:pt x="128" y="95"/>
                  </a:lnTo>
                  <a:lnTo>
                    <a:pt x="70" y="112"/>
                  </a:lnTo>
                  <a:lnTo>
                    <a:pt x="35" y="145"/>
                  </a:lnTo>
                  <a:lnTo>
                    <a:pt x="12" y="174"/>
                  </a:lnTo>
                  <a:lnTo>
                    <a:pt x="5" y="208"/>
                  </a:lnTo>
                  <a:lnTo>
                    <a:pt x="0" y="241"/>
                  </a:lnTo>
                  <a:lnTo>
                    <a:pt x="5" y="280"/>
                  </a:lnTo>
                  <a:lnTo>
                    <a:pt x="29" y="326"/>
                  </a:lnTo>
                  <a:lnTo>
                    <a:pt x="76" y="348"/>
                  </a:lnTo>
                  <a:lnTo>
                    <a:pt x="128" y="336"/>
                  </a:lnTo>
                  <a:lnTo>
                    <a:pt x="186" y="319"/>
                  </a:lnTo>
                  <a:lnTo>
                    <a:pt x="233" y="297"/>
                  </a:lnTo>
                  <a:lnTo>
                    <a:pt x="279" y="269"/>
                  </a:lnTo>
                  <a:lnTo>
                    <a:pt x="308" y="230"/>
                  </a:lnTo>
                  <a:lnTo>
                    <a:pt x="337" y="184"/>
                  </a:lnTo>
                  <a:lnTo>
                    <a:pt x="354" y="135"/>
                  </a:lnTo>
                  <a:lnTo>
                    <a:pt x="354" y="78"/>
                  </a:lnTo>
                  <a:lnTo>
                    <a:pt x="337" y="56"/>
                  </a:lnTo>
                  <a:lnTo>
                    <a:pt x="314" y="34"/>
                  </a:lnTo>
                  <a:lnTo>
                    <a:pt x="285" y="10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95120" y="4646880"/>
              <a:ext cx="12960" cy="41760"/>
            </a:xfrm>
            <a:custGeom>
              <a:avLst/>
              <a:gdLst/>
              <a:ahLst/>
              <a:rect l="l" t="t" r="r" b="b"/>
              <a:pathLst>
                <a:path w="64" h="201">
                  <a:moveTo>
                    <a:pt x="17" y="0"/>
                  </a:moveTo>
                  <a:lnTo>
                    <a:pt x="6" y="17"/>
                  </a:lnTo>
                  <a:lnTo>
                    <a:pt x="6" y="56"/>
                  </a:lnTo>
                  <a:lnTo>
                    <a:pt x="0" y="89"/>
                  </a:lnTo>
                  <a:lnTo>
                    <a:pt x="0" y="135"/>
                  </a:lnTo>
                  <a:lnTo>
                    <a:pt x="0" y="162"/>
                  </a:lnTo>
                  <a:lnTo>
                    <a:pt x="6" y="191"/>
                  </a:lnTo>
                  <a:lnTo>
                    <a:pt x="24" y="201"/>
                  </a:lnTo>
                  <a:lnTo>
                    <a:pt x="52" y="201"/>
                  </a:lnTo>
                  <a:lnTo>
                    <a:pt x="58" y="184"/>
                  </a:lnTo>
                  <a:lnTo>
                    <a:pt x="64" y="157"/>
                  </a:lnTo>
                  <a:lnTo>
                    <a:pt x="58" y="123"/>
                  </a:lnTo>
                  <a:lnTo>
                    <a:pt x="58" y="95"/>
                  </a:lnTo>
                  <a:lnTo>
                    <a:pt x="47" y="61"/>
                  </a:lnTo>
                  <a:lnTo>
                    <a:pt x="47" y="27"/>
                  </a:lnTo>
                  <a:lnTo>
                    <a:pt x="47" y="5"/>
                  </a:lnTo>
                  <a:lnTo>
                    <a:pt x="52" y="0"/>
                  </a:lnTo>
                  <a:lnTo>
                    <a:pt x="3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4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20480" y="4646880"/>
              <a:ext cx="39600" cy="69840"/>
            </a:xfrm>
            <a:custGeom>
              <a:avLst/>
              <a:gdLst/>
              <a:ahLst/>
              <a:rect l="l" t="t" r="r" b="b"/>
              <a:pathLst>
                <a:path w="203" h="331">
                  <a:moveTo>
                    <a:pt x="69" y="0"/>
                  </a:moveTo>
                  <a:lnTo>
                    <a:pt x="46" y="33"/>
                  </a:lnTo>
                  <a:lnTo>
                    <a:pt x="28" y="84"/>
                  </a:lnTo>
                  <a:lnTo>
                    <a:pt x="11" y="140"/>
                  </a:lnTo>
                  <a:lnTo>
                    <a:pt x="0" y="201"/>
                  </a:lnTo>
                  <a:lnTo>
                    <a:pt x="0" y="252"/>
                  </a:lnTo>
                  <a:lnTo>
                    <a:pt x="16" y="297"/>
                  </a:lnTo>
                  <a:lnTo>
                    <a:pt x="51" y="326"/>
                  </a:lnTo>
                  <a:lnTo>
                    <a:pt x="122" y="331"/>
                  </a:lnTo>
                  <a:lnTo>
                    <a:pt x="162" y="309"/>
                  </a:lnTo>
                  <a:lnTo>
                    <a:pt x="185" y="280"/>
                  </a:lnTo>
                  <a:lnTo>
                    <a:pt x="198" y="230"/>
                  </a:lnTo>
                  <a:lnTo>
                    <a:pt x="203" y="184"/>
                  </a:lnTo>
                  <a:lnTo>
                    <a:pt x="191" y="128"/>
                  </a:lnTo>
                  <a:lnTo>
                    <a:pt x="180" y="78"/>
                  </a:lnTo>
                  <a:lnTo>
                    <a:pt x="168" y="27"/>
                  </a:lnTo>
                  <a:lnTo>
                    <a:pt x="162" y="0"/>
                  </a:lnTo>
                  <a:lnTo>
                    <a:pt x="115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ba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91160" y="4647960"/>
              <a:ext cx="102600" cy="248760"/>
            </a:xfrm>
            <a:custGeom>
              <a:avLst/>
              <a:gdLst/>
              <a:ahLst/>
              <a:rect l="l" t="t" r="r" b="b"/>
              <a:pathLst>
                <a:path w="524" h="1164">
                  <a:moveTo>
                    <a:pt x="321" y="5"/>
                  </a:moveTo>
                  <a:lnTo>
                    <a:pt x="245" y="17"/>
                  </a:lnTo>
                  <a:lnTo>
                    <a:pt x="181" y="51"/>
                  </a:lnTo>
                  <a:lnTo>
                    <a:pt x="123" y="96"/>
                  </a:lnTo>
                  <a:lnTo>
                    <a:pt x="82" y="162"/>
                  </a:lnTo>
                  <a:lnTo>
                    <a:pt x="42" y="236"/>
                  </a:lnTo>
                  <a:lnTo>
                    <a:pt x="17" y="321"/>
                  </a:lnTo>
                  <a:lnTo>
                    <a:pt x="0" y="405"/>
                  </a:lnTo>
                  <a:lnTo>
                    <a:pt x="0" y="495"/>
                  </a:lnTo>
                  <a:lnTo>
                    <a:pt x="0" y="528"/>
                  </a:lnTo>
                  <a:lnTo>
                    <a:pt x="17" y="551"/>
                  </a:lnTo>
                  <a:lnTo>
                    <a:pt x="42" y="557"/>
                  </a:lnTo>
                  <a:lnTo>
                    <a:pt x="82" y="574"/>
                  </a:lnTo>
                  <a:lnTo>
                    <a:pt x="76" y="534"/>
                  </a:lnTo>
                  <a:lnTo>
                    <a:pt x="70" y="500"/>
                  </a:lnTo>
                  <a:lnTo>
                    <a:pt x="70" y="461"/>
                  </a:lnTo>
                  <a:lnTo>
                    <a:pt x="70" y="427"/>
                  </a:lnTo>
                  <a:lnTo>
                    <a:pt x="70" y="388"/>
                  </a:lnTo>
                  <a:lnTo>
                    <a:pt x="70" y="354"/>
                  </a:lnTo>
                  <a:lnTo>
                    <a:pt x="70" y="314"/>
                  </a:lnTo>
                  <a:lnTo>
                    <a:pt x="70" y="275"/>
                  </a:lnTo>
                  <a:lnTo>
                    <a:pt x="123" y="264"/>
                  </a:lnTo>
                  <a:lnTo>
                    <a:pt x="123" y="292"/>
                  </a:lnTo>
                  <a:lnTo>
                    <a:pt x="128" y="338"/>
                  </a:lnTo>
                  <a:lnTo>
                    <a:pt x="134" y="388"/>
                  </a:lnTo>
                  <a:lnTo>
                    <a:pt x="146" y="444"/>
                  </a:lnTo>
                  <a:lnTo>
                    <a:pt x="151" y="489"/>
                  </a:lnTo>
                  <a:lnTo>
                    <a:pt x="164" y="534"/>
                  </a:lnTo>
                  <a:lnTo>
                    <a:pt x="169" y="562"/>
                  </a:lnTo>
                  <a:lnTo>
                    <a:pt x="174" y="574"/>
                  </a:lnTo>
                  <a:lnTo>
                    <a:pt x="164" y="584"/>
                  </a:lnTo>
                  <a:lnTo>
                    <a:pt x="151" y="613"/>
                  </a:lnTo>
                  <a:lnTo>
                    <a:pt x="140" y="641"/>
                  </a:lnTo>
                  <a:lnTo>
                    <a:pt x="134" y="664"/>
                  </a:lnTo>
                  <a:lnTo>
                    <a:pt x="111" y="675"/>
                  </a:lnTo>
                  <a:lnTo>
                    <a:pt x="82" y="675"/>
                  </a:lnTo>
                  <a:lnTo>
                    <a:pt x="76" y="714"/>
                  </a:lnTo>
                  <a:lnTo>
                    <a:pt x="76" y="765"/>
                  </a:lnTo>
                  <a:lnTo>
                    <a:pt x="76" y="815"/>
                  </a:lnTo>
                  <a:lnTo>
                    <a:pt x="76" y="866"/>
                  </a:lnTo>
                  <a:lnTo>
                    <a:pt x="76" y="905"/>
                  </a:lnTo>
                  <a:lnTo>
                    <a:pt x="76" y="950"/>
                  </a:lnTo>
                  <a:lnTo>
                    <a:pt x="76" y="989"/>
                  </a:lnTo>
                  <a:lnTo>
                    <a:pt x="82" y="1023"/>
                  </a:lnTo>
                  <a:lnTo>
                    <a:pt x="76" y="1074"/>
                  </a:lnTo>
                  <a:lnTo>
                    <a:pt x="88" y="1119"/>
                  </a:lnTo>
                  <a:lnTo>
                    <a:pt x="93" y="1130"/>
                  </a:lnTo>
                  <a:lnTo>
                    <a:pt x="116" y="1141"/>
                  </a:lnTo>
                  <a:lnTo>
                    <a:pt x="146" y="1153"/>
                  </a:lnTo>
                  <a:lnTo>
                    <a:pt x="187" y="1164"/>
                  </a:lnTo>
                  <a:lnTo>
                    <a:pt x="233" y="1164"/>
                  </a:lnTo>
                  <a:lnTo>
                    <a:pt x="285" y="1153"/>
                  </a:lnTo>
                  <a:lnTo>
                    <a:pt x="326" y="1130"/>
                  </a:lnTo>
                  <a:lnTo>
                    <a:pt x="372" y="1113"/>
                  </a:lnTo>
                  <a:lnTo>
                    <a:pt x="407" y="1085"/>
                  </a:lnTo>
                  <a:lnTo>
                    <a:pt x="448" y="1057"/>
                  </a:lnTo>
                  <a:lnTo>
                    <a:pt x="483" y="1029"/>
                  </a:lnTo>
                  <a:lnTo>
                    <a:pt x="524" y="1012"/>
                  </a:lnTo>
                  <a:lnTo>
                    <a:pt x="501" y="956"/>
                  </a:lnTo>
                  <a:lnTo>
                    <a:pt x="494" y="910"/>
                  </a:lnTo>
                  <a:lnTo>
                    <a:pt x="494" y="860"/>
                  </a:lnTo>
                  <a:lnTo>
                    <a:pt x="501" y="821"/>
                  </a:lnTo>
                  <a:lnTo>
                    <a:pt x="501" y="770"/>
                  </a:lnTo>
                  <a:lnTo>
                    <a:pt x="506" y="726"/>
                  </a:lnTo>
                  <a:lnTo>
                    <a:pt x="506" y="675"/>
                  </a:lnTo>
                  <a:lnTo>
                    <a:pt x="512" y="624"/>
                  </a:lnTo>
                  <a:lnTo>
                    <a:pt x="471" y="635"/>
                  </a:lnTo>
                  <a:lnTo>
                    <a:pt x="448" y="641"/>
                  </a:lnTo>
                  <a:lnTo>
                    <a:pt x="419" y="641"/>
                  </a:lnTo>
                  <a:lnTo>
                    <a:pt x="402" y="641"/>
                  </a:lnTo>
                  <a:lnTo>
                    <a:pt x="355" y="618"/>
                  </a:lnTo>
                  <a:lnTo>
                    <a:pt x="308" y="584"/>
                  </a:lnTo>
                  <a:lnTo>
                    <a:pt x="314" y="523"/>
                  </a:lnTo>
                  <a:lnTo>
                    <a:pt x="331" y="461"/>
                  </a:lnTo>
                  <a:lnTo>
                    <a:pt x="337" y="393"/>
                  </a:lnTo>
                  <a:lnTo>
                    <a:pt x="355" y="338"/>
                  </a:lnTo>
                  <a:lnTo>
                    <a:pt x="361" y="270"/>
                  </a:lnTo>
                  <a:lnTo>
                    <a:pt x="372" y="213"/>
                  </a:lnTo>
                  <a:lnTo>
                    <a:pt x="384" y="157"/>
                  </a:lnTo>
                  <a:lnTo>
                    <a:pt x="402" y="107"/>
                  </a:lnTo>
                  <a:lnTo>
                    <a:pt x="384" y="79"/>
                  </a:lnTo>
                  <a:lnTo>
                    <a:pt x="390" y="45"/>
                  </a:lnTo>
                  <a:lnTo>
                    <a:pt x="379" y="28"/>
                  </a:lnTo>
                  <a:lnTo>
                    <a:pt x="372" y="12"/>
                  </a:lnTo>
                  <a:lnTo>
                    <a:pt x="349" y="0"/>
                  </a:lnTo>
                  <a:lnTo>
                    <a:pt x="321" y="5"/>
                  </a:lnTo>
                  <a:close/>
                </a:path>
              </a:pathLst>
            </a:custGeom>
            <a:solidFill>
              <a:srgbClr val="fdb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723640" y="4654800"/>
              <a:ext cx="18360" cy="47160"/>
            </a:xfrm>
            <a:custGeom>
              <a:avLst/>
              <a:gdLst/>
              <a:ahLst/>
              <a:rect l="l" t="t" r="r" b="b"/>
              <a:pathLst>
                <a:path w="99" h="219">
                  <a:moveTo>
                    <a:pt x="35" y="0"/>
                  </a:moveTo>
                  <a:lnTo>
                    <a:pt x="12" y="45"/>
                  </a:lnTo>
                  <a:lnTo>
                    <a:pt x="7" y="96"/>
                  </a:lnTo>
                  <a:lnTo>
                    <a:pt x="0" y="118"/>
                  </a:lnTo>
                  <a:lnTo>
                    <a:pt x="0" y="145"/>
                  </a:lnTo>
                  <a:lnTo>
                    <a:pt x="0" y="179"/>
                  </a:lnTo>
                  <a:lnTo>
                    <a:pt x="12" y="219"/>
                  </a:lnTo>
                  <a:lnTo>
                    <a:pt x="41" y="213"/>
                  </a:lnTo>
                  <a:lnTo>
                    <a:pt x="76" y="219"/>
                  </a:lnTo>
                  <a:lnTo>
                    <a:pt x="83" y="174"/>
                  </a:lnTo>
                  <a:lnTo>
                    <a:pt x="88" y="140"/>
                  </a:lnTo>
                  <a:lnTo>
                    <a:pt x="94" y="106"/>
                  </a:lnTo>
                  <a:lnTo>
                    <a:pt x="99" y="89"/>
                  </a:lnTo>
                  <a:lnTo>
                    <a:pt x="76" y="45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4f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69000" y="4654800"/>
              <a:ext cx="24120" cy="57240"/>
            </a:xfrm>
            <a:custGeom>
              <a:avLst/>
              <a:gdLst/>
              <a:ahLst/>
              <a:rect l="l" t="t" r="r" b="b"/>
              <a:pathLst>
                <a:path w="123" h="270">
                  <a:moveTo>
                    <a:pt x="41" y="0"/>
                  </a:moveTo>
                  <a:lnTo>
                    <a:pt x="25" y="45"/>
                  </a:lnTo>
                  <a:lnTo>
                    <a:pt x="13" y="84"/>
                  </a:lnTo>
                  <a:lnTo>
                    <a:pt x="0" y="118"/>
                  </a:lnTo>
                  <a:lnTo>
                    <a:pt x="0" y="152"/>
                  </a:lnTo>
                  <a:lnTo>
                    <a:pt x="0" y="179"/>
                  </a:lnTo>
                  <a:lnTo>
                    <a:pt x="13" y="208"/>
                  </a:lnTo>
                  <a:lnTo>
                    <a:pt x="36" y="236"/>
                  </a:lnTo>
                  <a:lnTo>
                    <a:pt x="76" y="270"/>
                  </a:lnTo>
                  <a:lnTo>
                    <a:pt x="88" y="219"/>
                  </a:lnTo>
                  <a:lnTo>
                    <a:pt x="106" y="185"/>
                  </a:lnTo>
                  <a:lnTo>
                    <a:pt x="117" y="152"/>
                  </a:lnTo>
                  <a:lnTo>
                    <a:pt x="123" y="118"/>
                  </a:lnTo>
                  <a:lnTo>
                    <a:pt x="117" y="84"/>
                  </a:lnTo>
                  <a:lnTo>
                    <a:pt x="106" y="56"/>
                  </a:lnTo>
                  <a:lnTo>
                    <a:pt x="76" y="28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cac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72040" y="4654800"/>
              <a:ext cx="33840" cy="40320"/>
            </a:xfrm>
            <a:custGeom>
              <a:avLst/>
              <a:gdLst/>
              <a:ahLst/>
              <a:rect l="l" t="t" r="r" b="b"/>
              <a:pathLst>
                <a:path w="175" h="191">
                  <a:moveTo>
                    <a:pt x="134" y="0"/>
                  </a:moveTo>
                  <a:lnTo>
                    <a:pt x="94" y="0"/>
                  </a:lnTo>
                  <a:lnTo>
                    <a:pt x="64" y="5"/>
                  </a:lnTo>
                  <a:lnTo>
                    <a:pt x="41" y="11"/>
                  </a:lnTo>
                  <a:lnTo>
                    <a:pt x="23" y="28"/>
                  </a:lnTo>
                  <a:lnTo>
                    <a:pt x="6" y="45"/>
                  </a:lnTo>
                  <a:lnTo>
                    <a:pt x="0" y="73"/>
                  </a:lnTo>
                  <a:lnTo>
                    <a:pt x="0" y="106"/>
                  </a:lnTo>
                  <a:lnTo>
                    <a:pt x="0" y="162"/>
                  </a:lnTo>
                  <a:lnTo>
                    <a:pt x="52" y="179"/>
                  </a:lnTo>
                  <a:lnTo>
                    <a:pt x="70" y="185"/>
                  </a:lnTo>
                  <a:lnTo>
                    <a:pt x="87" y="185"/>
                  </a:lnTo>
                  <a:lnTo>
                    <a:pt x="105" y="191"/>
                  </a:lnTo>
                  <a:lnTo>
                    <a:pt x="128" y="179"/>
                  </a:lnTo>
                  <a:lnTo>
                    <a:pt x="151" y="162"/>
                  </a:lnTo>
                  <a:lnTo>
                    <a:pt x="163" y="140"/>
                  </a:lnTo>
                  <a:lnTo>
                    <a:pt x="175" y="118"/>
                  </a:lnTo>
                  <a:lnTo>
                    <a:pt x="175" y="84"/>
                  </a:lnTo>
                  <a:lnTo>
                    <a:pt x="175" y="56"/>
                  </a:lnTo>
                  <a:lnTo>
                    <a:pt x="168" y="22"/>
                  </a:lnTo>
                  <a:lnTo>
                    <a:pt x="168" y="0"/>
                  </a:lnTo>
                  <a:lnTo>
                    <a:pt x="151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cd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93360" y="4659120"/>
              <a:ext cx="82800" cy="203400"/>
            </a:xfrm>
            <a:custGeom>
              <a:avLst/>
              <a:gdLst/>
              <a:ahLst/>
              <a:rect l="l" t="t" r="r" b="b"/>
              <a:pathLst>
                <a:path w="425" h="956">
                  <a:moveTo>
                    <a:pt x="169" y="0"/>
                  </a:moveTo>
                  <a:lnTo>
                    <a:pt x="123" y="6"/>
                  </a:lnTo>
                  <a:lnTo>
                    <a:pt x="99" y="34"/>
                  </a:lnTo>
                  <a:lnTo>
                    <a:pt x="83" y="62"/>
                  </a:lnTo>
                  <a:lnTo>
                    <a:pt x="65" y="106"/>
                  </a:lnTo>
                  <a:lnTo>
                    <a:pt x="35" y="152"/>
                  </a:lnTo>
                  <a:lnTo>
                    <a:pt x="18" y="202"/>
                  </a:lnTo>
                  <a:lnTo>
                    <a:pt x="0" y="248"/>
                  </a:lnTo>
                  <a:lnTo>
                    <a:pt x="0" y="298"/>
                  </a:lnTo>
                  <a:lnTo>
                    <a:pt x="0" y="343"/>
                  </a:lnTo>
                  <a:lnTo>
                    <a:pt x="12" y="388"/>
                  </a:lnTo>
                  <a:lnTo>
                    <a:pt x="30" y="439"/>
                  </a:lnTo>
                  <a:lnTo>
                    <a:pt x="65" y="489"/>
                  </a:lnTo>
                  <a:lnTo>
                    <a:pt x="71" y="501"/>
                  </a:lnTo>
                  <a:lnTo>
                    <a:pt x="88" y="518"/>
                  </a:lnTo>
                  <a:lnTo>
                    <a:pt x="106" y="528"/>
                  </a:lnTo>
                  <a:lnTo>
                    <a:pt x="117" y="540"/>
                  </a:lnTo>
                  <a:lnTo>
                    <a:pt x="117" y="579"/>
                  </a:lnTo>
                  <a:lnTo>
                    <a:pt x="111" y="624"/>
                  </a:lnTo>
                  <a:lnTo>
                    <a:pt x="99" y="663"/>
                  </a:lnTo>
                  <a:lnTo>
                    <a:pt x="94" y="714"/>
                  </a:lnTo>
                  <a:lnTo>
                    <a:pt x="76" y="753"/>
                  </a:lnTo>
                  <a:lnTo>
                    <a:pt x="65" y="798"/>
                  </a:lnTo>
                  <a:lnTo>
                    <a:pt x="48" y="844"/>
                  </a:lnTo>
                  <a:lnTo>
                    <a:pt x="48" y="888"/>
                  </a:lnTo>
                  <a:lnTo>
                    <a:pt x="88" y="905"/>
                  </a:lnTo>
                  <a:lnTo>
                    <a:pt x="134" y="928"/>
                  </a:lnTo>
                  <a:lnTo>
                    <a:pt x="152" y="933"/>
                  </a:lnTo>
                  <a:lnTo>
                    <a:pt x="181" y="945"/>
                  </a:lnTo>
                  <a:lnTo>
                    <a:pt x="210" y="950"/>
                  </a:lnTo>
                  <a:lnTo>
                    <a:pt x="251" y="956"/>
                  </a:lnTo>
                  <a:lnTo>
                    <a:pt x="286" y="956"/>
                  </a:lnTo>
                  <a:lnTo>
                    <a:pt x="326" y="956"/>
                  </a:lnTo>
                  <a:lnTo>
                    <a:pt x="367" y="956"/>
                  </a:lnTo>
                  <a:lnTo>
                    <a:pt x="408" y="956"/>
                  </a:lnTo>
                  <a:lnTo>
                    <a:pt x="408" y="945"/>
                  </a:lnTo>
                  <a:lnTo>
                    <a:pt x="413" y="928"/>
                  </a:lnTo>
                  <a:lnTo>
                    <a:pt x="413" y="900"/>
                  </a:lnTo>
                  <a:lnTo>
                    <a:pt x="425" y="888"/>
                  </a:lnTo>
                  <a:lnTo>
                    <a:pt x="420" y="815"/>
                  </a:lnTo>
                  <a:lnTo>
                    <a:pt x="413" y="748"/>
                  </a:lnTo>
                  <a:lnTo>
                    <a:pt x="408" y="675"/>
                  </a:lnTo>
                  <a:lnTo>
                    <a:pt x="408" y="602"/>
                  </a:lnTo>
                  <a:lnTo>
                    <a:pt x="402" y="518"/>
                  </a:lnTo>
                  <a:lnTo>
                    <a:pt x="402" y="439"/>
                  </a:lnTo>
                  <a:lnTo>
                    <a:pt x="408" y="360"/>
                  </a:lnTo>
                  <a:lnTo>
                    <a:pt x="425" y="287"/>
                  </a:lnTo>
                  <a:lnTo>
                    <a:pt x="408" y="275"/>
                  </a:lnTo>
                  <a:lnTo>
                    <a:pt x="396" y="270"/>
                  </a:lnTo>
                  <a:lnTo>
                    <a:pt x="378" y="258"/>
                  </a:lnTo>
                  <a:lnTo>
                    <a:pt x="373" y="258"/>
                  </a:lnTo>
                  <a:lnTo>
                    <a:pt x="367" y="225"/>
                  </a:lnTo>
                  <a:lnTo>
                    <a:pt x="378" y="186"/>
                  </a:lnTo>
                  <a:lnTo>
                    <a:pt x="385" y="140"/>
                  </a:lnTo>
                  <a:lnTo>
                    <a:pt x="385" y="106"/>
                  </a:lnTo>
                  <a:lnTo>
                    <a:pt x="367" y="91"/>
                  </a:lnTo>
                  <a:lnTo>
                    <a:pt x="349" y="74"/>
                  </a:lnTo>
                  <a:lnTo>
                    <a:pt x="314" y="57"/>
                  </a:lnTo>
                  <a:lnTo>
                    <a:pt x="286" y="40"/>
                  </a:lnTo>
                  <a:lnTo>
                    <a:pt x="245" y="23"/>
                  </a:lnTo>
                  <a:lnTo>
                    <a:pt x="216" y="11"/>
                  </a:lnTo>
                  <a:lnTo>
                    <a:pt x="181" y="0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faa6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77240" y="4659120"/>
              <a:ext cx="48600" cy="201240"/>
            </a:xfrm>
            <a:custGeom>
              <a:avLst/>
              <a:gdLst/>
              <a:ahLst/>
              <a:rect l="l" t="t" r="r" b="b"/>
              <a:pathLst>
                <a:path w="250" h="939">
                  <a:moveTo>
                    <a:pt x="162" y="0"/>
                  </a:moveTo>
                  <a:lnTo>
                    <a:pt x="122" y="0"/>
                  </a:lnTo>
                  <a:lnTo>
                    <a:pt x="88" y="11"/>
                  </a:lnTo>
                  <a:lnTo>
                    <a:pt x="52" y="23"/>
                  </a:lnTo>
                  <a:lnTo>
                    <a:pt x="17" y="28"/>
                  </a:lnTo>
                  <a:lnTo>
                    <a:pt x="17" y="51"/>
                  </a:lnTo>
                  <a:lnTo>
                    <a:pt x="17" y="79"/>
                  </a:lnTo>
                  <a:lnTo>
                    <a:pt x="0" y="96"/>
                  </a:lnTo>
                  <a:lnTo>
                    <a:pt x="5" y="135"/>
                  </a:lnTo>
                  <a:lnTo>
                    <a:pt x="12" y="174"/>
                  </a:lnTo>
                  <a:lnTo>
                    <a:pt x="17" y="197"/>
                  </a:lnTo>
                  <a:lnTo>
                    <a:pt x="58" y="208"/>
                  </a:lnTo>
                  <a:lnTo>
                    <a:pt x="46" y="265"/>
                  </a:lnTo>
                  <a:lnTo>
                    <a:pt x="35" y="360"/>
                  </a:lnTo>
                  <a:lnTo>
                    <a:pt x="17" y="478"/>
                  </a:lnTo>
                  <a:lnTo>
                    <a:pt x="12" y="608"/>
                  </a:lnTo>
                  <a:lnTo>
                    <a:pt x="5" y="726"/>
                  </a:lnTo>
                  <a:lnTo>
                    <a:pt x="23" y="832"/>
                  </a:lnTo>
                  <a:lnTo>
                    <a:pt x="52" y="905"/>
                  </a:lnTo>
                  <a:lnTo>
                    <a:pt x="111" y="939"/>
                  </a:lnTo>
                  <a:lnTo>
                    <a:pt x="180" y="917"/>
                  </a:lnTo>
                  <a:lnTo>
                    <a:pt x="227" y="854"/>
                  </a:lnTo>
                  <a:lnTo>
                    <a:pt x="244" y="759"/>
                  </a:lnTo>
                  <a:lnTo>
                    <a:pt x="250" y="647"/>
                  </a:lnTo>
                  <a:lnTo>
                    <a:pt x="233" y="528"/>
                  </a:lnTo>
                  <a:lnTo>
                    <a:pt x="209" y="427"/>
                  </a:lnTo>
                  <a:lnTo>
                    <a:pt x="180" y="349"/>
                  </a:lnTo>
                  <a:lnTo>
                    <a:pt x="162" y="309"/>
                  </a:lnTo>
                  <a:lnTo>
                    <a:pt x="197" y="258"/>
                  </a:lnTo>
                  <a:lnTo>
                    <a:pt x="233" y="219"/>
                  </a:lnTo>
                  <a:lnTo>
                    <a:pt x="233" y="202"/>
                  </a:lnTo>
                  <a:lnTo>
                    <a:pt x="233" y="174"/>
                  </a:lnTo>
                  <a:lnTo>
                    <a:pt x="233" y="140"/>
                  </a:lnTo>
                  <a:lnTo>
                    <a:pt x="233" y="130"/>
                  </a:lnTo>
                  <a:lnTo>
                    <a:pt x="215" y="96"/>
                  </a:lnTo>
                  <a:lnTo>
                    <a:pt x="203" y="51"/>
                  </a:lnTo>
                  <a:lnTo>
                    <a:pt x="180" y="23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62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8440" y="4668480"/>
              <a:ext cx="103680" cy="376560"/>
            </a:xfrm>
            <a:custGeom>
              <a:avLst/>
              <a:gdLst/>
              <a:ahLst/>
              <a:rect l="l" t="t" r="r" b="b"/>
              <a:pathLst>
                <a:path w="529" h="1765">
                  <a:moveTo>
                    <a:pt x="314" y="0"/>
                  </a:moveTo>
                  <a:lnTo>
                    <a:pt x="309" y="22"/>
                  </a:lnTo>
                  <a:lnTo>
                    <a:pt x="303" y="66"/>
                  </a:lnTo>
                  <a:lnTo>
                    <a:pt x="297" y="106"/>
                  </a:lnTo>
                  <a:lnTo>
                    <a:pt x="291" y="146"/>
                  </a:lnTo>
                  <a:lnTo>
                    <a:pt x="262" y="162"/>
                  </a:lnTo>
                  <a:lnTo>
                    <a:pt x="227" y="185"/>
                  </a:lnTo>
                  <a:lnTo>
                    <a:pt x="187" y="201"/>
                  </a:lnTo>
                  <a:lnTo>
                    <a:pt x="146" y="225"/>
                  </a:lnTo>
                  <a:lnTo>
                    <a:pt x="99" y="242"/>
                  </a:lnTo>
                  <a:lnTo>
                    <a:pt x="65" y="264"/>
                  </a:lnTo>
                  <a:lnTo>
                    <a:pt x="35" y="286"/>
                  </a:lnTo>
                  <a:lnTo>
                    <a:pt x="23" y="326"/>
                  </a:lnTo>
                  <a:lnTo>
                    <a:pt x="12" y="360"/>
                  </a:lnTo>
                  <a:lnTo>
                    <a:pt x="7" y="427"/>
                  </a:lnTo>
                  <a:lnTo>
                    <a:pt x="0" y="500"/>
                  </a:lnTo>
                  <a:lnTo>
                    <a:pt x="0" y="590"/>
                  </a:lnTo>
                  <a:lnTo>
                    <a:pt x="0" y="669"/>
                  </a:lnTo>
                  <a:lnTo>
                    <a:pt x="0" y="753"/>
                  </a:lnTo>
                  <a:lnTo>
                    <a:pt x="7" y="809"/>
                  </a:lnTo>
                  <a:lnTo>
                    <a:pt x="12" y="848"/>
                  </a:lnTo>
                  <a:lnTo>
                    <a:pt x="41" y="848"/>
                  </a:lnTo>
                  <a:lnTo>
                    <a:pt x="76" y="860"/>
                  </a:lnTo>
                  <a:lnTo>
                    <a:pt x="111" y="865"/>
                  </a:lnTo>
                  <a:lnTo>
                    <a:pt x="146" y="877"/>
                  </a:lnTo>
                  <a:lnTo>
                    <a:pt x="111" y="949"/>
                  </a:lnTo>
                  <a:lnTo>
                    <a:pt x="99" y="1045"/>
                  </a:lnTo>
                  <a:lnTo>
                    <a:pt x="94" y="1157"/>
                  </a:lnTo>
                  <a:lnTo>
                    <a:pt x="111" y="1282"/>
                  </a:lnTo>
                  <a:lnTo>
                    <a:pt x="129" y="1400"/>
                  </a:lnTo>
                  <a:lnTo>
                    <a:pt x="146" y="1518"/>
                  </a:lnTo>
                  <a:lnTo>
                    <a:pt x="164" y="1630"/>
                  </a:lnTo>
                  <a:lnTo>
                    <a:pt x="180" y="1726"/>
                  </a:lnTo>
                  <a:lnTo>
                    <a:pt x="221" y="1731"/>
                  </a:lnTo>
                  <a:lnTo>
                    <a:pt x="268" y="1743"/>
                  </a:lnTo>
                  <a:lnTo>
                    <a:pt x="309" y="1748"/>
                  </a:lnTo>
                  <a:lnTo>
                    <a:pt x="355" y="1765"/>
                  </a:lnTo>
                  <a:lnTo>
                    <a:pt x="360" y="1765"/>
                  </a:lnTo>
                  <a:lnTo>
                    <a:pt x="390" y="1765"/>
                  </a:lnTo>
                  <a:lnTo>
                    <a:pt x="419" y="1765"/>
                  </a:lnTo>
                  <a:lnTo>
                    <a:pt x="436" y="1765"/>
                  </a:lnTo>
                  <a:lnTo>
                    <a:pt x="436" y="1731"/>
                  </a:lnTo>
                  <a:lnTo>
                    <a:pt x="448" y="1692"/>
                  </a:lnTo>
                  <a:lnTo>
                    <a:pt x="459" y="1641"/>
                  </a:lnTo>
                  <a:lnTo>
                    <a:pt x="471" y="1596"/>
                  </a:lnTo>
                  <a:lnTo>
                    <a:pt x="477" y="1540"/>
                  </a:lnTo>
                  <a:lnTo>
                    <a:pt x="483" y="1489"/>
                  </a:lnTo>
                  <a:lnTo>
                    <a:pt x="477" y="1439"/>
                  </a:lnTo>
                  <a:lnTo>
                    <a:pt x="477" y="1394"/>
                  </a:lnTo>
                  <a:lnTo>
                    <a:pt x="459" y="1371"/>
                  </a:lnTo>
                  <a:lnTo>
                    <a:pt x="443" y="1354"/>
                  </a:lnTo>
                  <a:lnTo>
                    <a:pt x="413" y="1332"/>
                  </a:lnTo>
                  <a:lnTo>
                    <a:pt x="408" y="1315"/>
                  </a:lnTo>
                  <a:lnTo>
                    <a:pt x="390" y="1258"/>
                  </a:lnTo>
                  <a:lnTo>
                    <a:pt x="372" y="1208"/>
                  </a:lnTo>
                  <a:lnTo>
                    <a:pt x="355" y="1152"/>
                  </a:lnTo>
                  <a:lnTo>
                    <a:pt x="337" y="1101"/>
                  </a:lnTo>
                  <a:lnTo>
                    <a:pt x="320" y="1045"/>
                  </a:lnTo>
                  <a:lnTo>
                    <a:pt x="303" y="995"/>
                  </a:lnTo>
                  <a:lnTo>
                    <a:pt x="291" y="949"/>
                  </a:lnTo>
                  <a:lnTo>
                    <a:pt x="291" y="916"/>
                  </a:lnTo>
                  <a:lnTo>
                    <a:pt x="279" y="797"/>
                  </a:lnTo>
                  <a:lnTo>
                    <a:pt x="286" y="686"/>
                  </a:lnTo>
                  <a:lnTo>
                    <a:pt x="303" y="573"/>
                  </a:lnTo>
                  <a:lnTo>
                    <a:pt x="344" y="478"/>
                  </a:lnTo>
                  <a:lnTo>
                    <a:pt x="378" y="377"/>
                  </a:lnTo>
                  <a:lnTo>
                    <a:pt x="425" y="292"/>
                  </a:lnTo>
                  <a:lnTo>
                    <a:pt x="477" y="213"/>
                  </a:lnTo>
                  <a:lnTo>
                    <a:pt x="529" y="157"/>
                  </a:lnTo>
                  <a:lnTo>
                    <a:pt x="517" y="146"/>
                  </a:lnTo>
                  <a:lnTo>
                    <a:pt x="500" y="117"/>
                  </a:lnTo>
                  <a:lnTo>
                    <a:pt x="477" y="83"/>
                  </a:lnTo>
                  <a:lnTo>
                    <a:pt x="459" y="66"/>
                  </a:lnTo>
                  <a:lnTo>
                    <a:pt x="431" y="34"/>
                  </a:lnTo>
                  <a:lnTo>
                    <a:pt x="413" y="17"/>
                  </a:lnTo>
                  <a:lnTo>
                    <a:pt x="378" y="0"/>
                  </a:lnTo>
                  <a:lnTo>
                    <a:pt x="332" y="0"/>
                  </a:lnTo>
                  <a:lnTo>
                    <a:pt x="320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82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742080" y="4674240"/>
              <a:ext cx="31320" cy="28080"/>
            </a:xfrm>
            <a:custGeom>
              <a:avLst/>
              <a:gdLst/>
              <a:ahLst/>
              <a:rect l="l" t="t" r="r" b="b"/>
              <a:pathLst>
                <a:path w="157" h="130">
                  <a:moveTo>
                    <a:pt x="58" y="0"/>
                  </a:moveTo>
                  <a:lnTo>
                    <a:pt x="12" y="34"/>
                  </a:lnTo>
                  <a:lnTo>
                    <a:pt x="0" y="79"/>
                  </a:lnTo>
                  <a:lnTo>
                    <a:pt x="0" y="90"/>
                  </a:lnTo>
                  <a:lnTo>
                    <a:pt x="24" y="107"/>
                  </a:lnTo>
                  <a:lnTo>
                    <a:pt x="53" y="119"/>
                  </a:lnTo>
                  <a:lnTo>
                    <a:pt x="99" y="130"/>
                  </a:lnTo>
                  <a:lnTo>
                    <a:pt x="134" y="119"/>
                  </a:lnTo>
                  <a:lnTo>
                    <a:pt x="157" y="107"/>
                  </a:lnTo>
                  <a:lnTo>
                    <a:pt x="157" y="90"/>
                  </a:lnTo>
                  <a:lnTo>
                    <a:pt x="146" y="73"/>
                  </a:lnTo>
                  <a:lnTo>
                    <a:pt x="123" y="46"/>
                  </a:lnTo>
                  <a:lnTo>
                    <a:pt x="99" y="29"/>
                  </a:lnTo>
                  <a:lnTo>
                    <a:pt x="70" y="7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2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52960" y="4678560"/>
              <a:ext cx="24480" cy="33840"/>
            </a:xfrm>
            <a:custGeom>
              <a:avLst/>
              <a:gdLst/>
              <a:ahLst/>
              <a:rect l="l" t="t" r="r" b="b"/>
              <a:pathLst>
                <a:path w="122" h="157">
                  <a:moveTo>
                    <a:pt x="116" y="0"/>
                  </a:moveTo>
                  <a:lnTo>
                    <a:pt x="76" y="10"/>
                  </a:lnTo>
                  <a:lnTo>
                    <a:pt x="47" y="22"/>
                  </a:lnTo>
                  <a:lnTo>
                    <a:pt x="23" y="32"/>
                  </a:lnTo>
                  <a:lnTo>
                    <a:pt x="12" y="49"/>
                  </a:lnTo>
                  <a:lnTo>
                    <a:pt x="0" y="66"/>
                  </a:lnTo>
                  <a:lnTo>
                    <a:pt x="0" y="89"/>
                  </a:lnTo>
                  <a:lnTo>
                    <a:pt x="0" y="117"/>
                  </a:lnTo>
                  <a:lnTo>
                    <a:pt x="5" y="157"/>
                  </a:lnTo>
                  <a:lnTo>
                    <a:pt x="47" y="140"/>
                  </a:lnTo>
                  <a:lnTo>
                    <a:pt x="81" y="128"/>
                  </a:lnTo>
                  <a:lnTo>
                    <a:pt x="99" y="111"/>
                  </a:lnTo>
                  <a:lnTo>
                    <a:pt x="116" y="100"/>
                  </a:lnTo>
                  <a:lnTo>
                    <a:pt x="116" y="78"/>
                  </a:lnTo>
                  <a:lnTo>
                    <a:pt x="122" y="61"/>
                  </a:lnTo>
                  <a:lnTo>
                    <a:pt x="116" y="27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e3b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667200" y="4704840"/>
              <a:ext cx="66240" cy="246240"/>
            </a:xfrm>
            <a:custGeom>
              <a:avLst/>
              <a:gdLst/>
              <a:ahLst/>
              <a:rect l="l" t="t" r="r" b="b"/>
              <a:pathLst>
                <a:path w="337" h="1158">
                  <a:moveTo>
                    <a:pt x="308" y="0"/>
                  </a:moveTo>
                  <a:lnTo>
                    <a:pt x="273" y="0"/>
                  </a:lnTo>
                  <a:lnTo>
                    <a:pt x="244" y="17"/>
                  </a:lnTo>
                  <a:lnTo>
                    <a:pt x="215" y="33"/>
                  </a:lnTo>
                  <a:lnTo>
                    <a:pt x="197" y="62"/>
                  </a:lnTo>
                  <a:lnTo>
                    <a:pt x="180" y="90"/>
                  </a:lnTo>
                  <a:lnTo>
                    <a:pt x="162" y="118"/>
                  </a:lnTo>
                  <a:lnTo>
                    <a:pt x="145" y="146"/>
                  </a:lnTo>
                  <a:lnTo>
                    <a:pt x="134" y="180"/>
                  </a:lnTo>
                  <a:lnTo>
                    <a:pt x="93" y="236"/>
                  </a:lnTo>
                  <a:lnTo>
                    <a:pt x="64" y="304"/>
                  </a:lnTo>
                  <a:lnTo>
                    <a:pt x="35" y="371"/>
                  </a:lnTo>
                  <a:lnTo>
                    <a:pt x="17" y="455"/>
                  </a:lnTo>
                  <a:lnTo>
                    <a:pt x="0" y="535"/>
                  </a:lnTo>
                  <a:lnTo>
                    <a:pt x="5" y="624"/>
                  </a:lnTo>
                  <a:lnTo>
                    <a:pt x="5" y="709"/>
                  </a:lnTo>
                  <a:lnTo>
                    <a:pt x="29" y="810"/>
                  </a:lnTo>
                  <a:lnTo>
                    <a:pt x="70" y="810"/>
                  </a:lnTo>
                  <a:lnTo>
                    <a:pt x="111" y="821"/>
                  </a:lnTo>
                  <a:lnTo>
                    <a:pt x="134" y="832"/>
                  </a:lnTo>
                  <a:lnTo>
                    <a:pt x="157" y="860"/>
                  </a:lnTo>
                  <a:lnTo>
                    <a:pt x="157" y="889"/>
                  </a:lnTo>
                  <a:lnTo>
                    <a:pt x="157" y="933"/>
                  </a:lnTo>
                  <a:lnTo>
                    <a:pt x="151" y="984"/>
                  </a:lnTo>
                  <a:lnTo>
                    <a:pt x="145" y="1057"/>
                  </a:lnTo>
                  <a:lnTo>
                    <a:pt x="139" y="1085"/>
                  </a:lnTo>
                  <a:lnTo>
                    <a:pt x="145" y="1119"/>
                  </a:lnTo>
                  <a:lnTo>
                    <a:pt x="162" y="1141"/>
                  </a:lnTo>
                  <a:lnTo>
                    <a:pt x="187" y="1158"/>
                  </a:lnTo>
                  <a:lnTo>
                    <a:pt x="203" y="1158"/>
                  </a:lnTo>
                  <a:lnTo>
                    <a:pt x="233" y="1153"/>
                  </a:lnTo>
                  <a:lnTo>
                    <a:pt x="256" y="1131"/>
                  </a:lnTo>
                  <a:lnTo>
                    <a:pt x="279" y="1097"/>
                  </a:lnTo>
                  <a:lnTo>
                    <a:pt x="302" y="972"/>
                  </a:lnTo>
                  <a:lnTo>
                    <a:pt x="314" y="844"/>
                  </a:lnTo>
                  <a:lnTo>
                    <a:pt x="308" y="703"/>
                  </a:lnTo>
                  <a:lnTo>
                    <a:pt x="302" y="568"/>
                  </a:lnTo>
                  <a:lnTo>
                    <a:pt x="285" y="422"/>
                  </a:lnTo>
                  <a:lnTo>
                    <a:pt x="285" y="287"/>
                  </a:lnTo>
                  <a:lnTo>
                    <a:pt x="296" y="163"/>
                  </a:lnTo>
                  <a:lnTo>
                    <a:pt x="331" y="62"/>
                  </a:lnTo>
                  <a:lnTo>
                    <a:pt x="326" y="45"/>
                  </a:lnTo>
                  <a:lnTo>
                    <a:pt x="337" y="23"/>
                  </a:lnTo>
                  <a:lnTo>
                    <a:pt x="337" y="0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f3f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77520" y="4706640"/>
              <a:ext cx="96480" cy="291600"/>
            </a:xfrm>
            <a:custGeom>
              <a:avLst/>
              <a:gdLst/>
              <a:ahLst/>
              <a:rect l="l" t="t" r="r" b="b"/>
              <a:pathLst>
                <a:path w="501" h="1366">
                  <a:moveTo>
                    <a:pt x="151" y="0"/>
                  </a:moveTo>
                  <a:lnTo>
                    <a:pt x="81" y="135"/>
                  </a:lnTo>
                  <a:lnTo>
                    <a:pt x="30" y="309"/>
                  </a:lnTo>
                  <a:lnTo>
                    <a:pt x="0" y="500"/>
                  </a:lnTo>
                  <a:lnTo>
                    <a:pt x="0" y="703"/>
                  </a:lnTo>
                  <a:lnTo>
                    <a:pt x="18" y="889"/>
                  </a:lnTo>
                  <a:lnTo>
                    <a:pt x="76" y="1063"/>
                  </a:lnTo>
                  <a:lnTo>
                    <a:pt x="164" y="1198"/>
                  </a:lnTo>
                  <a:lnTo>
                    <a:pt x="285" y="1305"/>
                  </a:lnTo>
                  <a:lnTo>
                    <a:pt x="314" y="1316"/>
                  </a:lnTo>
                  <a:lnTo>
                    <a:pt x="349" y="1333"/>
                  </a:lnTo>
                  <a:lnTo>
                    <a:pt x="384" y="1350"/>
                  </a:lnTo>
                  <a:lnTo>
                    <a:pt x="418" y="1366"/>
                  </a:lnTo>
                  <a:lnTo>
                    <a:pt x="418" y="1350"/>
                  </a:lnTo>
                  <a:lnTo>
                    <a:pt x="418" y="1339"/>
                  </a:lnTo>
                  <a:lnTo>
                    <a:pt x="418" y="1322"/>
                  </a:lnTo>
                  <a:lnTo>
                    <a:pt x="418" y="1316"/>
                  </a:lnTo>
                  <a:lnTo>
                    <a:pt x="407" y="1231"/>
                  </a:lnTo>
                  <a:lnTo>
                    <a:pt x="395" y="1170"/>
                  </a:lnTo>
                  <a:lnTo>
                    <a:pt x="372" y="1113"/>
                  </a:lnTo>
                  <a:lnTo>
                    <a:pt x="355" y="1079"/>
                  </a:lnTo>
                  <a:lnTo>
                    <a:pt x="326" y="1040"/>
                  </a:lnTo>
                  <a:lnTo>
                    <a:pt x="296" y="1007"/>
                  </a:lnTo>
                  <a:lnTo>
                    <a:pt x="268" y="968"/>
                  </a:lnTo>
                  <a:lnTo>
                    <a:pt x="250" y="929"/>
                  </a:lnTo>
                  <a:lnTo>
                    <a:pt x="233" y="889"/>
                  </a:lnTo>
                  <a:lnTo>
                    <a:pt x="233" y="855"/>
                  </a:lnTo>
                  <a:lnTo>
                    <a:pt x="233" y="816"/>
                  </a:lnTo>
                  <a:lnTo>
                    <a:pt x="233" y="777"/>
                  </a:lnTo>
                  <a:lnTo>
                    <a:pt x="227" y="737"/>
                  </a:lnTo>
                  <a:lnTo>
                    <a:pt x="227" y="698"/>
                  </a:lnTo>
                  <a:lnTo>
                    <a:pt x="227" y="659"/>
                  </a:lnTo>
                  <a:lnTo>
                    <a:pt x="233" y="608"/>
                  </a:lnTo>
                  <a:lnTo>
                    <a:pt x="227" y="591"/>
                  </a:lnTo>
                  <a:lnTo>
                    <a:pt x="222" y="596"/>
                  </a:lnTo>
                  <a:lnTo>
                    <a:pt x="204" y="557"/>
                  </a:lnTo>
                  <a:lnTo>
                    <a:pt x="204" y="529"/>
                  </a:lnTo>
                  <a:lnTo>
                    <a:pt x="198" y="500"/>
                  </a:lnTo>
                  <a:lnTo>
                    <a:pt x="204" y="483"/>
                  </a:lnTo>
                  <a:lnTo>
                    <a:pt x="227" y="451"/>
                  </a:lnTo>
                  <a:lnTo>
                    <a:pt x="273" y="417"/>
                  </a:lnTo>
                  <a:lnTo>
                    <a:pt x="285" y="507"/>
                  </a:lnTo>
                  <a:lnTo>
                    <a:pt x="296" y="596"/>
                  </a:lnTo>
                  <a:lnTo>
                    <a:pt x="303" y="681"/>
                  </a:lnTo>
                  <a:lnTo>
                    <a:pt x="319" y="765"/>
                  </a:lnTo>
                  <a:lnTo>
                    <a:pt x="332" y="838"/>
                  </a:lnTo>
                  <a:lnTo>
                    <a:pt x="361" y="912"/>
                  </a:lnTo>
                  <a:lnTo>
                    <a:pt x="402" y="978"/>
                  </a:lnTo>
                  <a:lnTo>
                    <a:pt x="460" y="1046"/>
                  </a:lnTo>
                  <a:lnTo>
                    <a:pt x="453" y="985"/>
                  </a:lnTo>
                  <a:lnTo>
                    <a:pt x="448" y="922"/>
                  </a:lnTo>
                  <a:lnTo>
                    <a:pt x="436" y="855"/>
                  </a:lnTo>
                  <a:lnTo>
                    <a:pt x="436" y="794"/>
                  </a:lnTo>
                  <a:lnTo>
                    <a:pt x="430" y="726"/>
                  </a:lnTo>
                  <a:lnTo>
                    <a:pt x="430" y="664"/>
                  </a:lnTo>
                  <a:lnTo>
                    <a:pt x="430" y="596"/>
                  </a:lnTo>
                  <a:lnTo>
                    <a:pt x="448" y="546"/>
                  </a:lnTo>
                  <a:lnTo>
                    <a:pt x="471" y="512"/>
                  </a:lnTo>
                  <a:lnTo>
                    <a:pt x="501" y="478"/>
                  </a:lnTo>
                  <a:lnTo>
                    <a:pt x="489" y="444"/>
                  </a:lnTo>
                  <a:lnTo>
                    <a:pt x="460" y="389"/>
                  </a:lnTo>
                  <a:lnTo>
                    <a:pt x="425" y="309"/>
                  </a:lnTo>
                  <a:lnTo>
                    <a:pt x="384" y="237"/>
                  </a:lnTo>
                  <a:lnTo>
                    <a:pt x="332" y="152"/>
                  </a:lnTo>
                  <a:lnTo>
                    <a:pt x="291" y="85"/>
                  </a:lnTo>
                  <a:lnTo>
                    <a:pt x="262" y="34"/>
                  </a:lnTo>
                  <a:lnTo>
                    <a:pt x="250" y="17"/>
                  </a:lnTo>
                  <a:lnTo>
                    <a:pt x="222" y="6"/>
                  </a:lnTo>
                  <a:lnTo>
                    <a:pt x="198" y="0"/>
                  </a:lnTo>
                  <a:lnTo>
                    <a:pt x="169" y="0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fba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692040" y="4712400"/>
              <a:ext cx="150120" cy="503280"/>
            </a:xfrm>
            <a:custGeom>
              <a:avLst/>
              <a:gdLst/>
              <a:ahLst/>
              <a:rect l="l" t="t" r="r" b="b"/>
              <a:pathLst>
                <a:path w="773" h="2355">
                  <a:moveTo>
                    <a:pt x="494" y="0"/>
                  </a:moveTo>
                  <a:lnTo>
                    <a:pt x="448" y="0"/>
                  </a:lnTo>
                  <a:lnTo>
                    <a:pt x="407" y="0"/>
                  </a:lnTo>
                  <a:lnTo>
                    <a:pt x="372" y="5"/>
                  </a:lnTo>
                  <a:lnTo>
                    <a:pt x="343" y="22"/>
                  </a:lnTo>
                  <a:lnTo>
                    <a:pt x="308" y="34"/>
                  </a:lnTo>
                  <a:lnTo>
                    <a:pt x="291" y="56"/>
                  </a:lnTo>
                  <a:lnTo>
                    <a:pt x="268" y="78"/>
                  </a:lnTo>
                  <a:lnTo>
                    <a:pt x="261" y="112"/>
                  </a:lnTo>
                  <a:lnTo>
                    <a:pt x="238" y="202"/>
                  </a:lnTo>
                  <a:lnTo>
                    <a:pt x="227" y="314"/>
                  </a:lnTo>
                  <a:lnTo>
                    <a:pt x="227" y="432"/>
                  </a:lnTo>
                  <a:lnTo>
                    <a:pt x="233" y="562"/>
                  </a:lnTo>
                  <a:lnTo>
                    <a:pt x="233" y="685"/>
                  </a:lnTo>
                  <a:lnTo>
                    <a:pt x="238" y="809"/>
                  </a:lnTo>
                  <a:lnTo>
                    <a:pt x="233" y="927"/>
                  </a:lnTo>
                  <a:lnTo>
                    <a:pt x="227" y="1028"/>
                  </a:lnTo>
                  <a:lnTo>
                    <a:pt x="209" y="1062"/>
                  </a:lnTo>
                  <a:lnTo>
                    <a:pt x="192" y="1096"/>
                  </a:lnTo>
                  <a:lnTo>
                    <a:pt x="163" y="1124"/>
                  </a:lnTo>
                  <a:lnTo>
                    <a:pt x="139" y="1158"/>
                  </a:lnTo>
                  <a:lnTo>
                    <a:pt x="111" y="1180"/>
                  </a:lnTo>
                  <a:lnTo>
                    <a:pt x="88" y="1214"/>
                  </a:lnTo>
                  <a:lnTo>
                    <a:pt x="65" y="1242"/>
                  </a:lnTo>
                  <a:lnTo>
                    <a:pt x="52" y="1276"/>
                  </a:lnTo>
                  <a:lnTo>
                    <a:pt x="35" y="1337"/>
                  </a:lnTo>
                  <a:lnTo>
                    <a:pt x="17" y="1445"/>
                  </a:lnTo>
                  <a:lnTo>
                    <a:pt x="6" y="1574"/>
                  </a:lnTo>
                  <a:lnTo>
                    <a:pt x="6" y="1726"/>
                  </a:lnTo>
                  <a:lnTo>
                    <a:pt x="0" y="1872"/>
                  </a:lnTo>
                  <a:lnTo>
                    <a:pt x="0" y="2018"/>
                  </a:lnTo>
                  <a:lnTo>
                    <a:pt x="6" y="2136"/>
                  </a:lnTo>
                  <a:lnTo>
                    <a:pt x="23" y="2226"/>
                  </a:lnTo>
                  <a:lnTo>
                    <a:pt x="40" y="2271"/>
                  </a:lnTo>
                  <a:lnTo>
                    <a:pt x="75" y="2305"/>
                  </a:lnTo>
                  <a:lnTo>
                    <a:pt x="122" y="2322"/>
                  </a:lnTo>
                  <a:lnTo>
                    <a:pt x="186" y="2344"/>
                  </a:lnTo>
                  <a:lnTo>
                    <a:pt x="250" y="2344"/>
                  </a:lnTo>
                  <a:lnTo>
                    <a:pt x="319" y="2350"/>
                  </a:lnTo>
                  <a:lnTo>
                    <a:pt x="390" y="2350"/>
                  </a:lnTo>
                  <a:lnTo>
                    <a:pt x="465" y="2355"/>
                  </a:lnTo>
                  <a:lnTo>
                    <a:pt x="453" y="2305"/>
                  </a:lnTo>
                  <a:lnTo>
                    <a:pt x="453" y="2259"/>
                  </a:lnTo>
                  <a:lnTo>
                    <a:pt x="442" y="2215"/>
                  </a:lnTo>
                  <a:lnTo>
                    <a:pt x="442" y="2170"/>
                  </a:lnTo>
                  <a:lnTo>
                    <a:pt x="436" y="2114"/>
                  </a:lnTo>
                  <a:lnTo>
                    <a:pt x="430" y="2063"/>
                  </a:lnTo>
                  <a:lnTo>
                    <a:pt x="425" y="2007"/>
                  </a:lnTo>
                  <a:lnTo>
                    <a:pt x="425" y="1957"/>
                  </a:lnTo>
                  <a:lnTo>
                    <a:pt x="418" y="1894"/>
                  </a:lnTo>
                  <a:lnTo>
                    <a:pt x="418" y="1849"/>
                  </a:lnTo>
                  <a:lnTo>
                    <a:pt x="418" y="1815"/>
                  </a:lnTo>
                  <a:lnTo>
                    <a:pt x="430" y="1793"/>
                  </a:lnTo>
                  <a:lnTo>
                    <a:pt x="436" y="1771"/>
                  </a:lnTo>
                  <a:lnTo>
                    <a:pt x="459" y="1759"/>
                  </a:lnTo>
                  <a:lnTo>
                    <a:pt x="483" y="1754"/>
                  </a:lnTo>
                  <a:lnTo>
                    <a:pt x="517" y="1754"/>
                  </a:lnTo>
                  <a:lnTo>
                    <a:pt x="511" y="1822"/>
                  </a:lnTo>
                  <a:lnTo>
                    <a:pt x="511" y="1900"/>
                  </a:lnTo>
                  <a:lnTo>
                    <a:pt x="511" y="1979"/>
                  </a:lnTo>
                  <a:lnTo>
                    <a:pt x="523" y="2057"/>
                  </a:lnTo>
                  <a:lnTo>
                    <a:pt x="523" y="2124"/>
                  </a:lnTo>
                  <a:lnTo>
                    <a:pt x="534" y="2198"/>
                  </a:lnTo>
                  <a:lnTo>
                    <a:pt x="534" y="2266"/>
                  </a:lnTo>
                  <a:lnTo>
                    <a:pt x="547" y="2327"/>
                  </a:lnTo>
                  <a:lnTo>
                    <a:pt x="575" y="2327"/>
                  </a:lnTo>
                  <a:lnTo>
                    <a:pt x="610" y="2327"/>
                  </a:lnTo>
                  <a:lnTo>
                    <a:pt x="645" y="2327"/>
                  </a:lnTo>
                  <a:lnTo>
                    <a:pt x="680" y="2327"/>
                  </a:lnTo>
                  <a:lnTo>
                    <a:pt x="680" y="2259"/>
                  </a:lnTo>
                  <a:lnTo>
                    <a:pt x="691" y="2198"/>
                  </a:lnTo>
                  <a:lnTo>
                    <a:pt x="709" y="2131"/>
                  </a:lnTo>
                  <a:lnTo>
                    <a:pt x="727" y="2063"/>
                  </a:lnTo>
                  <a:lnTo>
                    <a:pt x="739" y="1996"/>
                  </a:lnTo>
                  <a:lnTo>
                    <a:pt x="750" y="1928"/>
                  </a:lnTo>
                  <a:lnTo>
                    <a:pt x="762" y="1866"/>
                  </a:lnTo>
                  <a:lnTo>
                    <a:pt x="773" y="1815"/>
                  </a:lnTo>
                  <a:lnTo>
                    <a:pt x="767" y="1765"/>
                  </a:lnTo>
                  <a:lnTo>
                    <a:pt x="762" y="1714"/>
                  </a:lnTo>
                  <a:lnTo>
                    <a:pt x="750" y="1663"/>
                  </a:lnTo>
                  <a:lnTo>
                    <a:pt x="739" y="1619"/>
                  </a:lnTo>
                  <a:lnTo>
                    <a:pt x="721" y="1568"/>
                  </a:lnTo>
                  <a:lnTo>
                    <a:pt x="709" y="1523"/>
                  </a:lnTo>
                  <a:lnTo>
                    <a:pt x="691" y="1479"/>
                  </a:lnTo>
                  <a:lnTo>
                    <a:pt x="691" y="1439"/>
                  </a:lnTo>
                  <a:lnTo>
                    <a:pt x="674" y="1344"/>
                  </a:lnTo>
                  <a:lnTo>
                    <a:pt x="663" y="1253"/>
                  </a:lnTo>
                  <a:lnTo>
                    <a:pt x="651" y="1158"/>
                  </a:lnTo>
                  <a:lnTo>
                    <a:pt x="651" y="1067"/>
                  </a:lnTo>
                  <a:lnTo>
                    <a:pt x="640" y="972"/>
                  </a:lnTo>
                  <a:lnTo>
                    <a:pt x="633" y="876"/>
                  </a:lnTo>
                  <a:lnTo>
                    <a:pt x="628" y="781"/>
                  </a:lnTo>
                  <a:lnTo>
                    <a:pt x="622" y="691"/>
                  </a:lnTo>
                  <a:lnTo>
                    <a:pt x="610" y="613"/>
                  </a:lnTo>
                  <a:lnTo>
                    <a:pt x="610" y="534"/>
                  </a:lnTo>
                  <a:lnTo>
                    <a:pt x="605" y="449"/>
                  </a:lnTo>
                  <a:lnTo>
                    <a:pt x="605" y="365"/>
                  </a:lnTo>
                  <a:lnTo>
                    <a:pt x="605" y="275"/>
                  </a:lnTo>
                  <a:lnTo>
                    <a:pt x="605" y="185"/>
                  </a:lnTo>
                  <a:lnTo>
                    <a:pt x="605" y="101"/>
                  </a:lnTo>
                  <a:lnTo>
                    <a:pt x="610" y="22"/>
                  </a:lnTo>
                  <a:lnTo>
                    <a:pt x="575" y="10"/>
                  </a:lnTo>
                  <a:lnTo>
                    <a:pt x="552" y="5"/>
                  </a:lnTo>
                  <a:lnTo>
                    <a:pt x="523" y="0"/>
                  </a:lnTo>
                  <a:lnTo>
                    <a:pt x="494" y="0"/>
                  </a:lnTo>
                  <a:close/>
                </a:path>
              </a:pathLst>
            </a:custGeom>
            <a:solidFill>
              <a:srgbClr val="8e6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818760" y="4714560"/>
              <a:ext cx="172440" cy="587160"/>
            </a:xfrm>
            <a:custGeom>
              <a:avLst/>
              <a:gdLst/>
              <a:ahLst/>
              <a:rect l="l" t="t" r="r" b="b"/>
              <a:pathLst>
                <a:path w="890" h="2744">
                  <a:moveTo>
                    <a:pt x="367" y="0"/>
                  </a:moveTo>
                  <a:lnTo>
                    <a:pt x="326" y="7"/>
                  </a:lnTo>
                  <a:lnTo>
                    <a:pt x="286" y="12"/>
                  </a:lnTo>
                  <a:lnTo>
                    <a:pt x="245" y="17"/>
                  </a:lnTo>
                  <a:lnTo>
                    <a:pt x="205" y="24"/>
                  </a:lnTo>
                  <a:lnTo>
                    <a:pt x="157" y="24"/>
                  </a:lnTo>
                  <a:lnTo>
                    <a:pt x="117" y="29"/>
                  </a:lnTo>
                  <a:lnTo>
                    <a:pt x="71" y="34"/>
                  </a:lnTo>
                  <a:lnTo>
                    <a:pt x="35" y="40"/>
                  </a:lnTo>
                  <a:lnTo>
                    <a:pt x="12" y="220"/>
                  </a:lnTo>
                  <a:lnTo>
                    <a:pt x="7" y="412"/>
                  </a:lnTo>
                  <a:lnTo>
                    <a:pt x="0" y="613"/>
                  </a:lnTo>
                  <a:lnTo>
                    <a:pt x="12" y="816"/>
                  </a:lnTo>
                  <a:lnTo>
                    <a:pt x="24" y="1007"/>
                  </a:lnTo>
                  <a:lnTo>
                    <a:pt x="53" y="1204"/>
                  </a:lnTo>
                  <a:lnTo>
                    <a:pt x="83" y="1390"/>
                  </a:lnTo>
                  <a:lnTo>
                    <a:pt x="129" y="1564"/>
                  </a:lnTo>
                  <a:lnTo>
                    <a:pt x="157" y="1542"/>
                  </a:lnTo>
                  <a:lnTo>
                    <a:pt x="175" y="1535"/>
                  </a:lnTo>
                  <a:lnTo>
                    <a:pt x="192" y="1542"/>
                  </a:lnTo>
                  <a:lnTo>
                    <a:pt x="233" y="1564"/>
                  </a:lnTo>
                  <a:lnTo>
                    <a:pt x="210" y="1626"/>
                  </a:lnTo>
                  <a:lnTo>
                    <a:pt x="187" y="1738"/>
                  </a:lnTo>
                  <a:lnTo>
                    <a:pt x="152" y="1873"/>
                  </a:lnTo>
                  <a:lnTo>
                    <a:pt x="123" y="2030"/>
                  </a:lnTo>
                  <a:lnTo>
                    <a:pt x="88" y="2177"/>
                  </a:lnTo>
                  <a:lnTo>
                    <a:pt x="76" y="2317"/>
                  </a:lnTo>
                  <a:lnTo>
                    <a:pt x="71" y="2425"/>
                  </a:lnTo>
                  <a:lnTo>
                    <a:pt x="88" y="2497"/>
                  </a:lnTo>
                  <a:lnTo>
                    <a:pt x="111" y="2514"/>
                  </a:lnTo>
                  <a:lnTo>
                    <a:pt x="164" y="2548"/>
                  </a:lnTo>
                  <a:lnTo>
                    <a:pt x="228" y="2582"/>
                  </a:lnTo>
                  <a:lnTo>
                    <a:pt x="309" y="2615"/>
                  </a:lnTo>
                  <a:lnTo>
                    <a:pt x="385" y="2649"/>
                  </a:lnTo>
                  <a:lnTo>
                    <a:pt x="466" y="2683"/>
                  </a:lnTo>
                  <a:lnTo>
                    <a:pt x="524" y="2710"/>
                  </a:lnTo>
                  <a:lnTo>
                    <a:pt x="570" y="2744"/>
                  </a:lnTo>
                  <a:lnTo>
                    <a:pt x="588" y="2710"/>
                  </a:lnTo>
                  <a:lnTo>
                    <a:pt x="611" y="2677"/>
                  </a:lnTo>
                  <a:lnTo>
                    <a:pt x="634" y="2649"/>
                  </a:lnTo>
                  <a:lnTo>
                    <a:pt x="657" y="2621"/>
                  </a:lnTo>
                  <a:lnTo>
                    <a:pt x="681" y="2587"/>
                  </a:lnTo>
                  <a:lnTo>
                    <a:pt x="704" y="2553"/>
                  </a:lnTo>
                  <a:lnTo>
                    <a:pt x="727" y="2526"/>
                  </a:lnTo>
                  <a:lnTo>
                    <a:pt x="756" y="2497"/>
                  </a:lnTo>
                  <a:lnTo>
                    <a:pt x="785" y="2447"/>
                  </a:lnTo>
                  <a:lnTo>
                    <a:pt x="814" y="2401"/>
                  </a:lnTo>
                  <a:lnTo>
                    <a:pt x="838" y="2357"/>
                  </a:lnTo>
                  <a:lnTo>
                    <a:pt x="867" y="2312"/>
                  </a:lnTo>
                  <a:lnTo>
                    <a:pt x="879" y="2256"/>
                  </a:lnTo>
                  <a:lnTo>
                    <a:pt x="890" y="2205"/>
                  </a:lnTo>
                  <a:lnTo>
                    <a:pt x="890" y="2148"/>
                  </a:lnTo>
                  <a:lnTo>
                    <a:pt x="890" y="2098"/>
                  </a:lnTo>
                  <a:lnTo>
                    <a:pt x="867" y="2025"/>
                  </a:lnTo>
                  <a:lnTo>
                    <a:pt x="849" y="1974"/>
                  </a:lnTo>
                  <a:lnTo>
                    <a:pt x="821" y="1923"/>
                  </a:lnTo>
                  <a:lnTo>
                    <a:pt x="797" y="1879"/>
                  </a:lnTo>
                  <a:lnTo>
                    <a:pt x="762" y="1834"/>
                  </a:lnTo>
                  <a:lnTo>
                    <a:pt x="733" y="1788"/>
                  </a:lnTo>
                  <a:lnTo>
                    <a:pt x="704" y="1738"/>
                  </a:lnTo>
                  <a:lnTo>
                    <a:pt x="687" y="1687"/>
                  </a:lnTo>
                  <a:lnTo>
                    <a:pt x="657" y="1597"/>
                  </a:lnTo>
                  <a:lnTo>
                    <a:pt x="640" y="1513"/>
                  </a:lnTo>
                  <a:lnTo>
                    <a:pt x="628" y="1423"/>
                  </a:lnTo>
                  <a:lnTo>
                    <a:pt x="628" y="1334"/>
                  </a:lnTo>
                  <a:lnTo>
                    <a:pt x="628" y="1238"/>
                  </a:lnTo>
                  <a:lnTo>
                    <a:pt x="628" y="1142"/>
                  </a:lnTo>
                  <a:lnTo>
                    <a:pt x="628" y="1040"/>
                  </a:lnTo>
                  <a:lnTo>
                    <a:pt x="634" y="946"/>
                  </a:lnTo>
                  <a:lnTo>
                    <a:pt x="535" y="929"/>
                  </a:lnTo>
                  <a:lnTo>
                    <a:pt x="460" y="917"/>
                  </a:lnTo>
                  <a:lnTo>
                    <a:pt x="390" y="906"/>
                  </a:lnTo>
                  <a:lnTo>
                    <a:pt x="337" y="895"/>
                  </a:lnTo>
                  <a:lnTo>
                    <a:pt x="286" y="866"/>
                  </a:lnTo>
                  <a:lnTo>
                    <a:pt x="245" y="833"/>
                  </a:lnTo>
                  <a:lnTo>
                    <a:pt x="210" y="777"/>
                  </a:lnTo>
                  <a:lnTo>
                    <a:pt x="180" y="709"/>
                  </a:lnTo>
                  <a:lnTo>
                    <a:pt x="187" y="698"/>
                  </a:lnTo>
                  <a:lnTo>
                    <a:pt x="205" y="687"/>
                  </a:lnTo>
                  <a:lnTo>
                    <a:pt x="222" y="675"/>
                  </a:lnTo>
                  <a:lnTo>
                    <a:pt x="233" y="670"/>
                  </a:lnTo>
                  <a:lnTo>
                    <a:pt x="251" y="726"/>
                  </a:lnTo>
                  <a:lnTo>
                    <a:pt x="286" y="777"/>
                  </a:lnTo>
                  <a:lnTo>
                    <a:pt x="326" y="810"/>
                  </a:lnTo>
                  <a:lnTo>
                    <a:pt x="378" y="833"/>
                  </a:lnTo>
                  <a:lnTo>
                    <a:pt x="431" y="844"/>
                  </a:lnTo>
                  <a:lnTo>
                    <a:pt x="501" y="856"/>
                  </a:lnTo>
                  <a:lnTo>
                    <a:pt x="570" y="861"/>
                  </a:lnTo>
                  <a:lnTo>
                    <a:pt x="651" y="878"/>
                  </a:lnTo>
                  <a:lnTo>
                    <a:pt x="640" y="844"/>
                  </a:lnTo>
                  <a:lnTo>
                    <a:pt x="634" y="810"/>
                  </a:lnTo>
                  <a:lnTo>
                    <a:pt x="623" y="777"/>
                  </a:lnTo>
                  <a:lnTo>
                    <a:pt x="623" y="748"/>
                  </a:lnTo>
                  <a:lnTo>
                    <a:pt x="646" y="738"/>
                  </a:lnTo>
                  <a:lnTo>
                    <a:pt x="687" y="721"/>
                  </a:lnTo>
                  <a:lnTo>
                    <a:pt x="722" y="698"/>
                  </a:lnTo>
                  <a:lnTo>
                    <a:pt x="739" y="692"/>
                  </a:lnTo>
                  <a:lnTo>
                    <a:pt x="739" y="670"/>
                  </a:lnTo>
                  <a:lnTo>
                    <a:pt x="727" y="653"/>
                  </a:lnTo>
                  <a:lnTo>
                    <a:pt x="710" y="642"/>
                  </a:lnTo>
                  <a:lnTo>
                    <a:pt x="681" y="630"/>
                  </a:lnTo>
                  <a:lnTo>
                    <a:pt x="651" y="620"/>
                  </a:lnTo>
                  <a:lnTo>
                    <a:pt x="616" y="608"/>
                  </a:lnTo>
                  <a:lnTo>
                    <a:pt x="588" y="603"/>
                  </a:lnTo>
                  <a:lnTo>
                    <a:pt x="565" y="596"/>
                  </a:lnTo>
                  <a:lnTo>
                    <a:pt x="553" y="596"/>
                  </a:lnTo>
                  <a:lnTo>
                    <a:pt x="512" y="574"/>
                  </a:lnTo>
                  <a:lnTo>
                    <a:pt x="507" y="574"/>
                  </a:lnTo>
                  <a:lnTo>
                    <a:pt x="512" y="579"/>
                  </a:lnTo>
                  <a:lnTo>
                    <a:pt x="535" y="591"/>
                  </a:lnTo>
                  <a:lnTo>
                    <a:pt x="553" y="596"/>
                  </a:lnTo>
                  <a:lnTo>
                    <a:pt x="565" y="603"/>
                  </a:lnTo>
                  <a:lnTo>
                    <a:pt x="559" y="596"/>
                  </a:lnTo>
                  <a:lnTo>
                    <a:pt x="542" y="579"/>
                  </a:lnTo>
                  <a:lnTo>
                    <a:pt x="535" y="574"/>
                  </a:lnTo>
                  <a:lnTo>
                    <a:pt x="530" y="569"/>
                  </a:lnTo>
                  <a:lnTo>
                    <a:pt x="494" y="540"/>
                  </a:lnTo>
                  <a:lnTo>
                    <a:pt x="448" y="507"/>
                  </a:lnTo>
                  <a:lnTo>
                    <a:pt x="396" y="468"/>
                  </a:lnTo>
                  <a:lnTo>
                    <a:pt x="349" y="429"/>
                  </a:lnTo>
                  <a:lnTo>
                    <a:pt x="297" y="383"/>
                  </a:lnTo>
                  <a:lnTo>
                    <a:pt x="263" y="338"/>
                  </a:lnTo>
                  <a:lnTo>
                    <a:pt x="233" y="294"/>
                  </a:lnTo>
                  <a:lnTo>
                    <a:pt x="233" y="260"/>
                  </a:lnTo>
                  <a:lnTo>
                    <a:pt x="245" y="237"/>
                  </a:lnTo>
                  <a:lnTo>
                    <a:pt x="251" y="220"/>
                  </a:lnTo>
                  <a:lnTo>
                    <a:pt x="286" y="231"/>
                  </a:lnTo>
                  <a:lnTo>
                    <a:pt x="320" y="260"/>
                  </a:lnTo>
                  <a:lnTo>
                    <a:pt x="355" y="294"/>
                  </a:lnTo>
                  <a:lnTo>
                    <a:pt x="396" y="327"/>
                  </a:lnTo>
                  <a:lnTo>
                    <a:pt x="431" y="361"/>
                  </a:lnTo>
                  <a:lnTo>
                    <a:pt x="471" y="395"/>
                  </a:lnTo>
                  <a:lnTo>
                    <a:pt x="512" y="429"/>
                  </a:lnTo>
                  <a:lnTo>
                    <a:pt x="553" y="461"/>
                  </a:lnTo>
                  <a:lnTo>
                    <a:pt x="535" y="412"/>
                  </a:lnTo>
                  <a:lnTo>
                    <a:pt x="535" y="378"/>
                  </a:lnTo>
                  <a:lnTo>
                    <a:pt x="524" y="338"/>
                  </a:lnTo>
                  <a:lnTo>
                    <a:pt x="517" y="299"/>
                  </a:lnTo>
                  <a:lnTo>
                    <a:pt x="494" y="254"/>
                  </a:lnTo>
                  <a:lnTo>
                    <a:pt x="477" y="214"/>
                  </a:lnTo>
                  <a:lnTo>
                    <a:pt x="460" y="175"/>
                  </a:lnTo>
                  <a:lnTo>
                    <a:pt x="443" y="142"/>
                  </a:lnTo>
                  <a:lnTo>
                    <a:pt x="419" y="102"/>
                  </a:lnTo>
                  <a:lnTo>
                    <a:pt x="402" y="68"/>
                  </a:lnTo>
                  <a:lnTo>
                    <a:pt x="385" y="34"/>
                  </a:lnTo>
                  <a:lnTo>
                    <a:pt x="367" y="0"/>
                  </a:lnTo>
                  <a:close/>
                </a:path>
              </a:pathLst>
            </a:custGeom>
            <a:solidFill>
              <a:srgbClr val="66ff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08000" y="4723920"/>
              <a:ext cx="220320" cy="445320"/>
            </a:xfrm>
            <a:custGeom>
              <a:avLst/>
              <a:gdLst/>
              <a:ahLst/>
              <a:rect l="l" t="t" r="r" b="b"/>
              <a:pathLst>
                <a:path w="1134" h="2086">
                  <a:moveTo>
                    <a:pt x="401" y="0"/>
                  </a:moveTo>
                  <a:lnTo>
                    <a:pt x="378" y="85"/>
                  </a:lnTo>
                  <a:lnTo>
                    <a:pt x="343" y="158"/>
                  </a:lnTo>
                  <a:lnTo>
                    <a:pt x="302" y="225"/>
                  </a:lnTo>
                  <a:lnTo>
                    <a:pt x="256" y="293"/>
                  </a:lnTo>
                  <a:lnTo>
                    <a:pt x="204" y="349"/>
                  </a:lnTo>
                  <a:lnTo>
                    <a:pt x="157" y="411"/>
                  </a:lnTo>
                  <a:lnTo>
                    <a:pt x="110" y="478"/>
                  </a:lnTo>
                  <a:lnTo>
                    <a:pt x="82" y="556"/>
                  </a:lnTo>
                  <a:lnTo>
                    <a:pt x="53" y="647"/>
                  </a:lnTo>
                  <a:lnTo>
                    <a:pt x="36" y="776"/>
                  </a:lnTo>
                  <a:lnTo>
                    <a:pt x="18" y="939"/>
                  </a:lnTo>
                  <a:lnTo>
                    <a:pt x="11" y="1119"/>
                  </a:lnTo>
                  <a:lnTo>
                    <a:pt x="0" y="1299"/>
                  </a:lnTo>
                  <a:lnTo>
                    <a:pt x="0" y="1478"/>
                  </a:lnTo>
                  <a:lnTo>
                    <a:pt x="0" y="1642"/>
                  </a:lnTo>
                  <a:lnTo>
                    <a:pt x="0" y="1788"/>
                  </a:lnTo>
                  <a:lnTo>
                    <a:pt x="87" y="1811"/>
                  </a:lnTo>
                  <a:lnTo>
                    <a:pt x="181" y="1850"/>
                  </a:lnTo>
                  <a:lnTo>
                    <a:pt x="267" y="1883"/>
                  </a:lnTo>
                  <a:lnTo>
                    <a:pt x="355" y="1929"/>
                  </a:lnTo>
                  <a:lnTo>
                    <a:pt x="436" y="1968"/>
                  </a:lnTo>
                  <a:lnTo>
                    <a:pt x="523" y="2007"/>
                  </a:lnTo>
                  <a:lnTo>
                    <a:pt x="611" y="2047"/>
                  </a:lnTo>
                  <a:lnTo>
                    <a:pt x="710" y="2086"/>
                  </a:lnTo>
                  <a:lnTo>
                    <a:pt x="710" y="2052"/>
                  </a:lnTo>
                  <a:lnTo>
                    <a:pt x="715" y="2018"/>
                  </a:lnTo>
                  <a:lnTo>
                    <a:pt x="715" y="1979"/>
                  </a:lnTo>
                  <a:lnTo>
                    <a:pt x="721" y="1946"/>
                  </a:lnTo>
                  <a:lnTo>
                    <a:pt x="721" y="1907"/>
                  </a:lnTo>
                  <a:lnTo>
                    <a:pt x="726" y="1867"/>
                  </a:lnTo>
                  <a:lnTo>
                    <a:pt x="726" y="1828"/>
                  </a:lnTo>
                  <a:lnTo>
                    <a:pt x="733" y="1788"/>
                  </a:lnTo>
                  <a:lnTo>
                    <a:pt x="680" y="1760"/>
                  </a:lnTo>
                  <a:lnTo>
                    <a:pt x="645" y="1738"/>
                  </a:lnTo>
                  <a:lnTo>
                    <a:pt x="611" y="1709"/>
                  </a:lnTo>
                  <a:lnTo>
                    <a:pt x="581" y="1687"/>
                  </a:lnTo>
                  <a:lnTo>
                    <a:pt x="546" y="1659"/>
                  </a:lnTo>
                  <a:lnTo>
                    <a:pt x="518" y="1630"/>
                  </a:lnTo>
                  <a:lnTo>
                    <a:pt x="482" y="1603"/>
                  </a:lnTo>
                  <a:lnTo>
                    <a:pt x="454" y="1574"/>
                  </a:lnTo>
                  <a:lnTo>
                    <a:pt x="431" y="1557"/>
                  </a:lnTo>
                  <a:lnTo>
                    <a:pt x="407" y="1546"/>
                  </a:lnTo>
                  <a:lnTo>
                    <a:pt x="384" y="1535"/>
                  </a:lnTo>
                  <a:lnTo>
                    <a:pt x="373" y="1524"/>
                  </a:lnTo>
                  <a:lnTo>
                    <a:pt x="349" y="1429"/>
                  </a:lnTo>
                  <a:lnTo>
                    <a:pt x="332" y="1327"/>
                  </a:lnTo>
                  <a:lnTo>
                    <a:pt x="320" y="1220"/>
                  </a:lnTo>
                  <a:lnTo>
                    <a:pt x="320" y="1113"/>
                  </a:lnTo>
                  <a:lnTo>
                    <a:pt x="314" y="1000"/>
                  </a:lnTo>
                  <a:lnTo>
                    <a:pt x="314" y="899"/>
                  </a:lnTo>
                  <a:lnTo>
                    <a:pt x="308" y="799"/>
                  </a:lnTo>
                  <a:lnTo>
                    <a:pt x="308" y="720"/>
                  </a:lnTo>
                  <a:lnTo>
                    <a:pt x="308" y="708"/>
                  </a:lnTo>
                  <a:lnTo>
                    <a:pt x="308" y="681"/>
                  </a:lnTo>
                  <a:lnTo>
                    <a:pt x="308" y="647"/>
                  </a:lnTo>
                  <a:lnTo>
                    <a:pt x="308" y="619"/>
                  </a:lnTo>
                  <a:lnTo>
                    <a:pt x="361" y="590"/>
                  </a:lnTo>
                  <a:lnTo>
                    <a:pt x="366" y="691"/>
                  </a:lnTo>
                  <a:lnTo>
                    <a:pt x="378" y="793"/>
                  </a:lnTo>
                  <a:lnTo>
                    <a:pt x="389" y="899"/>
                  </a:lnTo>
                  <a:lnTo>
                    <a:pt x="401" y="1007"/>
                  </a:lnTo>
                  <a:lnTo>
                    <a:pt x="401" y="1102"/>
                  </a:lnTo>
                  <a:lnTo>
                    <a:pt x="413" y="1198"/>
                  </a:lnTo>
                  <a:lnTo>
                    <a:pt x="424" y="1287"/>
                  </a:lnTo>
                  <a:lnTo>
                    <a:pt x="442" y="1378"/>
                  </a:lnTo>
                  <a:lnTo>
                    <a:pt x="447" y="1422"/>
                  </a:lnTo>
                  <a:lnTo>
                    <a:pt x="459" y="1463"/>
                  </a:lnTo>
                  <a:lnTo>
                    <a:pt x="477" y="1495"/>
                  </a:lnTo>
                  <a:lnTo>
                    <a:pt x="495" y="1529"/>
                  </a:lnTo>
                  <a:lnTo>
                    <a:pt x="512" y="1552"/>
                  </a:lnTo>
                  <a:lnTo>
                    <a:pt x="541" y="1580"/>
                  </a:lnTo>
                  <a:lnTo>
                    <a:pt x="570" y="1603"/>
                  </a:lnTo>
                  <a:lnTo>
                    <a:pt x="604" y="1637"/>
                  </a:lnTo>
                  <a:lnTo>
                    <a:pt x="627" y="1653"/>
                  </a:lnTo>
                  <a:lnTo>
                    <a:pt x="657" y="1670"/>
                  </a:lnTo>
                  <a:lnTo>
                    <a:pt x="692" y="1676"/>
                  </a:lnTo>
                  <a:lnTo>
                    <a:pt x="726" y="1687"/>
                  </a:lnTo>
                  <a:lnTo>
                    <a:pt x="756" y="1687"/>
                  </a:lnTo>
                  <a:lnTo>
                    <a:pt x="797" y="1687"/>
                  </a:lnTo>
                  <a:lnTo>
                    <a:pt x="832" y="1681"/>
                  </a:lnTo>
                  <a:lnTo>
                    <a:pt x="883" y="1676"/>
                  </a:lnTo>
                  <a:lnTo>
                    <a:pt x="977" y="1647"/>
                  </a:lnTo>
                  <a:lnTo>
                    <a:pt x="1040" y="1625"/>
                  </a:lnTo>
                  <a:lnTo>
                    <a:pt x="1081" y="1597"/>
                  </a:lnTo>
                  <a:lnTo>
                    <a:pt x="1104" y="1569"/>
                  </a:lnTo>
                  <a:lnTo>
                    <a:pt x="1111" y="1524"/>
                  </a:lnTo>
                  <a:lnTo>
                    <a:pt x="1116" y="1468"/>
                  </a:lnTo>
                  <a:lnTo>
                    <a:pt x="1116" y="1395"/>
                  </a:lnTo>
                  <a:lnTo>
                    <a:pt x="1134" y="1304"/>
                  </a:lnTo>
                  <a:lnTo>
                    <a:pt x="1087" y="1311"/>
                  </a:lnTo>
                  <a:lnTo>
                    <a:pt x="1047" y="1321"/>
                  </a:lnTo>
                  <a:lnTo>
                    <a:pt x="1000" y="1327"/>
                  </a:lnTo>
                  <a:lnTo>
                    <a:pt x="959" y="1344"/>
                  </a:lnTo>
                  <a:lnTo>
                    <a:pt x="907" y="1350"/>
                  </a:lnTo>
                  <a:lnTo>
                    <a:pt x="866" y="1355"/>
                  </a:lnTo>
                  <a:lnTo>
                    <a:pt x="814" y="1361"/>
                  </a:lnTo>
                  <a:lnTo>
                    <a:pt x="773" y="1367"/>
                  </a:lnTo>
                  <a:lnTo>
                    <a:pt x="773" y="1260"/>
                  </a:lnTo>
                  <a:lnTo>
                    <a:pt x="779" y="1125"/>
                  </a:lnTo>
                  <a:lnTo>
                    <a:pt x="784" y="967"/>
                  </a:lnTo>
                  <a:lnTo>
                    <a:pt x="797" y="810"/>
                  </a:lnTo>
                  <a:lnTo>
                    <a:pt x="797" y="647"/>
                  </a:lnTo>
                  <a:lnTo>
                    <a:pt x="802" y="506"/>
                  </a:lnTo>
                  <a:lnTo>
                    <a:pt x="791" y="394"/>
                  </a:lnTo>
                  <a:lnTo>
                    <a:pt x="773" y="338"/>
                  </a:lnTo>
                  <a:lnTo>
                    <a:pt x="744" y="304"/>
                  </a:lnTo>
                  <a:lnTo>
                    <a:pt x="715" y="276"/>
                  </a:lnTo>
                  <a:lnTo>
                    <a:pt x="675" y="254"/>
                  </a:lnTo>
                  <a:lnTo>
                    <a:pt x="639" y="237"/>
                  </a:lnTo>
                  <a:lnTo>
                    <a:pt x="593" y="220"/>
                  </a:lnTo>
                  <a:lnTo>
                    <a:pt x="553" y="203"/>
                  </a:lnTo>
                  <a:lnTo>
                    <a:pt x="506" y="191"/>
                  </a:lnTo>
                  <a:lnTo>
                    <a:pt x="472" y="180"/>
                  </a:lnTo>
                  <a:lnTo>
                    <a:pt x="472" y="158"/>
                  </a:lnTo>
                  <a:lnTo>
                    <a:pt x="472" y="141"/>
                  </a:lnTo>
                  <a:lnTo>
                    <a:pt x="500" y="141"/>
                  </a:lnTo>
                  <a:lnTo>
                    <a:pt x="530" y="146"/>
                  </a:lnTo>
                  <a:lnTo>
                    <a:pt x="541" y="146"/>
                  </a:lnTo>
                  <a:lnTo>
                    <a:pt x="558" y="141"/>
                  </a:lnTo>
                  <a:lnTo>
                    <a:pt x="564" y="119"/>
                  </a:lnTo>
                  <a:lnTo>
                    <a:pt x="570" y="95"/>
                  </a:lnTo>
                  <a:lnTo>
                    <a:pt x="570" y="62"/>
                  </a:lnTo>
                  <a:lnTo>
                    <a:pt x="576" y="23"/>
                  </a:lnTo>
                  <a:lnTo>
                    <a:pt x="518" y="17"/>
                  </a:lnTo>
                  <a:lnTo>
                    <a:pt x="482" y="11"/>
                  </a:lnTo>
                  <a:lnTo>
                    <a:pt x="442" y="6"/>
                  </a:lnTo>
                  <a:lnTo>
                    <a:pt x="401" y="0"/>
                  </a:lnTo>
                  <a:close/>
                </a:path>
              </a:pathLst>
            </a:custGeom>
            <a:solidFill>
              <a:srgbClr val="c48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75440" y="4752000"/>
              <a:ext cx="223920" cy="386640"/>
            </a:xfrm>
            <a:custGeom>
              <a:avLst/>
              <a:gdLst/>
              <a:ahLst/>
              <a:rect l="l" t="t" r="r" b="b"/>
              <a:pathLst>
                <a:path w="1151" h="1811">
                  <a:moveTo>
                    <a:pt x="540" y="6"/>
                  </a:moveTo>
                  <a:lnTo>
                    <a:pt x="500" y="6"/>
                  </a:lnTo>
                  <a:lnTo>
                    <a:pt x="465" y="23"/>
                  </a:lnTo>
                  <a:lnTo>
                    <a:pt x="436" y="39"/>
                  </a:lnTo>
                  <a:lnTo>
                    <a:pt x="406" y="68"/>
                  </a:lnTo>
                  <a:lnTo>
                    <a:pt x="348" y="119"/>
                  </a:lnTo>
                  <a:lnTo>
                    <a:pt x="302" y="163"/>
                  </a:lnTo>
                  <a:lnTo>
                    <a:pt x="261" y="180"/>
                  </a:lnTo>
                  <a:lnTo>
                    <a:pt x="226" y="197"/>
                  </a:lnTo>
                  <a:lnTo>
                    <a:pt x="180" y="220"/>
                  </a:lnTo>
                  <a:lnTo>
                    <a:pt x="145" y="242"/>
                  </a:lnTo>
                  <a:lnTo>
                    <a:pt x="99" y="264"/>
                  </a:lnTo>
                  <a:lnTo>
                    <a:pt x="64" y="293"/>
                  </a:lnTo>
                  <a:lnTo>
                    <a:pt x="35" y="320"/>
                  </a:lnTo>
                  <a:lnTo>
                    <a:pt x="23" y="354"/>
                  </a:lnTo>
                  <a:lnTo>
                    <a:pt x="6" y="394"/>
                  </a:lnTo>
                  <a:lnTo>
                    <a:pt x="6" y="472"/>
                  </a:lnTo>
                  <a:lnTo>
                    <a:pt x="0" y="568"/>
                  </a:lnTo>
                  <a:lnTo>
                    <a:pt x="6" y="681"/>
                  </a:lnTo>
                  <a:lnTo>
                    <a:pt x="6" y="787"/>
                  </a:lnTo>
                  <a:lnTo>
                    <a:pt x="18" y="899"/>
                  </a:lnTo>
                  <a:lnTo>
                    <a:pt x="29" y="995"/>
                  </a:lnTo>
                  <a:lnTo>
                    <a:pt x="46" y="1074"/>
                  </a:lnTo>
                  <a:lnTo>
                    <a:pt x="58" y="1113"/>
                  </a:lnTo>
                  <a:lnTo>
                    <a:pt x="76" y="1159"/>
                  </a:lnTo>
                  <a:lnTo>
                    <a:pt x="99" y="1203"/>
                  </a:lnTo>
                  <a:lnTo>
                    <a:pt x="122" y="1254"/>
                  </a:lnTo>
                  <a:lnTo>
                    <a:pt x="145" y="1299"/>
                  </a:lnTo>
                  <a:lnTo>
                    <a:pt x="168" y="1350"/>
                  </a:lnTo>
                  <a:lnTo>
                    <a:pt x="192" y="1394"/>
                  </a:lnTo>
                  <a:lnTo>
                    <a:pt x="221" y="1439"/>
                  </a:lnTo>
                  <a:lnTo>
                    <a:pt x="238" y="1485"/>
                  </a:lnTo>
                  <a:lnTo>
                    <a:pt x="256" y="1546"/>
                  </a:lnTo>
                  <a:lnTo>
                    <a:pt x="279" y="1613"/>
                  </a:lnTo>
                  <a:lnTo>
                    <a:pt x="314" y="1681"/>
                  </a:lnTo>
                  <a:lnTo>
                    <a:pt x="337" y="1726"/>
                  </a:lnTo>
                  <a:lnTo>
                    <a:pt x="372" y="1760"/>
                  </a:lnTo>
                  <a:lnTo>
                    <a:pt x="401" y="1760"/>
                  </a:lnTo>
                  <a:lnTo>
                    <a:pt x="436" y="1721"/>
                  </a:lnTo>
                  <a:lnTo>
                    <a:pt x="447" y="1681"/>
                  </a:lnTo>
                  <a:lnTo>
                    <a:pt x="477" y="1647"/>
                  </a:lnTo>
                  <a:lnTo>
                    <a:pt x="494" y="1613"/>
                  </a:lnTo>
                  <a:lnTo>
                    <a:pt x="512" y="1591"/>
                  </a:lnTo>
                  <a:lnTo>
                    <a:pt x="512" y="1518"/>
                  </a:lnTo>
                  <a:lnTo>
                    <a:pt x="500" y="1445"/>
                  </a:lnTo>
                  <a:lnTo>
                    <a:pt x="471" y="1367"/>
                  </a:lnTo>
                  <a:lnTo>
                    <a:pt x="442" y="1287"/>
                  </a:lnTo>
                  <a:lnTo>
                    <a:pt x="395" y="1209"/>
                  </a:lnTo>
                  <a:lnTo>
                    <a:pt x="360" y="1136"/>
                  </a:lnTo>
                  <a:lnTo>
                    <a:pt x="325" y="1068"/>
                  </a:lnTo>
                  <a:lnTo>
                    <a:pt x="314" y="1012"/>
                  </a:lnTo>
                  <a:lnTo>
                    <a:pt x="297" y="956"/>
                  </a:lnTo>
                  <a:lnTo>
                    <a:pt x="291" y="906"/>
                  </a:lnTo>
                  <a:lnTo>
                    <a:pt x="279" y="849"/>
                  </a:lnTo>
                  <a:lnTo>
                    <a:pt x="279" y="798"/>
                  </a:lnTo>
                  <a:lnTo>
                    <a:pt x="274" y="737"/>
                  </a:lnTo>
                  <a:lnTo>
                    <a:pt x="274" y="681"/>
                  </a:lnTo>
                  <a:lnTo>
                    <a:pt x="274" y="624"/>
                  </a:lnTo>
                  <a:lnTo>
                    <a:pt x="274" y="573"/>
                  </a:lnTo>
                  <a:lnTo>
                    <a:pt x="308" y="590"/>
                  </a:lnTo>
                  <a:lnTo>
                    <a:pt x="332" y="607"/>
                  </a:lnTo>
                  <a:lnTo>
                    <a:pt x="337" y="613"/>
                  </a:lnTo>
                  <a:lnTo>
                    <a:pt x="343" y="630"/>
                  </a:lnTo>
                  <a:lnTo>
                    <a:pt x="348" y="647"/>
                  </a:lnTo>
                  <a:lnTo>
                    <a:pt x="355" y="686"/>
                  </a:lnTo>
                  <a:lnTo>
                    <a:pt x="360" y="793"/>
                  </a:lnTo>
                  <a:lnTo>
                    <a:pt x="378" y="906"/>
                  </a:lnTo>
                  <a:lnTo>
                    <a:pt x="395" y="1024"/>
                  </a:lnTo>
                  <a:lnTo>
                    <a:pt x="431" y="1147"/>
                  </a:lnTo>
                  <a:lnTo>
                    <a:pt x="454" y="1260"/>
                  </a:lnTo>
                  <a:lnTo>
                    <a:pt x="494" y="1367"/>
                  </a:lnTo>
                  <a:lnTo>
                    <a:pt x="528" y="1456"/>
                  </a:lnTo>
                  <a:lnTo>
                    <a:pt x="581" y="1541"/>
                  </a:lnTo>
                  <a:lnTo>
                    <a:pt x="604" y="1557"/>
                  </a:lnTo>
                  <a:lnTo>
                    <a:pt x="639" y="1580"/>
                  </a:lnTo>
                  <a:lnTo>
                    <a:pt x="669" y="1597"/>
                  </a:lnTo>
                  <a:lnTo>
                    <a:pt x="697" y="1620"/>
                  </a:lnTo>
                  <a:lnTo>
                    <a:pt x="756" y="1811"/>
                  </a:lnTo>
                  <a:lnTo>
                    <a:pt x="768" y="1805"/>
                  </a:lnTo>
                  <a:lnTo>
                    <a:pt x="802" y="1805"/>
                  </a:lnTo>
                  <a:lnTo>
                    <a:pt x="854" y="1799"/>
                  </a:lnTo>
                  <a:lnTo>
                    <a:pt x="924" y="1794"/>
                  </a:lnTo>
                  <a:lnTo>
                    <a:pt x="982" y="1782"/>
                  </a:lnTo>
                  <a:lnTo>
                    <a:pt x="1034" y="1782"/>
                  </a:lnTo>
                  <a:lnTo>
                    <a:pt x="1075" y="1772"/>
                  </a:lnTo>
                  <a:lnTo>
                    <a:pt x="1098" y="1772"/>
                  </a:lnTo>
                  <a:lnTo>
                    <a:pt x="1104" y="1698"/>
                  </a:lnTo>
                  <a:lnTo>
                    <a:pt x="1116" y="1546"/>
                  </a:lnTo>
                  <a:lnTo>
                    <a:pt x="1121" y="1333"/>
                  </a:lnTo>
                  <a:lnTo>
                    <a:pt x="1133" y="1102"/>
                  </a:lnTo>
                  <a:lnTo>
                    <a:pt x="1139" y="860"/>
                  </a:lnTo>
                  <a:lnTo>
                    <a:pt x="1145" y="658"/>
                  </a:lnTo>
                  <a:lnTo>
                    <a:pt x="1145" y="506"/>
                  </a:lnTo>
                  <a:lnTo>
                    <a:pt x="1151" y="455"/>
                  </a:lnTo>
                  <a:lnTo>
                    <a:pt x="1139" y="445"/>
                  </a:lnTo>
                  <a:lnTo>
                    <a:pt x="1128" y="433"/>
                  </a:lnTo>
                  <a:lnTo>
                    <a:pt x="1104" y="404"/>
                  </a:lnTo>
                  <a:lnTo>
                    <a:pt x="1121" y="416"/>
                  </a:lnTo>
                  <a:lnTo>
                    <a:pt x="1133" y="433"/>
                  </a:lnTo>
                  <a:lnTo>
                    <a:pt x="1110" y="421"/>
                  </a:lnTo>
                  <a:lnTo>
                    <a:pt x="1081" y="399"/>
                  </a:lnTo>
                  <a:lnTo>
                    <a:pt x="1058" y="399"/>
                  </a:lnTo>
                  <a:lnTo>
                    <a:pt x="1034" y="399"/>
                  </a:lnTo>
                  <a:lnTo>
                    <a:pt x="1005" y="394"/>
                  </a:lnTo>
                  <a:lnTo>
                    <a:pt x="976" y="377"/>
                  </a:lnTo>
                  <a:lnTo>
                    <a:pt x="953" y="360"/>
                  </a:lnTo>
                  <a:lnTo>
                    <a:pt x="918" y="332"/>
                  </a:lnTo>
                  <a:lnTo>
                    <a:pt x="890" y="310"/>
                  </a:lnTo>
                  <a:lnTo>
                    <a:pt x="854" y="281"/>
                  </a:lnTo>
                  <a:lnTo>
                    <a:pt x="825" y="254"/>
                  </a:lnTo>
                  <a:lnTo>
                    <a:pt x="796" y="230"/>
                  </a:lnTo>
                  <a:lnTo>
                    <a:pt x="779" y="214"/>
                  </a:lnTo>
                  <a:lnTo>
                    <a:pt x="732" y="163"/>
                  </a:lnTo>
                  <a:lnTo>
                    <a:pt x="692" y="107"/>
                  </a:lnTo>
                  <a:lnTo>
                    <a:pt x="645" y="56"/>
                  </a:lnTo>
                  <a:lnTo>
                    <a:pt x="593" y="23"/>
                  </a:lnTo>
                  <a:lnTo>
                    <a:pt x="593" y="11"/>
                  </a:lnTo>
                  <a:lnTo>
                    <a:pt x="593" y="6"/>
                  </a:lnTo>
                  <a:lnTo>
                    <a:pt x="563" y="0"/>
                  </a:lnTo>
                  <a:lnTo>
                    <a:pt x="540" y="6"/>
                  </a:lnTo>
                  <a:close/>
                </a:path>
              </a:pathLst>
            </a:custGeom>
            <a:solidFill>
              <a:srgbClr val="0cd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577280" y="4750920"/>
              <a:ext cx="166320" cy="871920"/>
            </a:xfrm>
            <a:custGeom>
              <a:avLst/>
              <a:gdLst/>
              <a:ahLst/>
              <a:rect l="l" t="t" r="r" b="b"/>
              <a:pathLst>
                <a:path w="855" h="4083">
                  <a:moveTo>
                    <a:pt x="209" y="12"/>
                  </a:moveTo>
                  <a:lnTo>
                    <a:pt x="168" y="40"/>
                  </a:lnTo>
                  <a:lnTo>
                    <a:pt x="157" y="91"/>
                  </a:lnTo>
                  <a:lnTo>
                    <a:pt x="151" y="135"/>
                  </a:lnTo>
                  <a:lnTo>
                    <a:pt x="157" y="158"/>
                  </a:lnTo>
                  <a:lnTo>
                    <a:pt x="110" y="186"/>
                  </a:lnTo>
                  <a:lnTo>
                    <a:pt x="70" y="236"/>
                  </a:lnTo>
                  <a:lnTo>
                    <a:pt x="29" y="287"/>
                  </a:lnTo>
                  <a:lnTo>
                    <a:pt x="11" y="338"/>
                  </a:lnTo>
                  <a:lnTo>
                    <a:pt x="0" y="383"/>
                  </a:lnTo>
                  <a:lnTo>
                    <a:pt x="6" y="451"/>
                  </a:lnTo>
                  <a:lnTo>
                    <a:pt x="11" y="523"/>
                  </a:lnTo>
                  <a:lnTo>
                    <a:pt x="29" y="602"/>
                  </a:lnTo>
                  <a:lnTo>
                    <a:pt x="41" y="670"/>
                  </a:lnTo>
                  <a:lnTo>
                    <a:pt x="59" y="731"/>
                  </a:lnTo>
                  <a:lnTo>
                    <a:pt x="70" y="770"/>
                  </a:lnTo>
                  <a:lnTo>
                    <a:pt x="76" y="787"/>
                  </a:lnTo>
                  <a:lnTo>
                    <a:pt x="41" y="979"/>
                  </a:lnTo>
                  <a:lnTo>
                    <a:pt x="47" y="996"/>
                  </a:lnTo>
                  <a:lnTo>
                    <a:pt x="76" y="1047"/>
                  </a:lnTo>
                  <a:lnTo>
                    <a:pt x="87" y="1074"/>
                  </a:lnTo>
                  <a:lnTo>
                    <a:pt x="99" y="1102"/>
                  </a:lnTo>
                  <a:lnTo>
                    <a:pt x="105" y="1131"/>
                  </a:lnTo>
                  <a:lnTo>
                    <a:pt x="117" y="1158"/>
                  </a:lnTo>
                  <a:lnTo>
                    <a:pt x="110" y="1187"/>
                  </a:lnTo>
                  <a:lnTo>
                    <a:pt x="105" y="1238"/>
                  </a:lnTo>
                  <a:lnTo>
                    <a:pt x="87" y="1288"/>
                  </a:lnTo>
                  <a:lnTo>
                    <a:pt x="76" y="1349"/>
                  </a:lnTo>
                  <a:lnTo>
                    <a:pt x="59" y="1400"/>
                  </a:lnTo>
                  <a:lnTo>
                    <a:pt x="47" y="1445"/>
                  </a:lnTo>
                  <a:lnTo>
                    <a:pt x="41" y="1479"/>
                  </a:lnTo>
                  <a:lnTo>
                    <a:pt x="52" y="1496"/>
                  </a:lnTo>
                  <a:lnTo>
                    <a:pt x="64" y="1552"/>
                  </a:lnTo>
                  <a:lnTo>
                    <a:pt x="82" y="1626"/>
                  </a:lnTo>
                  <a:lnTo>
                    <a:pt x="105" y="1699"/>
                  </a:lnTo>
                  <a:lnTo>
                    <a:pt x="134" y="1783"/>
                  </a:lnTo>
                  <a:lnTo>
                    <a:pt x="151" y="1861"/>
                  </a:lnTo>
                  <a:lnTo>
                    <a:pt x="168" y="1940"/>
                  </a:lnTo>
                  <a:lnTo>
                    <a:pt x="168" y="2013"/>
                  </a:lnTo>
                  <a:lnTo>
                    <a:pt x="168" y="2087"/>
                  </a:lnTo>
                  <a:lnTo>
                    <a:pt x="145" y="2131"/>
                  </a:lnTo>
                  <a:lnTo>
                    <a:pt x="105" y="2182"/>
                  </a:lnTo>
                  <a:lnTo>
                    <a:pt x="87" y="2210"/>
                  </a:lnTo>
                  <a:lnTo>
                    <a:pt x="70" y="2244"/>
                  </a:lnTo>
                  <a:lnTo>
                    <a:pt x="59" y="2289"/>
                  </a:lnTo>
                  <a:lnTo>
                    <a:pt x="64" y="2345"/>
                  </a:lnTo>
                  <a:lnTo>
                    <a:pt x="64" y="2384"/>
                  </a:lnTo>
                  <a:lnTo>
                    <a:pt x="82" y="2430"/>
                  </a:lnTo>
                  <a:lnTo>
                    <a:pt x="99" y="2469"/>
                  </a:lnTo>
                  <a:lnTo>
                    <a:pt x="122" y="2514"/>
                  </a:lnTo>
                  <a:lnTo>
                    <a:pt x="140" y="2553"/>
                  </a:lnTo>
                  <a:lnTo>
                    <a:pt x="157" y="2592"/>
                  </a:lnTo>
                  <a:lnTo>
                    <a:pt x="168" y="2626"/>
                  </a:lnTo>
                  <a:lnTo>
                    <a:pt x="186" y="2666"/>
                  </a:lnTo>
                  <a:lnTo>
                    <a:pt x="186" y="2710"/>
                  </a:lnTo>
                  <a:lnTo>
                    <a:pt x="186" y="2761"/>
                  </a:lnTo>
                  <a:lnTo>
                    <a:pt x="181" y="2818"/>
                  </a:lnTo>
                  <a:lnTo>
                    <a:pt x="175" y="2879"/>
                  </a:lnTo>
                  <a:lnTo>
                    <a:pt x="163" y="2930"/>
                  </a:lnTo>
                  <a:lnTo>
                    <a:pt x="151" y="2986"/>
                  </a:lnTo>
                  <a:lnTo>
                    <a:pt x="145" y="3036"/>
                  </a:lnTo>
                  <a:lnTo>
                    <a:pt x="145" y="3093"/>
                  </a:lnTo>
                  <a:lnTo>
                    <a:pt x="134" y="3200"/>
                  </a:lnTo>
                  <a:lnTo>
                    <a:pt x="128" y="3318"/>
                  </a:lnTo>
                  <a:lnTo>
                    <a:pt x="122" y="3436"/>
                  </a:lnTo>
                  <a:lnTo>
                    <a:pt x="122" y="3554"/>
                  </a:lnTo>
                  <a:lnTo>
                    <a:pt x="117" y="3672"/>
                  </a:lnTo>
                  <a:lnTo>
                    <a:pt x="117" y="3790"/>
                  </a:lnTo>
                  <a:lnTo>
                    <a:pt x="117" y="3909"/>
                  </a:lnTo>
                  <a:lnTo>
                    <a:pt x="117" y="4032"/>
                  </a:lnTo>
                  <a:lnTo>
                    <a:pt x="163" y="4049"/>
                  </a:lnTo>
                  <a:lnTo>
                    <a:pt x="216" y="4066"/>
                  </a:lnTo>
                  <a:lnTo>
                    <a:pt x="274" y="4071"/>
                  </a:lnTo>
                  <a:lnTo>
                    <a:pt x="343" y="4083"/>
                  </a:lnTo>
                  <a:lnTo>
                    <a:pt x="407" y="4083"/>
                  </a:lnTo>
                  <a:lnTo>
                    <a:pt x="471" y="4083"/>
                  </a:lnTo>
                  <a:lnTo>
                    <a:pt x="535" y="4076"/>
                  </a:lnTo>
                  <a:lnTo>
                    <a:pt x="599" y="4071"/>
                  </a:lnTo>
                  <a:lnTo>
                    <a:pt x="634" y="4043"/>
                  </a:lnTo>
                  <a:lnTo>
                    <a:pt x="657" y="4004"/>
                  </a:lnTo>
                  <a:lnTo>
                    <a:pt x="657" y="3948"/>
                  </a:lnTo>
                  <a:lnTo>
                    <a:pt x="657" y="3885"/>
                  </a:lnTo>
                  <a:lnTo>
                    <a:pt x="639" y="3813"/>
                  </a:lnTo>
                  <a:lnTo>
                    <a:pt x="627" y="3745"/>
                  </a:lnTo>
                  <a:lnTo>
                    <a:pt x="616" y="3678"/>
                  </a:lnTo>
                  <a:lnTo>
                    <a:pt x="622" y="3622"/>
                  </a:lnTo>
                  <a:lnTo>
                    <a:pt x="627" y="3543"/>
                  </a:lnTo>
                  <a:lnTo>
                    <a:pt x="652" y="3470"/>
                  </a:lnTo>
                  <a:lnTo>
                    <a:pt x="680" y="3391"/>
                  </a:lnTo>
                  <a:lnTo>
                    <a:pt x="715" y="3323"/>
                  </a:lnTo>
                  <a:lnTo>
                    <a:pt x="744" y="3250"/>
                  </a:lnTo>
                  <a:lnTo>
                    <a:pt x="773" y="3178"/>
                  </a:lnTo>
                  <a:lnTo>
                    <a:pt x="802" y="3110"/>
                  </a:lnTo>
                  <a:lnTo>
                    <a:pt x="825" y="3042"/>
                  </a:lnTo>
                  <a:lnTo>
                    <a:pt x="843" y="2891"/>
                  </a:lnTo>
                  <a:lnTo>
                    <a:pt x="855" y="2727"/>
                  </a:lnTo>
                  <a:lnTo>
                    <a:pt x="849" y="2548"/>
                  </a:lnTo>
                  <a:lnTo>
                    <a:pt x="849" y="2367"/>
                  </a:lnTo>
                  <a:lnTo>
                    <a:pt x="837" y="2176"/>
                  </a:lnTo>
                  <a:lnTo>
                    <a:pt x="832" y="1996"/>
                  </a:lnTo>
                  <a:lnTo>
                    <a:pt x="825" y="1817"/>
                  </a:lnTo>
                  <a:lnTo>
                    <a:pt x="825" y="1659"/>
                  </a:lnTo>
                  <a:lnTo>
                    <a:pt x="756" y="1636"/>
                  </a:lnTo>
                  <a:lnTo>
                    <a:pt x="686" y="1614"/>
                  </a:lnTo>
                  <a:lnTo>
                    <a:pt x="611" y="1592"/>
                  </a:lnTo>
                  <a:lnTo>
                    <a:pt x="535" y="1575"/>
                  </a:lnTo>
                  <a:lnTo>
                    <a:pt x="454" y="1552"/>
                  </a:lnTo>
                  <a:lnTo>
                    <a:pt x="384" y="1541"/>
                  </a:lnTo>
                  <a:lnTo>
                    <a:pt x="314" y="1530"/>
                  </a:lnTo>
                  <a:lnTo>
                    <a:pt x="250" y="1530"/>
                  </a:lnTo>
                  <a:lnTo>
                    <a:pt x="221" y="1366"/>
                  </a:lnTo>
                  <a:lnTo>
                    <a:pt x="209" y="1204"/>
                  </a:lnTo>
                  <a:lnTo>
                    <a:pt x="198" y="1040"/>
                  </a:lnTo>
                  <a:lnTo>
                    <a:pt x="198" y="883"/>
                  </a:lnTo>
                  <a:lnTo>
                    <a:pt x="198" y="721"/>
                  </a:lnTo>
                  <a:lnTo>
                    <a:pt x="204" y="557"/>
                  </a:lnTo>
                  <a:lnTo>
                    <a:pt x="216" y="394"/>
                  </a:lnTo>
                  <a:lnTo>
                    <a:pt x="239" y="243"/>
                  </a:lnTo>
                  <a:lnTo>
                    <a:pt x="262" y="236"/>
                  </a:lnTo>
                  <a:lnTo>
                    <a:pt x="308" y="231"/>
                  </a:lnTo>
                  <a:lnTo>
                    <a:pt x="355" y="220"/>
                  </a:lnTo>
                  <a:lnTo>
                    <a:pt x="384" y="220"/>
                  </a:lnTo>
                  <a:lnTo>
                    <a:pt x="401" y="220"/>
                  </a:lnTo>
                  <a:lnTo>
                    <a:pt x="424" y="231"/>
                  </a:lnTo>
                  <a:lnTo>
                    <a:pt x="407" y="192"/>
                  </a:lnTo>
                  <a:lnTo>
                    <a:pt x="396" y="158"/>
                  </a:lnTo>
                  <a:lnTo>
                    <a:pt x="378" y="113"/>
                  </a:lnTo>
                  <a:lnTo>
                    <a:pt x="366" y="79"/>
                  </a:lnTo>
                  <a:lnTo>
                    <a:pt x="338" y="40"/>
                  </a:lnTo>
                  <a:lnTo>
                    <a:pt x="302" y="17"/>
                  </a:lnTo>
                  <a:lnTo>
                    <a:pt x="262" y="0"/>
                  </a:lnTo>
                  <a:lnTo>
                    <a:pt x="209" y="12"/>
                  </a:lnTo>
                  <a:close/>
                </a:path>
              </a:pathLst>
            </a:custGeom>
            <a:solidFill>
              <a:srgbClr val="e3fd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911000" y="4770000"/>
              <a:ext cx="49680" cy="42840"/>
            </a:xfrm>
            <a:custGeom>
              <a:avLst/>
              <a:gdLst/>
              <a:ahLst/>
              <a:rect l="l" t="t" r="r" b="b"/>
              <a:pathLst>
                <a:path w="256" h="201">
                  <a:moveTo>
                    <a:pt x="94" y="0"/>
                  </a:moveTo>
                  <a:lnTo>
                    <a:pt x="64" y="34"/>
                  </a:lnTo>
                  <a:lnTo>
                    <a:pt x="36" y="73"/>
                  </a:lnTo>
                  <a:lnTo>
                    <a:pt x="12" y="106"/>
                  </a:lnTo>
                  <a:lnTo>
                    <a:pt x="0" y="140"/>
                  </a:lnTo>
                  <a:lnTo>
                    <a:pt x="0" y="162"/>
                  </a:lnTo>
                  <a:lnTo>
                    <a:pt x="23" y="184"/>
                  </a:lnTo>
                  <a:lnTo>
                    <a:pt x="71" y="196"/>
                  </a:lnTo>
                  <a:lnTo>
                    <a:pt x="152" y="201"/>
                  </a:lnTo>
                  <a:lnTo>
                    <a:pt x="204" y="191"/>
                  </a:lnTo>
                  <a:lnTo>
                    <a:pt x="244" y="169"/>
                  </a:lnTo>
                  <a:lnTo>
                    <a:pt x="256" y="135"/>
                  </a:lnTo>
                  <a:lnTo>
                    <a:pt x="251" y="101"/>
                  </a:lnTo>
                  <a:lnTo>
                    <a:pt x="228" y="61"/>
                  </a:lnTo>
                  <a:lnTo>
                    <a:pt x="193" y="34"/>
                  </a:lnTo>
                  <a:lnTo>
                    <a:pt x="146" y="5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1800" y="4779360"/>
              <a:ext cx="15120" cy="76680"/>
            </a:xfrm>
            <a:custGeom>
              <a:avLst/>
              <a:gdLst/>
              <a:ahLst/>
              <a:rect l="l" t="t" r="r" b="b"/>
              <a:pathLst>
                <a:path w="76" h="360">
                  <a:moveTo>
                    <a:pt x="6" y="0"/>
                  </a:moveTo>
                  <a:lnTo>
                    <a:pt x="0" y="34"/>
                  </a:lnTo>
                  <a:lnTo>
                    <a:pt x="0" y="73"/>
                  </a:lnTo>
                  <a:lnTo>
                    <a:pt x="0" y="113"/>
                  </a:lnTo>
                  <a:lnTo>
                    <a:pt x="0" y="157"/>
                  </a:lnTo>
                  <a:lnTo>
                    <a:pt x="0" y="191"/>
                  </a:lnTo>
                  <a:lnTo>
                    <a:pt x="0" y="241"/>
                  </a:lnTo>
                  <a:lnTo>
                    <a:pt x="0" y="287"/>
                  </a:lnTo>
                  <a:lnTo>
                    <a:pt x="6" y="348"/>
                  </a:lnTo>
                  <a:lnTo>
                    <a:pt x="46" y="360"/>
                  </a:lnTo>
                  <a:lnTo>
                    <a:pt x="46" y="321"/>
                  </a:lnTo>
                  <a:lnTo>
                    <a:pt x="52" y="280"/>
                  </a:lnTo>
                  <a:lnTo>
                    <a:pt x="59" y="236"/>
                  </a:lnTo>
                  <a:lnTo>
                    <a:pt x="64" y="196"/>
                  </a:lnTo>
                  <a:lnTo>
                    <a:pt x="64" y="145"/>
                  </a:lnTo>
                  <a:lnTo>
                    <a:pt x="70" y="101"/>
                  </a:lnTo>
                  <a:lnTo>
                    <a:pt x="70" y="56"/>
                  </a:lnTo>
                  <a:lnTo>
                    <a:pt x="76" y="11"/>
                  </a:lnTo>
                  <a:lnTo>
                    <a:pt x="59" y="5"/>
                  </a:lnTo>
                  <a:lnTo>
                    <a:pt x="41" y="5"/>
                  </a:lnTo>
                  <a:lnTo>
                    <a:pt x="11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805880" y="4806360"/>
              <a:ext cx="331200" cy="381960"/>
            </a:xfrm>
            <a:custGeom>
              <a:avLst/>
              <a:gdLst/>
              <a:ahLst/>
              <a:rect l="l" t="t" r="r" b="b"/>
              <a:pathLst>
                <a:path w="1703" h="1787">
                  <a:moveTo>
                    <a:pt x="982" y="0"/>
                  </a:moveTo>
                  <a:lnTo>
                    <a:pt x="948" y="10"/>
                  </a:lnTo>
                  <a:lnTo>
                    <a:pt x="907" y="44"/>
                  </a:lnTo>
                  <a:lnTo>
                    <a:pt x="860" y="78"/>
                  </a:lnTo>
                  <a:lnTo>
                    <a:pt x="819" y="100"/>
                  </a:lnTo>
                  <a:lnTo>
                    <a:pt x="756" y="100"/>
                  </a:lnTo>
                  <a:lnTo>
                    <a:pt x="697" y="100"/>
                  </a:lnTo>
                  <a:lnTo>
                    <a:pt x="639" y="89"/>
                  </a:lnTo>
                  <a:lnTo>
                    <a:pt x="588" y="83"/>
                  </a:lnTo>
                  <a:lnTo>
                    <a:pt x="529" y="66"/>
                  </a:lnTo>
                  <a:lnTo>
                    <a:pt x="477" y="66"/>
                  </a:lnTo>
                  <a:lnTo>
                    <a:pt x="424" y="66"/>
                  </a:lnTo>
                  <a:lnTo>
                    <a:pt x="383" y="89"/>
                  </a:lnTo>
                  <a:lnTo>
                    <a:pt x="337" y="111"/>
                  </a:lnTo>
                  <a:lnTo>
                    <a:pt x="308" y="150"/>
                  </a:lnTo>
                  <a:lnTo>
                    <a:pt x="274" y="196"/>
                  </a:lnTo>
                  <a:lnTo>
                    <a:pt x="251" y="252"/>
                  </a:lnTo>
                  <a:lnTo>
                    <a:pt x="226" y="302"/>
                  </a:lnTo>
                  <a:lnTo>
                    <a:pt x="203" y="365"/>
                  </a:lnTo>
                  <a:lnTo>
                    <a:pt x="186" y="415"/>
                  </a:lnTo>
                  <a:lnTo>
                    <a:pt x="168" y="471"/>
                  </a:lnTo>
                  <a:lnTo>
                    <a:pt x="145" y="505"/>
                  </a:lnTo>
                  <a:lnTo>
                    <a:pt x="122" y="550"/>
                  </a:lnTo>
                  <a:lnTo>
                    <a:pt x="99" y="595"/>
                  </a:lnTo>
                  <a:lnTo>
                    <a:pt x="76" y="645"/>
                  </a:lnTo>
                  <a:lnTo>
                    <a:pt x="46" y="691"/>
                  </a:lnTo>
                  <a:lnTo>
                    <a:pt x="29" y="741"/>
                  </a:lnTo>
                  <a:lnTo>
                    <a:pt x="12" y="787"/>
                  </a:lnTo>
                  <a:lnTo>
                    <a:pt x="6" y="837"/>
                  </a:lnTo>
                  <a:lnTo>
                    <a:pt x="0" y="961"/>
                  </a:lnTo>
                  <a:lnTo>
                    <a:pt x="35" y="1089"/>
                  </a:lnTo>
                  <a:lnTo>
                    <a:pt x="87" y="1219"/>
                  </a:lnTo>
                  <a:lnTo>
                    <a:pt x="157" y="1354"/>
                  </a:lnTo>
                  <a:lnTo>
                    <a:pt x="226" y="1478"/>
                  </a:lnTo>
                  <a:lnTo>
                    <a:pt x="308" y="1596"/>
                  </a:lnTo>
                  <a:lnTo>
                    <a:pt x="378" y="1697"/>
                  </a:lnTo>
                  <a:lnTo>
                    <a:pt x="448" y="1787"/>
                  </a:lnTo>
                  <a:lnTo>
                    <a:pt x="512" y="1646"/>
                  </a:lnTo>
                  <a:lnTo>
                    <a:pt x="552" y="1551"/>
                  </a:lnTo>
                  <a:lnTo>
                    <a:pt x="558" y="1472"/>
                  </a:lnTo>
                  <a:lnTo>
                    <a:pt x="546" y="1416"/>
                  </a:lnTo>
                  <a:lnTo>
                    <a:pt x="512" y="1354"/>
                  </a:lnTo>
                  <a:lnTo>
                    <a:pt x="465" y="1287"/>
                  </a:lnTo>
                  <a:lnTo>
                    <a:pt x="401" y="1202"/>
                  </a:lnTo>
                  <a:lnTo>
                    <a:pt x="343" y="1096"/>
                  </a:lnTo>
                  <a:lnTo>
                    <a:pt x="343" y="1000"/>
                  </a:lnTo>
                  <a:lnTo>
                    <a:pt x="395" y="1045"/>
                  </a:lnTo>
                  <a:lnTo>
                    <a:pt x="448" y="1096"/>
                  </a:lnTo>
                  <a:lnTo>
                    <a:pt x="500" y="1157"/>
                  </a:lnTo>
                  <a:lnTo>
                    <a:pt x="552" y="1224"/>
                  </a:lnTo>
                  <a:lnTo>
                    <a:pt x="593" y="1292"/>
                  </a:lnTo>
                  <a:lnTo>
                    <a:pt x="639" y="1366"/>
                  </a:lnTo>
                  <a:lnTo>
                    <a:pt x="674" y="1433"/>
                  </a:lnTo>
                  <a:lnTo>
                    <a:pt x="715" y="1506"/>
                  </a:lnTo>
                  <a:lnTo>
                    <a:pt x="738" y="1501"/>
                  </a:lnTo>
                  <a:lnTo>
                    <a:pt x="768" y="1501"/>
                  </a:lnTo>
                  <a:lnTo>
                    <a:pt x="796" y="1501"/>
                  </a:lnTo>
                  <a:lnTo>
                    <a:pt x="808" y="1506"/>
                  </a:lnTo>
                  <a:lnTo>
                    <a:pt x="907" y="1528"/>
                  </a:lnTo>
                  <a:lnTo>
                    <a:pt x="1011" y="1557"/>
                  </a:lnTo>
                  <a:lnTo>
                    <a:pt x="1098" y="1568"/>
                  </a:lnTo>
                  <a:lnTo>
                    <a:pt x="1174" y="1568"/>
                  </a:lnTo>
                  <a:lnTo>
                    <a:pt x="1227" y="1535"/>
                  </a:lnTo>
                  <a:lnTo>
                    <a:pt x="1262" y="1478"/>
                  </a:lnTo>
                  <a:lnTo>
                    <a:pt x="1267" y="1383"/>
                  </a:lnTo>
                  <a:lnTo>
                    <a:pt x="1250" y="1248"/>
                  </a:lnTo>
                  <a:lnTo>
                    <a:pt x="1232" y="1185"/>
                  </a:lnTo>
                  <a:lnTo>
                    <a:pt x="1220" y="1123"/>
                  </a:lnTo>
                  <a:lnTo>
                    <a:pt x="1204" y="1057"/>
                  </a:lnTo>
                  <a:lnTo>
                    <a:pt x="1192" y="994"/>
                  </a:lnTo>
                  <a:lnTo>
                    <a:pt x="1174" y="922"/>
                  </a:lnTo>
                  <a:lnTo>
                    <a:pt x="1163" y="854"/>
                  </a:lnTo>
                  <a:lnTo>
                    <a:pt x="1156" y="787"/>
                  </a:lnTo>
                  <a:lnTo>
                    <a:pt x="1156" y="730"/>
                  </a:lnTo>
                  <a:lnTo>
                    <a:pt x="1156" y="713"/>
                  </a:lnTo>
                  <a:lnTo>
                    <a:pt x="1163" y="691"/>
                  </a:lnTo>
                  <a:lnTo>
                    <a:pt x="1163" y="674"/>
                  </a:lnTo>
                  <a:lnTo>
                    <a:pt x="1168" y="668"/>
                  </a:lnTo>
                  <a:lnTo>
                    <a:pt x="1174" y="668"/>
                  </a:lnTo>
                  <a:lnTo>
                    <a:pt x="1192" y="674"/>
                  </a:lnTo>
                  <a:lnTo>
                    <a:pt x="1209" y="674"/>
                  </a:lnTo>
                  <a:lnTo>
                    <a:pt x="1220" y="679"/>
                  </a:lnTo>
                  <a:lnTo>
                    <a:pt x="1232" y="787"/>
                  </a:lnTo>
                  <a:lnTo>
                    <a:pt x="1250" y="898"/>
                  </a:lnTo>
                  <a:lnTo>
                    <a:pt x="1273" y="1011"/>
                  </a:lnTo>
                  <a:lnTo>
                    <a:pt x="1302" y="1123"/>
                  </a:lnTo>
                  <a:lnTo>
                    <a:pt x="1325" y="1231"/>
                  </a:lnTo>
                  <a:lnTo>
                    <a:pt x="1354" y="1343"/>
                  </a:lnTo>
                  <a:lnTo>
                    <a:pt x="1377" y="1450"/>
                  </a:lnTo>
                  <a:lnTo>
                    <a:pt x="1407" y="1557"/>
                  </a:lnTo>
                  <a:lnTo>
                    <a:pt x="1442" y="1545"/>
                  </a:lnTo>
                  <a:lnTo>
                    <a:pt x="1482" y="1545"/>
                  </a:lnTo>
                  <a:lnTo>
                    <a:pt x="1517" y="1545"/>
                  </a:lnTo>
                  <a:lnTo>
                    <a:pt x="1557" y="1551"/>
                  </a:lnTo>
                  <a:lnTo>
                    <a:pt x="1592" y="1551"/>
                  </a:lnTo>
                  <a:lnTo>
                    <a:pt x="1627" y="1562"/>
                  </a:lnTo>
                  <a:lnTo>
                    <a:pt x="1663" y="1568"/>
                  </a:lnTo>
                  <a:lnTo>
                    <a:pt x="1703" y="1584"/>
                  </a:lnTo>
                  <a:lnTo>
                    <a:pt x="1680" y="1540"/>
                  </a:lnTo>
                  <a:lnTo>
                    <a:pt x="1663" y="1494"/>
                  </a:lnTo>
                  <a:lnTo>
                    <a:pt x="1627" y="1427"/>
                  </a:lnTo>
                  <a:lnTo>
                    <a:pt x="1598" y="1366"/>
                  </a:lnTo>
                  <a:lnTo>
                    <a:pt x="1557" y="1292"/>
                  </a:lnTo>
                  <a:lnTo>
                    <a:pt x="1523" y="1224"/>
                  </a:lnTo>
                  <a:lnTo>
                    <a:pt x="1488" y="1152"/>
                  </a:lnTo>
                  <a:lnTo>
                    <a:pt x="1458" y="1079"/>
                  </a:lnTo>
                  <a:lnTo>
                    <a:pt x="1435" y="1011"/>
                  </a:lnTo>
                  <a:lnTo>
                    <a:pt x="1435" y="949"/>
                  </a:lnTo>
                  <a:lnTo>
                    <a:pt x="1442" y="888"/>
                  </a:lnTo>
                  <a:lnTo>
                    <a:pt x="1470" y="831"/>
                  </a:lnTo>
                  <a:lnTo>
                    <a:pt x="1476" y="797"/>
                  </a:lnTo>
                  <a:lnTo>
                    <a:pt x="1488" y="770"/>
                  </a:lnTo>
                  <a:lnTo>
                    <a:pt x="1488" y="736"/>
                  </a:lnTo>
                  <a:lnTo>
                    <a:pt x="1488" y="707"/>
                  </a:lnTo>
                  <a:lnTo>
                    <a:pt x="1476" y="691"/>
                  </a:lnTo>
                  <a:lnTo>
                    <a:pt x="1447" y="662"/>
                  </a:lnTo>
                  <a:lnTo>
                    <a:pt x="1418" y="635"/>
                  </a:lnTo>
                  <a:lnTo>
                    <a:pt x="1407" y="618"/>
                  </a:lnTo>
                  <a:lnTo>
                    <a:pt x="1372" y="533"/>
                  </a:lnTo>
                  <a:lnTo>
                    <a:pt x="1354" y="454"/>
                  </a:lnTo>
                  <a:lnTo>
                    <a:pt x="1331" y="370"/>
                  </a:lnTo>
                  <a:lnTo>
                    <a:pt x="1313" y="297"/>
                  </a:lnTo>
                  <a:lnTo>
                    <a:pt x="1278" y="224"/>
                  </a:lnTo>
                  <a:lnTo>
                    <a:pt x="1250" y="162"/>
                  </a:lnTo>
                  <a:lnTo>
                    <a:pt x="1204" y="106"/>
                  </a:lnTo>
                  <a:lnTo>
                    <a:pt x="1145" y="61"/>
                  </a:lnTo>
                  <a:lnTo>
                    <a:pt x="1110" y="39"/>
                  </a:lnTo>
                  <a:lnTo>
                    <a:pt x="1070" y="15"/>
                  </a:lnTo>
                  <a:lnTo>
                    <a:pt x="1024" y="0"/>
                  </a:lnTo>
                  <a:lnTo>
                    <a:pt x="982" y="0"/>
                  </a:lnTo>
                  <a:close/>
                </a:path>
              </a:pathLst>
            </a:custGeom>
            <a:solidFill>
              <a:srgbClr val="73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29840" y="4813200"/>
              <a:ext cx="180720" cy="284760"/>
            </a:xfrm>
            <a:custGeom>
              <a:avLst/>
              <a:gdLst/>
              <a:ahLst/>
              <a:rect l="l" t="t" r="r" b="b"/>
              <a:pathLst>
                <a:path w="930" h="1334">
                  <a:moveTo>
                    <a:pt x="23" y="0"/>
                  </a:moveTo>
                  <a:lnTo>
                    <a:pt x="7" y="130"/>
                  </a:lnTo>
                  <a:lnTo>
                    <a:pt x="0" y="270"/>
                  </a:lnTo>
                  <a:lnTo>
                    <a:pt x="0" y="422"/>
                  </a:lnTo>
                  <a:lnTo>
                    <a:pt x="0" y="574"/>
                  </a:lnTo>
                  <a:lnTo>
                    <a:pt x="0" y="726"/>
                  </a:lnTo>
                  <a:lnTo>
                    <a:pt x="18" y="878"/>
                  </a:lnTo>
                  <a:lnTo>
                    <a:pt x="30" y="1018"/>
                  </a:lnTo>
                  <a:lnTo>
                    <a:pt x="53" y="1165"/>
                  </a:lnTo>
                  <a:lnTo>
                    <a:pt x="146" y="1192"/>
                  </a:lnTo>
                  <a:lnTo>
                    <a:pt x="251" y="1226"/>
                  </a:lnTo>
                  <a:lnTo>
                    <a:pt x="355" y="1249"/>
                  </a:lnTo>
                  <a:lnTo>
                    <a:pt x="471" y="1271"/>
                  </a:lnTo>
                  <a:lnTo>
                    <a:pt x="588" y="1288"/>
                  </a:lnTo>
                  <a:lnTo>
                    <a:pt x="704" y="1305"/>
                  </a:lnTo>
                  <a:lnTo>
                    <a:pt x="814" y="1317"/>
                  </a:lnTo>
                  <a:lnTo>
                    <a:pt x="930" y="1334"/>
                  </a:lnTo>
                  <a:lnTo>
                    <a:pt x="919" y="1317"/>
                  </a:lnTo>
                  <a:lnTo>
                    <a:pt x="919" y="1288"/>
                  </a:lnTo>
                  <a:lnTo>
                    <a:pt x="913" y="1266"/>
                  </a:lnTo>
                  <a:lnTo>
                    <a:pt x="907" y="1232"/>
                  </a:lnTo>
                  <a:lnTo>
                    <a:pt x="902" y="1216"/>
                  </a:lnTo>
                  <a:lnTo>
                    <a:pt x="884" y="1170"/>
                  </a:lnTo>
                  <a:lnTo>
                    <a:pt x="872" y="1131"/>
                  </a:lnTo>
                  <a:lnTo>
                    <a:pt x="861" y="1091"/>
                  </a:lnTo>
                  <a:lnTo>
                    <a:pt x="854" y="1057"/>
                  </a:lnTo>
                  <a:lnTo>
                    <a:pt x="844" y="1018"/>
                  </a:lnTo>
                  <a:lnTo>
                    <a:pt x="837" y="979"/>
                  </a:lnTo>
                  <a:lnTo>
                    <a:pt x="826" y="946"/>
                  </a:lnTo>
                  <a:lnTo>
                    <a:pt x="826" y="917"/>
                  </a:lnTo>
                  <a:lnTo>
                    <a:pt x="756" y="917"/>
                  </a:lnTo>
                  <a:lnTo>
                    <a:pt x="692" y="929"/>
                  </a:lnTo>
                  <a:lnTo>
                    <a:pt x="628" y="929"/>
                  </a:lnTo>
                  <a:lnTo>
                    <a:pt x="565" y="940"/>
                  </a:lnTo>
                  <a:lnTo>
                    <a:pt x="494" y="940"/>
                  </a:lnTo>
                  <a:lnTo>
                    <a:pt x="436" y="946"/>
                  </a:lnTo>
                  <a:lnTo>
                    <a:pt x="372" y="946"/>
                  </a:lnTo>
                  <a:lnTo>
                    <a:pt x="314" y="946"/>
                  </a:lnTo>
                  <a:lnTo>
                    <a:pt x="337" y="923"/>
                  </a:lnTo>
                  <a:lnTo>
                    <a:pt x="396" y="895"/>
                  </a:lnTo>
                  <a:lnTo>
                    <a:pt x="378" y="788"/>
                  </a:lnTo>
                  <a:lnTo>
                    <a:pt x="360" y="675"/>
                  </a:lnTo>
                  <a:lnTo>
                    <a:pt x="337" y="563"/>
                  </a:lnTo>
                  <a:lnTo>
                    <a:pt x="320" y="456"/>
                  </a:lnTo>
                  <a:lnTo>
                    <a:pt x="291" y="344"/>
                  </a:lnTo>
                  <a:lnTo>
                    <a:pt x="268" y="248"/>
                  </a:lnTo>
                  <a:lnTo>
                    <a:pt x="233" y="159"/>
                  </a:lnTo>
                  <a:lnTo>
                    <a:pt x="198" y="85"/>
                  </a:lnTo>
                  <a:lnTo>
                    <a:pt x="164" y="34"/>
                  </a:lnTo>
                  <a:lnTo>
                    <a:pt x="134" y="17"/>
                  </a:lnTo>
                  <a:lnTo>
                    <a:pt x="111" y="7"/>
                  </a:lnTo>
                  <a:lnTo>
                    <a:pt x="94" y="7"/>
                  </a:lnTo>
                  <a:lnTo>
                    <a:pt x="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3fd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83480" y="4827960"/>
              <a:ext cx="48600" cy="170640"/>
            </a:xfrm>
            <a:custGeom>
              <a:avLst/>
              <a:gdLst/>
              <a:ahLst/>
              <a:rect l="l" t="t" r="r" b="b"/>
              <a:pathLst>
                <a:path w="250" h="798">
                  <a:moveTo>
                    <a:pt x="0" y="0"/>
                  </a:moveTo>
                  <a:lnTo>
                    <a:pt x="24" y="91"/>
                  </a:lnTo>
                  <a:lnTo>
                    <a:pt x="47" y="192"/>
                  </a:lnTo>
                  <a:lnTo>
                    <a:pt x="65" y="293"/>
                  </a:lnTo>
                  <a:lnTo>
                    <a:pt x="88" y="400"/>
                  </a:lnTo>
                  <a:lnTo>
                    <a:pt x="106" y="501"/>
                  </a:lnTo>
                  <a:lnTo>
                    <a:pt x="129" y="602"/>
                  </a:lnTo>
                  <a:lnTo>
                    <a:pt x="152" y="697"/>
                  </a:lnTo>
                  <a:lnTo>
                    <a:pt x="187" y="798"/>
                  </a:lnTo>
                  <a:lnTo>
                    <a:pt x="215" y="793"/>
                  </a:lnTo>
                  <a:lnTo>
                    <a:pt x="250" y="798"/>
                  </a:lnTo>
                  <a:lnTo>
                    <a:pt x="227" y="687"/>
                  </a:lnTo>
                  <a:lnTo>
                    <a:pt x="210" y="574"/>
                  </a:lnTo>
                  <a:lnTo>
                    <a:pt x="187" y="461"/>
                  </a:lnTo>
                  <a:lnTo>
                    <a:pt x="164" y="361"/>
                  </a:lnTo>
                  <a:lnTo>
                    <a:pt x="129" y="253"/>
                  </a:lnTo>
                  <a:lnTo>
                    <a:pt x="93" y="158"/>
                  </a:lnTo>
                  <a:lnTo>
                    <a:pt x="47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fd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954480" y="4913640"/>
              <a:ext cx="24120" cy="178560"/>
            </a:xfrm>
            <a:custGeom>
              <a:avLst/>
              <a:gdLst/>
              <a:ahLst/>
              <a:rect l="l" t="t" r="r" b="b"/>
              <a:pathLst>
                <a:path w="129" h="837">
                  <a:moveTo>
                    <a:pt x="76" y="0"/>
                  </a:moveTo>
                  <a:lnTo>
                    <a:pt x="30" y="56"/>
                  </a:lnTo>
                  <a:lnTo>
                    <a:pt x="7" y="152"/>
                  </a:lnTo>
                  <a:lnTo>
                    <a:pt x="0" y="258"/>
                  </a:lnTo>
                  <a:lnTo>
                    <a:pt x="7" y="382"/>
                  </a:lnTo>
                  <a:lnTo>
                    <a:pt x="18" y="500"/>
                  </a:lnTo>
                  <a:lnTo>
                    <a:pt x="41" y="618"/>
                  </a:lnTo>
                  <a:lnTo>
                    <a:pt x="70" y="714"/>
                  </a:lnTo>
                  <a:lnTo>
                    <a:pt x="99" y="798"/>
                  </a:lnTo>
                  <a:lnTo>
                    <a:pt x="111" y="815"/>
                  </a:lnTo>
                  <a:lnTo>
                    <a:pt x="129" y="837"/>
                  </a:lnTo>
                  <a:lnTo>
                    <a:pt x="122" y="724"/>
                  </a:lnTo>
                  <a:lnTo>
                    <a:pt x="122" y="613"/>
                  </a:lnTo>
                  <a:lnTo>
                    <a:pt x="116" y="494"/>
                  </a:lnTo>
                  <a:lnTo>
                    <a:pt x="116" y="382"/>
                  </a:lnTo>
                  <a:lnTo>
                    <a:pt x="105" y="263"/>
                  </a:lnTo>
                  <a:lnTo>
                    <a:pt x="99" y="162"/>
                  </a:lnTo>
                  <a:lnTo>
                    <a:pt x="88" y="72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ba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946200" y="4968000"/>
              <a:ext cx="145440" cy="362880"/>
            </a:xfrm>
            <a:custGeom>
              <a:avLst/>
              <a:gdLst/>
              <a:ahLst/>
              <a:rect l="l" t="t" r="r" b="b"/>
              <a:pathLst>
                <a:path w="750" h="1699">
                  <a:moveTo>
                    <a:pt x="228" y="0"/>
                  </a:moveTo>
                  <a:lnTo>
                    <a:pt x="216" y="101"/>
                  </a:lnTo>
                  <a:lnTo>
                    <a:pt x="216" y="236"/>
                  </a:lnTo>
                  <a:lnTo>
                    <a:pt x="221" y="394"/>
                  </a:lnTo>
                  <a:lnTo>
                    <a:pt x="239" y="557"/>
                  </a:lnTo>
                  <a:lnTo>
                    <a:pt x="256" y="709"/>
                  </a:lnTo>
                  <a:lnTo>
                    <a:pt x="286" y="849"/>
                  </a:lnTo>
                  <a:lnTo>
                    <a:pt x="320" y="956"/>
                  </a:lnTo>
                  <a:lnTo>
                    <a:pt x="367" y="1018"/>
                  </a:lnTo>
                  <a:lnTo>
                    <a:pt x="327" y="1091"/>
                  </a:lnTo>
                  <a:lnTo>
                    <a:pt x="286" y="1164"/>
                  </a:lnTo>
                  <a:lnTo>
                    <a:pt x="239" y="1226"/>
                  </a:lnTo>
                  <a:lnTo>
                    <a:pt x="193" y="1293"/>
                  </a:lnTo>
                  <a:lnTo>
                    <a:pt x="140" y="1356"/>
                  </a:lnTo>
                  <a:lnTo>
                    <a:pt x="94" y="1417"/>
                  </a:lnTo>
                  <a:lnTo>
                    <a:pt x="41" y="1484"/>
                  </a:lnTo>
                  <a:lnTo>
                    <a:pt x="0" y="1557"/>
                  </a:lnTo>
                  <a:lnTo>
                    <a:pt x="13" y="1586"/>
                  </a:lnTo>
                  <a:lnTo>
                    <a:pt x="30" y="1619"/>
                  </a:lnTo>
                  <a:lnTo>
                    <a:pt x="48" y="1648"/>
                  </a:lnTo>
                  <a:lnTo>
                    <a:pt x="76" y="1675"/>
                  </a:lnTo>
                  <a:lnTo>
                    <a:pt x="129" y="1699"/>
                  </a:lnTo>
                  <a:lnTo>
                    <a:pt x="175" y="1682"/>
                  </a:lnTo>
                  <a:lnTo>
                    <a:pt x="216" y="1642"/>
                  </a:lnTo>
                  <a:lnTo>
                    <a:pt x="262" y="1597"/>
                  </a:lnTo>
                  <a:lnTo>
                    <a:pt x="297" y="1552"/>
                  </a:lnTo>
                  <a:lnTo>
                    <a:pt x="350" y="1501"/>
                  </a:lnTo>
                  <a:lnTo>
                    <a:pt x="413" y="1439"/>
                  </a:lnTo>
                  <a:lnTo>
                    <a:pt x="489" y="1378"/>
                  </a:lnTo>
                  <a:lnTo>
                    <a:pt x="553" y="1310"/>
                  </a:lnTo>
                  <a:lnTo>
                    <a:pt x="611" y="1248"/>
                  </a:lnTo>
                  <a:lnTo>
                    <a:pt x="652" y="1192"/>
                  </a:lnTo>
                  <a:lnTo>
                    <a:pt x="675" y="1158"/>
                  </a:lnTo>
                  <a:lnTo>
                    <a:pt x="675" y="1108"/>
                  </a:lnTo>
                  <a:lnTo>
                    <a:pt x="669" y="1057"/>
                  </a:lnTo>
                  <a:lnTo>
                    <a:pt x="657" y="995"/>
                  </a:lnTo>
                  <a:lnTo>
                    <a:pt x="664" y="939"/>
                  </a:lnTo>
                  <a:lnTo>
                    <a:pt x="669" y="871"/>
                  </a:lnTo>
                  <a:lnTo>
                    <a:pt x="680" y="804"/>
                  </a:lnTo>
                  <a:lnTo>
                    <a:pt x="698" y="726"/>
                  </a:lnTo>
                  <a:lnTo>
                    <a:pt x="721" y="647"/>
                  </a:lnTo>
                  <a:lnTo>
                    <a:pt x="733" y="562"/>
                  </a:lnTo>
                  <a:lnTo>
                    <a:pt x="750" y="478"/>
                  </a:lnTo>
                  <a:lnTo>
                    <a:pt x="750" y="394"/>
                  </a:lnTo>
                  <a:lnTo>
                    <a:pt x="745" y="321"/>
                  </a:lnTo>
                  <a:lnTo>
                    <a:pt x="692" y="242"/>
                  </a:lnTo>
                  <a:lnTo>
                    <a:pt x="639" y="225"/>
                  </a:lnTo>
                  <a:lnTo>
                    <a:pt x="599" y="220"/>
                  </a:lnTo>
                  <a:lnTo>
                    <a:pt x="553" y="214"/>
                  </a:lnTo>
                  <a:lnTo>
                    <a:pt x="518" y="208"/>
                  </a:lnTo>
                  <a:lnTo>
                    <a:pt x="471" y="180"/>
                  </a:lnTo>
                  <a:lnTo>
                    <a:pt x="436" y="157"/>
                  </a:lnTo>
                  <a:lnTo>
                    <a:pt x="401" y="130"/>
                  </a:lnTo>
                  <a:lnTo>
                    <a:pt x="367" y="101"/>
                  </a:lnTo>
                  <a:lnTo>
                    <a:pt x="332" y="73"/>
                  </a:lnTo>
                  <a:lnTo>
                    <a:pt x="297" y="45"/>
                  </a:lnTo>
                  <a:lnTo>
                    <a:pt x="262" y="17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fba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534080" y="4996440"/>
              <a:ext cx="53640" cy="55080"/>
            </a:xfrm>
            <a:custGeom>
              <a:avLst/>
              <a:gdLst/>
              <a:ahLst/>
              <a:rect l="l" t="t" r="r" b="b"/>
              <a:pathLst>
                <a:path w="272" h="258">
                  <a:moveTo>
                    <a:pt x="180" y="0"/>
                  </a:moveTo>
                  <a:lnTo>
                    <a:pt x="122" y="10"/>
                  </a:lnTo>
                  <a:lnTo>
                    <a:pt x="69" y="50"/>
                  </a:lnTo>
                  <a:lnTo>
                    <a:pt x="23" y="95"/>
                  </a:lnTo>
                  <a:lnTo>
                    <a:pt x="5" y="152"/>
                  </a:lnTo>
                  <a:lnTo>
                    <a:pt x="0" y="196"/>
                  </a:lnTo>
                  <a:lnTo>
                    <a:pt x="11" y="235"/>
                  </a:lnTo>
                  <a:lnTo>
                    <a:pt x="34" y="252"/>
                  </a:lnTo>
                  <a:lnTo>
                    <a:pt x="86" y="258"/>
                  </a:lnTo>
                  <a:lnTo>
                    <a:pt x="92" y="252"/>
                  </a:lnTo>
                  <a:lnTo>
                    <a:pt x="104" y="252"/>
                  </a:lnTo>
                  <a:lnTo>
                    <a:pt x="110" y="247"/>
                  </a:lnTo>
                  <a:lnTo>
                    <a:pt x="99" y="247"/>
                  </a:lnTo>
                  <a:lnTo>
                    <a:pt x="157" y="218"/>
                  </a:lnTo>
                  <a:lnTo>
                    <a:pt x="208" y="186"/>
                  </a:lnTo>
                  <a:lnTo>
                    <a:pt x="243" y="140"/>
                  </a:lnTo>
                  <a:lnTo>
                    <a:pt x="267" y="101"/>
                  </a:lnTo>
                  <a:lnTo>
                    <a:pt x="272" y="56"/>
                  </a:lnTo>
                  <a:lnTo>
                    <a:pt x="261" y="22"/>
                  </a:lnTo>
                  <a:lnTo>
                    <a:pt x="226" y="0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72280" y="5100480"/>
              <a:ext cx="34920" cy="36000"/>
            </a:xfrm>
            <a:custGeom>
              <a:avLst/>
              <a:gdLst/>
              <a:ahLst/>
              <a:rect l="l" t="t" r="r" b="b"/>
              <a:pathLst>
                <a:path w="186" h="169">
                  <a:moveTo>
                    <a:pt x="76" y="0"/>
                  </a:moveTo>
                  <a:lnTo>
                    <a:pt x="52" y="29"/>
                  </a:lnTo>
                  <a:lnTo>
                    <a:pt x="29" y="57"/>
                  </a:lnTo>
                  <a:lnTo>
                    <a:pt x="11" y="85"/>
                  </a:lnTo>
                  <a:lnTo>
                    <a:pt x="6" y="118"/>
                  </a:lnTo>
                  <a:lnTo>
                    <a:pt x="0" y="135"/>
                  </a:lnTo>
                  <a:lnTo>
                    <a:pt x="11" y="159"/>
                  </a:lnTo>
                  <a:lnTo>
                    <a:pt x="41" y="164"/>
                  </a:lnTo>
                  <a:lnTo>
                    <a:pt x="99" y="169"/>
                  </a:lnTo>
                  <a:lnTo>
                    <a:pt x="151" y="152"/>
                  </a:lnTo>
                  <a:lnTo>
                    <a:pt x="180" y="135"/>
                  </a:lnTo>
                  <a:lnTo>
                    <a:pt x="186" y="108"/>
                  </a:lnTo>
                  <a:lnTo>
                    <a:pt x="180" y="85"/>
                  </a:lnTo>
                  <a:lnTo>
                    <a:pt x="157" y="57"/>
                  </a:lnTo>
                  <a:lnTo>
                    <a:pt x="133" y="34"/>
                  </a:lnTo>
                  <a:lnTo>
                    <a:pt x="99" y="12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14320" y="5102640"/>
              <a:ext cx="14760" cy="31320"/>
            </a:xfrm>
            <a:custGeom>
              <a:avLst/>
              <a:gdLst/>
              <a:ahLst/>
              <a:rect l="l" t="t" r="r" b="b"/>
              <a:pathLst>
                <a:path w="76" h="147">
                  <a:moveTo>
                    <a:pt x="23" y="0"/>
                  </a:moveTo>
                  <a:lnTo>
                    <a:pt x="11" y="51"/>
                  </a:lnTo>
                  <a:lnTo>
                    <a:pt x="0" y="106"/>
                  </a:lnTo>
                  <a:lnTo>
                    <a:pt x="0" y="123"/>
                  </a:lnTo>
                  <a:lnTo>
                    <a:pt x="5" y="140"/>
                  </a:lnTo>
                  <a:lnTo>
                    <a:pt x="17" y="147"/>
                  </a:lnTo>
                  <a:lnTo>
                    <a:pt x="51" y="147"/>
                  </a:lnTo>
                  <a:lnTo>
                    <a:pt x="76" y="113"/>
                  </a:lnTo>
                  <a:lnTo>
                    <a:pt x="69" y="73"/>
                  </a:lnTo>
                  <a:lnTo>
                    <a:pt x="40" y="2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ba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770960" y="5111640"/>
              <a:ext cx="29880" cy="63360"/>
            </a:xfrm>
            <a:custGeom>
              <a:avLst/>
              <a:gdLst/>
              <a:ahLst/>
              <a:rect l="l" t="t" r="r" b="b"/>
              <a:pathLst>
                <a:path w="157" h="298">
                  <a:moveTo>
                    <a:pt x="41" y="0"/>
                  </a:moveTo>
                  <a:lnTo>
                    <a:pt x="0" y="298"/>
                  </a:lnTo>
                  <a:lnTo>
                    <a:pt x="29" y="292"/>
                  </a:lnTo>
                  <a:lnTo>
                    <a:pt x="58" y="287"/>
                  </a:lnTo>
                  <a:lnTo>
                    <a:pt x="87" y="287"/>
                  </a:lnTo>
                  <a:lnTo>
                    <a:pt x="110" y="287"/>
                  </a:lnTo>
                  <a:lnTo>
                    <a:pt x="127" y="236"/>
                  </a:lnTo>
                  <a:lnTo>
                    <a:pt x="145" y="186"/>
                  </a:lnTo>
                  <a:lnTo>
                    <a:pt x="152" y="141"/>
                  </a:lnTo>
                  <a:lnTo>
                    <a:pt x="157" y="108"/>
                  </a:lnTo>
                  <a:lnTo>
                    <a:pt x="140" y="67"/>
                  </a:lnTo>
                  <a:lnTo>
                    <a:pt x="122" y="40"/>
                  </a:lnTo>
                  <a:lnTo>
                    <a:pt x="87" y="12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50080" y="5114160"/>
              <a:ext cx="10440" cy="30240"/>
            </a:xfrm>
            <a:custGeom>
              <a:avLst/>
              <a:gdLst/>
              <a:ahLst/>
              <a:rect l="l" t="t" r="r" b="b"/>
              <a:pathLst>
                <a:path w="51" h="145">
                  <a:moveTo>
                    <a:pt x="17" y="0"/>
                  </a:moveTo>
                  <a:lnTo>
                    <a:pt x="5" y="39"/>
                  </a:lnTo>
                  <a:lnTo>
                    <a:pt x="0" y="96"/>
                  </a:lnTo>
                  <a:lnTo>
                    <a:pt x="5" y="135"/>
                  </a:lnTo>
                  <a:lnTo>
                    <a:pt x="28" y="145"/>
                  </a:lnTo>
                  <a:lnTo>
                    <a:pt x="51" y="101"/>
                  </a:lnTo>
                  <a:lnTo>
                    <a:pt x="46" y="62"/>
                  </a:lnTo>
                  <a:lnTo>
                    <a:pt x="23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191080" y="5114160"/>
              <a:ext cx="75600" cy="116280"/>
            </a:xfrm>
            <a:custGeom>
              <a:avLst/>
              <a:gdLst/>
              <a:ahLst/>
              <a:rect l="l" t="t" r="r" b="b"/>
              <a:pathLst>
                <a:path w="389" h="545">
                  <a:moveTo>
                    <a:pt x="215" y="0"/>
                  </a:moveTo>
                  <a:lnTo>
                    <a:pt x="175" y="33"/>
                  </a:lnTo>
                  <a:lnTo>
                    <a:pt x="140" y="72"/>
                  </a:lnTo>
                  <a:lnTo>
                    <a:pt x="104" y="118"/>
                  </a:lnTo>
                  <a:lnTo>
                    <a:pt x="81" y="168"/>
                  </a:lnTo>
                  <a:lnTo>
                    <a:pt x="52" y="213"/>
                  </a:lnTo>
                  <a:lnTo>
                    <a:pt x="35" y="263"/>
                  </a:lnTo>
                  <a:lnTo>
                    <a:pt x="18" y="320"/>
                  </a:lnTo>
                  <a:lnTo>
                    <a:pt x="0" y="376"/>
                  </a:lnTo>
                  <a:lnTo>
                    <a:pt x="52" y="415"/>
                  </a:lnTo>
                  <a:lnTo>
                    <a:pt x="104" y="455"/>
                  </a:lnTo>
                  <a:lnTo>
                    <a:pt x="127" y="472"/>
                  </a:lnTo>
                  <a:lnTo>
                    <a:pt x="157" y="489"/>
                  </a:lnTo>
                  <a:lnTo>
                    <a:pt x="186" y="506"/>
                  </a:lnTo>
                  <a:lnTo>
                    <a:pt x="226" y="528"/>
                  </a:lnTo>
                  <a:lnTo>
                    <a:pt x="290" y="545"/>
                  </a:lnTo>
                  <a:lnTo>
                    <a:pt x="343" y="533"/>
                  </a:lnTo>
                  <a:lnTo>
                    <a:pt x="372" y="494"/>
                  </a:lnTo>
                  <a:lnTo>
                    <a:pt x="389" y="444"/>
                  </a:lnTo>
                  <a:lnTo>
                    <a:pt x="389" y="376"/>
                  </a:lnTo>
                  <a:lnTo>
                    <a:pt x="383" y="309"/>
                  </a:lnTo>
                  <a:lnTo>
                    <a:pt x="366" y="236"/>
                  </a:lnTo>
                  <a:lnTo>
                    <a:pt x="348" y="179"/>
                  </a:lnTo>
                  <a:lnTo>
                    <a:pt x="314" y="129"/>
                  </a:lnTo>
                  <a:lnTo>
                    <a:pt x="279" y="89"/>
                  </a:lnTo>
                  <a:lnTo>
                    <a:pt x="244" y="39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08000" y="5125320"/>
              <a:ext cx="170280" cy="439920"/>
            </a:xfrm>
            <a:custGeom>
              <a:avLst/>
              <a:gdLst/>
              <a:ahLst/>
              <a:rect l="l" t="t" r="r" b="b"/>
              <a:pathLst>
                <a:path w="878" h="2059">
                  <a:moveTo>
                    <a:pt x="0" y="0"/>
                  </a:moveTo>
                  <a:lnTo>
                    <a:pt x="0" y="51"/>
                  </a:lnTo>
                  <a:lnTo>
                    <a:pt x="0" y="102"/>
                  </a:lnTo>
                  <a:lnTo>
                    <a:pt x="0" y="158"/>
                  </a:lnTo>
                  <a:lnTo>
                    <a:pt x="6" y="220"/>
                  </a:lnTo>
                  <a:lnTo>
                    <a:pt x="6" y="270"/>
                  </a:lnTo>
                  <a:lnTo>
                    <a:pt x="18" y="326"/>
                  </a:lnTo>
                  <a:lnTo>
                    <a:pt x="24" y="383"/>
                  </a:lnTo>
                  <a:lnTo>
                    <a:pt x="41" y="439"/>
                  </a:lnTo>
                  <a:lnTo>
                    <a:pt x="47" y="461"/>
                  </a:lnTo>
                  <a:lnTo>
                    <a:pt x="59" y="490"/>
                  </a:lnTo>
                  <a:lnTo>
                    <a:pt x="76" y="524"/>
                  </a:lnTo>
                  <a:lnTo>
                    <a:pt x="94" y="557"/>
                  </a:lnTo>
                  <a:lnTo>
                    <a:pt x="105" y="591"/>
                  </a:lnTo>
                  <a:lnTo>
                    <a:pt x="117" y="625"/>
                  </a:lnTo>
                  <a:lnTo>
                    <a:pt x="122" y="664"/>
                  </a:lnTo>
                  <a:lnTo>
                    <a:pt x="134" y="709"/>
                  </a:lnTo>
                  <a:lnTo>
                    <a:pt x="140" y="861"/>
                  </a:lnTo>
                  <a:lnTo>
                    <a:pt x="145" y="1024"/>
                  </a:lnTo>
                  <a:lnTo>
                    <a:pt x="151" y="1187"/>
                  </a:lnTo>
                  <a:lnTo>
                    <a:pt x="163" y="1356"/>
                  </a:lnTo>
                  <a:lnTo>
                    <a:pt x="168" y="1513"/>
                  </a:lnTo>
                  <a:lnTo>
                    <a:pt x="181" y="1677"/>
                  </a:lnTo>
                  <a:lnTo>
                    <a:pt x="198" y="1828"/>
                  </a:lnTo>
                  <a:lnTo>
                    <a:pt x="216" y="1980"/>
                  </a:lnTo>
                  <a:lnTo>
                    <a:pt x="297" y="1963"/>
                  </a:lnTo>
                  <a:lnTo>
                    <a:pt x="384" y="1963"/>
                  </a:lnTo>
                  <a:lnTo>
                    <a:pt x="459" y="1963"/>
                  </a:lnTo>
                  <a:lnTo>
                    <a:pt x="535" y="1980"/>
                  </a:lnTo>
                  <a:lnTo>
                    <a:pt x="604" y="1991"/>
                  </a:lnTo>
                  <a:lnTo>
                    <a:pt x="675" y="2008"/>
                  </a:lnTo>
                  <a:lnTo>
                    <a:pt x="744" y="2030"/>
                  </a:lnTo>
                  <a:lnTo>
                    <a:pt x="814" y="2059"/>
                  </a:lnTo>
                  <a:lnTo>
                    <a:pt x="825" y="2047"/>
                  </a:lnTo>
                  <a:lnTo>
                    <a:pt x="855" y="2030"/>
                  </a:lnTo>
                  <a:lnTo>
                    <a:pt x="878" y="1996"/>
                  </a:lnTo>
                  <a:lnTo>
                    <a:pt x="866" y="1969"/>
                  </a:lnTo>
                  <a:lnTo>
                    <a:pt x="837" y="1895"/>
                  </a:lnTo>
                  <a:lnTo>
                    <a:pt x="814" y="1743"/>
                  </a:lnTo>
                  <a:lnTo>
                    <a:pt x="784" y="1530"/>
                  </a:lnTo>
                  <a:lnTo>
                    <a:pt x="761" y="1294"/>
                  </a:lnTo>
                  <a:lnTo>
                    <a:pt x="733" y="1047"/>
                  </a:lnTo>
                  <a:lnTo>
                    <a:pt x="715" y="821"/>
                  </a:lnTo>
                  <a:lnTo>
                    <a:pt x="698" y="642"/>
                  </a:lnTo>
                  <a:lnTo>
                    <a:pt x="692" y="541"/>
                  </a:lnTo>
                  <a:lnTo>
                    <a:pt x="686" y="502"/>
                  </a:lnTo>
                  <a:lnTo>
                    <a:pt x="686" y="468"/>
                  </a:lnTo>
                  <a:lnTo>
                    <a:pt x="686" y="434"/>
                  </a:lnTo>
                  <a:lnTo>
                    <a:pt x="692" y="400"/>
                  </a:lnTo>
                  <a:lnTo>
                    <a:pt x="686" y="366"/>
                  </a:lnTo>
                  <a:lnTo>
                    <a:pt x="686" y="333"/>
                  </a:lnTo>
                  <a:lnTo>
                    <a:pt x="675" y="299"/>
                  </a:lnTo>
                  <a:lnTo>
                    <a:pt x="669" y="282"/>
                  </a:lnTo>
                  <a:lnTo>
                    <a:pt x="622" y="242"/>
                  </a:lnTo>
                  <a:lnTo>
                    <a:pt x="553" y="203"/>
                  </a:lnTo>
                  <a:lnTo>
                    <a:pt x="465" y="158"/>
                  </a:lnTo>
                  <a:lnTo>
                    <a:pt x="366" y="119"/>
                  </a:lnTo>
                  <a:lnTo>
                    <a:pt x="256" y="80"/>
                  </a:lnTo>
                  <a:lnTo>
                    <a:pt x="157" y="46"/>
                  </a:lnTo>
                  <a:lnTo>
                    <a:pt x="64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8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67120" y="5141160"/>
              <a:ext cx="64080" cy="94680"/>
            </a:xfrm>
            <a:custGeom>
              <a:avLst/>
              <a:gdLst/>
              <a:ahLst/>
              <a:rect l="l" t="t" r="r" b="b"/>
              <a:pathLst>
                <a:path w="332" h="444">
                  <a:moveTo>
                    <a:pt x="105" y="0"/>
                  </a:moveTo>
                  <a:lnTo>
                    <a:pt x="65" y="45"/>
                  </a:lnTo>
                  <a:lnTo>
                    <a:pt x="30" y="117"/>
                  </a:lnTo>
                  <a:lnTo>
                    <a:pt x="7" y="196"/>
                  </a:lnTo>
                  <a:lnTo>
                    <a:pt x="0" y="286"/>
                  </a:lnTo>
                  <a:lnTo>
                    <a:pt x="7" y="360"/>
                  </a:lnTo>
                  <a:lnTo>
                    <a:pt x="47" y="416"/>
                  </a:lnTo>
                  <a:lnTo>
                    <a:pt x="116" y="444"/>
                  </a:lnTo>
                  <a:lnTo>
                    <a:pt x="222" y="438"/>
                  </a:lnTo>
                  <a:lnTo>
                    <a:pt x="296" y="394"/>
                  </a:lnTo>
                  <a:lnTo>
                    <a:pt x="332" y="343"/>
                  </a:lnTo>
                  <a:lnTo>
                    <a:pt x="326" y="281"/>
                  </a:lnTo>
                  <a:lnTo>
                    <a:pt x="303" y="219"/>
                  </a:lnTo>
                  <a:lnTo>
                    <a:pt x="256" y="151"/>
                  </a:lnTo>
                  <a:lnTo>
                    <a:pt x="204" y="90"/>
                  </a:lnTo>
                  <a:lnTo>
                    <a:pt x="146" y="33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33040" y="5150160"/>
              <a:ext cx="147960" cy="376560"/>
            </a:xfrm>
            <a:custGeom>
              <a:avLst/>
              <a:gdLst/>
              <a:ahLst/>
              <a:rect l="l" t="t" r="r" b="b"/>
              <a:pathLst>
                <a:path w="767" h="1765">
                  <a:moveTo>
                    <a:pt x="581" y="0"/>
                  </a:moveTo>
                  <a:lnTo>
                    <a:pt x="505" y="0"/>
                  </a:lnTo>
                  <a:lnTo>
                    <a:pt x="429" y="11"/>
                  </a:lnTo>
                  <a:lnTo>
                    <a:pt x="354" y="17"/>
                  </a:lnTo>
                  <a:lnTo>
                    <a:pt x="284" y="28"/>
                  </a:lnTo>
                  <a:lnTo>
                    <a:pt x="209" y="28"/>
                  </a:lnTo>
                  <a:lnTo>
                    <a:pt x="140" y="34"/>
                  </a:lnTo>
                  <a:lnTo>
                    <a:pt x="75" y="22"/>
                  </a:lnTo>
                  <a:lnTo>
                    <a:pt x="23" y="11"/>
                  </a:lnTo>
                  <a:lnTo>
                    <a:pt x="6" y="135"/>
                  </a:lnTo>
                  <a:lnTo>
                    <a:pt x="0" y="287"/>
                  </a:lnTo>
                  <a:lnTo>
                    <a:pt x="0" y="461"/>
                  </a:lnTo>
                  <a:lnTo>
                    <a:pt x="0" y="652"/>
                  </a:lnTo>
                  <a:lnTo>
                    <a:pt x="0" y="838"/>
                  </a:lnTo>
                  <a:lnTo>
                    <a:pt x="6" y="1029"/>
                  </a:lnTo>
                  <a:lnTo>
                    <a:pt x="17" y="1209"/>
                  </a:lnTo>
                  <a:lnTo>
                    <a:pt x="34" y="1378"/>
                  </a:lnTo>
                  <a:lnTo>
                    <a:pt x="34" y="1422"/>
                  </a:lnTo>
                  <a:lnTo>
                    <a:pt x="46" y="1468"/>
                  </a:lnTo>
                  <a:lnTo>
                    <a:pt x="52" y="1513"/>
                  </a:lnTo>
                  <a:lnTo>
                    <a:pt x="64" y="1564"/>
                  </a:lnTo>
                  <a:lnTo>
                    <a:pt x="69" y="1608"/>
                  </a:lnTo>
                  <a:lnTo>
                    <a:pt x="75" y="1653"/>
                  </a:lnTo>
                  <a:lnTo>
                    <a:pt x="75" y="1704"/>
                  </a:lnTo>
                  <a:lnTo>
                    <a:pt x="75" y="1755"/>
                  </a:lnTo>
                  <a:lnTo>
                    <a:pt x="92" y="1748"/>
                  </a:lnTo>
                  <a:lnTo>
                    <a:pt x="127" y="1748"/>
                  </a:lnTo>
                  <a:lnTo>
                    <a:pt x="163" y="1743"/>
                  </a:lnTo>
                  <a:lnTo>
                    <a:pt x="197" y="1743"/>
                  </a:lnTo>
                  <a:lnTo>
                    <a:pt x="232" y="1743"/>
                  </a:lnTo>
                  <a:lnTo>
                    <a:pt x="272" y="1743"/>
                  </a:lnTo>
                  <a:lnTo>
                    <a:pt x="308" y="1743"/>
                  </a:lnTo>
                  <a:lnTo>
                    <a:pt x="354" y="1743"/>
                  </a:lnTo>
                  <a:lnTo>
                    <a:pt x="348" y="1704"/>
                  </a:lnTo>
                  <a:lnTo>
                    <a:pt x="348" y="1659"/>
                  </a:lnTo>
                  <a:lnTo>
                    <a:pt x="348" y="1608"/>
                  </a:lnTo>
                  <a:lnTo>
                    <a:pt x="354" y="1564"/>
                  </a:lnTo>
                  <a:lnTo>
                    <a:pt x="354" y="1513"/>
                  </a:lnTo>
                  <a:lnTo>
                    <a:pt x="354" y="1462"/>
                  </a:lnTo>
                  <a:lnTo>
                    <a:pt x="354" y="1412"/>
                  </a:lnTo>
                  <a:lnTo>
                    <a:pt x="354" y="1366"/>
                  </a:lnTo>
                  <a:lnTo>
                    <a:pt x="343" y="1282"/>
                  </a:lnTo>
                  <a:lnTo>
                    <a:pt x="336" y="1198"/>
                  </a:lnTo>
                  <a:lnTo>
                    <a:pt x="331" y="1113"/>
                  </a:lnTo>
                  <a:lnTo>
                    <a:pt x="331" y="1029"/>
                  </a:lnTo>
                  <a:lnTo>
                    <a:pt x="325" y="939"/>
                  </a:lnTo>
                  <a:lnTo>
                    <a:pt x="325" y="850"/>
                  </a:lnTo>
                  <a:lnTo>
                    <a:pt x="320" y="754"/>
                  </a:lnTo>
                  <a:lnTo>
                    <a:pt x="320" y="658"/>
                  </a:lnTo>
                  <a:lnTo>
                    <a:pt x="313" y="619"/>
                  </a:lnTo>
                  <a:lnTo>
                    <a:pt x="313" y="585"/>
                  </a:lnTo>
                  <a:lnTo>
                    <a:pt x="313" y="563"/>
                  </a:lnTo>
                  <a:lnTo>
                    <a:pt x="320" y="546"/>
                  </a:lnTo>
                  <a:lnTo>
                    <a:pt x="343" y="517"/>
                  </a:lnTo>
                  <a:lnTo>
                    <a:pt x="383" y="490"/>
                  </a:lnTo>
                  <a:lnTo>
                    <a:pt x="406" y="635"/>
                  </a:lnTo>
                  <a:lnTo>
                    <a:pt x="429" y="799"/>
                  </a:lnTo>
                  <a:lnTo>
                    <a:pt x="441" y="973"/>
                  </a:lnTo>
                  <a:lnTo>
                    <a:pt x="452" y="1152"/>
                  </a:lnTo>
                  <a:lnTo>
                    <a:pt x="452" y="1327"/>
                  </a:lnTo>
                  <a:lnTo>
                    <a:pt x="452" y="1496"/>
                  </a:lnTo>
                  <a:lnTo>
                    <a:pt x="452" y="1642"/>
                  </a:lnTo>
                  <a:lnTo>
                    <a:pt x="465" y="1765"/>
                  </a:lnTo>
                  <a:lnTo>
                    <a:pt x="493" y="1760"/>
                  </a:lnTo>
                  <a:lnTo>
                    <a:pt x="528" y="1755"/>
                  </a:lnTo>
                  <a:lnTo>
                    <a:pt x="563" y="1748"/>
                  </a:lnTo>
                  <a:lnTo>
                    <a:pt x="604" y="1748"/>
                  </a:lnTo>
                  <a:lnTo>
                    <a:pt x="639" y="1743"/>
                  </a:lnTo>
                  <a:lnTo>
                    <a:pt x="680" y="1743"/>
                  </a:lnTo>
                  <a:lnTo>
                    <a:pt x="720" y="1743"/>
                  </a:lnTo>
                  <a:lnTo>
                    <a:pt x="767" y="1743"/>
                  </a:lnTo>
                  <a:lnTo>
                    <a:pt x="761" y="1496"/>
                  </a:lnTo>
                  <a:lnTo>
                    <a:pt x="756" y="1265"/>
                  </a:lnTo>
                  <a:lnTo>
                    <a:pt x="743" y="1046"/>
                  </a:lnTo>
                  <a:lnTo>
                    <a:pt x="731" y="843"/>
                  </a:lnTo>
                  <a:lnTo>
                    <a:pt x="714" y="635"/>
                  </a:lnTo>
                  <a:lnTo>
                    <a:pt x="708" y="433"/>
                  </a:lnTo>
                  <a:lnTo>
                    <a:pt x="703" y="225"/>
                  </a:lnTo>
                  <a:lnTo>
                    <a:pt x="703" y="11"/>
                  </a:lnTo>
                  <a:lnTo>
                    <a:pt x="673" y="6"/>
                  </a:lnTo>
                  <a:lnTo>
                    <a:pt x="645" y="6"/>
                  </a:lnTo>
                  <a:lnTo>
                    <a:pt x="609" y="0"/>
                  </a:lnTo>
                  <a:lnTo>
                    <a:pt x="581" y="0"/>
                  </a:lnTo>
                  <a:close/>
                </a:path>
              </a:pathLst>
            </a:custGeom>
            <a:solidFill>
              <a:srgbClr val="0cd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980840" y="5155920"/>
              <a:ext cx="48960" cy="71280"/>
            </a:xfrm>
            <a:custGeom>
              <a:avLst/>
              <a:gdLst/>
              <a:ahLst/>
              <a:rect l="l" t="t" r="r" b="b"/>
              <a:pathLst>
                <a:path w="250" h="332">
                  <a:moveTo>
                    <a:pt x="0" y="0"/>
                  </a:moveTo>
                  <a:lnTo>
                    <a:pt x="6" y="34"/>
                  </a:lnTo>
                  <a:lnTo>
                    <a:pt x="12" y="79"/>
                  </a:lnTo>
                  <a:lnTo>
                    <a:pt x="12" y="124"/>
                  </a:lnTo>
                  <a:lnTo>
                    <a:pt x="29" y="163"/>
                  </a:lnTo>
                  <a:lnTo>
                    <a:pt x="40" y="180"/>
                  </a:lnTo>
                  <a:lnTo>
                    <a:pt x="64" y="209"/>
                  </a:lnTo>
                  <a:lnTo>
                    <a:pt x="98" y="231"/>
                  </a:lnTo>
                  <a:lnTo>
                    <a:pt x="134" y="259"/>
                  </a:lnTo>
                  <a:lnTo>
                    <a:pt x="163" y="281"/>
                  </a:lnTo>
                  <a:lnTo>
                    <a:pt x="197" y="304"/>
                  </a:lnTo>
                  <a:lnTo>
                    <a:pt x="220" y="315"/>
                  </a:lnTo>
                  <a:lnTo>
                    <a:pt x="244" y="332"/>
                  </a:lnTo>
                  <a:lnTo>
                    <a:pt x="250" y="236"/>
                  </a:lnTo>
                  <a:lnTo>
                    <a:pt x="250" y="169"/>
                  </a:lnTo>
                  <a:lnTo>
                    <a:pt x="244" y="113"/>
                  </a:lnTo>
                  <a:lnTo>
                    <a:pt x="227" y="74"/>
                  </a:lnTo>
                  <a:lnTo>
                    <a:pt x="192" y="40"/>
                  </a:lnTo>
                  <a:lnTo>
                    <a:pt x="146" y="23"/>
                  </a:lnTo>
                  <a:lnTo>
                    <a:pt x="75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3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872480" y="5155920"/>
              <a:ext cx="255240" cy="483840"/>
            </a:xfrm>
            <a:custGeom>
              <a:avLst/>
              <a:gdLst/>
              <a:ahLst/>
              <a:rect l="l" t="t" r="r" b="b"/>
              <a:pathLst>
                <a:path w="1313" h="2266">
                  <a:moveTo>
                    <a:pt x="930" y="0"/>
                  </a:moveTo>
                  <a:lnTo>
                    <a:pt x="907" y="17"/>
                  </a:lnTo>
                  <a:lnTo>
                    <a:pt x="889" y="62"/>
                  </a:lnTo>
                  <a:lnTo>
                    <a:pt x="872" y="107"/>
                  </a:lnTo>
                  <a:lnTo>
                    <a:pt x="866" y="175"/>
                  </a:lnTo>
                  <a:lnTo>
                    <a:pt x="854" y="236"/>
                  </a:lnTo>
                  <a:lnTo>
                    <a:pt x="854" y="298"/>
                  </a:lnTo>
                  <a:lnTo>
                    <a:pt x="854" y="349"/>
                  </a:lnTo>
                  <a:lnTo>
                    <a:pt x="866" y="400"/>
                  </a:lnTo>
                  <a:lnTo>
                    <a:pt x="872" y="411"/>
                  </a:lnTo>
                  <a:lnTo>
                    <a:pt x="889" y="439"/>
                  </a:lnTo>
                  <a:lnTo>
                    <a:pt x="919" y="462"/>
                  </a:lnTo>
                  <a:lnTo>
                    <a:pt x="953" y="496"/>
                  </a:lnTo>
                  <a:lnTo>
                    <a:pt x="982" y="523"/>
                  </a:lnTo>
                  <a:lnTo>
                    <a:pt x="1017" y="551"/>
                  </a:lnTo>
                  <a:lnTo>
                    <a:pt x="1034" y="568"/>
                  </a:lnTo>
                  <a:lnTo>
                    <a:pt x="1052" y="591"/>
                  </a:lnTo>
                  <a:lnTo>
                    <a:pt x="1052" y="619"/>
                  </a:lnTo>
                  <a:lnTo>
                    <a:pt x="1052" y="670"/>
                  </a:lnTo>
                  <a:lnTo>
                    <a:pt x="1046" y="697"/>
                  </a:lnTo>
                  <a:lnTo>
                    <a:pt x="1046" y="726"/>
                  </a:lnTo>
                  <a:lnTo>
                    <a:pt x="1046" y="754"/>
                  </a:lnTo>
                  <a:lnTo>
                    <a:pt x="1052" y="781"/>
                  </a:lnTo>
                  <a:lnTo>
                    <a:pt x="1052" y="815"/>
                  </a:lnTo>
                  <a:lnTo>
                    <a:pt x="1064" y="861"/>
                  </a:lnTo>
                  <a:lnTo>
                    <a:pt x="1069" y="894"/>
                  </a:lnTo>
                  <a:lnTo>
                    <a:pt x="1081" y="940"/>
                  </a:lnTo>
                  <a:lnTo>
                    <a:pt x="1092" y="973"/>
                  </a:lnTo>
                  <a:lnTo>
                    <a:pt x="1104" y="1018"/>
                  </a:lnTo>
                  <a:lnTo>
                    <a:pt x="1115" y="1052"/>
                  </a:lnTo>
                  <a:lnTo>
                    <a:pt x="1133" y="1097"/>
                  </a:lnTo>
                  <a:lnTo>
                    <a:pt x="1069" y="1107"/>
                  </a:lnTo>
                  <a:lnTo>
                    <a:pt x="1023" y="1119"/>
                  </a:lnTo>
                  <a:lnTo>
                    <a:pt x="970" y="1124"/>
                  </a:lnTo>
                  <a:lnTo>
                    <a:pt x="930" y="1131"/>
                  </a:lnTo>
                  <a:lnTo>
                    <a:pt x="884" y="1131"/>
                  </a:lnTo>
                  <a:lnTo>
                    <a:pt x="836" y="1131"/>
                  </a:lnTo>
                  <a:lnTo>
                    <a:pt x="790" y="1136"/>
                  </a:lnTo>
                  <a:lnTo>
                    <a:pt x="744" y="1147"/>
                  </a:lnTo>
                  <a:lnTo>
                    <a:pt x="732" y="1259"/>
                  </a:lnTo>
                  <a:lnTo>
                    <a:pt x="732" y="1389"/>
                  </a:lnTo>
                  <a:lnTo>
                    <a:pt x="738" y="1524"/>
                  </a:lnTo>
                  <a:lnTo>
                    <a:pt x="744" y="1670"/>
                  </a:lnTo>
                  <a:lnTo>
                    <a:pt x="744" y="1805"/>
                  </a:lnTo>
                  <a:lnTo>
                    <a:pt x="744" y="1940"/>
                  </a:lnTo>
                  <a:lnTo>
                    <a:pt x="738" y="2058"/>
                  </a:lnTo>
                  <a:lnTo>
                    <a:pt x="732" y="2164"/>
                  </a:lnTo>
                  <a:lnTo>
                    <a:pt x="709" y="2120"/>
                  </a:lnTo>
                  <a:lnTo>
                    <a:pt x="692" y="2075"/>
                  </a:lnTo>
                  <a:lnTo>
                    <a:pt x="681" y="2019"/>
                  </a:lnTo>
                  <a:lnTo>
                    <a:pt x="681" y="1968"/>
                  </a:lnTo>
                  <a:lnTo>
                    <a:pt x="681" y="1906"/>
                  </a:lnTo>
                  <a:lnTo>
                    <a:pt x="681" y="1850"/>
                  </a:lnTo>
                  <a:lnTo>
                    <a:pt x="681" y="1788"/>
                  </a:lnTo>
                  <a:lnTo>
                    <a:pt x="681" y="1727"/>
                  </a:lnTo>
                  <a:lnTo>
                    <a:pt x="668" y="1648"/>
                  </a:lnTo>
                  <a:lnTo>
                    <a:pt x="663" y="1563"/>
                  </a:lnTo>
                  <a:lnTo>
                    <a:pt x="651" y="1473"/>
                  </a:lnTo>
                  <a:lnTo>
                    <a:pt x="651" y="1389"/>
                  </a:lnTo>
                  <a:lnTo>
                    <a:pt x="651" y="1293"/>
                  </a:lnTo>
                  <a:lnTo>
                    <a:pt x="651" y="1209"/>
                  </a:lnTo>
                  <a:lnTo>
                    <a:pt x="651" y="1119"/>
                  </a:lnTo>
                  <a:lnTo>
                    <a:pt x="663" y="1040"/>
                  </a:lnTo>
                  <a:lnTo>
                    <a:pt x="697" y="1029"/>
                  </a:lnTo>
                  <a:lnTo>
                    <a:pt x="721" y="1024"/>
                  </a:lnTo>
                  <a:lnTo>
                    <a:pt x="732" y="1012"/>
                  </a:lnTo>
                  <a:lnTo>
                    <a:pt x="738" y="1001"/>
                  </a:lnTo>
                  <a:lnTo>
                    <a:pt x="732" y="979"/>
                  </a:lnTo>
                  <a:lnTo>
                    <a:pt x="732" y="957"/>
                  </a:lnTo>
                  <a:lnTo>
                    <a:pt x="732" y="923"/>
                  </a:lnTo>
                  <a:lnTo>
                    <a:pt x="744" y="889"/>
                  </a:lnTo>
                  <a:lnTo>
                    <a:pt x="778" y="877"/>
                  </a:lnTo>
                  <a:lnTo>
                    <a:pt x="808" y="866"/>
                  </a:lnTo>
                  <a:lnTo>
                    <a:pt x="831" y="849"/>
                  </a:lnTo>
                  <a:lnTo>
                    <a:pt x="854" y="832"/>
                  </a:lnTo>
                  <a:lnTo>
                    <a:pt x="861" y="805"/>
                  </a:lnTo>
                  <a:lnTo>
                    <a:pt x="877" y="776"/>
                  </a:lnTo>
                  <a:lnTo>
                    <a:pt x="889" y="742"/>
                  </a:lnTo>
                  <a:lnTo>
                    <a:pt x="907" y="709"/>
                  </a:lnTo>
                  <a:lnTo>
                    <a:pt x="912" y="653"/>
                  </a:lnTo>
                  <a:lnTo>
                    <a:pt x="907" y="613"/>
                  </a:lnTo>
                  <a:lnTo>
                    <a:pt x="889" y="574"/>
                  </a:lnTo>
                  <a:lnTo>
                    <a:pt x="877" y="545"/>
                  </a:lnTo>
                  <a:lnTo>
                    <a:pt x="849" y="511"/>
                  </a:lnTo>
                  <a:lnTo>
                    <a:pt x="820" y="479"/>
                  </a:lnTo>
                  <a:lnTo>
                    <a:pt x="790" y="445"/>
                  </a:lnTo>
                  <a:lnTo>
                    <a:pt x="773" y="411"/>
                  </a:lnTo>
                  <a:lnTo>
                    <a:pt x="715" y="416"/>
                  </a:lnTo>
                  <a:lnTo>
                    <a:pt x="656" y="422"/>
                  </a:lnTo>
                  <a:lnTo>
                    <a:pt x="598" y="416"/>
                  </a:lnTo>
                  <a:lnTo>
                    <a:pt x="547" y="416"/>
                  </a:lnTo>
                  <a:lnTo>
                    <a:pt x="488" y="405"/>
                  </a:lnTo>
                  <a:lnTo>
                    <a:pt x="430" y="394"/>
                  </a:lnTo>
                  <a:lnTo>
                    <a:pt x="372" y="377"/>
                  </a:lnTo>
                  <a:lnTo>
                    <a:pt x="319" y="371"/>
                  </a:lnTo>
                  <a:lnTo>
                    <a:pt x="261" y="366"/>
                  </a:lnTo>
                  <a:lnTo>
                    <a:pt x="227" y="388"/>
                  </a:lnTo>
                  <a:lnTo>
                    <a:pt x="203" y="422"/>
                  </a:lnTo>
                  <a:lnTo>
                    <a:pt x="192" y="472"/>
                  </a:lnTo>
                  <a:lnTo>
                    <a:pt x="180" y="523"/>
                  </a:lnTo>
                  <a:lnTo>
                    <a:pt x="180" y="585"/>
                  </a:lnTo>
                  <a:lnTo>
                    <a:pt x="174" y="646"/>
                  </a:lnTo>
                  <a:lnTo>
                    <a:pt x="174" y="709"/>
                  </a:lnTo>
                  <a:lnTo>
                    <a:pt x="146" y="894"/>
                  </a:lnTo>
                  <a:lnTo>
                    <a:pt x="116" y="1080"/>
                  </a:lnTo>
                  <a:lnTo>
                    <a:pt x="81" y="1266"/>
                  </a:lnTo>
                  <a:lnTo>
                    <a:pt x="58" y="1451"/>
                  </a:lnTo>
                  <a:lnTo>
                    <a:pt x="29" y="1636"/>
                  </a:lnTo>
                  <a:lnTo>
                    <a:pt x="12" y="1833"/>
                  </a:lnTo>
                  <a:lnTo>
                    <a:pt x="0" y="2030"/>
                  </a:lnTo>
                  <a:lnTo>
                    <a:pt x="0" y="2238"/>
                  </a:lnTo>
                  <a:lnTo>
                    <a:pt x="52" y="2221"/>
                  </a:lnTo>
                  <a:lnTo>
                    <a:pt x="116" y="2205"/>
                  </a:lnTo>
                  <a:lnTo>
                    <a:pt x="180" y="2188"/>
                  </a:lnTo>
                  <a:lnTo>
                    <a:pt x="250" y="2171"/>
                  </a:lnTo>
                  <a:lnTo>
                    <a:pt x="314" y="2154"/>
                  </a:lnTo>
                  <a:lnTo>
                    <a:pt x="384" y="2148"/>
                  </a:lnTo>
                  <a:lnTo>
                    <a:pt x="448" y="2142"/>
                  </a:lnTo>
                  <a:lnTo>
                    <a:pt x="517" y="2148"/>
                  </a:lnTo>
                  <a:lnTo>
                    <a:pt x="552" y="2148"/>
                  </a:lnTo>
                  <a:lnTo>
                    <a:pt x="598" y="2164"/>
                  </a:lnTo>
                  <a:lnTo>
                    <a:pt x="645" y="2181"/>
                  </a:lnTo>
                  <a:lnTo>
                    <a:pt x="697" y="2205"/>
                  </a:lnTo>
                  <a:lnTo>
                    <a:pt x="744" y="2221"/>
                  </a:lnTo>
                  <a:lnTo>
                    <a:pt x="790" y="2238"/>
                  </a:lnTo>
                  <a:lnTo>
                    <a:pt x="836" y="2249"/>
                  </a:lnTo>
                  <a:lnTo>
                    <a:pt x="889" y="2266"/>
                  </a:lnTo>
                  <a:lnTo>
                    <a:pt x="930" y="2266"/>
                  </a:lnTo>
                  <a:lnTo>
                    <a:pt x="970" y="2266"/>
                  </a:lnTo>
                  <a:lnTo>
                    <a:pt x="1011" y="2266"/>
                  </a:lnTo>
                  <a:lnTo>
                    <a:pt x="1052" y="2266"/>
                  </a:lnTo>
                  <a:lnTo>
                    <a:pt x="1087" y="2260"/>
                  </a:lnTo>
                  <a:lnTo>
                    <a:pt x="1127" y="2260"/>
                  </a:lnTo>
                  <a:lnTo>
                    <a:pt x="1163" y="2260"/>
                  </a:lnTo>
                  <a:lnTo>
                    <a:pt x="1214" y="2266"/>
                  </a:lnTo>
                  <a:lnTo>
                    <a:pt x="1209" y="2221"/>
                  </a:lnTo>
                  <a:lnTo>
                    <a:pt x="1214" y="2176"/>
                  </a:lnTo>
                  <a:lnTo>
                    <a:pt x="1221" y="2171"/>
                  </a:lnTo>
                  <a:lnTo>
                    <a:pt x="1249" y="2164"/>
                  </a:lnTo>
                  <a:lnTo>
                    <a:pt x="1267" y="2164"/>
                  </a:lnTo>
                  <a:lnTo>
                    <a:pt x="1267" y="2176"/>
                  </a:lnTo>
                  <a:lnTo>
                    <a:pt x="1267" y="2188"/>
                  </a:lnTo>
                  <a:lnTo>
                    <a:pt x="1284" y="2210"/>
                  </a:lnTo>
                  <a:lnTo>
                    <a:pt x="1290" y="2227"/>
                  </a:lnTo>
                  <a:lnTo>
                    <a:pt x="1302" y="2238"/>
                  </a:lnTo>
                  <a:lnTo>
                    <a:pt x="1284" y="1997"/>
                  </a:lnTo>
                  <a:lnTo>
                    <a:pt x="1290" y="1749"/>
                  </a:lnTo>
                  <a:lnTo>
                    <a:pt x="1297" y="1485"/>
                  </a:lnTo>
                  <a:lnTo>
                    <a:pt x="1307" y="1226"/>
                  </a:lnTo>
                  <a:lnTo>
                    <a:pt x="1313" y="957"/>
                  </a:lnTo>
                  <a:lnTo>
                    <a:pt x="1313" y="709"/>
                  </a:lnTo>
                  <a:lnTo>
                    <a:pt x="1307" y="467"/>
                  </a:lnTo>
                  <a:lnTo>
                    <a:pt x="1290" y="253"/>
                  </a:lnTo>
                  <a:lnTo>
                    <a:pt x="1244" y="276"/>
                  </a:lnTo>
                  <a:lnTo>
                    <a:pt x="1186" y="310"/>
                  </a:lnTo>
                  <a:lnTo>
                    <a:pt x="1122" y="344"/>
                  </a:lnTo>
                  <a:lnTo>
                    <a:pt x="1064" y="371"/>
                  </a:lnTo>
                  <a:lnTo>
                    <a:pt x="1006" y="377"/>
                  </a:lnTo>
                  <a:lnTo>
                    <a:pt x="965" y="361"/>
                  </a:lnTo>
                  <a:lnTo>
                    <a:pt x="942" y="304"/>
                  </a:lnTo>
                  <a:lnTo>
                    <a:pt x="947" y="219"/>
                  </a:lnTo>
                  <a:lnTo>
                    <a:pt x="953" y="185"/>
                  </a:lnTo>
                  <a:lnTo>
                    <a:pt x="970" y="158"/>
                  </a:lnTo>
                  <a:lnTo>
                    <a:pt x="988" y="118"/>
                  </a:lnTo>
                  <a:lnTo>
                    <a:pt x="1000" y="79"/>
                  </a:lnTo>
                  <a:lnTo>
                    <a:pt x="982" y="50"/>
                  </a:lnTo>
                  <a:lnTo>
                    <a:pt x="965" y="28"/>
                  </a:lnTo>
                  <a:lnTo>
                    <a:pt x="935" y="11"/>
                  </a:lnTo>
                  <a:lnTo>
                    <a:pt x="930" y="0"/>
                  </a:lnTo>
                  <a:close/>
                </a:path>
              </a:pathLst>
            </a:custGeom>
            <a:solidFill>
              <a:srgbClr val="73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074080" y="5153760"/>
              <a:ext cx="45360" cy="59760"/>
            </a:xfrm>
            <a:custGeom>
              <a:avLst/>
              <a:gdLst/>
              <a:ahLst/>
              <a:rect l="l" t="t" r="r" b="b"/>
              <a:pathLst>
                <a:path w="231" h="281">
                  <a:moveTo>
                    <a:pt x="104" y="11"/>
                  </a:moveTo>
                  <a:lnTo>
                    <a:pt x="74" y="22"/>
                  </a:lnTo>
                  <a:lnTo>
                    <a:pt x="46" y="68"/>
                  </a:lnTo>
                  <a:lnTo>
                    <a:pt x="17" y="118"/>
                  </a:lnTo>
                  <a:lnTo>
                    <a:pt x="5" y="180"/>
                  </a:lnTo>
                  <a:lnTo>
                    <a:pt x="0" y="225"/>
                  </a:lnTo>
                  <a:lnTo>
                    <a:pt x="11" y="264"/>
                  </a:lnTo>
                  <a:lnTo>
                    <a:pt x="46" y="281"/>
                  </a:lnTo>
                  <a:lnTo>
                    <a:pt x="104" y="264"/>
                  </a:lnTo>
                  <a:lnTo>
                    <a:pt x="133" y="236"/>
                  </a:lnTo>
                  <a:lnTo>
                    <a:pt x="168" y="196"/>
                  </a:lnTo>
                  <a:lnTo>
                    <a:pt x="197" y="146"/>
                  </a:lnTo>
                  <a:lnTo>
                    <a:pt x="226" y="101"/>
                  </a:lnTo>
                  <a:lnTo>
                    <a:pt x="231" y="51"/>
                  </a:lnTo>
                  <a:lnTo>
                    <a:pt x="220" y="22"/>
                  </a:lnTo>
                  <a:lnTo>
                    <a:pt x="180" y="0"/>
                  </a:lnTo>
                  <a:lnTo>
                    <a:pt x="104" y="11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920360" y="5175000"/>
              <a:ext cx="80280" cy="57600"/>
            </a:xfrm>
            <a:custGeom>
              <a:avLst/>
              <a:gdLst/>
              <a:ahLst/>
              <a:rect l="l" t="t" r="r" b="b"/>
              <a:pathLst>
                <a:path w="418" h="271">
                  <a:moveTo>
                    <a:pt x="23" y="0"/>
                  </a:moveTo>
                  <a:lnTo>
                    <a:pt x="0" y="68"/>
                  </a:lnTo>
                  <a:lnTo>
                    <a:pt x="0" y="119"/>
                  </a:lnTo>
                  <a:lnTo>
                    <a:pt x="11" y="158"/>
                  </a:lnTo>
                  <a:lnTo>
                    <a:pt x="40" y="197"/>
                  </a:lnTo>
                  <a:lnTo>
                    <a:pt x="74" y="214"/>
                  </a:lnTo>
                  <a:lnTo>
                    <a:pt x="127" y="237"/>
                  </a:lnTo>
                  <a:lnTo>
                    <a:pt x="185" y="254"/>
                  </a:lnTo>
                  <a:lnTo>
                    <a:pt x="261" y="271"/>
                  </a:lnTo>
                  <a:lnTo>
                    <a:pt x="295" y="271"/>
                  </a:lnTo>
                  <a:lnTo>
                    <a:pt x="337" y="271"/>
                  </a:lnTo>
                  <a:lnTo>
                    <a:pt x="365" y="271"/>
                  </a:lnTo>
                  <a:lnTo>
                    <a:pt x="383" y="271"/>
                  </a:lnTo>
                  <a:lnTo>
                    <a:pt x="400" y="264"/>
                  </a:lnTo>
                  <a:lnTo>
                    <a:pt x="418" y="254"/>
                  </a:lnTo>
                  <a:lnTo>
                    <a:pt x="411" y="242"/>
                  </a:lnTo>
                  <a:lnTo>
                    <a:pt x="406" y="242"/>
                  </a:lnTo>
                  <a:lnTo>
                    <a:pt x="365" y="191"/>
                  </a:lnTo>
                  <a:lnTo>
                    <a:pt x="330" y="152"/>
                  </a:lnTo>
                  <a:lnTo>
                    <a:pt x="284" y="112"/>
                  </a:lnTo>
                  <a:lnTo>
                    <a:pt x="238" y="79"/>
                  </a:lnTo>
                  <a:lnTo>
                    <a:pt x="185" y="45"/>
                  </a:lnTo>
                  <a:lnTo>
                    <a:pt x="132" y="23"/>
                  </a:lnTo>
                  <a:lnTo>
                    <a:pt x="74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54040" y="5273640"/>
              <a:ext cx="51120" cy="37080"/>
            </a:xfrm>
            <a:custGeom>
              <a:avLst/>
              <a:gdLst/>
              <a:ahLst/>
              <a:rect l="l" t="t" r="r" b="b"/>
              <a:pathLst>
                <a:path w="263" h="175">
                  <a:moveTo>
                    <a:pt x="0" y="0"/>
                  </a:moveTo>
                  <a:lnTo>
                    <a:pt x="7" y="17"/>
                  </a:lnTo>
                  <a:lnTo>
                    <a:pt x="12" y="51"/>
                  </a:lnTo>
                  <a:lnTo>
                    <a:pt x="18" y="85"/>
                  </a:lnTo>
                  <a:lnTo>
                    <a:pt x="30" y="129"/>
                  </a:lnTo>
                  <a:lnTo>
                    <a:pt x="53" y="158"/>
                  </a:lnTo>
                  <a:lnTo>
                    <a:pt x="94" y="175"/>
                  </a:lnTo>
                  <a:lnTo>
                    <a:pt x="157" y="175"/>
                  </a:lnTo>
                  <a:lnTo>
                    <a:pt x="256" y="158"/>
                  </a:lnTo>
                  <a:lnTo>
                    <a:pt x="263" y="135"/>
                  </a:lnTo>
                  <a:lnTo>
                    <a:pt x="251" y="119"/>
                  </a:lnTo>
                  <a:lnTo>
                    <a:pt x="222" y="95"/>
                  </a:lnTo>
                  <a:lnTo>
                    <a:pt x="182" y="73"/>
                  </a:lnTo>
                  <a:lnTo>
                    <a:pt x="129" y="45"/>
                  </a:lnTo>
                  <a:lnTo>
                    <a:pt x="76" y="28"/>
                  </a:lnTo>
                  <a:lnTo>
                    <a:pt x="3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b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411680" y="5307480"/>
              <a:ext cx="33840" cy="187560"/>
            </a:xfrm>
            <a:custGeom>
              <a:avLst/>
              <a:gdLst/>
              <a:ahLst/>
              <a:rect l="l" t="t" r="r" b="b"/>
              <a:pathLst>
                <a:path w="175" h="876">
                  <a:moveTo>
                    <a:pt x="11" y="0"/>
                  </a:moveTo>
                  <a:lnTo>
                    <a:pt x="64" y="11"/>
                  </a:lnTo>
                  <a:lnTo>
                    <a:pt x="122" y="22"/>
                  </a:lnTo>
                  <a:lnTo>
                    <a:pt x="122" y="123"/>
                  </a:lnTo>
                  <a:lnTo>
                    <a:pt x="128" y="224"/>
                  </a:lnTo>
                  <a:lnTo>
                    <a:pt x="134" y="326"/>
                  </a:lnTo>
                  <a:lnTo>
                    <a:pt x="145" y="427"/>
                  </a:lnTo>
                  <a:lnTo>
                    <a:pt x="151" y="523"/>
                  </a:lnTo>
                  <a:lnTo>
                    <a:pt x="163" y="618"/>
                  </a:lnTo>
                  <a:lnTo>
                    <a:pt x="168" y="719"/>
                  </a:lnTo>
                  <a:lnTo>
                    <a:pt x="175" y="820"/>
                  </a:lnTo>
                  <a:lnTo>
                    <a:pt x="168" y="854"/>
                  </a:lnTo>
                  <a:lnTo>
                    <a:pt x="157" y="876"/>
                  </a:lnTo>
                  <a:lnTo>
                    <a:pt x="128" y="849"/>
                  </a:lnTo>
                  <a:lnTo>
                    <a:pt x="104" y="770"/>
                  </a:lnTo>
                  <a:lnTo>
                    <a:pt x="81" y="652"/>
                  </a:lnTo>
                  <a:lnTo>
                    <a:pt x="58" y="517"/>
                  </a:lnTo>
                  <a:lnTo>
                    <a:pt x="35" y="365"/>
                  </a:lnTo>
                  <a:lnTo>
                    <a:pt x="18" y="231"/>
                  </a:lnTo>
                  <a:lnTo>
                    <a:pt x="0" y="11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6" y="17"/>
                  </a:lnTo>
                  <a:lnTo>
                    <a:pt x="6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052120" y="5331240"/>
              <a:ext cx="15120" cy="55080"/>
            </a:xfrm>
            <a:custGeom>
              <a:avLst/>
              <a:gdLst/>
              <a:ahLst/>
              <a:rect l="l" t="t" r="r" b="b"/>
              <a:pathLst>
                <a:path w="76" h="258">
                  <a:moveTo>
                    <a:pt x="35" y="0"/>
                  </a:moveTo>
                  <a:lnTo>
                    <a:pt x="11" y="55"/>
                  </a:lnTo>
                  <a:lnTo>
                    <a:pt x="0" y="118"/>
                  </a:lnTo>
                  <a:lnTo>
                    <a:pt x="0" y="151"/>
                  </a:lnTo>
                  <a:lnTo>
                    <a:pt x="0" y="185"/>
                  </a:lnTo>
                  <a:lnTo>
                    <a:pt x="6" y="218"/>
                  </a:lnTo>
                  <a:lnTo>
                    <a:pt x="23" y="258"/>
                  </a:lnTo>
                  <a:lnTo>
                    <a:pt x="29" y="230"/>
                  </a:lnTo>
                  <a:lnTo>
                    <a:pt x="41" y="202"/>
                  </a:lnTo>
                  <a:lnTo>
                    <a:pt x="46" y="174"/>
                  </a:lnTo>
                  <a:lnTo>
                    <a:pt x="58" y="145"/>
                  </a:lnTo>
                  <a:lnTo>
                    <a:pt x="64" y="111"/>
                  </a:lnTo>
                  <a:lnTo>
                    <a:pt x="69" y="78"/>
                  </a:lnTo>
                  <a:lnTo>
                    <a:pt x="69" y="39"/>
                  </a:lnTo>
                  <a:lnTo>
                    <a:pt x="76" y="0"/>
                  </a:lnTo>
                  <a:lnTo>
                    <a:pt x="52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73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46800" y="5331240"/>
              <a:ext cx="328680" cy="555120"/>
            </a:xfrm>
            <a:custGeom>
              <a:avLst/>
              <a:gdLst/>
              <a:ahLst/>
              <a:rect l="l" t="t" r="r" b="b"/>
              <a:pathLst>
                <a:path w="1692" h="2597">
                  <a:moveTo>
                    <a:pt x="1680" y="0"/>
                  </a:moveTo>
                  <a:lnTo>
                    <a:pt x="1604" y="10"/>
                  </a:lnTo>
                  <a:lnTo>
                    <a:pt x="1528" y="33"/>
                  </a:lnTo>
                  <a:lnTo>
                    <a:pt x="1454" y="50"/>
                  </a:lnTo>
                  <a:lnTo>
                    <a:pt x="1383" y="78"/>
                  </a:lnTo>
                  <a:lnTo>
                    <a:pt x="1308" y="95"/>
                  </a:lnTo>
                  <a:lnTo>
                    <a:pt x="1238" y="118"/>
                  </a:lnTo>
                  <a:lnTo>
                    <a:pt x="1168" y="135"/>
                  </a:lnTo>
                  <a:lnTo>
                    <a:pt x="1104" y="145"/>
                  </a:lnTo>
                  <a:lnTo>
                    <a:pt x="1000" y="145"/>
                  </a:lnTo>
                  <a:lnTo>
                    <a:pt x="895" y="145"/>
                  </a:lnTo>
                  <a:lnTo>
                    <a:pt x="785" y="145"/>
                  </a:lnTo>
                  <a:lnTo>
                    <a:pt x="674" y="145"/>
                  </a:lnTo>
                  <a:lnTo>
                    <a:pt x="564" y="140"/>
                  </a:lnTo>
                  <a:lnTo>
                    <a:pt x="453" y="135"/>
                  </a:lnTo>
                  <a:lnTo>
                    <a:pt x="349" y="123"/>
                  </a:lnTo>
                  <a:lnTo>
                    <a:pt x="250" y="118"/>
                  </a:lnTo>
                  <a:lnTo>
                    <a:pt x="227" y="190"/>
                  </a:lnTo>
                  <a:lnTo>
                    <a:pt x="210" y="292"/>
                  </a:lnTo>
                  <a:lnTo>
                    <a:pt x="192" y="415"/>
                  </a:lnTo>
                  <a:lnTo>
                    <a:pt x="180" y="550"/>
                  </a:lnTo>
                  <a:lnTo>
                    <a:pt x="163" y="680"/>
                  </a:lnTo>
                  <a:lnTo>
                    <a:pt x="151" y="803"/>
                  </a:lnTo>
                  <a:lnTo>
                    <a:pt x="146" y="910"/>
                  </a:lnTo>
                  <a:lnTo>
                    <a:pt x="146" y="994"/>
                  </a:lnTo>
                  <a:lnTo>
                    <a:pt x="139" y="1050"/>
                  </a:lnTo>
                  <a:lnTo>
                    <a:pt x="139" y="1118"/>
                  </a:lnTo>
                  <a:lnTo>
                    <a:pt x="139" y="1185"/>
                  </a:lnTo>
                  <a:lnTo>
                    <a:pt x="139" y="1259"/>
                  </a:lnTo>
                  <a:lnTo>
                    <a:pt x="139" y="1326"/>
                  </a:lnTo>
                  <a:lnTo>
                    <a:pt x="139" y="1399"/>
                  </a:lnTo>
                  <a:lnTo>
                    <a:pt x="146" y="1467"/>
                  </a:lnTo>
                  <a:lnTo>
                    <a:pt x="163" y="1534"/>
                  </a:lnTo>
                  <a:lnTo>
                    <a:pt x="169" y="1557"/>
                  </a:lnTo>
                  <a:lnTo>
                    <a:pt x="174" y="1574"/>
                  </a:lnTo>
                  <a:lnTo>
                    <a:pt x="151" y="1607"/>
                  </a:lnTo>
                  <a:lnTo>
                    <a:pt x="128" y="1680"/>
                  </a:lnTo>
                  <a:lnTo>
                    <a:pt x="99" y="1781"/>
                  </a:lnTo>
                  <a:lnTo>
                    <a:pt x="76" y="1899"/>
                  </a:lnTo>
                  <a:lnTo>
                    <a:pt x="40" y="2018"/>
                  </a:lnTo>
                  <a:lnTo>
                    <a:pt x="24" y="2130"/>
                  </a:lnTo>
                  <a:lnTo>
                    <a:pt x="6" y="2220"/>
                  </a:lnTo>
                  <a:lnTo>
                    <a:pt x="0" y="2282"/>
                  </a:lnTo>
                  <a:lnTo>
                    <a:pt x="52" y="2316"/>
                  </a:lnTo>
                  <a:lnTo>
                    <a:pt x="111" y="2350"/>
                  </a:lnTo>
                  <a:lnTo>
                    <a:pt x="169" y="2384"/>
                  </a:lnTo>
                  <a:lnTo>
                    <a:pt x="233" y="2416"/>
                  </a:lnTo>
                  <a:lnTo>
                    <a:pt x="291" y="2445"/>
                  </a:lnTo>
                  <a:lnTo>
                    <a:pt x="354" y="2479"/>
                  </a:lnTo>
                  <a:lnTo>
                    <a:pt x="413" y="2512"/>
                  </a:lnTo>
                  <a:lnTo>
                    <a:pt x="476" y="2551"/>
                  </a:lnTo>
                  <a:lnTo>
                    <a:pt x="575" y="2585"/>
                  </a:lnTo>
                  <a:lnTo>
                    <a:pt x="715" y="2597"/>
                  </a:lnTo>
                  <a:lnTo>
                    <a:pt x="878" y="2591"/>
                  </a:lnTo>
                  <a:lnTo>
                    <a:pt x="1052" y="2575"/>
                  </a:lnTo>
                  <a:lnTo>
                    <a:pt x="1226" y="2546"/>
                  </a:lnTo>
                  <a:lnTo>
                    <a:pt x="1395" y="2524"/>
                  </a:lnTo>
                  <a:lnTo>
                    <a:pt x="1535" y="2496"/>
                  </a:lnTo>
                  <a:lnTo>
                    <a:pt x="1651" y="2490"/>
                  </a:lnTo>
                  <a:lnTo>
                    <a:pt x="1639" y="2433"/>
                  </a:lnTo>
                  <a:lnTo>
                    <a:pt x="1634" y="2384"/>
                  </a:lnTo>
                  <a:lnTo>
                    <a:pt x="1634" y="2327"/>
                  </a:lnTo>
                  <a:lnTo>
                    <a:pt x="1634" y="2276"/>
                  </a:lnTo>
                  <a:lnTo>
                    <a:pt x="1627" y="2215"/>
                  </a:lnTo>
                  <a:lnTo>
                    <a:pt x="1627" y="2158"/>
                  </a:lnTo>
                  <a:lnTo>
                    <a:pt x="1627" y="2102"/>
                  </a:lnTo>
                  <a:lnTo>
                    <a:pt x="1627" y="2046"/>
                  </a:lnTo>
                  <a:lnTo>
                    <a:pt x="1609" y="1972"/>
                  </a:lnTo>
                  <a:lnTo>
                    <a:pt x="1593" y="1939"/>
                  </a:lnTo>
                  <a:lnTo>
                    <a:pt x="1569" y="1928"/>
                  </a:lnTo>
                  <a:lnTo>
                    <a:pt x="1552" y="1939"/>
                  </a:lnTo>
                  <a:lnTo>
                    <a:pt x="1528" y="1962"/>
                  </a:lnTo>
                  <a:lnTo>
                    <a:pt x="1505" y="2006"/>
                  </a:lnTo>
                  <a:lnTo>
                    <a:pt x="1488" y="2051"/>
                  </a:lnTo>
                  <a:lnTo>
                    <a:pt x="1477" y="2102"/>
                  </a:lnTo>
                  <a:lnTo>
                    <a:pt x="1459" y="2085"/>
                  </a:lnTo>
                  <a:lnTo>
                    <a:pt x="1447" y="2068"/>
                  </a:lnTo>
                  <a:lnTo>
                    <a:pt x="1429" y="2051"/>
                  </a:lnTo>
                  <a:lnTo>
                    <a:pt x="1424" y="2046"/>
                  </a:lnTo>
                  <a:lnTo>
                    <a:pt x="1436" y="2012"/>
                  </a:lnTo>
                  <a:lnTo>
                    <a:pt x="1454" y="1979"/>
                  </a:lnTo>
                  <a:lnTo>
                    <a:pt x="1470" y="1945"/>
                  </a:lnTo>
                  <a:lnTo>
                    <a:pt x="1488" y="1916"/>
                  </a:lnTo>
                  <a:lnTo>
                    <a:pt x="1500" y="1877"/>
                  </a:lnTo>
                  <a:lnTo>
                    <a:pt x="1517" y="1844"/>
                  </a:lnTo>
                  <a:lnTo>
                    <a:pt x="1528" y="1810"/>
                  </a:lnTo>
                  <a:lnTo>
                    <a:pt x="1546" y="1781"/>
                  </a:lnTo>
                  <a:lnTo>
                    <a:pt x="1552" y="1692"/>
                  </a:lnTo>
                  <a:lnTo>
                    <a:pt x="1563" y="1613"/>
                  </a:lnTo>
                  <a:lnTo>
                    <a:pt x="1569" y="1540"/>
                  </a:lnTo>
                  <a:lnTo>
                    <a:pt x="1575" y="1467"/>
                  </a:lnTo>
                  <a:lnTo>
                    <a:pt x="1575" y="1388"/>
                  </a:lnTo>
                  <a:lnTo>
                    <a:pt x="1581" y="1309"/>
                  </a:lnTo>
                  <a:lnTo>
                    <a:pt x="1581" y="1225"/>
                  </a:lnTo>
                  <a:lnTo>
                    <a:pt x="1598" y="1146"/>
                  </a:lnTo>
                  <a:lnTo>
                    <a:pt x="1616" y="1000"/>
                  </a:lnTo>
                  <a:lnTo>
                    <a:pt x="1634" y="854"/>
                  </a:lnTo>
                  <a:lnTo>
                    <a:pt x="1651" y="702"/>
                  </a:lnTo>
                  <a:lnTo>
                    <a:pt x="1674" y="550"/>
                  </a:lnTo>
                  <a:lnTo>
                    <a:pt x="1680" y="393"/>
                  </a:lnTo>
                  <a:lnTo>
                    <a:pt x="1692" y="246"/>
                  </a:lnTo>
                  <a:lnTo>
                    <a:pt x="1685" y="111"/>
                  </a:lnTo>
                  <a:lnTo>
                    <a:pt x="1680" y="0"/>
                  </a:lnTo>
                  <a:close/>
                </a:path>
              </a:pathLst>
            </a:custGeom>
            <a:solidFill>
              <a:srgbClr val="bff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48720" y="5337000"/>
              <a:ext cx="47880" cy="34560"/>
            </a:xfrm>
            <a:custGeom>
              <a:avLst/>
              <a:gdLst/>
              <a:ahLst/>
              <a:rect l="l" t="t" r="r" b="b"/>
              <a:pathLst>
                <a:path w="249" h="163">
                  <a:moveTo>
                    <a:pt x="0" y="0"/>
                  </a:moveTo>
                  <a:lnTo>
                    <a:pt x="11" y="28"/>
                  </a:lnTo>
                  <a:lnTo>
                    <a:pt x="35" y="68"/>
                  </a:lnTo>
                  <a:lnTo>
                    <a:pt x="69" y="108"/>
                  </a:lnTo>
                  <a:lnTo>
                    <a:pt x="104" y="141"/>
                  </a:lnTo>
                  <a:lnTo>
                    <a:pt x="139" y="158"/>
                  </a:lnTo>
                  <a:lnTo>
                    <a:pt x="180" y="163"/>
                  </a:lnTo>
                  <a:lnTo>
                    <a:pt x="208" y="147"/>
                  </a:lnTo>
                  <a:lnTo>
                    <a:pt x="238" y="101"/>
                  </a:lnTo>
                  <a:lnTo>
                    <a:pt x="238" y="79"/>
                  </a:lnTo>
                  <a:lnTo>
                    <a:pt x="243" y="57"/>
                  </a:lnTo>
                  <a:lnTo>
                    <a:pt x="243" y="28"/>
                  </a:lnTo>
                  <a:lnTo>
                    <a:pt x="249" y="0"/>
                  </a:lnTo>
                  <a:lnTo>
                    <a:pt x="215" y="12"/>
                  </a:lnTo>
                  <a:lnTo>
                    <a:pt x="180" y="28"/>
                  </a:lnTo>
                  <a:lnTo>
                    <a:pt x="150" y="34"/>
                  </a:lnTo>
                  <a:lnTo>
                    <a:pt x="121" y="40"/>
                  </a:lnTo>
                  <a:lnTo>
                    <a:pt x="86" y="28"/>
                  </a:lnTo>
                  <a:lnTo>
                    <a:pt x="58" y="23"/>
                  </a:lnTo>
                  <a:lnTo>
                    <a:pt x="28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c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715880" y="5414040"/>
              <a:ext cx="50040" cy="187560"/>
            </a:xfrm>
            <a:custGeom>
              <a:avLst/>
              <a:gdLst/>
              <a:ahLst/>
              <a:rect l="l" t="t" r="r" b="b"/>
              <a:pathLst>
                <a:path w="256" h="877">
                  <a:moveTo>
                    <a:pt x="192" y="0"/>
                  </a:moveTo>
                  <a:lnTo>
                    <a:pt x="163" y="50"/>
                  </a:lnTo>
                  <a:lnTo>
                    <a:pt x="128" y="158"/>
                  </a:lnTo>
                  <a:lnTo>
                    <a:pt x="81" y="298"/>
                  </a:lnTo>
                  <a:lnTo>
                    <a:pt x="41" y="455"/>
                  </a:lnTo>
                  <a:lnTo>
                    <a:pt x="6" y="602"/>
                  </a:lnTo>
                  <a:lnTo>
                    <a:pt x="0" y="737"/>
                  </a:lnTo>
                  <a:lnTo>
                    <a:pt x="18" y="832"/>
                  </a:lnTo>
                  <a:lnTo>
                    <a:pt x="81" y="877"/>
                  </a:lnTo>
                  <a:lnTo>
                    <a:pt x="110" y="866"/>
                  </a:lnTo>
                  <a:lnTo>
                    <a:pt x="163" y="861"/>
                  </a:lnTo>
                  <a:lnTo>
                    <a:pt x="203" y="849"/>
                  </a:lnTo>
                  <a:lnTo>
                    <a:pt x="244" y="849"/>
                  </a:lnTo>
                  <a:lnTo>
                    <a:pt x="249" y="737"/>
                  </a:lnTo>
                  <a:lnTo>
                    <a:pt x="256" y="624"/>
                  </a:lnTo>
                  <a:lnTo>
                    <a:pt x="249" y="511"/>
                  </a:lnTo>
                  <a:lnTo>
                    <a:pt x="249" y="405"/>
                  </a:lnTo>
                  <a:lnTo>
                    <a:pt x="233" y="293"/>
                  </a:lnTo>
                  <a:lnTo>
                    <a:pt x="221" y="192"/>
                  </a:lnTo>
                  <a:lnTo>
                    <a:pt x="203" y="9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e3fd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22680" y="5534640"/>
              <a:ext cx="73440" cy="30240"/>
            </a:xfrm>
            <a:custGeom>
              <a:avLst/>
              <a:gdLst/>
              <a:ahLst/>
              <a:rect l="l" t="t" r="r" b="b"/>
              <a:pathLst>
                <a:path w="377" h="147">
                  <a:moveTo>
                    <a:pt x="302" y="6"/>
                  </a:moveTo>
                  <a:lnTo>
                    <a:pt x="261" y="0"/>
                  </a:lnTo>
                  <a:lnTo>
                    <a:pt x="226" y="0"/>
                  </a:lnTo>
                  <a:lnTo>
                    <a:pt x="185" y="6"/>
                  </a:lnTo>
                  <a:lnTo>
                    <a:pt x="151" y="17"/>
                  </a:lnTo>
                  <a:lnTo>
                    <a:pt x="104" y="17"/>
                  </a:lnTo>
                  <a:lnTo>
                    <a:pt x="63" y="28"/>
                  </a:lnTo>
                  <a:lnTo>
                    <a:pt x="28" y="34"/>
                  </a:lnTo>
                  <a:lnTo>
                    <a:pt x="0" y="45"/>
                  </a:lnTo>
                  <a:lnTo>
                    <a:pt x="5" y="68"/>
                  </a:lnTo>
                  <a:lnTo>
                    <a:pt x="12" y="91"/>
                  </a:lnTo>
                  <a:lnTo>
                    <a:pt x="12" y="96"/>
                  </a:lnTo>
                  <a:lnTo>
                    <a:pt x="23" y="108"/>
                  </a:lnTo>
                  <a:lnTo>
                    <a:pt x="40" y="113"/>
                  </a:lnTo>
                  <a:lnTo>
                    <a:pt x="58" y="118"/>
                  </a:lnTo>
                  <a:lnTo>
                    <a:pt x="93" y="135"/>
                  </a:lnTo>
                  <a:lnTo>
                    <a:pt x="93" y="124"/>
                  </a:lnTo>
                  <a:lnTo>
                    <a:pt x="121" y="124"/>
                  </a:lnTo>
                  <a:lnTo>
                    <a:pt x="151" y="130"/>
                  </a:lnTo>
                  <a:lnTo>
                    <a:pt x="185" y="130"/>
                  </a:lnTo>
                  <a:lnTo>
                    <a:pt x="220" y="135"/>
                  </a:lnTo>
                  <a:lnTo>
                    <a:pt x="249" y="135"/>
                  </a:lnTo>
                  <a:lnTo>
                    <a:pt x="284" y="135"/>
                  </a:lnTo>
                  <a:lnTo>
                    <a:pt x="319" y="141"/>
                  </a:lnTo>
                  <a:lnTo>
                    <a:pt x="354" y="147"/>
                  </a:lnTo>
                  <a:lnTo>
                    <a:pt x="365" y="96"/>
                  </a:lnTo>
                  <a:lnTo>
                    <a:pt x="377" y="51"/>
                  </a:lnTo>
                  <a:lnTo>
                    <a:pt x="365" y="34"/>
                  </a:lnTo>
                  <a:lnTo>
                    <a:pt x="354" y="17"/>
                  </a:lnTo>
                  <a:lnTo>
                    <a:pt x="331" y="6"/>
                  </a:lnTo>
                  <a:lnTo>
                    <a:pt x="302" y="6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102440" y="5538240"/>
              <a:ext cx="104760" cy="26640"/>
            </a:xfrm>
            <a:custGeom>
              <a:avLst/>
              <a:gdLst/>
              <a:ahLst/>
              <a:rect l="l" t="t" r="r" b="b"/>
              <a:pathLst>
                <a:path w="540" h="130">
                  <a:moveTo>
                    <a:pt x="418" y="0"/>
                  </a:moveTo>
                  <a:lnTo>
                    <a:pt x="360" y="0"/>
                  </a:lnTo>
                  <a:lnTo>
                    <a:pt x="284" y="23"/>
                  </a:lnTo>
                  <a:lnTo>
                    <a:pt x="191" y="45"/>
                  </a:lnTo>
                  <a:lnTo>
                    <a:pt x="104" y="74"/>
                  </a:lnTo>
                  <a:lnTo>
                    <a:pt x="29" y="91"/>
                  </a:lnTo>
                  <a:lnTo>
                    <a:pt x="0" y="113"/>
                  </a:lnTo>
                  <a:lnTo>
                    <a:pt x="29" y="124"/>
                  </a:lnTo>
                  <a:lnTo>
                    <a:pt x="127" y="130"/>
                  </a:lnTo>
                  <a:lnTo>
                    <a:pt x="180" y="124"/>
                  </a:lnTo>
                  <a:lnTo>
                    <a:pt x="238" y="118"/>
                  </a:lnTo>
                  <a:lnTo>
                    <a:pt x="284" y="113"/>
                  </a:lnTo>
                  <a:lnTo>
                    <a:pt x="331" y="113"/>
                  </a:lnTo>
                  <a:lnTo>
                    <a:pt x="371" y="107"/>
                  </a:lnTo>
                  <a:lnTo>
                    <a:pt x="424" y="107"/>
                  </a:lnTo>
                  <a:lnTo>
                    <a:pt x="477" y="107"/>
                  </a:lnTo>
                  <a:lnTo>
                    <a:pt x="540" y="107"/>
                  </a:lnTo>
                  <a:lnTo>
                    <a:pt x="523" y="57"/>
                  </a:lnTo>
                  <a:lnTo>
                    <a:pt x="511" y="11"/>
                  </a:lnTo>
                  <a:lnTo>
                    <a:pt x="488" y="6"/>
                  </a:lnTo>
                  <a:lnTo>
                    <a:pt x="465" y="0"/>
                  </a:lnTo>
                  <a:lnTo>
                    <a:pt x="441" y="0"/>
                  </a:lnTo>
                  <a:lnTo>
                    <a:pt x="418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6600" y="5554080"/>
              <a:ext cx="102600" cy="30240"/>
            </a:xfrm>
            <a:custGeom>
              <a:avLst/>
              <a:gdLst/>
              <a:ahLst/>
              <a:rect l="l" t="t" r="r" b="b"/>
              <a:pathLst>
                <a:path w="528" h="145">
                  <a:moveTo>
                    <a:pt x="105" y="5"/>
                  </a:moveTo>
                  <a:lnTo>
                    <a:pt x="58" y="10"/>
                  </a:lnTo>
                  <a:lnTo>
                    <a:pt x="0" y="33"/>
                  </a:lnTo>
                  <a:lnTo>
                    <a:pt x="18" y="78"/>
                  </a:lnTo>
                  <a:lnTo>
                    <a:pt x="52" y="112"/>
                  </a:lnTo>
                  <a:lnTo>
                    <a:pt x="93" y="135"/>
                  </a:lnTo>
                  <a:lnTo>
                    <a:pt x="157" y="145"/>
                  </a:lnTo>
                  <a:lnTo>
                    <a:pt x="221" y="145"/>
                  </a:lnTo>
                  <a:lnTo>
                    <a:pt x="302" y="145"/>
                  </a:lnTo>
                  <a:lnTo>
                    <a:pt x="378" y="140"/>
                  </a:lnTo>
                  <a:lnTo>
                    <a:pt x="465" y="145"/>
                  </a:lnTo>
                  <a:lnTo>
                    <a:pt x="523" y="135"/>
                  </a:lnTo>
                  <a:lnTo>
                    <a:pt x="528" y="123"/>
                  </a:lnTo>
                  <a:lnTo>
                    <a:pt x="494" y="95"/>
                  </a:lnTo>
                  <a:lnTo>
                    <a:pt x="430" y="67"/>
                  </a:lnTo>
                  <a:lnTo>
                    <a:pt x="343" y="33"/>
                  </a:lnTo>
                  <a:lnTo>
                    <a:pt x="256" y="17"/>
                  </a:lnTo>
                  <a:lnTo>
                    <a:pt x="168" y="0"/>
                  </a:lnTo>
                  <a:lnTo>
                    <a:pt x="105" y="5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722000" y="5610600"/>
              <a:ext cx="94680" cy="38160"/>
            </a:xfrm>
            <a:custGeom>
              <a:avLst/>
              <a:gdLst/>
              <a:ahLst/>
              <a:rect l="l" t="t" r="r" b="b"/>
              <a:pathLst>
                <a:path w="483" h="181">
                  <a:moveTo>
                    <a:pt x="81" y="0"/>
                  </a:moveTo>
                  <a:lnTo>
                    <a:pt x="65" y="0"/>
                  </a:lnTo>
                  <a:lnTo>
                    <a:pt x="40" y="12"/>
                  </a:lnTo>
                  <a:lnTo>
                    <a:pt x="12" y="17"/>
                  </a:lnTo>
                  <a:lnTo>
                    <a:pt x="0" y="23"/>
                  </a:lnTo>
                  <a:lnTo>
                    <a:pt x="0" y="51"/>
                  </a:lnTo>
                  <a:lnTo>
                    <a:pt x="6" y="80"/>
                  </a:lnTo>
                  <a:lnTo>
                    <a:pt x="6" y="96"/>
                  </a:lnTo>
                  <a:lnTo>
                    <a:pt x="12" y="130"/>
                  </a:lnTo>
                  <a:lnTo>
                    <a:pt x="40" y="124"/>
                  </a:lnTo>
                  <a:lnTo>
                    <a:pt x="76" y="124"/>
                  </a:lnTo>
                  <a:lnTo>
                    <a:pt x="105" y="119"/>
                  </a:lnTo>
                  <a:lnTo>
                    <a:pt x="139" y="119"/>
                  </a:lnTo>
                  <a:lnTo>
                    <a:pt x="197" y="119"/>
                  </a:lnTo>
                  <a:lnTo>
                    <a:pt x="250" y="130"/>
                  </a:lnTo>
                  <a:lnTo>
                    <a:pt x="261" y="135"/>
                  </a:lnTo>
                  <a:lnTo>
                    <a:pt x="279" y="152"/>
                  </a:lnTo>
                  <a:lnTo>
                    <a:pt x="291" y="158"/>
                  </a:lnTo>
                  <a:lnTo>
                    <a:pt x="308" y="169"/>
                  </a:lnTo>
                  <a:lnTo>
                    <a:pt x="331" y="175"/>
                  </a:lnTo>
                  <a:lnTo>
                    <a:pt x="372" y="181"/>
                  </a:lnTo>
                  <a:lnTo>
                    <a:pt x="453" y="169"/>
                  </a:lnTo>
                  <a:lnTo>
                    <a:pt x="483" y="147"/>
                  </a:lnTo>
                  <a:lnTo>
                    <a:pt x="453" y="113"/>
                  </a:lnTo>
                  <a:lnTo>
                    <a:pt x="395" y="80"/>
                  </a:lnTo>
                  <a:lnTo>
                    <a:pt x="308" y="46"/>
                  </a:lnTo>
                  <a:lnTo>
                    <a:pt x="220" y="17"/>
                  </a:lnTo>
                  <a:lnTo>
                    <a:pt x="139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898040" y="5630040"/>
              <a:ext cx="132840" cy="49680"/>
            </a:xfrm>
            <a:custGeom>
              <a:avLst/>
              <a:gdLst/>
              <a:ahLst/>
              <a:rect l="l" t="t" r="r" b="b"/>
              <a:pathLst>
                <a:path w="679" h="236">
                  <a:moveTo>
                    <a:pt x="197" y="12"/>
                  </a:moveTo>
                  <a:lnTo>
                    <a:pt x="151" y="17"/>
                  </a:lnTo>
                  <a:lnTo>
                    <a:pt x="104" y="34"/>
                  </a:lnTo>
                  <a:lnTo>
                    <a:pt x="52" y="45"/>
                  </a:lnTo>
                  <a:lnTo>
                    <a:pt x="0" y="62"/>
                  </a:lnTo>
                  <a:lnTo>
                    <a:pt x="23" y="130"/>
                  </a:lnTo>
                  <a:lnTo>
                    <a:pt x="63" y="181"/>
                  </a:lnTo>
                  <a:lnTo>
                    <a:pt x="116" y="209"/>
                  </a:lnTo>
                  <a:lnTo>
                    <a:pt x="180" y="226"/>
                  </a:lnTo>
                  <a:lnTo>
                    <a:pt x="243" y="226"/>
                  </a:lnTo>
                  <a:lnTo>
                    <a:pt x="325" y="226"/>
                  </a:lnTo>
                  <a:lnTo>
                    <a:pt x="406" y="226"/>
                  </a:lnTo>
                  <a:lnTo>
                    <a:pt x="505" y="231"/>
                  </a:lnTo>
                  <a:lnTo>
                    <a:pt x="552" y="231"/>
                  </a:lnTo>
                  <a:lnTo>
                    <a:pt x="593" y="236"/>
                  </a:lnTo>
                  <a:lnTo>
                    <a:pt x="628" y="231"/>
                  </a:lnTo>
                  <a:lnTo>
                    <a:pt x="651" y="226"/>
                  </a:lnTo>
                  <a:lnTo>
                    <a:pt x="662" y="203"/>
                  </a:lnTo>
                  <a:lnTo>
                    <a:pt x="674" y="181"/>
                  </a:lnTo>
                  <a:lnTo>
                    <a:pt x="674" y="141"/>
                  </a:lnTo>
                  <a:lnTo>
                    <a:pt x="679" y="91"/>
                  </a:lnTo>
                  <a:lnTo>
                    <a:pt x="621" y="74"/>
                  </a:lnTo>
                  <a:lnTo>
                    <a:pt x="563" y="57"/>
                  </a:lnTo>
                  <a:lnTo>
                    <a:pt x="505" y="40"/>
                  </a:lnTo>
                  <a:lnTo>
                    <a:pt x="453" y="23"/>
                  </a:lnTo>
                  <a:lnTo>
                    <a:pt x="390" y="6"/>
                  </a:lnTo>
                  <a:lnTo>
                    <a:pt x="331" y="0"/>
                  </a:lnTo>
                  <a:lnTo>
                    <a:pt x="261" y="0"/>
                  </a:lnTo>
                  <a:lnTo>
                    <a:pt x="197" y="12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615800" y="5634360"/>
              <a:ext cx="139680" cy="34920"/>
            </a:xfrm>
            <a:custGeom>
              <a:avLst/>
              <a:gdLst/>
              <a:ahLst/>
              <a:rect l="l" t="t" r="r" b="b"/>
              <a:pathLst>
                <a:path w="720" h="163">
                  <a:moveTo>
                    <a:pt x="0" y="0"/>
                  </a:moveTo>
                  <a:lnTo>
                    <a:pt x="0" y="45"/>
                  </a:lnTo>
                  <a:lnTo>
                    <a:pt x="0" y="95"/>
                  </a:lnTo>
                  <a:lnTo>
                    <a:pt x="69" y="95"/>
                  </a:lnTo>
                  <a:lnTo>
                    <a:pt x="157" y="107"/>
                  </a:lnTo>
                  <a:lnTo>
                    <a:pt x="249" y="124"/>
                  </a:lnTo>
                  <a:lnTo>
                    <a:pt x="355" y="141"/>
                  </a:lnTo>
                  <a:lnTo>
                    <a:pt x="447" y="152"/>
                  </a:lnTo>
                  <a:lnTo>
                    <a:pt x="540" y="163"/>
                  </a:lnTo>
                  <a:lnTo>
                    <a:pt x="622" y="163"/>
                  </a:lnTo>
                  <a:lnTo>
                    <a:pt x="692" y="158"/>
                  </a:lnTo>
                  <a:lnTo>
                    <a:pt x="720" y="124"/>
                  </a:lnTo>
                  <a:lnTo>
                    <a:pt x="680" y="102"/>
                  </a:lnTo>
                  <a:lnTo>
                    <a:pt x="586" y="73"/>
                  </a:lnTo>
                  <a:lnTo>
                    <a:pt x="459" y="51"/>
                  </a:lnTo>
                  <a:lnTo>
                    <a:pt x="314" y="28"/>
                  </a:lnTo>
                  <a:lnTo>
                    <a:pt x="175" y="17"/>
                  </a:lnTo>
                  <a:lnTo>
                    <a:pt x="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45280" y="5651640"/>
              <a:ext cx="119880" cy="29160"/>
            </a:xfrm>
            <a:custGeom>
              <a:avLst/>
              <a:gdLst/>
              <a:ahLst/>
              <a:rect l="l" t="t" r="r" b="b"/>
              <a:pathLst>
                <a:path w="616" h="142">
                  <a:moveTo>
                    <a:pt x="0" y="0"/>
                  </a:moveTo>
                  <a:lnTo>
                    <a:pt x="30" y="119"/>
                  </a:lnTo>
                  <a:lnTo>
                    <a:pt x="93" y="119"/>
                  </a:lnTo>
                  <a:lnTo>
                    <a:pt x="169" y="125"/>
                  </a:lnTo>
                  <a:lnTo>
                    <a:pt x="244" y="125"/>
                  </a:lnTo>
                  <a:lnTo>
                    <a:pt x="325" y="130"/>
                  </a:lnTo>
                  <a:lnTo>
                    <a:pt x="401" y="130"/>
                  </a:lnTo>
                  <a:lnTo>
                    <a:pt x="477" y="130"/>
                  </a:lnTo>
                  <a:lnTo>
                    <a:pt x="547" y="135"/>
                  </a:lnTo>
                  <a:lnTo>
                    <a:pt x="616" y="142"/>
                  </a:lnTo>
                  <a:lnTo>
                    <a:pt x="563" y="80"/>
                  </a:lnTo>
                  <a:lnTo>
                    <a:pt x="506" y="40"/>
                  </a:lnTo>
                  <a:lnTo>
                    <a:pt x="436" y="12"/>
                  </a:lnTo>
                  <a:lnTo>
                    <a:pt x="360" y="7"/>
                  </a:lnTo>
                  <a:lnTo>
                    <a:pt x="268" y="0"/>
                  </a:lnTo>
                  <a:lnTo>
                    <a:pt x="180" y="0"/>
                  </a:lnTo>
                  <a:lnTo>
                    <a:pt x="8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b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161920" y="5855040"/>
              <a:ext cx="99000" cy="116640"/>
            </a:xfrm>
            <a:custGeom>
              <a:avLst/>
              <a:gdLst/>
              <a:ahLst/>
              <a:rect l="l" t="t" r="r" b="b"/>
              <a:pathLst>
                <a:path w="511" h="546">
                  <a:moveTo>
                    <a:pt x="17" y="0"/>
                  </a:moveTo>
                  <a:lnTo>
                    <a:pt x="5" y="34"/>
                  </a:lnTo>
                  <a:lnTo>
                    <a:pt x="5" y="85"/>
                  </a:lnTo>
                  <a:lnTo>
                    <a:pt x="0" y="130"/>
                  </a:lnTo>
                  <a:lnTo>
                    <a:pt x="0" y="186"/>
                  </a:lnTo>
                  <a:lnTo>
                    <a:pt x="0" y="236"/>
                  </a:lnTo>
                  <a:lnTo>
                    <a:pt x="5" y="287"/>
                  </a:lnTo>
                  <a:lnTo>
                    <a:pt x="12" y="332"/>
                  </a:lnTo>
                  <a:lnTo>
                    <a:pt x="29" y="371"/>
                  </a:lnTo>
                  <a:lnTo>
                    <a:pt x="52" y="395"/>
                  </a:lnTo>
                  <a:lnTo>
                    <a:pt x="104" y="427"/>
                  </a:lnTo>
                  <a:lnTo>
                    <a:pt x="162" y="467"/>
                  </a:lnTo>
                  <a:lnTo>
                    <a:pt x="238" y="506"/>
                  </a:lnTo>
                  <a:lnTo>
                    <a:pt x="302" y="529"/>
                  </a:lnTo>
                  <a:lnTo>
                    <a:pt x="372" y="546"/>
                  </a:lnTo>
                  <a:lnTo>
                    <a:pt x="418" y="546"/>
                  </a:lnTo>
                  <a:lnTo>
                    <a:pt x="453" y="529"/>
                  </a:lnTo>
                  <a:lnTo>
                    <a:pt x="459" y="495"/>
                  </a:lnTo>
                  <a:lnTo>
                    <a:pt x="471" y="461"/>
                  </a:lnTo>
                  <a:lnTo>
                    <a:pt x="476" y="427"/>
                  </a:lnTo>
                  <a:lnTo>
                    <a:pt x="488" y="395"/>
                  </a:lnTo>
                  <a:lnTo>
                    <a:pt x="494" y="355"/>
                  </a:lnTo>
                  <a:lnTo>
                    <a:pt x="499" y="316"/>
                  </a:lnTo>
                  <a:lnTo>
                    <a:pt x="506" y="277"/>
                  </a:lnTo>
                  <a:lnTo>
                    <a:pt x="511" y="243"/>
                  </a:lnTo>
                  <a:lnTo>
                    <a:pt x="441" y="214"/>
                  </a:lnTo>
                  <a:lnTo>
                    <a:pt x="377" y="186"/>
                  </a:lnTo>
                  <a:lnTo>
                    <a:pt x="314" y="158"/>
                  </a:lnTo>
                  <a:lnTo>
                    <a:pt x="255" y="130"/>
                  </a:lnTo>
                  <a:lnTo>
                    <a:pt x="197" y="96"/>
                  </a:lnTo>
                  <a:lnTo>
                    <a:pt x="139" y="62"/>
                  </a:lnTo>
                  <a:lnTo>
                    <a:pt x="75" y="2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397720" y="5887800"/>
              <a:ext cx="7920" cy="792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0" y="0"/>
                  </a:moveTo>
                  <a:lnTo>
                    <a:pt x="0" y="17"/>
                  </a:lnTo>
                  <a:lnTo>
                    <a:pt x="0" y="40"/>
                  </a:lnTo>
                  <a:lnTo>
                    <a:pt x="7" y="34"/>
                  </a:lnTo>
                  <a:lnTo>
                    <a:pt x="30" y="34"/>
                  </a:lnTo>
                  <a:lnTo>
                    <a:pt x="41" y="29"/>
                  </a:lnTo>
                  <a:lnTo>
                    <a:pt x="35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93680" y="5891040"/>
              <a:ext cx="183240" cy="61200"/>
            </a:xfrm>
            <a:custGeom>
              <a:avLst/>
              <a:gdLst/>
              <a:ahLst/>
              <a:rect l="l" t="t" r="r" b="b"/>
              <a:pathLst>
                <a:path w="942" h="287">
                  <a:moveTo>
                    <a:pt x="99" y="12"/>
                  </a:moveTo>
                  <a:lnTo>
                    <a:pt x="58" y="12"/>
                  </a:lnTo>
                  <a:lnTo>
                    <a:pt x="35" y="28"/>
                  </a:lnTo>
                  <a:lnTo>
                    <a:pt x="18" y="45"/>
                  </a:lnTo>
                  <a:lnTo>
                    <a:pt x="12" y="74"/>
                  </a:lnTo>
                  <a:lnTo>
                    <a:pt x="0" y="96"/>
                  </a:lnTo>
                  <a:lnTo>
                    <a:pt x="7" y="124"/>
                  </a:lnTo>
                  <a:lnTo>
                    <a:pt x="7" y="158"/>
                  </a:lnTo>
                  <a:lnTo>
                    <a:pt x="18" y="192"/>
                  </a:lnTo>
                  <a:lnTo>
                    <a:pt x="18" y="226"/>
                  </a:lnTo>
                  <a:lnTo>
                    <a:pt x="18" y="265"/>
                  </a:lnTo>
                  <a:lnTo>
                    <a:pt x="111" y="270"/>
                  </a:lnTo>
                  <a:lnTo>
                    <a:pt x="215" y="282"/>
                  </a:lnTo>
                  <a:lnTo>
                    <a:pt x="321" y="282"/>
                  </a:lnTo>
                  <a:lnTo>
                    <a:pt x="431" y="287"/>
                  </a:lnTo>
                  <a:lnTo>
                    <a:pt x="542" y="275"/>
                  </a:lnTo>
                  <a:lnTo>
                    <a:pt x="651" y="270"/>
                  </a:lnTo>
                  <a:lnTo>
                    <a:pt x="762" y="258"/>
                  </a:lnTo>
                  <a:lnTo>
                    <a:pt x="872" y="253"/>
                  </a:lnTo>
                  <a:lnTo>
                    <a:pt x="902" y="243"/>
                  </a:lnTo>
                  <a:lnTo>
                    <a:pt x="925" y="236"/>
                  </a:lnTo>
                  <a:lnTo>
                    <a:pt x="937" y="226"/>
                  </a:lnTo>
                  <a:lnTo>
                    <a:pt x="942" y="214"/>
                  </a:lnTo>
                  <a:lnTo>
                    <a:pt x="937" y="175"/>
                  </a:lnTo>
                  <a:lnTo>
                    <a:pt x="937" y="141"/>
                  </a:lnTo>
                  <a:lnTo>
                    <a:pt x="797" y="130"/>
                  </a:lnTo>
                  <a:lnTo>
                    <a:pt x="686" y="113"/>
                  </a:lnTo>
                  <a:lnTo>
                    <a:pt x="576" y="84"/>
                  </a:lnTo>
                  <a:lnTo>
                    <a:pt x="489" y="57"/>
                  </a:lnTo>
                  <a:lnTo>
                    <a:pt x="395" y="23"/>
                  </a:lnTo>
                  <a:lnTo>
                    <a:pt x="303" y="6"/>
                  </a:lnTo>
                  <a:lnTo>
                    <a:pt x="204" y="0"/>
                  </a:lnTo>
                  <a:lnTo>
                    <a:pt x="99" y="12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411400" y="4444200"/>
              <a:ext cx="15840" cy="64440"/>
            </a:xfrm>
            <a:custGeom>
              <a:avLst/>
              <a:gdLst/>
              <a:ahLst/>
              <a:rect l="l" t="t" r="r" b="b"/>
              <a:pathLst>
                <a:path w="87" h="299">
                  <a:moveTo>
                    <a:pt x="18" y="0"/>
                  </a:moveTo>
                  <a:lnTo>
                    <a:pt x="81" y="17"/>
                  </a:lnTo>
                  <a:lnTo>
                    <a:pt x="87" y="265"/>
                  </a:lnTo>
                  <a:lnTo>
                    <a:pt x="76" y="265"/>
                  </a:lnTo>
                  <a:lnTo>
                    <a:pt x="53" y="282"/>
                  </a:lnTo>
                  <a:lnTo>
                    <a:pt x="23" y="287"/>
                  </a:lnTo>
                  <a:lnTo>
                    <a:pt x="6" y="299"/>
                  </a:lnTo>
                  <a:lnTo>
                    <a:pt x="0" y="282"/>
                  </a:lnTo>
                  <a:lnTo>
                    <a:pt x="0" y="248"/>
                  </a:lnTo>
                  <a:lnTo>
                    <a:pt x="6" y="203"/>
                  </a:lnTo>
                  <a:lnTo>
                    <a:pt x="18" y="152"/>
                  </a:lnTo>
                  <a:lnTo>
                    <a:pt x="18" y="96"/>
                  </a:lnTo>
                  <a:lnTo>
                    <a:pt x="23" y="51"/>
                  </a:lnTo>
                  <a:lnTo>
                    <a:pt x="18" y="1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29840" y="4770000"/>
              <a:ext cx="227520" cy="183240"/>
            </a:xfrm>
            <a:custGeom>
              <a:avLst/>
              <a:gdLst/>
              <a:ahLst/>
              <a:rect l="l" t="t" r="r" b="b"/>
              <a:pathLst>
                <a:path w="1174" h="854">
                  <a:moveTo>
                    <a:pt x="0" y="10"/>
                  </a:moveTo>
                  <a:lnTo>
                    <a:pt x="1174" y="0"/>
                  </a:lnTo>
                  <a:lnTo>
                    <a:pt x="436" y="780"/>
                  </a:lnTo>
                  <a:lnTo>
                    <a:pt x="994" y="854"/>
                  </a:lnTo>
                  <a:lnTo>
                    <a:pt x="552" y="736"/>
                  </a:lnTo>
                  <a:lnTo>
                    <a:pt x="1139" y="6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493680" y="5196600"/>
              <a:ext cx="384840" cy="284760"/>
            </a:xfrm>
            <a:custGeom>
              <a:avLst/>
              <a:gdLst/>
              <a:ahLst/>
              <a:rect l="l" t="t" r="r" b="b"/>
              <a:pathLst>
                <a:path w="1976" h="1332">
                  <a:moveTo>
                    <a:pt x="291" y="0"/>
                  </a:moveTo>
                  <a:lnTo>
                    <a:pt x="0" y="421"/>
                  </a:lnTo>
                  <a:lnTo>
                    <a:pt x="1976" y="1332"/>
                  </a:lnTo>
                  <a:lnTo>
                    <a:pt x="81" y="421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38600" y="4481640"/>
              <a:ext cx="644760" cy="31320"/>
            </a:xfrm>
            <a:custGeom>
              <a:avLst/>
              <a:gdLst/>
              <a:ahLst/>
              <a:rect l="l" t="t" r="r" b="b"/>
              <a:pathLst>
                <a:path w="3318" h="146">
                  <a:moveTo>
                    <a:pt x="0" y="146"/>
                  </a:moveTo>
                  <a:lnTo>
                    <a:pt x="2277" y="45"/>
                  </a:lnTo>
                  <a:lnTo>
                    <a:pt x="3318" y="135"/>
                  </a:lnTo>
                  <a:lnTo>
                    <a:pt x="2306" y="0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62720" y="4586040"/>
              <a:ext cx="44280" cy="67680"/>
            </a:xfrm>
            <a:custGeom>
              <a:avLst/>
              <a:gdLst/>
              <a:ahLst/>
              <a:rect l="l" t="t" r="r" b="b"/>
              <a:pathLst>
                <a:path w="226" h="320">
                  <a:moveTo>
                    <a:pt x="226" y="0"/>
                  </a:moveTo>
                  <a:lnTo>
                    <a:pt x="81" y="101"/>
                  </a:lnTo>
                  <a:lnTo>
                    <a:pt x="0" y="320"/>
                  </a:lnTo>
                  <a:lnTo>
                    <a:pt x="17" y="101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914400" y="3833640"/>
            <a:ext cx="534960" cy="2338560"/>
            <a:chOff x="914400" y="3833640"/>
            <a:chExt cx="534960" cy="2338560"/>
          </a:xfrm>
        </p:grpSpPr>
        <p:sp>
          <p:nvSpPr>
            <p:cNvPr id="152" name=""/>
            <p:cNvSpPr/>
            <p:nvPr/>
          </p:nvSpPr>
          <p:spPr>
            <a:xfrm>
              <a:off x="1066680" y="3833640"/>
              <a:ext cx="250920" cy="393840"/>
            </a:xfrm>
            <a:custGeom>
              <a:avLst/>
              <a:gdLst/>
              <a:ahLst/>
              <a:rect l="l" t="t" r="r" b="b"/>
              <a:pathLst>
                <a:path w="947" h="1310">
                  <a:moveTo>
                    <a:pt x="412" y="0"/>
                  </a:moveTo>
                  <a:lnTo>
                    <a:pt x="243" y="79"/>
                  </a:lnTo>
                  <a:lnTo>
                    <a:pt x="116" y="253"/>
                  </a:lnTo>
                  <a:lnTo>
                    <a:pt x="28" y="477"/>
                  </a:lnTo>
                  <a:lnTo>
                    <a:pt x="0" y="731"/>
                  </a:lnTo>
                  <a:lnTo>
                    <a:pt x="17" y="967"/>
                  </a:lnTo>
                  <a:lnTo>
                    <a:pt x="110" y="1163"/>
                  </a:lnTo>
                  <a:lnTo>
                    <a:pt x="266" y="1288"/>
                  </a:lnTo>
                  <a:lnTo>
                    <a:pt x="517" y="1310"/>
                  </a:lnTo>
                  <a:lnTo>
                    <a:pt x="732" y="1214"/>
                  </a:lnTo>
                  <a:lnTo>
                    <a:pt x="877" y="1040"/>
                  </a:lnTo>
                  <a:lnTo>
                    <a:pt x="941" y="809"/>
                  </a:lnTo>
                  <a:lnTo>
                    <a:pt x="947" y="567"/>
                  </a:lnTo>
                  <a:lnTo>
                    <a:pt x="883" y="331"/>
                  </a:lnTo>
                  <a:lnTo>
                    <a:pt x="773" y="140"/>
                  </a:lnTo>
                  <a:lnTo>
                    <a:pt x="610" y="16"/>
                  </a:lnTo>
                  <a:lnTo>
                    <a:pt x="412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37960" y="4246560"/>
              <a:ext cx="96840" cy="150840"/>
            </a:xfrm>
            <a:custGeom>
              <a:avLst/>
              <a:gdLst/>
              <a:ahLst/>
              <a:rect l="l" t="t" r="r" b="b"/>
              <a:pathLst>
                <a:path w="367" h="500">
                  <a:moveTo>
                    <a:pt x="222" y="0"/>
                  </a:moveTo>
                  <a:lnTo>
                    <a:pt x="99" y="22"/>
                  </a:lnTo>
                  <a:lnTo>
                    <a:pt x="36" y="73"/>
                  </a:lnTo>
                  <a:lnTo>
                    <a:pt x="0" y="135"/>
                  </a:lnTo>
                  <a:lnTo>
                    <a:pt x="7" y="213"/>
                  </a:lnTo>
                  <a:lnTo>
                    <a:pt x="30" y="287"/>
                  </a:lnTo>
                  <a:lnTo>
                    <a:pt x="65" y="365"/>
                  </a:lnTo>
                  <a:lnTo>
                    <a:pt x="106" y="438"/>
                  </a:lnTo>
                  <a:lnTo>
                    <a:pt x="146" y="500"/>
                  </a:lnTo>
                  <a:lnTo>
                    <a:pt x="164" y="478"/>
                  </a:lnTo>
                  <a:lnTo>
                    <a:pt x="193" y="461"/>
                  </a:lnTo>
                  <a:lnTo>
                    <a:pt x="228" y="433"/>
                  </a:lnTo>
                  <a:lnTo>
                    <a:pt x="263" y="404"/>
                  </a:lnTo>
                  <a:lnTo>
                    <a:pt x="314" y="343"/>
                  </a:lnTo>
                  <a:lnTo>
                    <a:pt x="355" y="298"/>
                  </a:lnTo>
                  <a:lnTo>
                    <a:pt x="362" y="242"/>
                  </a:lnTo>
                  <a:lnTo>
                    <a:pt x="367" y="191"/>
                  </a:lnTo>
                  <a:lnTo>
                    <a:pt x="362" y="135"/>
                  </a:lnTo>
                  <a:lnTo>
                    <a:pt x="350" y="90"/>
                  </a:lnTo>
                  <a:lnTo>
                    <a:pt x="327" y="45"/>
                  </a:lnTo>
                  <a:lnTo>
                    <a:pt x="297" y="17"/>
                  </a:lnTo>
                  <a:lnTo>
                    <a:pt x="263" y="0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03440"/>
              <a:ext cx="534960" cy="987480"/>
            </a:xfrm>
            <a:custGeom>
              <a:avLst/>
              <a:gdLst/>
              <a:ahLst/>
              <a:rect l="l" t="t" r="r" b="b"/>
              <a:pathLst>
                <a:path w="2023" h="3289">
                  <a:moveTo>
                    <a:pt x="1262" y="0"/>
                  </a:moveTo>
                  <a:lnTo>
                    <a:pt x="1262" y="17"/>
                  </a:lnTo>
                  <a:lnTo>
                    <a:pt x="1267" y="56"/>
                  </a:lnTo>
                  <a:lnTo>
                    <a:pt x="1273" y="96"/>
                  </a:lnTo>
                  <a:lnTo>
                    <a:pt x="1278" y="118"/>
                  </a:lnTo>
                  <a:lnTo>
                    <a:pt x="1227" y="164"/>
                  </a:lnTo>
                  <a:lnTo>
                    <a:pt x="1179" y="225"/>
                  </a:lnTo>
                  <a:lnTo>
                    <a:pt x="1133" y="281"/>
                  </a:lnTo>
                  <a:lnTo>
                    <a:pt x="1093" y="331"/>
                  </a:lnTo>
                  <a:lnTo>
                    <a:pt x="1047" y="360"/>
                  </a:lnTo>
                  <a:lnTo>
                    <a:pt x="999" y="372"/>
                  </a:lnTo>
                  <a:lnTo>
                    <a:pt x="941" y="348"/>
                  </a:lnTo>
                  <a:lnTo>
                    <a:pt x="890" y="287"/>
                  </a:lnTo>
                  <a:lnTo>
                    <a:pt x="849" y="230"/>
                  </a:lnTo>
                  <a:lnTo>
                    <a:pt x="814" y="181"/>
                  </a:lnTo>
                  <a:lnTo>
                    <a:pt x="796" y="147"/>
                  </a:lnTo>
                  <a:lnTo>
                    <a:pt x="779" y="118"/>
                  </a:lnTo>
                  <a:lnTo>
                    <a:pt x="768" y="85"/>
                  </a:lnTo>
                  <a:lnTo>
                    <a:pt x="761" y="56"/>
                  </a:lnTo>
                  <a:lnTo>
                    <a:pt x="686" y="90"/>
                  </a:lnTo>
                  <a:lnTo>
                    <a:pt x="599" y="141"/>
                  </a:lnTo>
                  <a:lnTo>
                    <a:pt x="505" y="191"/>
                  </a:lnTo>
                  <a:lnTo>
                    <a:pt x="419" y="253"/>
                  </a:lnTo>
                  <a:lnTo>
                    <a:pt x="325" y="315"/>
                  </a:lnTo>
                  <a:lnTo>
                    <a:pt x="251" y="377"/>
                  </a:lnTo>
                  <a:lnTo>
                    <a:pt x="186" y="439"/>
                  </a:lnTo>
                  <a:lnTo>
                    <a:pt x="145" y="507"/>
                  </a:lnTo>
                  <a:lnTo>
                    <a:pt x="111" y="574"/>
                  </a:lnTo>
                  <a:lnTo>
                    <a:pt x="87" y="675"/>
                  </a:lnTo>
                  <a:lnTo>
                    <a:pt x="71" y="799"/>
                  </a:lnTo>
                  <a:lnTo>
                    <a:pt x="53" y="939"/>
                  </a:lnTo>
                  <a:lnTo>
                    <a:pt x="35" y="1074"/>
                  </a:lnTo>
                  <a:lnTo>
                    <a:pt x="23" y="1209"/>
                  </a:lnTo>
                  <a:lnTo>
                    <a:pt x="12" y="1327"/>
                  </a:lnTo>
                  <a:lnTo>
                    <a:pt x="12" y="1429"/>
                  </a:lnTo>
                  <a:lnTo>
                    <a:pt x="0" y="1564"/>
                  </a:lnTo>
                  <a:lnTo>
                    <a:pt x="0" y="1682"/>
                  </a:lnTo>
                  <a:lnTo>
                    <a:pt x="6" y="1783"/>
                  </a:lnTo>
                  <a:lnTo>
                    <a:pt x="29" y="1890"/>
                  </a:lnTo>
                  <a:lnTo>
                    <a:pt x="53" y="1979"/>
                  </a:lnTo>
                  <a:lnTo>
                    <a:pt x="94" y="2075"/>
                  </a:lnTo>
                  <a:lnTo>
                    <a:pt x="140" y="2170"/>
                  </a:lnTo>
                  <a:lnTo>
                    <a:pt x="198" y="2283"/>
                  </a:lnTo>
                  <a:lnTo>
                    <a:pt x="226" y="2339"/>
                  </a:lnTo>
                  <a:lnTo>
                    <a:pt x="256" y="2401"/>
                  </a:lnTo>
                  <a:lnTo>
                    <a:pt x="285" y="2457"/>
                  </a:lnTo>
                  <a:lnTo>
                    <a:pt x="320" y="2513"/>
                  </a:lnTo>
                  <a:lnTo>
                    <a:pt x="343" y="2457"/>
                  </a:lnTo>
                  <a:lnTo>
                    <a:pt x="372" y="2406"/>
                  </a:lnTo>
                  <a:lnTo>
                    <a:pt x="408" y="2356"/>
                  </a:lnTo>
                  <a:lnTo>
                    <a:pt x="442" y="2305"/>
                  </a:lnTo>
                  <a:lnTo>
                    <a:pt x="477" y="2255"/>
                  </a:lnTo>
                  <a:lnTo>
                    <a:pt x="512" y="2204"/>
                  </a:lnTo>
                  <a:lnTo>
                    <a:pt x="553" y="2160"/>
                  </a:lnTo>
                  <a:lnTo>
                    <a:pt x="599" y="2126"/>
                  </a:lnTo>
                  <a:lnTo>
                    <a:pt x="564" y="2047"/>
                  </a:lnTo>
                  <a:lnTo>
                    <a:pt x="523" y="1968"/>
                  </a:lnTo>
                  <a:lnTo>
                    <a:pt x="471" y="1883"/>
                  </a:lnTo>
                  <a:lnTo>
                    <a:pt x="424" y="1800"/>
                  </a:lnTo>
                  <a:lnTo>
                    <a:pt x="372" y="1715"/>
                  </a:lnTo>
                  <a:lnTo>
                    <a:pt x="337" y="1631"/>
                  </a:lnTo>
                  <a:lnTo>
                    <a:pt x="314" y="1552"/>
                  </a:lnTo>
                  <a:lnTo>
                    <a:pt x="320" y="1484"/>
                  </a:lnTo>
                  <a:lnTo>
                    <a:pt x="320" y="1451"/>
                  </a:lnTo>
                  <a:lnTo>
                    <a:pt x="325" y="1405"/>
                  </a:lnTo>
                  <a:lnTo>
                    <a:pt x="332" y="1361"/>
                  </a:lnTo>
                  <a:lnTo>
                    <a:pt x="349" y="1327"/>
                  </a:lnTo>
                  <a:lnTo>
                    <a:pt x="366" y="1277"/>
                  </a:lnTo>
                  <a:lnTo>
                    <a:pt x="383" y="1287"/>
                  </a:lnTo>
                  <a:lnTo>
                    <a:pt x="401" y="1333"/>
                  </a:lnTo>
                  <a:lnTo>
                    <a:pt x="419" y="1412"/>
                  </a:lnTo>
                  <a:lnTo>
                    <a:pt x="431" y="1496"/>
                  </a:lnTo>
                  <a:lnTo>
                    <a:pt x="442" y="1586"/>
                  </a:lnTo>
                  <a:lnTo>
                    <a:pt x="459" y="1659"/>
                  </a:lnTo>
                  <a:lnTo>
                    <a:pt x="477" y="1715"/>
                  </a:lnTo>
                  <a:lnTo>
                    <a:pt x="500" y="1755"/>
                  </a:lnTo>
                  <a:lnTo>
                    <a:pt x="535" y="1800"/>
                  </a:lnTo>
                  <a:lnTo>
                    <a:pt x="570" y="1844"/>
                  </a:lnTo>
                  <a:lnTo>
                    <a:pt x="604" y="1895"/>
                  </a:lnTo>
                  <a:lnTo>
                    <a:pt x="634" y="1934"/>
                  </a:lnTo>
                  <a:lnTo>
                    <a:pt x="662" y="1979"/>
                  </a:lnTo>
                  <a:lnTo>
                    <a:pt x="692" y="2025"/>
                  </a:lnTo>
                  <a:lnTo>
                    <a:pt x="715" y="2075"/>
                  </a:lnTo>
                  <a:lnTo>
                    <a:pt x="715" y="2097"/>
                  </a:lnTo>
                  <a:lnTo>
                    <a:pt x="721" y="2120"/>
                  </a:lnTo>
                  <a:lnTo>
                    <a:pt x="715" y="2143"/>
                  </a:lnTo>
                  <a:lnTo>
                    <a:pt x="715" y="2153"/>
                  </a:lnTo>
                  <a:lnTo>
                    <a:pt x="715" y="2170"/>
                  </a:lnTo>
                  <a:lnTo>
                    <a:pt x="715" y="2193"/>
                  </a:lnTo>
                  <a:lnTo>
                    <a:pt x="727" y="2199"/>
                  </a:lnTo>
                  <a:lnTo>
                    <a:pt x="733" y="2216"/>
                  </a:lnTo>
                  <a:lnTo>
                    <a:pt x="750" y="2249"/>
                  </a:lnTo>
                  <a:lnTo>
                    <a:pt x="779" y="2283"/>
                  </a:lnTo>
                  <a:lnTo>
                    <a:pt x="796" y="2322"/>
                  </a:lnTo>
                  <a:lnTo>
                    <a:pt x="826" y="2361"/>
                  </a:lnTo>
                  <a:lnTo>
                    <a:pt x="842" y="2395"/>
                  </a:lnTo>
                  <a:lnTo>
                    <a:pt x="860" y="2440"/>
                  </a:lnTo>
                  <a:lnTo>
                    <a:pt x="872" y="2491"/>
                  </a:lnTo>
                  <a:lnTo>
                    <a:pt x="890" y="2541"/>
                  </a:lnTo>
                  <a:lnTo>
                    <a:pt x="890" y="2643"/>
                  </a:lnTo>
                  <a:lnTo>
                    <a:pt x="872" y="2722"/>
                  </a:lnTo>
                  <a:lnTo>
                    <a:pt x="837" y="2778"/>
                  </a:lnTo>
                  <a:lnTo>
                    <a:pt x="785" y="2817"/>
                  </a:lnTo>
                  <a:lnTo>
                    <a:pt x="715" y="2828"/>
                  </a:lnTo>
                  <a:lnTo>
                    <a:pt x="639" y="2828"/>
                  </a:lnTo>
                  <a:lnTo>
                    <a:pt x="553" y="2817"/>
                  </a:lnTo>
                  <a:lnTo>
                    <a:pt x="465" y="2795"/>
                  </a:lnTo>
                  <a:lnTo>
                    <a:pt x="448" y="2834"/>
                  </a:lnTo>
                  <a:lnTo>
                    <a:pt x="442" y="2891"/>
                  </a:lnTo>
                  <a:lnTo>
                    <a:pt x="431" y="2947"/>
                  </a:lnTo>
                  <a:lnTo>
                    <a:pt x="431" y="3014"/>
                  </a:lnTo>
                  <a:lnTo>
                    <a:pt x="431" y="3070"/>
                  </a:lnTo>
                  <a:lnTo>
                    <a:pt x="431" y="3132"/>
                  </a:lnTo>
                  <a:lnTo>
                    <a:pt x="431" y="3183"/>
                  </a:lnTo>
                  <a:lnTo>
                    <a:pt x="436" y="3234"/>
                  </a:lnTo>
                  <a:lnTo>
                    <a:pt x="505" y="3234"/>
                  </a:lnTo>
                  <a:lnTo>
                    <a:pt x="593" y="3244"/>
                  </a:lnTo>
                  <a:lnTo>
                    <a:pt x="674" y="3256"/>
                  </a:lnTo>
                  <a:lnTo>
                    <a:pt x="761" y="3267"/>
                  </a:lnTo>
                  <a:lnTo>
                    <a:pt x="842" y="3273"/>
                  </a:lnTo>
                  <a:lnTo>
                    <a:pt x="930" y="3278"/>
                  </a:lnTo>
                  <a:lnTo>
                    <a:pt x="1017" y="3284"/>
                  </a:lnTo>
                  <a:lnTo>
                    <a:pt x="1105" y="3289"/>
                  </a:lnTo>
                  <a:lnTo>
                    <a:pt x="1156" y="3284"/>
                  </a:lnTo>
                  <a:lnTo>
                    <a:pt x="1220" y="3289"/>
                  </a:lnTo>
                  <a:lnTo>
                    <a:pt x="1273" y="3289"/>
                  </a:lnTo>
                  <a:lnTo>
                    <a:pt x="1331" y="3289"/>
                  </a:lnTo>
                  <a:lnTo>
                    <a:pt x="1366" y="3273"/>
                  </a:lnTo>
                  <a:lnTo>
                    <a:pt x="1442" y="3239"/>
                  </a:lnTo>
                  <a:lnTo>
                    <a:pt x="1541" y="3188"/>
                  </a:lnTo>
                  <a:lnTo>
                    <a:pt x="1656" y="3143"/>
                  </a:lnTo>
                  <a:lnTo>
                    <a:pt x="1767" y="3087"/>
                  </a:lnTo>
                  <a:lnTo>
                    <a:pt x="1860" y="3048"/>
                  </a:lnTo>
                  <a:lnTo>
                    <a:pt x="1929" y="3014"/>
                  </a:lnTo>
                  <a:lnTo>
                    <a:pt x="1959" y="3003"/>
                  </a:lnTo>
                  <a:lnTo>
                    <a:pt x="1970" y="2935"/>
                  </a:lnTo>
                  <a:lnTo>
                    <a:pt x="1977" y="2862"/>
                  </a:lnTo>
                  <a:lnTo>
                    <a:pt x="1965" y="2783"/>
                  </a:lnTo>
                  <a:lnTo>
                    <a:pt x="1959" y="2710"/>
                  </a:lnTo>
                  <a:lnTo>
                    <a:pt x="1941" y="2637"/>
                  </a:lnTo>
                  <a:lnTo>
                    <a:pt x="1924" y="2570"/>
                  </a:lnTo>
                  <a:lnTo>
                    <a:pt x="1906" y="2513"/>
                  </a:lnTo>
                  <a:lnTo>
                    <a:pt x="1901" y="2474"/>
                  </a:lnTo>
                  <a:lnTo>
                    <a:pt x="1894" y="2502"/>
                  </a:lnTo>
                  <a:lnTo>
                    <a:pt x="1894" y="2536"/>
                  </a:lnTo>
                  <a:lnTo>
                    <a:pt x="1889" y="2564"/>
                  </a:lnTo>
                  <a:lnTo>
                    <a:pt x="1889" y="2597"/>
                  </a:lnTo>
                  <a:lnTo>
                    <a:pt x="1883" y="2626"/>
                  </a:lnTo>
                  <a:lnTo>
                    <a:pt x="1883" y="2654"/>
                  </a:lnTo>
                  <a:lnTo>
                    <a:pt x="1871" y="2688"/>
                  </a:lnTo>
                  <a:lnTo>
                    <a:pt x="1866" y="2722"/>
                  </a:lnTo>
                  <a:lnTo>
                    <a:pt x="1843" y="2749"/>
                  </a:lnTo>
                  <a:lnTo>
                    <a:pt x="1825" y="2773"/>
                  </a:lnTo>
                  <a:lnTo>
                    <a:pt x="1808" y="2778"/>
                  </a:lnTo>
                  <a:lnTo>
                    <a:pt x="1790" y="2783"/>
                  </a:lnTo>
                  <a:lnTo>
                    <a:pt x="1761" y="2778"/>
                  </a:lnTo>
                  <a:lnTo>
                    <a:pt x="1738" y="2778"/>
                  </a:lnTo>
                  <a:lnTo>
                    <a:pt x="1709" y="2778"/>
                  </a:lnTo>
                  <a:lnTo>
                    <a:pt x="1680" y="2783"/>
                  </a:lnTo>
                  <a:lnTo>
                    <a:pt x="1622" y="2795"/>
                  </a:lnTo>
                  <a:lnTo>
                    <a:pt x="1569" y="2817"/>
                  </a:lnTo>
                  <a:lnTo>
                    <a:pt x="1506" y="2840"/>
                  </a:lnTo>
                  <a:lnTo>
                    <a:pt x="1453" y="2857"/>
                  </a:lnTo>
                  <a:lnTo>
                    <a:pt x="1395" y="2857"/>
                  </a:lnTo>
                  <a:lnTo>
                    <a:pt x="1349" y="2840"/>
                  </a:lnTo>
                  <a:lnTo>
                    <a:pt x="1302" y="2795"/>
                  </a:lnTo>
                  <a:lnTo>
                    <a:pt x="1278" y="2722"/>
                  </a:lnTo>
                  <a:lnTo>
                    <a:pt x="1267" y="2665"/>
                  </a:lnTo>
                  <a:lnTo>
                    <a:pt x="1267" y="2614"/>
                  </a:lnTo>
                  <a:lnTo>
                    <a:pt x="1267" y="2564"/>
                  </a:lnTo>
                  <a:lnTo>
                    <a:pt x="1278" y="2513"/>
                  </a:lnTo>
                  <a:lnTo>
                    <a:pt x="1285" y="2462"/>
                  </a:lnTo>
                  <a:lnTo>
                    <a:pt x="1302" y="2418"/>
                  </a:lnTo>
                  <a:lnTo>
                    <a:pt x="1313" y="2378"/>
                  </a:lnTo>
                  <a:lnTo>
                    <a:pt x="1331" y="2345"/>
                  </a:lnTo>
                  <a:lnTo>
                    <a:pt x="1366" y="2210"/>
                  </a:lnTo>
                  <a:lnTo>
                    <a:pt x="1412" y="2092"/>
                  </a:lnTo>
                  <a:lnTo>
                    <a:pt x="1459" y="1968"/>
                  </a:lnTo>
                  <a:lnTo>
                    <a:pt x="1500" y="1844"/>
                  </a:lnTo>
                  <a:lnTo>
                    <a:pt x="1529" y="1709"/>
                  </a:lnTo>
                  <a:lnTo>
                    <a:pt x="1546" y="1574"/>
                  </a:lnTo>
                  <a:lnTo>
                    <a:pt x="1552" y="1422"/>
                  </a:lnTo>
                  <a:lnTo>
                    <a:pt x="1541" y="1265"/>
                  </a:lnTo>
                  <a:lnTo>
                    <a:pt x="1534" y="1254"/>
                  </a:lnTo>
                  <a:lnTo>
                    <a:pt x="1534" y="1231"/>
                  </a:lnTo>
                  <a:lnTo>
                    <a:pt x="1529" y="1204"/>
                  </a:lnTo>
                  <a:lnTo>
                    <a:pt x="1529" y="1187"/>
                  </a:lnTo>
                  <a:lnTo>
                    <a:pt x="1534" y="1175"/>
                  </a:lnTo>
                  <a:lnTo>
                    <a:pt x="1552" y="1170"/>
                  </a:lnTo>
                  <a:lnTo>
                    <a:pt x="1564" y="1164"/>
                  </a:lnTo>
                  <a:lnTo>
                    <a:pt x="1569" y="1175"/>
                  </a:lnTo>
                  <a:lnTo>
                    <a:pt x="1599" y="1175"/>
                  </a:lnTo>
                  <a:lnTo>
                    <a:pt x="1599" y="1226"/>
                  </a:lnTo>
                  <a:lnTo>
                    <a:pt x="1610" y="1282"/>
                  </a:lnTo>
                  <a:lnTo>
                    <a:pt x="1622" y="1344"/>
                  </a:lnTo>
                  <a:lnTo>
                    <a:pt x="1640" y="1412"/>
                  </a:lnTo>
                  <a:lnTo>
                    <a:pt x="1645" y="1473"/>
                  </a:lnTo>
                  <a:lnTo>
                    <a:pt x="1651" y="1540"/>
                  </a:lnTo>
                  <a:lnTo>
                    <a:pt x="1651" y="1608"/>
                  </a:lnTo>
                  <a:lnTo>
                    <a:pt x="1651" y="1675"/>
                  </a:lnTo>
                  <a:lnTo>
                    <a:pt x="1633" y="1721"/>
                  </a:lnTo>
                  <a:lnTo>
                    <a:pt x="1610" y="1783"/>
                  </a:lnTo>
                  <a:lnTo>
                    <a:pt x="1581" y="1861"/>
                  </a:lnTo>
                  <a:lnTo>
                    <a:pt x="1552" y="1945"/>
                  </a:lnTo>
                  <a:lnTo>
                    <a:pt x="1517" y="2025"/>
                  </a:lnTo>
                  <a:lnTo>
                    <a:pt x="1483" y="2109"/>
                  </a:lnTo>
                  <a:lnTo>
                    <a:pt x="1453" y="2182"/>
                  </a:lnTo>
                  <a:lnTo>
                    <a:pt x="1435" y="2244"/>
                  </a:lnTo>
                  <a:lnTo>
                    <a:pt x="1483" y="2271"/>
                  </a:lnTo>
                  <a:lnTo>
                    <a:pt x="1534" y="2305"/>
                  </a:lnTo>
                  <a:lnTo>
                    <a:pt x="1581" y="2345"/>
                  </a:lnTo>
                  <a:lnTo>
                    <a:pt x="1622" y="2384"/>
                  </a:lnTo>
                  <a:lnTo>
                    <a:pt x="1640" y="2412"/>
                  </a:lnTo>
                  <a:lnTo>
                    <a:pt x="1663" y="2446"/>
                  </a:lnTo>
                  <a:lnTo>
                    <a:pt x="1680" y="2479"/>
                  </a:lnTo>
                  <a:lnTo>
                    <a:pt x="1697" y="2513"/>
                  </a:lnTo>
                  <a:lnTo>
                    <a:pt x="1709" y="2541"/>
                  </a:lnTo>
                  <a:lnTo>
                    <a:pt x="1732" y="2570"/>
                  </a:lnTo>
                  <a:lnTo>
                    <a:pt x="1755" y="2597"/>
                  </a:lnTo>
                  <a:lnTo>
                    <a:pt x="1795" y="2631"/>
                  </a:lnTo>
                  <a:lnTo>
                    <a:pt x="1820" y="2525"/>
                  </a:lnTo>
                  <a:lnTo>
                    <a:pt x="1854" y="2418"/>
                  </a:lnTo>
                  <a:lnTo>
                    <a:pt x="1889" y="2305"/>
                  </a:lnTo>
                  <a:lnTo>
                    <a:pt x="1929" y="2193"/>
                  </a:lnTo>
                  <a:lnTo>
                    <a:pt x="1959" y="2075"/>
                  </a:lnTo>
                  <a:lnTo>
                    <a:pt x="1988" y="1968"/>
                  </a:lnTo>
                  <a:lnTo>
                    <a:pt x="2005" y="1861"/>
                  </a:lnTo>
                  <a:lnTo>
                    <a:pt x="2023" y="1766"/>
                  </a:lnTo>
                  <a:lnTo>
                    <a:pt x="2017" y="1692"/>
                  </a:lnTo>
                  <a:lnTo>
                    <a:pt x="2011" y="1619"/>
                  </a:lnTo>
                  <a:lnTo>
                    <a:pt x="2000" y="1540"/>
                  </a:lnTo>
                  <a:lnTo>
                    <a:pt x="1988" y="1462"/>
                  </a:lnTo>
                  <a:lnTo>
                    <a:pt x="1970" y="1378"/>
                  </a:lnTo>
                  <a:lnTo>
                    <a:pt x="1952" y="1299"/>
                  </a:lnTo>
                  <a:lnTo>
                    <a:pt x="1936" y="1221"/>
                  </a:lnTo>
                  <a:lnTo>
                    <a:pt x="1929" y="1158"/>
                  </a:lnTo>
                  <a:lnTo>
                    <a:pt x="1912" y="1063"/>
                  </a:lnTo>
                  <a:lnTo>
                    <a:pt x="1912" y="973"/>
                  </a:lnTo>
                  <a:lnTo>
                    <a:pt x="1906" y="877"/>
                  </a:lnTo>
                  <a:lnTo>
                    <a:pt x="1906" y="787"/>
                  </a:lnTo>
                  <a:lnTo>
                    <a:pt x="1894" y="698"/>
                  </a:lnTo>
                  <a:lnTo>
                    <a:pt x="1889" y="613"/>
                  </a:lnTo>
                  <a:lnTo>
                    <a:pt x="1866" y="534"/>
                  </a:lnTo>
                  <a:lnTo>
                    <a:pt x="1837" y="466"/>
                  </a:lnTo>
                  <a:lnTo>
                    <a:pt x="1790" y="399"/>
                  </a:lnTo>
                  <a:lnTo>
                    <a:pt x="1732" y="338"/>
                  </a:lnTo>
                  <a:lnTo>
                    <a:pt x="1663" y="270"/>
                  </a:lnTo>
                  <a:lnTo>
                    <a:pt x="1581" y="208"/>
                  </a:lnTo>
                  <a:lnTo>
                    <a:pt x="1494" y="141"/>
                  </a:lnTo>
                  <a:lnTo>
                    <a:pt x="1412" y="85"/>
                  </a:lnTo>
                  <a:lnTo>
                    <a:pt x="1326" y="34"/>
                  </a:lnTo>
                  <a:lnTo>
                    <a:pt x="1262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23840" y="4968720"/>
              <a:ext cx="103320" cy="163440"/>
            </a:xfrm>
            <a:custGeom>
              <a:avLst/>
              <a:gdLst/>
              <a:ahLst/>
              <a:rect l="l" t="t" r="r" b="b"/>
              <a:pathLst>
                <a:path w="389" h="545">
                  <a:moveTo>
                    <a:pt x="215" y="0"/>
                  </a:moveTo>
                  <a:lnTo>
                    <a:pt x="175" y="33"/>
                  </a:lnTo>
                  <a:lnTo>
                    <a:pt x="140" y="72"/>
                  </a:lnTo>
                  <a:lnTo>
                    <a:pt x="104" y="118"/>
                  </a:lnTo>
                  <a:lnTo>
                    <a:pt x="81" y="168"/>
                  </a:lnTo>
                  <a:lnTo>
                    <a:pt x="52" y="213"/>
                  </a:lnTo>
                  <a:lnTo>
                    <a:pt x="35" y="263"/>
                  </a:lnTo>
                  <a:lnTo>
                    <a:pt x="18" y="320"/>
                  </a:lnTo>
                  <a:lnTo>
                    <a:pt x="0" y="376"/>
                  </a:lnTo>
                  <a:lnTo>
                    <a:pt x="52" y="415"/>
                  </a:lnTo>
                  <a:lnTo>
                    <a:pt x="104" y="455"/>
                  </a:lnTo>
                  <a:lnTo>
                    <a:pt x="127" y="472"/>
                  </a:lnTo>
                  <a:lnTo>
                    <a:pt x="157" y="489"/>
                  </a:lnTo>
                  <a:lnTo>
                    <a:pt x="186" y="506"/>
                  </a:lnTo>
                  <a:lnTo>
                    <a:pt x="226" y="528"/>
                  </a:lnTo>
                  <a:lnTo>
                    <a:pt x="290" y="545"/>
                  </a:lnTo>
                  <a:lnTo>
                    <a:pt x="343" y="533"/>
                  </a:lnTo>
                  <a:lnTo>
                    <a:pt x="372" y="494"/>
                  </a:lnTo>
                  <a:lnTo>
                    <a:pt x="389" y="444"/>
                  </a:lnTo>
                  <a:lnTo>
                    <a:pt x="389" y="376"/>
                  </a:lnTo>
                  <a:lnTo>
                    <a:pt x="383" y="309"/>
                  </a:lnTo>
                  <a:lnTo>
                    <a:pt x="366" y="236"/>
                  </a:lnTo>
                  <a:lnTo>
                    <a:pt x="348" y="179"/>
                  </a:lnTo>
                  <a:lnTo>
                    <a:pt x="314" y="129"/>
                  </a:lnTo>
                  <a:lnTo>
                    <a:pt x="279" y="89"/>
                  </a:lnTo>
                  <a:lnTo>
                    <a:pt x="244" y="39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63600" y="5006880"/>
              <a:ext cx="87120" cy="133200"/>
            </a:xfrm>
            <a:custGeom>
              <a:avLst/>
              <a:gdLst/>
              <a:ahLst/>
              <a:rect l="l" t="t" r="r" b="b"/>
              <a:pathLst>
                <a:path w="332" h="444">
                  <a:moveTo>
                    <a:pt x="105" y="0"/>
                  </a:moveTo>
                  <a:lnTo>
                    <a:pt x="65" y="45"/>
                  </a:lnTo>
                  <a:lnTo>
                    <a:pt x="30" y="117"/>
                  </a:lnTo>
                  <a:lnTo>
                    <a:pt x="7" y="196"/>
                  </a:lnTo>
                  <a:lnTo>
                    <a:pt x="0" y="286"/>
                  </a:lnTo>
                  <a:lnTo>
                    <a:pt x="7" y="360"/>
                  </a:lnTo>
                  <a:lnTo>
                    <a:pt x="47" y="416"/>
                  </a:lnTo>
                  <a:lnTo>
                    <a:pt x="116" y="444"/>
                  </a:lnTo>
                  <a:lnTo>
                    <a:pt x="222" y="438"/>
                  </a:lnTo>
                  <a:lnTo>
                    <a:pt x="296" y="394"/>
                  </a:lnTo>
                  <a:lnTo>
                    <a:pt x="332" y="343"/>
                  </a:lnTo>
                  <a:lnTo>
                    <a:pt x="326" y="281"/>
                  </a:lnTo>
                  <a:lnTo>
                    <a:pt x="303" y="219"/>
                  </a:lnTo>
                  <a:lnTo>
                    <a:pt x="256" y="151"/>
                  </a:lnTo>
                  <a:lnTo>
                    <a:pt x="204" y="90"/>
                  </a:lnTo>
                  <a:lnTo>
                    <a:pt x="146" y="33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63360" y="5273640"/>
              <a:ext cx="447840" cy="779400"/>
            </a:xfrm>
            <a:custGeom>
              <a:avLst/>
              <a:gdLst/>
              <a:ahLst/>
              <a:rect l="l" t="t" r="r" b="b"/>
              <a:pathLst>
                <a:path w="1692" h="2597">
                  <a:moveTo>
                    <a:pt x="1680" y="0"/>
                  </a:moveTo>
                  <a:lnTo>
                    <a:pt x="1604" y="10"/>
                  </a:lnTo>
                  <a:lnTo>
                    <a:pt x="1528" y="33"/>
                  </a:lnTo>
                  <a:lnTo>
                    <a:pt x="1454" y="50"/>
                  </a:lnTo>
                  <a:lnTo>
                    <a:pt x="1383" y="78"/>
                  </a:lnTo>
                  <a:lnTo>
                    <a:pt x="1308" y="95"/>
                  </a:lnTo>
                  <a:lnTo>
                    <a:pt x="1238" y="118"/>
                  </a:lnTo>
                  <a:lnTo>
                    <a:pt x="1168" y="135"/>
                  </a:lnTo>
                  <a:lnTo>
                    <a:pt x="1104" y="145"/>
                  </a:lnTo>
                  <a:lnTo>
                    <a:pt x="1000" y="145"/>
                  </a:lnTo>
                  <a:lnTo>
                    <a:pt x="895" y="145"/>
                  </a:lnTo>
                  <a:lnTo>
                    <a:pt x="785" y="145"/>
                  </a:lnTo>
                  <a:lnTo>
                    <a:pt x="674" y="145"/>
                  </a:lnTo>
                  <a:lnTo>
                    <a:pt x="564" y="140"/>
                  </a:lnTo>
                  <a:lnTo>
                    <a:pt x="453" y="135"/>
                  </a:lnTo>
                  <a:lnTo>
                    <a:pt x="349" y="123"/>
                  </a:lnTo>
                  <a:lnTo>
                    <a:pt x="250" y="118"/>
                  </a:lnTo>
                  <a:lnTo>
                    <a:pt x="227" y="190"/>
                  </a:lnTo>
                  <a:lnTo>
                    <a:pt x="210" y="292"/>
                  </a:lnTo>
                  <a:lnTo>
                    <a:pt x="192" y="415"/>
                  </a:lnTo>
                  <a:lnTo>
                    <a:pt x="180" y="550"/>
                  </a:lnTo>
                  <a:lnTo>
                    <a:pt x="163" y="680"/>
                  </a:lnTo>
                  <a:lnTo>
                    <a:pt x="151" y="803"/>
                  </a:lnTo>
                  <a:lnTo>
                    <a:pt x="146" y="910"/>
                  </a:lnTo>
                  <a:lnTo>
                    <a:pt x="146" y="994"/>
                  </a:lnTo>
                  <a:lnTo>
                    <a:pt x="139" y="1050"/>
                  </a:lnTo>
                  <a:lnTo>
                    <a:pt x="139" y="1118"/>
                  </a:lnTo>
                  <a:lnTo>
                    <a:pt x="139" y="1185"/>
                  </a:lnTo>
                  <a:lnTo>
                    <a:pt x="139" y="1259"/>
                  </a:lnTo>
                  <a:lnTo>
                    <a:pt x="139" y="1326"/>
                  </a:lnTo>
                  <a:lnTo>
                    <a:pt x="139" y="1399"/>
                  </a:lnTo>
                  <a:lnTo>
                    <a:pt x="146" y="1467"/>
                  </a:lnTo>
                  <a:lnTo>
                    <a:pt x="163" y="1534"/>
                  </a:lnTo>
                  <a:lnTo>
                    <a:pt x="169" y="1557"/>
                  </a:lnTo>
                  <a:lnTo>
                    <a:pt x="174" y="1574"/>
                  </a:lnTo>
                  <a:lnTo>
                    <a:pt x="151" y="1607"/>
                  </a:lnTo>
                  <a:lnTo>
                    <a:pt x="128" y="1680"/>
                  </a:lnTo>
                  <a:lnTo>
                    <a:pt x="99" y="1781"/>
                  </a:lnTo>
                  <a:lnTo>
                    <a:pt x="76" y="1899"/>
                  </a:lnTo>
                  <a:lnTo>
                    <a:pt x="40" y="2018"/>
                  </a:lnTo>
                  <a:lnTo>
                    <a:pt x="24" y="2130"/>
                  </a:lnTo>
                  <a:lnTo>
                    <a:pt x="6" y="2220"/>
                  </a:lnTo>
                  <a:lnTo>
                    <a:pt x="0" y="2282"/>
                  </a:lnTo>
                  <a:lnTo>
                    <a:pt x="52" y="2316"/>
                  </a:lnTo>
                  <a:lnTo>
                    <a:pt x="111" y="2350"/>
                  </a:lnTo>
                  <a:lnTo>
                    <a:pt x="169" y="2384"/>
                  </a:lnTo>
                  <a:lnTo>
                    <a:pt x="233" y="2416"/>
                  </a:lnTo>
                  <a:lnTo>
                    <a:pt x="291" y="2445"/>
                  </a:lnTo>
                  <a:lnTo>
                    <a:pt x="354" y="2479"/>
                  </a:lnTo>
                  <a:lnTo>
                    <a:pt x="413" y="2512"/>
                  </a:lnTo>
                  <a:lnTo>
                    <a:pt x="476" y="2551"/>
                  </a:lnTo>
                  <a:lnTo>
                    <a:pt x="575" y="2585"/>
                  </a:lnTo>
                  <a:lnTo>
                    <a:pt x="715" y="2597"/>
                  </a:lnTo>
                  <a:lnTo>
                    <a:pt x="878" y="2591"/>
                  </a:lnTo>
                  <a:lnTo>
                    <a:pt x="1052" y="2575"/>
                  </a:lnTo>
                  <a:lnTo>
                    <a:pt x="1226" y="2546"/>
                  </a:lnTo>
                  <a:lnTo>
                    <a:pt x="1395" y="2524"/>
                  </a:lnTo>
                  <a:lnTo>
                    <a:pt x="1535" y="2496"/>
                  </a:lnTo>
                  <a:lnTo>
                    <a:pt x="1651" y="2490"/>
                  </a:lnTo>
                  <a:lnTo>
                    <a:pt x="1639" y="2433"/>
                  </a:lnTo>
                  <a:lnTo>
                    <a:pt x="1634" y="2384"/>
                  </a:lnTo>
                  <a:lnTo>
                    <a:pt x="1634" y="2327"/>
                  </a:lnTo>
                  <a:lnTo>
                    <a:pt x="1634" y="2276"/>
                  </a:lnTo>
                  <a:lnTo>
                    <a:pt x="1627" y="2215"/>
                  </a:lnTo>
                  <a:lnTo>
                    <a:pt x="1627" y="2158"/>
                  </a:lnTo>
                  <a:lnTo>
                    <a:pt x="1627" y="2102"/>
                  </a:lnTo>
                  <a:lnTo>
                    <a:pt x="1627" y="2046"/>
                  </a:lnTo>
                  <a:lnTo>
                    <a:pt x="1609" y="1972"/>
                  </a:lnTo>
                  <a:lnTo>
                    <a:pt x="1593" y="1939"/>
                  </a:lnTo>
                  <a:lnTo>
                    <a:pt x="1569" y="1928"/>
                  </a:lnTo>
                  <a:lnTo>
                    <a:pt x="1552" y="1939"/>
                  </a:lnTo>
                  <a:lnTo>
                    <a:pt x="1528" y="1962"/>
                  </a:lnTo>
                  <a:lnTo>
                    <a:pt x="1505" y="2006"/>
                  </a:lnTo>
                  <a:lnTo>
                    <a:pt x="1488" y="2051"/>
                  </a:lnTo>
                  <a:lnTo>
                    <a:pt x="1477" y="2102"/>
                  </a:lnTo>
                  <a:lnTo>
                    <a:pt x="1459" y="2085"/>
                  </a:lnTo>
                  <a:lnTo>
                    <a:pt x="1447" y="2068"/>
                  </a:lnTo>
                  <a:lnTo>
                    <a:pt x="1429" y="2051"/>
                  </a:lnTo>
                  <a:lnTo>
                    <a:pt x="1424" y="2046"/>
                  </a:lnTo>
                  <a:lnTo>
                    <a:pt x="1436" y="2012"/>
                  </a:lnTo>
                  <a:lnTo>
                    <a:pt x="1454" y="1979"/>
                  </a:lnTo>
                  <a:lnTo>
                    <a:pt x="1470" y="1945"/>
                  </a:lnTo>
                  <a:lnTo>
                    <a:pt x="1488" y="1916"/>
                  </a:lnTo>
                  <a:lnTo>
                    <a:pt x="1500" y="1877"/>
                  </a:lnTo>
                  <a:lnTo>
                    <a:pt x="1517" y="1844"/>
                  </a:lnTo>
                  <a:lnTo>
                    <a:pt x="1528" y="1810"/>
                  </a:lnTo>
                  <a:lnTo>
                    <a:pt x="1546" y="1781"/>
                  </a:lnTo>
                  <a:lnTo>
                    <a:pt x="1552" y="1692"/>
                  </a:lnTo>
                  <a:lnTo>
                    <a:pt x="1563" y="1613"/>
                  </a:lnTo>
                  <a:lnTo>
                    <a:pt x="1569" y="1540"/>
                  </a:lnTo>
                  <a:lnTo>
                    <a:pt x="1575" y="1467"/>
                  </a:lnTo>
                  <a:lnTo>
                    <a:pt x="1575" y="1388"/>
                  </a:lnTo>
                  <a:lnTo>
                    <a:pt x="1581" y="1309"/>
                  </a:lnTo>
                  <a:lnTo>
                    <a:pt x="1581" y="1225"/>
                  </a:lnTo>
                  <a:lnTo>
                    <a:pt x="1598" y="1146"/>
                  </a:lnTo>
                  <a:lnTo>
                    <a:pt x="1616" y="1000"/>
                  </a:lnTo>
                  <a:lnTo>
                    <a:pt x="1634" y="854"/>
                  </a:lnTo>
                  <a:lnTo>
                    <a:pt x="1651" y="702"/>
                  </a:lnTo>
                  <a:lnTo>
                    <a:pt x="1674" y="550"/>
                  </a:lnTo>
                  <a:lnTo>
                    <a:pt x="1680" y="393"/>
                  </a:lnTo>
                  <a:lnTo>
                    <a:pt x="1692" y="246"/>
                  </a:lnTo>
                  <a:lnTo>
                    <a:pt x="1685" y="111"/>
                  </a:lnTo>
                  <a:lnTo>
                    <a:pt x="1680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84240" y="6008400"/>
              <a:ext cx="135000" cy="163800"/>
            </a:xfrm>
            <a:custGeom>
              <a:avLst/>
              <a:gdLst/>
              <a:ahLst/>
              <a:rect l="l" t="t" r="r" b="b"/>
              <a:pathLst>
                <a:path w="511" h="546">
                  <a:moveTo>
                    <a:pt x="17" y="0"/>
                  </a:moveTo>
                  <a:lnTo>
                    <a:pt x="5" y="34"/>
                  </a:lnTo>
                  <a:lnTo>
                    <a:pt x="5" y="85"/>
                  </a:lnTo>
                  <a:lnTo>
                    <a:pt x="0" y="130"/>
                  </a:lnTo>
                  <a:lnTo>
                    <a:pt x="0" y="186"/>
                  </a:lnTo>
                  <a:lnTo>
                    <a:pt x="0" y="236"/>
                  </a:lnTo>
                  <a:lnTo>
                    <a:pt x="5" y="287"/>
                  </a:lnTo>
                  <a:lnTo>
                    <a:pt x="12" y="332"/>
                  </a:lnTo>
                  <a:lnTo>
                    <a:pt x="29" y="371"/>
                  </a:lnTo>
                  <a:lnTo>
                    <a:pt x="52" y="395"/>
                  </a:lnTo>
                  <a:lnTo>
                    <a:pt x="104" y="427"/>
                  </a:lnTo>
                  <a:lnTo>
                    <a:pt x="162" y="467"/>
                  </a:lnTo>
                  <a:lnTo>
                    <a:pt x="238" y="506"/>
                  </a:lnTo>
                  <a:lnTo>
                    <a:pt x="302" y="529"/>
                  </a:lnTo>
                  <a:lnTo>
                    <a:pt x="372" y="546"/>
                  </a:lnTo>
                  <a:lnTo>
                    <a:pt x="418" y="546"/>
                  </a:lnTo>
                  <a:lnTo>
                    <a:pt x="453" y="529"/>
                  </a:lnTo>
                  <a:lnTo>
                    <a:pt x="459" y="495"/>
                  </a:lnTo>
                  <a:lnTo>
                    <a:pt x="471" y="461"/>
                  </a:lnTo>
                  <a:lnTo>
                    <a:pt x="476" y="427"/>
                  </a:lnTo>
                  <a:lnTo>
                    <a:pt x="488" y="395"/>
                  </a:lnTo>
                  <a:lnTo>
                    <a:pt x="494" y="355"/>
                  </a:lnTo>
                  <a:lnTo>
                    <a:pt x="499" y="316"/>
                  </a:lnTo>
                  <a:lnTo>
                    <a:pt x="506" y="277"/>
                  </a:lnTo>
                  <a:lnTo>
                    <a:pt x="511" y="243"/>
                  </a:lnTo>
                  <a:lnTo>
                    <a:pt x="441" y="214"/>
                  </a:lnTo>
                  <a:lnTo>
                    <a:pt x="377" y="186"/>
                  </a:lnTo>
                  <a:lnTo>
                    <a:pt x="314" y="158"/>
                  </a:lnTo>
                  <a:lnTo>
                    <a:pt x="255" y="130"/>
                  </a:lnTo>
                  <a:lnTo>
                    <a:pt x="197" y="96"/>
                  </a:lnTo>
                  <a:lnTo>
                    <a:pt x="139" y="62"/>
                  </a:lnTo>
                  <a:lnTo>
                    <a:pt x="75" y="2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04640" y="6054480"/>
              <a:ext cx="11160" cy="1116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0" y="0"/>
                  </a:moveTo>
                  <a:lnTo>
                    <a:pt x="0" y="17"/>
                  </a:lnTo>
                  <a:lnTo>
                    <a:pt x="0" y="40"/>
                  </a:lnTo>
                  <a:lnTo>
                    <a:pt x="7" y="34"/>
                  </a:lnTo>
                  <a:lnTo>
                    <a:pt x="30" y="34"/>
                  </a:lnTo>
                  <a:lnTo>
                    <a:pt x="41" y="29"/>
                  </a:lnTo>
                  <a:lnTo>
                    <a:pt x="35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f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63520" y="6059160"/>
              <a:ext cx="249120" cy="86040"/>
            </a:xfrm>
            <a:custGeom>
              <a:avLst/>
              <a:gdLst/>
              <a:ahLst/>
              <a:rect l="l" t="t" r="r" b="b"/>
              <a:pathLst>
                <a:path w="942" h="287">
                  <a:moveTo>
                    <a:pt x="99" y="12"/>
                  </a:moveTo>
                  <a:lnTo>
                    <a:pt x="58" y="12"/>
                  </a:lnTo>
                  <a:lnTo>
                    <a:pt x="35" y="28"/>
                  </a:lnTo>
                  <a:lnTo>
                    <a:pt x="18" y="45"/>
                  </a:lnTo>
                  <a:lnTo>
                    <a:pt x="12" y="74"/>
                  </a:lnTo>
                  <a:lnTo>
                    <a:pt x="0" y="96"/>
                  </a:lnTo>
                  <a:lnTo>
                    <a:pt x="7" y="124"/>
                  </a:lnTo>
                  <a:lnTo>
                    <a:pt x="7" y="158"/>
                  </a:lnTo>
                  <a:lnTo>
                    <a:pt x="18" y="192"/>
                  </a:lnTo>
                  <a:lnTo>
                    <a:pt x="18" y="226"/>
                  </a:lnTo>
                  <a:lnTo>
                    <a:pt x="18" y="265"/>
                  </a:lnTo>
                  <a:lnTo>
                    <a:pt x="111" y="270"/>
                  </a:lnTo>
                  <a:lnTo>
                    <a:pt x="215" y="282"/>
                  </a:lnTo>
                  <a:lnTo>
                    <a:pt x="321" y="282"/>
                  </a:lnTo>
                  <a:lnTo>
                    <a:pt x="431" y="287"/>
                  </a:lnTo>
                  <a:lnTo>
                    <a:pt x="542" y="275"/>
                  </a:lnTo>
                  <a:lnTo>
                    <a:pt x="651" y="270"/>
                  </a:lnTo>
                  <a:lnTo>
                    <a:pt x="762" y="258"/>
                  </a:lnTo>
                  <a:lnTo>
                    <a:pt x="872" y="253"/>
                  </a:lnTo>
                  <a:lnTo>
                    <a:pt x="902" y="243"/>
                  </a:lnTo>
                  <a:lnTo>
                    <a:pt x="925" y="236"/>
                  </a:lnTo>
                  <a:lnTo>
                    <a:pt x="937" y="226"/>
                  </a:lnTo>
                  <a:lnTo>
                    <a:pt x="942" y="214"/>
                  </a:lnTo>
                  <a:lnTo>
                    <a:pt x="937" y="175"/>
                  </a:lnTo>
                  <a:lnTo>
                    <a:pt x="937" y="141"/>
                  </a:lnTo>
                  <a:lnTo>
                    <a:pt x="797" y="130"/>
                  </a:lnTo>
                  <a:lnTo>
                    <a:pt x="686" y="113"/>
                  </a:lnTo>
                  <a:lnTo>
                    <a:pt x="576" y="84"/>
                  </a:lnTo>
                  <a:lnTo>
                    <a:pt x="489" y="57"/>
                  </a:lnTo>
                  <a:lnTo>
                    <a:pt x="395" y="23"/>
                  </a:lnTo>
                  <a:lnTo>
                    <a:pt x="303" y="6"/>
                  </a:lnTo>
                  <a:lnTo>
                    <a:pt x="204" y="0"/>
                  </a:lnTo>
                  <a:lnTo>
                    <a:pt x="99" y="12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23720" y="4028760"/>
              <a:ext cx="22320" cy="90720"/>
            </a:xfrm>
            <a:custGeom>
              <a:avLst/>
              <a:gdLst/>
              <a:ahLst/>
              <a:rect l="l" t="t" r="r" b="b"/>
              <a:pathLst>
                <a:path w="87" h="299">
                  <a:moveTo>
                    <a:pt x="18" y="0"/>
                  </a:moveTo>
                  <a:lnTo>
                    <a:pt x="81" y="17"/>
                  </a:lnTo>
                  <a:lnTo>
                    <a:pt x="87" y="265"/>
                  </a:lnTo>
                  <a:lnTo>
                    <a:pt x="76" y="265"/>
                  </a:lnTo>
                  <a:lnTo>
                    <a:pt x="53" y="282"/>
                  </a:lnTo>
                  <a:lnTo>
                    <a:pt x="23" y="287"/>
                  </a:lnTo>
                  <a:lnTo>
                    <a:pt x="6" y="299"/>
                  </a:lnTo>
                  <a:lnTo>
                    <a:pt x="0" y="282"/>
                  </a:lnTo>
                  <a:lnTo>
                    <a:pt x="0" y="248"/>
                  </a:lnTo>
                  <a:lnTo>
                    <a:pt x="6" y="203"/>
                  </a:lnTo>
                  <a:lnTo>
                    <a:pt x="18" y="152"/>
                  </a:lnTo>
                  <a:lnTo>
                    <a:pt x="18" y="96"/>
                  </a:lnTo>
                  <a:lnTo>
                    <a:pt x="23" y="51"/>
                  </a:lnTo>
                  <a:lnTo>
                    <a:pt x="18" y="1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6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048120" y="4138560"/>
            <a:ext cx="1066680" cy="1805040"/>
            <a:chOff x="3048120" y="4138560"/>
            <a:chExt cx="1066680" cy="1805040"/>
          </a:xfrm>
        </p:grpSpPr>
        <p:grpSp>
          <p:nvGrpSpPr>
            <p:cNvPr id="163" name=""/>
            <p:cNvGrpSpPr/>
            <p:nvPr/>
          </p:nvGrpSpPr>
          <p:grpSpPr>
            <a:xfrm>
              <a:off x="3657600" y="4138560"/>
              <a:ext cx="457200" cy="1805040"/>
              <a:chOff x="3657600" y="4138560"/>
              <a:chExt cx="457200" cy="1805040"/>
            </a:xfrm>
          </p:grpSpPr>
          <p:sp>
            <p:nvSpPr>
              <p:cNvPr id="164" name=""/>
              <p:cNvSpPr/>
              <p:nvPr/>
            </p:nvSpPr>
            <p:spPr>
              <a:xfrm>
                <a:off x="3787560" y="4138560"/>
                <a:ext cx="214200" cy="303840"/>
              </a:xfrm>
              <a:custGeom>
                <a:avLst/>
                <a:gdLst/>
                <a:ahLst/>
                <a:rect l="l" t="t" r="r" b="b"/>
                <a:pathLst>
                  <a:path w="947" h="1310">
                    <a:moveTo>
                      <a:pt x="412" y="0"/>
                    </a:moveTo>
                    <a:lnTo>
                      <a:pt x="243" y="79"/>
                    </a:lnTo>
                    <a:lnTo>
                      <a:pt x="116" y="253"/>
                    </a:lnTo>
                    <a:lnTo>
                      <a:pt x="28" y="477"/>
                    </a:lnTo>
                    <a:lnTo>
                      <a:pt x="0" y="731"/>
                    </a:lnTo>
                    <a:lnTo>
                      <a:pt x="17" y="967"/>
                    </a:lnTo>
                    <a:lnTo>
                      <a:pt x="110" y="1163"/>
                    </a:lnTo>
                    <a:lnTo>
                      <a:pt x="266" y="1288"/>
                    </a:lnTo>
                    <a:lnTo>
                      <a:pt x="517" y="1310"/>
                    </a:lnTo>
                    <a:lnTo>
                      <a:pt x="732" y="1214"/>
                    </a:lnTo>
                    <a:lnTo>
                      <a:pt x="877" y="1040"/>
                    </a:lnTo>
                    <a:lnTo>
                      <a:pt x="941" y="809"/>
                    </a:lnTo>
                    <a:lnTo>
                      <a:pt x="947" y="567"/>
                    </a:lnTo>
                    <a:lnTo>
                      <a:pt x="883" y="331"/>
                    </a:lnTo>
                    <a:lnTo>
                      <a:pt x="773" y="140"/>
                    </a:lnTo>
                    <a:lnTo>
                      <a:pt x="610" y="16"/>
                    </a:lnTo>
                    <a:lnTo>
                      <a:pt x="412" y="0"/>
                    </a:lnTo>
                    <a:close/>
                  </a:path>
                </a:pathLst>
              </a:custGeom>
              <a:solidFill>
                <a:srgbClr val="e6a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848760" y="4457160"/>
                <a:ext cx="82440" cy="115920"/>
              </a:xfrm>
              <a:custGeom>
                <a:avLst/>
                <a:gdLst/>
                <a:ahLst/>
                <a:rect l="l" t="t" r="r" b="b"/>
                <a:pathLst>
                  <a:path w="367" h="500">
                    <a:moveTo>
                      <a:pt x="222" y="0"/>
                    </a:moveTo>
                    <a:lnTo>
                      <a:pt x="99" y="22"/>
                    </a:lnTo>
                    <a:lnTo>
                      <a:pt x="36" y="73"/>
                    </a:lnTo>
                    <a:lnTo>
                      <a:pt x="0" y="135"/>
                    </a:lnTo>
                    <a:lnTo>
                      <a:pt x="7" y="213"/>
                    </a:lnTo>
                    <a:lnTo>
                      <a:pt x="30" y="287"/>
                    </a:lnTo>
                    <a:lnTo>
                      <a:pt x="65" y="365"/>
                    </a:lnTo>
                    <a:lnTo>
                      <a:pt x="106" y="438"/>
                    </a:lnTo>
                    <a:lnTo>
                      <a:pt x="146" y="500"/>
                    </a:lnTo>
                    <a:lnTo>
                      <a:pt x="164" y="478"/>
                    </a:lnTo>
                    <a:lnTo>
                      <a:pt x="193" y="461"/>
                    </a:lnTo>
                    <a:lnTo>
                      <a:pt x="228" y="433"/>
                    </a:lnTo>
                    <a:lnTo>
                      <a:pt x="263" y="404"/>
                    </a:lnTo>
                    <a:lnTo>
                      <a:pt x="314" y="343"/>
                    </a:lnTo>
                    <a:lnTo>
                      <a:pt x="355" y="298"/>
                    </a:lnTo>
                    <a:lnTo>
                      <a:pt x="362" y="242"/>
                    </a:lnTo>
                    <a:lnTo>
                      <a:pt x="367" y="191"/>
                    </a:lnTo>
                    <a:lnTo>
                      <a:pt x="362" y="135"/>
                    </a:lnTo>
                    <a:lnTo>
                      <a:pt x="350" y="90"/>
                    </a:lnTo>
                    <a:lnTo>
                      <a:pt x="327" y="45"/>
                    </a:lnTo>
                    <a:lnTo>
                      <a:pt x="297" y="17"/>
                    </a:lnTo>
                    <a:lnTo>
                      <a:pt x="263" y="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e6a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657600" y="4501080"/>
                <a:ext cx="457200" cy="762120"/>
              </a:xfrm>
              <a:custGeom>
                <a:avLst/>
                <a:gdLst/>
                <a:ahLst/>
                <a:rect l="l" t="t" r="r" b="b"/>
                <a:pathLst>
                  <a:path w="2023" h="3289">
                    <a:moveTo>
                      <a:pt x="1262" y="0"/>
                    </a:moveTo>
                    <a:lnTo>
                      <a:pt x="1262" y="17"/>
                    </a:lnTo>
                    <a:lnTo>
                      <a:pt x="1267" y="56"/>
                    </a:lnTo>
                    <a:lnTo>
                      <a:pt x="1273" y="96"/>
                    </a:lnTo>
                    <a:lnTo>
                      <a:pt x="1278" y="118"/>
                    </a:lnTo>
                    <a:lnTo>
                      <a:pt x="1227" y="164"/>
                    </a:lnTo>
                    <a:lnTo>
                      <a:pt x="1179" y="225"/>
                    </a:lnTo>
                    <a:lnTo>
                      <a:pt x="1133" y="281"/>
                    </a:lnTo>
                    <a:lnTo>
                      <a:pt x="1093" y="331"/>
                    </a:lnTo>
                    <a:lnTo>
                      <a:pt x="1047" y="360"/>
                    </a:lnTo>
                    <a:lnTo>
                      <a:pt x="999" y="372"/>
                    </a:lnTo>
                    <a:lnTo>
                      <a:pt x="941" y="348"/>
                    </a:lnTo>
                    <a:lnTo>
                      <a:pt x="890" y="287"/>
                    </a:lnTo>
                    <a:lnTo>
                      <a:pt x="849" y="230"/>
                    </a:lnTo>
                    <a:lnTo>
                      <a:pt x="814" y="181"/>
                    </a:lnTo>
                    <a:lnTo>
                      <a:pt x="796" y="147"/>
                    </a:lnTo>
                    <a:lnTo>
                      <a:pt x="779" y="118"/>
                    </a:lnTo>
                    <a:lnTo>
                      <a:pt x="768" y="85"/>
                    </a:lnTo>
                    <a:lnTo>
                      <a:pt x="761" y="56"/>
                    </a:lnTo>
                    <a:lnTo>
                      <a:pt x="686" y="90"/>
                    </a:lnTo>
                    <a:lnTo>
                      <a:pt x="599" y="141"/>
                    </a:lnTo>
                    <a:lnTo>
                      <a:pt x="505" y="191"/>
                    </a:lnTo>
                    <a:lnTo>
                      <a:pt x="419" y="253"/>
                    </a:lnTo>
                    <a:lnTo>
                      <a:pt x="325" y="315"/>
                    </a:lnTo>
                    <a:lnTo>
                      <a:pt x="251" y="377"/>
                    </a:lnTo>
                    <a:lnTo>
                      <a:pt x="186" y="439"/>
                    </a:lnTo>
                    <a:lnTo>
                      <a:pt x="145" y="507"/>
                    </a:lnTo>
                    <a:lnTo>
                      <a:pt x="111" y="574"/>
                    </a:lnTo>
                    <a:lnTo>
                      <a:pt x="87" y="675"/>
                    </a:lnTo>
                    <a:lnTo>
                      <a:pt x="71" y="799"/>
                    </a:lnTo>
                    <a:lnTo>
                      <a:pt x="53" y="939"/>
                    </a:lnTo>
                    <a:lnTo>
                      <a:pt x="35" y="1074"/>
                    </a:lnTo>
                    <a:lnTo>
                      <a:pt x="23" y="1209"/>
                    </a:lnTo>
                    <a:lnTo>
                      <a:pt x="12" y="1327"/>
                    </a:lnTo>
                    <a:lnTo>
                      <a:pt x="12" y="1429"/>
                    </a:lnTo>
                    <a:lnTo>
                      <a:pt x="0" y="1564"/>
                    </a:lnTo>
                    <a:lnTo>
                      <a:pt x="0" y="1682"/>
                    </a:lnTo>
                    <a:lnTo>
                      <a:pt x="6" y="1783"/>
                    </a:lnTo>
                    <a:lnTo>
                      <a:pt x="29" y="1890"/>
                    </a:lnTo>
                    <a:lnTo>
                      <a:pt x="53" y="1979"/>
                    </a:lnTo>
                    <a:lnTo>
                      <a:pt x="94" y="2075"/>
                    </a:lnTo>
                    <a:lnTo>
                      <a:pt x="140" y="2170"/>
                    </a:lnTo>
                    <a:lnTo>
                      <a:pt x="198" y="2283"/>
                    </a:lnTo>
                    <a:lnTo>
                      <a:pt x="226" y="2339"/>
                    </a:lnTo>
                    <a:lnTo>
                      <a:pt x="256" y="2401"/>
                    </a:lnTo>
                    <a:lnTo>
                      <a:pt x="285" y="2457"/>
                    </a:lnTo>
                    <a:lnTo>
                      <a:pt x="320" y="2513"/>
                    </a:lnTo>
                    <a:lnTo>
                      <a:pt x="343" y="2457"/>
                    </a:lnTo>
                    <a:lnTo>
                      <a:pt x="372" y="2406"/>
                    </a:lnTo>
                    <a:lnTo>
                      <a:pt x="408" y="2356"/>
                    </a:lnTo>
                    <a:lnTo>
                      <a:pt x="442" y="2305"/>
                    </a:lnTo>
                    <a:lnTo>
                      <a:pt x="477" y="2255"/>
                    </a:lnTo>
                    <a:lnTo>
                      <a:pt x="512" y="2204"/>
                    </a:lnTo>
                    <a:lnTo>
                      <a:pt x="553" y="2160"/>
                    </a:lnTo>
                    <a:lnTo>
                      <a:pt x="599" y="2126"/>
                    </a:lnTo>
                    <a:lnTo>
                      <a:pt x="564" y="2047"/>
                    </a:lnTo>
                    <a:lnTo>
                      <a:pt x="523" y="1968"/>
                    </a:lnTo>
                    <a:lnTo>
                      <a:pt x="471" y="1883"/>
                    </a:lnTo>
                    <a:lnTo>
                      <a:pt x="424" y="1800"/>
                    </a:lnTo>
                    <a:lnTo>
                      <a:pt x="372" y="1715"/>
                    </a:lnTo>
                    <a:lnTo>
                      <a:pt x="337" y="1631"/>
                    </a:lnTo>
                    <a:lnTo>
                      <a:pt x="314" y="1552"/>
                    </a:lnTo>
                    <a:lnTo>
                      <a:pt x="320" y="1484"/>
                    </a:lnTo>
                    <a:lnTo>
                      <a:pt x="320" y="1451"/>
                    </a:lnTo>
                    <a:lnTo>
                      <a:pt x="325" y="1405"/>
                    </a:lnTo>
                    <a:lnTo>
                      <a:pt x="332" y="1361"/>
                    </a:lnTo>
                    <a:lnTo>
                      <a:pt x="349" y="1327"/>
                    </a:lnTo>
                    <a:lnTo>
                      <a:pt x="366" y="1277"/>
                    </a:lnTo>
                    <a:lnTo>
                      <a:pt x="383" y="1287"/>
                    </a:lnTo>
                    <a:lnTo>
                      <a:pt x="401" y="1333"/>
                    </a:lnTo>
                    <a:lnTo>
                      <a:pt x="419" y="1412"/>
                    </a:lnTo>
                    <a:lnTo>
                      <a:pt x="431" y="1496"/>
                    </a:lnTo>
                    <a:lnTo>
                      <a:pt x="442" y="1586"/>
                    </a:lnTo>
                    <a:lnTo>
                      <a:pt x="459" y="1659"/>
                    </a:lnTo>
                    <a:lnTo>
                      <a:pt x="477" y="1715"/>
                    </a:lnTo>
                    <a:lnTo>
                      <a:pt x="500" y="1755"/>
                    </a:lnTo>
                    <a:lnTo>
                      <a:pt x="535" y="1800"/>
                    </a:lnTo>
                    <a:lnTo>
                      <a:pt x="570" y="1844"/>
                    </a:lnTo>
                    <a:lnTo>
                      <a:pt x="604" y="1895"/>
                    </a:lnTo>
                    <a:lnTo>
                      <a:pt x="634" y="1934"/>
                    </a:lnTo>
                    <a:lnTo>
                      <a:pt x="662" y="1979"/>
                    </a:lnTo>
                    <a:lnTo>
                      <a:pt x="692" y="2025"/>
                    </a:lnTo>
                    <a:lnTo>
                      <a:pt x="715" y="2075"/>
                    </a:lnTo>
                    <a:lnTo>
                      <a:pt x="715" y="2097"/>
                    </a:lnTo>
                    <a:lnTo>
                      <a:pt x="721" y="2120"/>
                    </a:lnTo>
                    <a:lnTo>
                      <a:pt x="715" y="2143"/>
                    </a:lnTo>
                    <a:lnTo>
                      <a:pt x="715" y="2153"/>
                    </a:lnTo>
                    <a:lnTo>
                      <a:pt x="715" y="2170"/>
                    </a:lnTo>
                    <a:lnTo>
                      <a:pt x="715" y="2193"/>
                    </a:lnTo>
                    <a:lnTo>
                      <a:pt x="727" y="2199"/>
                    </a:lnTo>
                    <a:lnTo>
                      <a:pt x="733" y="2216"/>
                    </a:lnTo>
                    <a:lnTo>
                      <a:pt x="750" y="2249"/>
                    </a:lnTo>
                    <a:lnTo>
                      <a:pt x="779" y="2283"/>
                    </a:lnTo>
                    <a:lnTo>
                      <a:pt x="796" y="2322"/>
                    </a:lnTo>
                    <a:lnTo>
                      <a:pt x="826" y="2361"/>
                    </a:lnTo>
                    <a:lnTo>
                      <a:pt x="842" y="2395"/>
                    </a:lnTo>
                    <a:lnTo>
                      <a:pt x="860" y="2440"/>
                    </a:lnTo>
                    <a:lnTo>
                      <a:pt x="872" y="2491"/>
                    </a:lnTo>
                    <a:lnTo>
                      <a:pt x="890" y="2541"/>
                    </a:lnTo>
                    <a:lnTo>
                      <a:pt x="890" y="2643"/>
                    </a:lnTo>
                    <a:lnTo>
                      <a:pt x="872" y="2722"/>
                    </a:lnTo>
                    <a:lnTo>
                      <a:pt x="837" y="2778"/>
                    </a:lnTo>
                    <a:lnTo>
                      <a:pt x="785" y="2817"/>
                    </a:lnTo>
                    <a:lnTo>
                      <a:pt x="715" y="2828"/>
                    </a:lnTo>
                    <a:lnTo>
                      <a:pt x="639" y="2828"/>
                    </a:lnTo>
                    <a:lnTo>
                      <a:pt x="553" y="2817"/>
                    </a:lnTo>
                    <a:lnTo>
                      <a:pt x="465" y="2795"/>
                    </a:lnTo>
                    <a:lnTo>
                      <a:pt x="448" y="2834"/>
                    </a:lnTo>
                    <a:lnTo>
                      <a:pt x="442" y="2891"/>
                    </a:lnTo>
                    <a:lnTo>
                      <a:pt x="431" y="2947"/>
                    </a:lnTo>
                    <a:lnTo>
                      <a:pt x="431" y="3014"/>
                    </a:lnTo>
                    <a:lnTo>
                      <a:pt x="431" y="3070"/>
                    </a:lnTo>
                    <a:lnTo>
                      <a:pt x="431" y="3132"/>
                    </a:lnTo>
                    <a:lnTo>
                      <a:pt x="431" y="3183"/>
                    </a:lnTo>
                    <a:lnTo>
                      <a:pt x="436" y="3234"/>
                    </a:lnTo>
                    <a:lnTo>
                      <a:pt x="505" y="3234"/>
                    </a:lnTo>
                    <a:lnTo>
                      <a:pt x="593" y="3244"/>
                    </a:lnTo>
                    <a:lnTo>
                      <a:pt x="674" y="3256"/>
                    </a:lnTo>
                    <a:lnTo>
                      <a:pt x="761" y="3267"/>
                    </a:lnTo>
                    <a:lnTo>
                      <a:pt x="842" y="3273"/>
                    </a:lnTo>
                    <a:lnTo>
                      <a:pt x="930" y="3278"/>
                    </a:lnTo>
                    <a:lnTo>
                      <a:pt x="1017" y="3284"/>
                    </a:lnTo>
                    <a:lnTo>
                      <a:pt x="1105" y="3289"/>
                    </a:lnTo>
                    <a:lnTo>
                      <a:pt x="1156" y="3284"/>
                    </a:lnTo>
                    <a:lnTo>
                      <a:pt x="1220" y="3289"/>
                    </a:lnTo>
                    <a:lnTo>
                      <a:pt x="1273" y="3289"/>
                    </a:lnTo>
                    <a:lnTo>
                      <a:pt x="1331" y="3289"/>
                    </a:lnTo>
                    <a:lnTo>
                      <a:pt x="1366" y="3273"/>
                    </a:lnTo>
                    <a:lnTo>
                      <a:pt x="1442" y="3239"/>
                    </a:lnTo>
                    <a:lnTo>
                      <a:pt x="1541" y="3188"/>
                    </a:lnTo>
                    <a:lnTo>
                      <a:pt x="1656" y="3143"/>
                    </a:lnTo>
                    <a:lnTo>
                      <a:pt x="1767" y="3087"/>
                    </a:lnTo>
                    <a:lnTo>
                      <a:pt x="1860" y="3048"/>
                    </a:lnTo>
                    <a:lnTo>
                      <a:pt x="1929" y="3014"/>
                    </a:lnTo>
                    <a:lnTo>
                      <a:pt x="1959" y="3003"/>
                    </a:lnTo>
                    <a:lnTo>
                      <a:pt x="1970" y="2935"/>
                    </a:lnTo>
                    <a:lnTo>
                      <a:pt x="1977" y="2862"/>
                    </a:lnTo>
                    <a:lnTo>
                      <a:pt x="1965" y="2783"/>
                    </a:lnTo>
                    <a:lnTo>
                      <a:pt x="1959" y="2710"/>
                    </a:lnTo>
                    <a:lnTo>
                      <a:pt x="1941" y="2637"/>
                    </a:lnTo>
                    <a:lnTo>
                      <a:pt x="1924" y="2570"/>
                    </a:lnTo>
                    <a:lnTo>
                      <a:pt x="1906" y="2513"/>
                    </a:lnTo>
                    <a:lnTo>
                      <a:pt x="1901" y="2474"/>
                    </a:lnTo>
                    <a:lnTo>
                      <a:pt x="1894" y="2502"/>
                    </a:lnTo>
                    <a:lnTo>
                      <a:pt x="1894" y="2536"/>
                    </a:lnTo>
                    <a:lnTo>
                      <a:pt x="1889" y="2564"/>
                    </a:lnTo>
                    <a:lnTo>
                      <a:pt x="1889" y="2597"/>
                    </a:lnTo>
                    <a:lnTo>
                      <a:pt x="1883" y="2626"/>
                    </a:lnTo>
                    <a:lnTo>
                      <a:pt x="1883" y="2654"/>
                    </a:lnTo>
                    <a:lnTo>
                      <a:pt x="1871" y="2688"/>
                    </a:lnTo>
                    <a:lnTo>
                      <a:pt x="1866" y="2722"/>
                    </a:lnTo>
                    <a:lnTo>
                      <a:pt x="1843" y="2749"/>
                    </a:lnTo>
                    <a:lnTo>
                      <a:pt x="1825" y="2773"/>
                    </a:lnTo>
                    <a:lnTo>
                      <a:pt x="1808" y="2778"/>
                    </a:lnTo>
                    <a:lnTo>
                      <a:pt x="1790" y="2783"/>
                    </a:lnTo>
                    <a:lnTo>
                      <a:pt x="1761" y="2778"/>
                    </a:lnTo>
                    <a:lnTo>
                      <a:pt x="1738" y="2778"/>
                    </a:lnTo>
                    <a:lnTo>
                      <a:pt x="1709" y="2778"/>
                    </a:lnTo>
                    <a:lnTo>
                      <a:pt x="1680" y="2783"/>
                    </a:lnTo>
                    <a:lnTo>
                      <a:pt x="1622" y="2795"/>
                    </a:lnTo>
                    <a:lnTo>
                      <a:pt x="1569" y="2817"/>
                    </a:lnTo>
                    <a:lnTo>
                      <a:pt x="1506" y="2840"/>
                    </a:lnTo>
                    <a:lnTo>
                      <a:pt x="1453" y="2857"/>
                    </a:lnTo>
                    <a:lnTo>
                      <a:pt x="1395" y="2857"/>
                    </a:lnTo>
                    <a:lnTo>
                      <a:pt x="1349" y="2840"/>
                    </a:lnTo>
                    <a:lnTo>
                      <a:pt x="1302" y="2795"/>
                    </a:lnTo>
                    <a:lnTo>
                      <a:pt x="1278" y="2722"/>
                    </a:lnTo>
                    <a:lnTo>
                      <a:pt x="1267" y="2665"/>
                    </a:lnTo>
                    <a:lnTo>
                      <a:pt x="1267" y="2614"/>
                    </a:lnTo>
                    <a:lnTo>
                      <a:pt x="1267" y="2564"/>
                    </a:lnTo>
                    <a:lnTo>
                      <a:pt x="1278" y="2513"/>
                    </a:lnTo>
                    <a:lnTo>
                      <a:pt x="1285" y="2462"/>
                    </a:lnTo>
                    <a:lnTo>
                      <a:pt x="1302" y="2418"/>
                    </a:lnTo>
                    <a:lnTo>
                      <a:pt x="1313" y="2378"/>
                    </a:lnTo>
                    <a:lnTo>
                      <a:pt x="1331" y="2345"/>
                    </a:lnTo>
                    <a:lnTo>
                      <a:pt x="1366" y="2210"/>
                    </a:lnTo>
                    <a:lnTo>
                      <a:pt x="1412" y="2092"/>
                    </a:lnTo>
                    <a:lnTo>
                      <a:pt x="1459" y="1968"/>
                    </a:lnTo>
                    <a:lnTo>
                      <a:pt x="1500" y="1844"/>
                    </a:lnTo>
                    <a:lnTo>
                      <a:pt x="1529" y="1709"/>
                    </a:lnTo>
                    <a:lnTo>
                      <a:pt x="1546" y="1574"/>
                    </a:lnTo>
                    <a:lnTo>
                      <a:pt x="1552" y="1422"/>
                    </a:lnTo>
                    <a:lnTo>
                      <a:pt x="1541" y="1265"/>
                    </a:lnTo>
                    <a:lnTo>
                      <a:pt x="1534" y="1254"/>
                    </a:lnTo>
                    <a:lnTo>
                      <a:pt x="1534" y="1231"/>
                    </a:lnTo>
                    <a:lnTo>
                      <a:pt x="1529" y="1204"/>
                    </a:lnTo>
                    <a:lnTo>
                      <a:pt x="1529" y="1187"/>
                    </a:lnTo>
                    <a:lnTo>
                      <a:pt x="1534" y="1175"/>
                    </a:lnTo>
                    <a:lnTo>
                      <a:pt x="1552" y="1170"/>
                    </a:lnTo>
                    <a:lnTo>
                      <a:pt x="1564" y="1164"/>
                    </a:lnTo>
                    <a:lnTo>
                      <a:pt x="1569" y="1175"/>
                    </a:lnTo>
                    <a:lnTo>
                      <a:pt x="1599" y="1175"/>
                    </a:lnTo>
                    <a:lnTo>
                      <a:pt x="1599" y="1226"/>
                    </a:lnTo>
                    <a:lnTo>
                      <a:pt x="1610" y="1282"/>
                    </a:lnTo>
                    <a:lnTo>
                      <a:pt x="1622" y="1344"/>
                    </a:lnTo>
                    <a:lnTo>
                      <a:pt x="1640" y="1412"/>
                    </a:lnTo>
                    <a:lnTo>
                      <a:pt x="1645" y="1473"/>
                    </a:lnTo>
                    <a:lnTo>
                      <a:pt x="1651" y="1540"/>
                    </a:lnTo>
                    <a:lnTo>
                      <a:pt x="1651" y="1608"/>
                    </a:lnTo>
                    <a:lnTo>
                      <a:pt x="1651" y="1675"/>
                    </a:lnTo>
                    <a:lnTo>
                      <a:pt x="1633" y="1721"/>
                    </a:lnTo>
                    <a:lnTo>
                      <a:pt x="1610" y="1783"/>
                    </a:lnTo>
                    <a:lnTo>
                      <a:pt x="1581" y="1861"/>
                    </a:lnTo>
                    <a:lnTo>
                      <a:pt x="1552" y="1945"/>
                    </a:lnTo>
                    <a:lnTo>
                      <a:pt x="1517" y="2025"/>
                    </a:lnTo>
                    <a:lnTo>
                      <a:pt x="1483" y="2109"/>
                    </a:lnTo>
                    <a:lnTo>
                      <a:pt x="1453" y="2182"/>
                    </a:lnTo>
                    <a:lnTo>
                      <a:pt x="1435" y="2244"/>
                    </a:lnTo>
                    <a:lnTo>
                      <a:pt x="1483" y="2271"/>
                    </a:lnTo>
                    <a:lnTo>
                      <a:pt x="1534" y="2305"/>
                    </a:lnTo>
                    <a:lnTo>
                      <a:pt x="1581" y="2345"/>
                    </a:lnTo>
                    <a:lnTo>
                      <a:pt x="1622" y="2384"/>
                    </a:lnTo>
                    <a:lnTo>
                      <a:pt x="1640" y="2412"/>
                    </a:lnTo>
                    <a:lnTo>
                      <a:pt x="1663" y="2446"/>
                    </a:lnTo>
                    <a:lnTo>
                      <a:pt x="1680" y="2479"/>
                    </a:lnTo>
                    <a:lnTo>
                      <a:pt x="1697" y="2513"/>
                    </a:lnTo>
                    <a:lnTo>
                      <a:pt x="1709" y="2541"/>
                    </a:lnTo>
                    <a:lnTo>
                      <a:pt x="1732" y="2570"/>
                    </a:lnTo>
                    <a:lnTo>
                      <a:pt x="1755" y="2597"/>
                    </a:lnTo>
                    <a:lnTo>
                      <a:pt x="1795" y="2631"/>
                    </a:lnTo>
                    <a:lnTo>
                      <a:pt x="1820" y="2525"/>
                    </a:lnTo>
                    <a:lnTo>
                      <a:pt x="1854" y="2418"/>
                    </a:lnTo>
                    <a:lnTo>
                      <a:pt x="1889" y="2305"/>
                    </a:lnTo>
                    <a:lnTo>
                      <a:pt x="1929" y="2193"/>
                    </a:lnTo>
                    <a:lnTo>
                      <a:pt x="1959" y="2075"/>
                    </a:lnTo>
                    <a:lnTo>
                      <a:pt x="1988" y="1968"/>
                    </a:lnTo>
                    <a:lnTo>
                      <a:pt x="2005" y="1861"/>
                    </a:lnTo>
                    <a:lnTo>
                      <a:pt x="2023" y="1766"/>
                    </a:lnTo>
                    <a:lnTo>
                      <a:pt x="2017" y="1692"/>
                    </a:lnTo>
                    <a:lnTo>
                      <a:pt x="2011" y="1619"/>
                    </a:lnTo>
                    <a:lnTo>
                      <a:pt x="2000" y="1540"/>
                    </a:lnTo>
                    <a:lnTo>
                      <a:pt x="1988" y="1462"/>
                    </a:lnTo>
                    <a:lnTo>
                      <a:pt x="1970" y="1378"/>
                    </a:lnTo>
                    <a:lnTo>
                      <a:pt x="1952" y="1299"/>
                    </a:lnTo>
                    <a:lnTo>
                      <a:pt x="1936" y="1221"/>
                    </a:lnTo>
                    <a:lnTo>
                      <a:pt x="1929" y="1158"/>
                    </a:lnTo>
                    <a:lnTo>
                      <a:pt x="1912" y="1063"/>
                    </a:lnTo>
                    <a:lnTo>
                      <a:pt x="1912" y="973"/>
                    </a:lnTo>
                    <a:lnTo>
                      <a:pt x="1906" y="877"/>
                    </a:lnTo>
                    <a:lnTo>
                      <a:pt x="1906" y="787"/>
                    </a:lnTo>
                    <a:lnTo>
                      <a:pt x="1894" y="698"/>
                    </a:lnTo>
                    <a:lnTo>
                      <a:pt x="1889" y="613"/>
                    </a:lnTo>
                    <a:lnTo>
                      <a:pt x="1866" y="534"/>
                    </a:lnTo>
                    <a:lnTo>
                      <a:pt x="1837" y="466"/>
                    </a:lnTo>
                    <a:lnTo>
                      <a:pt x="1790" y="399"/>
                    </a:lnTo>
                    <a:lnTo>
                      <a:pt x="1732" y="338"/>
                    </a:lnTo>
                    <a:lnTo>
                      <a:pt x="1663" y="270"/>
                    </a:lnTo>
                    <a:lnTo>
                      <a:pt x="1581" y="208"/>
                    </a:lnTo>
                    <a:lnTo>
                      <a:pt x="1494" y="141"/>
                    </a:lnTo>
                    <a:lnTo>
                      <a:pt x="1412" y="85"/>
                    </a:lnTo>
                    <a:lnTo>
                      <a:pt x="1326" y="34"/>
                    </a:lnTo>
                    <a:lnTo>
                      <a:pt x="1262" y="0"/>
                    </a:lnTo>
                    <a:close/>
                  </a:path>
                </a:pathLst>
              </a:custGeom>
              <a:solidFill>
                <a:srgbClr val="ffe701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750840" y="5014440"/>
                <a:ext cx="88200" cy="126000"/>
              </a:xfrm>
              <a:custGeom>
                <a:avLst/>
                <a:gdLst/>
                <a:ahLst/>
                <a:rect l="l" t="t" r="r" b="b"/>
                <a:pathLst>
                  <a:path w="389" h="545">
                    <a:moveTo>
                      <a:pt x="215" y="0"/>
                    </a:moveTo>
                    <a:lnTo>
                      <a:pt x="175" y="33"/>
                    </a:lnTo>
                    <a:lnTo>
                      <a:pt x="140" y="72"/>
                    </a:lnTo>
                    <a:lnTo>
                      <a:pt x="104" y="118"/>
                    </a:lnTo>
                    <a:lnTo>
                      <a:pt x="81" y="168"/>
                    </a:lnTo>
                    <a:lnTo>
                      <a:pt x="52" y="213"/>
                    </a:lnTo>
                    <a:lnTo>
                      <a:pt x="35" y="263"/>
                    </a:lnTo>
                    <a:lnTo>
                      <a:pt x="18" y="320"/>
                    </a:lnTo>
                    <a:lnTo>
                      <a:pt x="0" y="376"/>
                    </a:lnTo>
                    <a:lnTo>
                      <a:pt x="52" y="415"/>
                    </a:lnTo>
                    <a:lnTo>
                      <a:pt x="104" y="455"/>
                    </a:lnTo>
                    <a:lnTo>
                      <a:pt x="127" y="472"/>
                    </a:lnTo>
                    <a:lnTo>
                      <a:pt x="157" y="489"/>
                    </a:lnTo>
                    <a:lnTo>
                      <a:pt x="186" y="506"/>
                    </a:lnTo>
                    <a:lnTo>
                      <a:pt x="226" y="528"/>
                    </a:lnTo>
                    <a:lnTo>
                      <a:pt x="290" y="545"/>
                    </a:lnTo>
                    <a:lnTo>
                      <a:pt x="343" y="533"/>
                    </a:lnTo>
                    <a:lnTo>
                      <a:pt x="372" y="494"/>
                    </a:lnTo>
                    <a:lnTo>
                      <a:pt x="389" y="444"/>
                    </a:lnTo>
                    <a:lnTo>
                      <a:pt x="389" y="376"/>
                    </a:lnTo>
                    <a:lnTo>
                      <a:pt x="383" y="309"/>
                    </a:lnTo>
                    <a:lnTo>
                      <a:pt x="366" y="236"/>
                    </a:lnTo>
                    <a:lnTo>
                      <a:pt x="348" y="179"/>
                    </a:lnTo>
                    <a:lnTo>
                      <a:pt x="314" y="129"/>
                    </a:lnTo>
                    <a:lnTo>
                      <a:pt x="279" y="89"/>
                    </a:lnTo>
                    <a:lnTo>
                      <a:pt x="244" y="39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e6a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956040" y="5043960"/>
                <a:ext cx="74520" cy="102600"/>
              </a:xfrm>
              <a:custGeom>
                <a:avLst/>
                <a:gdLst/>
                <a:ahLst/>
                <a:rect l="l" t="t" r="r" b="b"/>
                <a:pathLst>
                  <a:path w="332" h="444">
                    <a:moveTo>
                      <a:pt x="105" y="0"/>
                    </a:moveTo>
                    <a:lnTo>
                      <a:pt x="65" y="45"/>
                    </a:lnTo>
                    <a:lnTo>
                      <a:pt x="30" y="117"/>
                    </a:lnTo>
                    <a:lnTo>
                      <a:pt x="7" y="196"/>
                    </a:lnTo>
                    <a:lnTo>
                      <a:pt x="0" y="286"/>
                    </a:lnTo>
                    <a:lnTo>
                      <a:pt x="7" y="360"/>
                    </a:lnTo>
                    <a:lnTo>
                      <a:pt x="47" y="416"/>
                    </a:lnTo>
                    <a:lnTo>
                      <a:pt x="116" y="444"/>
                    </a:lnTo>
                    <a:lnTo>
                      <a:pt x="222" y="438"/>
                    </a:lnTo>
                    <a:lnTo>
                      <a:pt x="296" y="394"/>
                    </a:lnTo>
                    <a:lnTo>
                      <a:pt x="332" y="343"/>
                    </a:lnTo>
                    <a:lnTo>
                      <a:pt x="326" y="281"/>
                    </a:lnTo>
                    <a:lnTo>
                      <a:pt x="303" y="219"/>
                    </a:lnTo>
                    <a:lnTo>
                      <a:pt x="256" y="151"/>
                    </a:lnTo>
                    <a:lnTo>
                      <a:pt x="204" y="90"/>
                    </a:lnTo>
                    <a:lnTo>
                      <a:pt x="146" y="33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e6a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699720" y="5249880"/>
                <a:ext cx="382320" cy="601560"/>
              </a:xfrm>
              <a:custGeom>
                <a:avLst/>
                <a:gdLst/>
                <a:ahLst/>
                <a:rect l="l" t="t" r="r" b="b"/>
                <a:pathLst>
                  <a:path w="1692" h="2597">
                    <a:moveTo>
                      <a:pt x="1680" y="0"/>
                    </a:moveTo>
                    <a:lnTo>
                      <a:pt x="1604" y="10"/>
                    </a:lnTo>
                    <a:lnTo>
                      <a:pt x="1528" y="33"/>
                    </a:lnTo>
                    <a:lnTo>
                      <a:pt x="1454" y="50"/>
                    </a:lnTo>
                    <a:lnTo>
                      <a:pt x="1383" y="78"/>
                    </a:lnTo>
                    <a:lnTo>
                      <a:pt x="1308" y="95"/>
                    </a:lnTo>
                    <a:lnTo>
                      <a:pt x="1238" y="118"/>
                    </a:lnTo>
                    <a:lnTo>
                      <a:pt x="1168" y="135"/>
                    </a:lnTo>
                    <a:lnTo>
                      <a:pt x="1104" y="145"/>
                    </a:lnTo>
                    <a:lnTo>
                      <a:pt x="1000" y="145"/>
                    </a:lnTo>
                    <a:lnTo>
                      <a:pt x="895" y="145"/>
                    </a:lnTo>
                    <a:lnTo>
                      <a:pt x="785" y="145"/>
                    </a:lnTo>
                    <a:lnTo>
                      <a:pt x="674" y="145"/>
                    </a:lnTo>
                    <a:lnTo>
                      <a:pt x="564" y="140"/>
                    </a:lnTo>
                    <a:lnTo>
                      <a:pt x="453" y="135"/>
                    </a:lnTo>
                    <a:lnTo>
                      <a:pt x="349" y="123"/>
                    </a:lnTo>
                    <a:lnTo>
                      <a:pt x="250" y="118"/>
                    </a:lnTo>
                    <a:lnTo>
                      <a:pt x="227" y="190"/>
                    </a:lnTo>
                    <a:lnTo>
                      <a:pt x="210" y="292"/>
                    </a:lnTo>
                    <a:lnTo>
                      <a:pt x="192" y="415"/>
                    </a:lnTo>
                    <a:lnTo>
                      <a:pt x="180" y="550"/>
                    </a:lnTo>
                    <a:lnTo>
                      <a:pt x="163" y="680"/>
                    </a:lnTo>
                    <a:lnTo>
                      <a:pt x="151" y="803"/>
                    </a:lnTo>
                    <a:lnTo>
                      <a:pt x="146" y="910"/>
                    </a:lnTo>
                    <a:lnTo>
                      <a:pt x="146" y="994"/>
                    </a:lnTo>
                    <a:lnTo>
                      <a:pt x="139" y="1050"/>
                    </a:lnTo>
                    <a:lnTo>
                      <a:pt x="139" y="1118"/>
                    </a:lnTo>
                    <a:lnTo>
                      <a:pt x="139" y="1185"/>
                    </a:lnTo>
                    <a:lnTo>
                      <a:pt x="139" y="1259"/>
                    </a:lnTo>
                    <a:lnTo>
                      <a:pt x="139" y="1326"/>
                    </a:lnTo>
                    <a:lnTo>
                      <a:pt x="139" y="1399"/>
                    </a:lnTo>
                    <a:lnTo>
                      <a:pt x="146" y="1467"/>
                    </a:lnTo>
                    <a:lnTo>
                      <a:pt x="163" y="1534"/>
                    </a:lnTo>
                    <a:lnTo>
                      <a:pt x="169" y="1557"/>
                    </a:lnTo>
                    <a:lnTo>
                      <a:pt x="174" y="1574"/>
                    </a:lnTo>
                    <a:lnTo>
                      <a:pt x="151" y="1607"/>
                    </a:lnTo>
                    <a:lnTo>
                      <a:pt x="128" y="1680"/>
                    </a:lnTo>
                    <a:lnTo>
                      <a:pt x="99" y="1781"/>
                    </a:lnTo>
                    <a:lnTo>
                      <a:pt x="76" y="1899"/>
                    </a:lnTo>
                    <a:lnTo>
                      <a:pt x="40" y="2018"/>
                    </a:lnTo>
                    <a:lnTo>
                      <a:pt x="24" y="2130"/>
                    </a:lnTo>
                    <a:lnTo>
                      <a:pt x="6" y="2220"/>
                    </a:lnTo>
                    <a:lnTo>
                      <a:pt x="0" y="2282"/>
                    </a:lnTo>
                    <a:lnTo>
                      <a:pt x="52" y="2316"/>
                    </a:lnTo>
                    <a:lnTo>
                      <a:pt x="111" y="2350"/>
                    </a:lnTo>
                    <a:lnTo>
                      <a:pt x="169" y="2384"/>
                    </a:lnTo>
                    <a:lnTo>
                      <a:pt x="233" y="2416"/>
                    </a:lnTo>
                    <a:lnTo>
                      <a:pt x="291" y="2445"/>
                    </a:lnTo>
                    <a:lnTo>
                      <a:pt x="354" y="2479"/>
                    </a:lnTo>
                    <a:lnTo>
                      <a:pt x="413" y="2512"/>
                    </a:lnTo>
                    <a:lnTo>
                      <a:pt x="476" y="2551"/>
                    </a:lnTo>
                    <a:lnTo>
                      <a:pt x="575" y="2585"/>
                    </a:lnTo>
                    <a:lnTo>
                      <a:pt x="715" y="2597"/>
                    </a:lnTo>
                    <a:lnTo>
                      <a:pt x="878" y="2591"/>
                    </a:lnTo>
                    <a:lnTo>
                      <a:pt x="1052" y="2575"/>
                    </a:lnTo>
                    <a:lnTo>
                      <a:pt x="1226" y="2546"/>
                    </a:lnTo>
                    <a:lnTo>
                      <a:pt x="1395" y="2524"/>
                    </a:lnTo>
                    <a:lnTo>
                      <a:pt x="1535" y="2496"/>
                    </a:lnTo>
                    <a:lnTo>
                      <a:pt x="1651" y="2490"/>
                    </a:lnTo>
                    <a:lnTo>
                      <a:pt x="1639" y="2433"/>
                    </a:lnTo>
                    <a:lnTo>
                      <a:pt x="1634" y="2384"/>
                    </a:lnTo>
                    <a:lnTo>
                      <a:pt x="1634" y="2327"/>
                    </a:lnTo>
                    <a:lnTo>
                      <a:pt x="1634" y="2276"/>
                    </a:lnTo>
                    <a:lnTo>
                      <a:pt x="1627" y="2215"/>
                    </a:lnTo>
                    <a:lnTo>
                      <a:pt x="1627" y="2158"/>
                    </a:lnTo>
                    <a:lnTo>
                      <a:pt x="1627" y="2102"/>
                    </a:lnTo>
                    <a:lnTo>
                      <a:pt x="1627" y="2046"/>
                    </a:lnTo>
                    <a:lnTo>
                      <a:pt x="1609" y="1972"/>
                    </a:lnTo>
                    <a:lnTo>
                      <a:pt x="1593" y="1939"/>
                    </a:lnTo>
                    <a:lnTo>
                      <a:pt x="1569" y="1928"/>
                    </a:lnTo>
                    <a:lnTo>
                      <a:pt x="1552" y="1939"/>
                    </a:lnTo>
                    <a:lnTo>
                      <a:pt x="1528" y="1962"/>
                    </a:lnTo>
                    <a:lnTo>
                      <a:pt x="1505" y="2006"/>
                    </a:lnTo>
                    <a:lnTo>
                      <a:pt x="1488" y="2051"/>
                    </a:lnTo>
                    <a:lnTo>
                      <a:pt x="1477" y="2102"/>
                    </a:lnTo>
                    <a:lnTo>
                      <a:pt x="1459" y="2085"/>
                    </a:lnTo>
                    <a:lnTo>
                      <a:pt x="1447" y="2068"/>
                    </a:lnTo>
                    <a:lnTo>
                      <a:pt x="1429" y="2051"/>
                    </a:lnTo>
                    <a:lnTo>
                      <a:pt x="1424" y="2046"/>
                    </a:lnTo>
                    <a:lnTo>
                      <a:pt x="1436" y="2012"/>
                    </a:lnTo>
                    <a:lnTo>
                      <a:pt x="1454" y="1979"/>
                    </a:lnTo>
                    <a:lnTo>
                      <a:pt x="1470" y="1945"/>
                    </a:lnTo>
                    <a:lnTo>
                      <a:pt x="1488" y="1916"/>
                    </a:lnTo>
                    <a:lnTo>
                      <a:pt x="1500" y="1877"/>
                    </a:lnTo>
                    <a:lnTo>
                      <a:pt x="1517" y="1844"/>
                    </a:lnTo>
                    <a:lnTo>
                      <a:pt x="1528" y="1810"/>
                    </a:lnTo>
                    <a:lnTo>
                      <a:pt x="1546" y="1781"/>
                    </a:lnTo>
                    <a:lnTo>
                      <a:pt x="1552" y="1692"/>
                    </a:lnTo>
                    <a:lnTo>
                      <a:pt x="1563" y="1613"/>
                    </a:lnTo>
                    <a:lnTo>
                      <a:pt x="1569" y="1540"/>
                    </a:lnTo>
                    <a:lnTo>
                      <a:pt x="1575" y="1467"/>
                    </a:lnTo>
                    <a:lnTo>
                      <a:pt x="1575" y="1388"/>
                    </a:lnTo>
                    <a:lnTo>
                      <a:pt x="1581" y="1309"/>
                    </a:lnTo>
                    <a:lnTo>
                      <a:pt x="1581" y="1225"/>
                    </a:lnTo>
                    <a:lnTo>
                      <a:pt x="1598" y="1146"/>
                    </a:lnTo>
                    <a:lnTo>
                      <a:pt x="1616" y="1000"/>
                    </a:lnTo>
                    <a:lnTo>
                      <a:pt x="1634" y="854"/>
                    </a:lnTo>
                    <a:lnTo>
                      <a:pt x="1651" y="702"/>
                    </a:lnTo>
                    <a:lnTo>
                      <a:pt x="1674" y="550"/>
                    </a:lnTo>
                    <a:lnTo>
                      <a:pt x="1680" y="393"/>
                    </a:lnTo>
                    <a:lnTo>
                      <a:pt x="1692" y="246"/>
                    </a:lnTo>
                    <a:lnTo>
                      <a:pt x="1685" y="111"/>
                    </a:lnTo>
                    <a:lnTo>
                      <a:pt x="1680" y="0"/>
                    </a:lnTo>
                    <a:close/>
                  </a:path>
                </a:pathLst>
              </a:custGeom>
              <a:solidFill>
                <a:srgbClr val="ffe7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717000" y="5817240"/>
                <a:ext cx="115200" cy="126360"/>
              </a:xfrm>
              <a:custGeom>
                <a:avLst/>
                <a:gdLst/>
                <a:ahLst/>
                <a:rect l="l" t="t" r="r" b="b"/>
                <a:pathLst>
                  <a:path w="511" h="546">
                    <a:moveTo>
                      <a:pt x="17" y="0"/>
                    </a:moveTo>
                    <a:lnTo>
                      <a:pt x="5" y="34"/>
                    </a:lnTo>
                    <a:lnTo>
                      <a:pt x="5" y="85"/>
                    </a:lnTo>
                    <a:lnTo>
                      <a:pt x="0" y="130"/>
                    </a:lnTo>
                    <a:lnTo>
                      <a:pt x="0" y="186"/>
                    </a:lnTo>
                    <a:lnTo>
                      <a:pt x="0" y="236"/>
                    </a:lnTo>
                    <a:lnTo>
                      <a:pt x="5" y="287"/>
                    </a:lnTo>
                    <a:lnTo>
                      <a:pt x="12" y="332"/>
                    </a:lnTo>
                    <a:lnTo>
                      <a:pt x="29" y="371"/>
                    </a:lnTo>
                    <a:lnTo>
                      <a:pt x="52" y="395"/>
                    </a:lnTo>
                    <a:lnTo>
                      <a:pt x="104" y="427"/>
                    </a:lnTo>
                    <a:lnTo>
                      <a:pt x="162" y="467"/>
                    </a:lnTo>
                    <a:lnTo>
                      <a:pt x="238" y="506"/>
                    </a:lnTo>
                    <a:lnTo>
                      <a:pt x="302" y="529"/>
                    </a:lnTo>
                    <a:lnTo>
                      <a:pt x="372" y="546"/>
                    </a:lnTo>
                    <a:lnTo>
                      <a:pt x="418" y="546"/>
                    </a:lnTo>
                    <a:lnTo>
                      <a:pt x="453" y="529"/>
                    </a:lnTo>
                    <a:lnTo>
                      <a:pt x="459" y="495"/>
                    </a:lnTo>
                    <a:lnTo>
                      <a:pt x="471" y="461"/>
                    </a:lnTo>
                    <a:lnTo>
                      <a:pt x="476" y="427"/>
                    </a:lnTo>
                    <a:lnTo>
                      <a:pt x="488" y="395"/>
                    </a:lnTo>
                    <a:lnTo>
                      <a:pt x="494" y="355"/>
                    </a:lnTo>
                    <a:lnTo>
                      <a:pt x="499" y="316"/>
                    </a:lnTo>
                    <a:lnTo>
                      <a:pt x="506" y="277"/>
                    </a:lnTo>
                    <a:lnTo>
                      <a:pt x="511" y="243"/>
                    </a:lnTo>
                    <a:lnTo>
                      <a:pt x="441" y="214"/>
                    </a:lnTo>
                    <a:lnTo>
                      <a:pt x="377" y="186"/>
                    </a:lnTo>
                    <a:lnTo>
                      <a:pt x="314" y="158"/>
                    </a:lnTo>
                    <a:lnTo>
                      <a:pt x="255" y="130"/>
                    </a:lnTo>
                    <a:lnTo>
                      <a:pt x="197" y="96"/>
                    </a:lnTo>
                    <a:lnTo>
                      <a:pt x="139" y="62"/>
                    </a:lnTo>
                    <a:lnTo>
                      <a:pt x="75" y="29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a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991320" y="5852520"/>
                <a:ext cx="9000" cy="828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0" y="0"/>
                    </a:moveTo>
                    <a:lnTo>
                      <a:pt x="0" y="17"/>
                    </a:lnTo>
                    <a:lnTo>
                      <a:pt x="0" y="40"/>
                    </a:lnTo>
                    <a:lnTo>
                      <a:pt x="7" y="34"/>
                    </a:lnTo>
                    <a:lnTo>
                      <a:pt x="30" y="34"/>
                    </a:lnTo>
                    <a:lnTo>
                      <a:pt x="41" y="29"/>
                    </a:lnTo>
                    <a:lnTo>
                      <a:pt x="35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ff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870360" y="5856120"/>
                <a:ext cx="212760" cy="66240"/>
              </a:xfrm>
              <a:custGeom>
                <a:avLst/>
                <a:gdLst/>
                <a:ahLst/>
                <a:rect l="l" t="t" r="r" b="b"/>
                <a:pathLst>
                  <a:path w="942" h="287">
                    <a:moveTo>
                      <a:pt x="99" y="12"/>
                    </a:moveTo>
                    <a:lnTo>
                      <a:pt x="58" y="12"/>
                    </a:lnTo>
                    <a:lnTo>
                      <a:pt x="35" y="28"/>
                    </a:lnTo>
                    <a:lnTo>
                      <a:pt x="18" y="45"/>
                    </a:lnTo>
                    <a:lnTo>
                      <a:pt x="12" y="74"/>
                    </a:lnTo>
                    <a:lnTo>
                      <a:pt x="0" y="96"/>
                    </a:lnTo>
                    <a:lnTo>
                      <a:pt x="7" y="124"/>
                    </a:lnTo>
                    <a:lnTo>
                      <a:pt x="7" y="158"/>
                    </a:lnTo>
                    <a:lnTo>
                      <a:pt x="18" y="192"/>
                    </a:lnTo>
                    <a:lnTo>
                      <a:pt x="18" y="226"/>
                    </a:lnTo>
                    <a:lnTo>
                      <a:pt x="18" y="265"/>
                    </a:lnTo>
                    <a:lnTo>
                      <a:pt x="111" y="270"/>
                    </a:lnTo>
                    <a:lnTo>
                      <a:pt x="215" y="282"/>
                    </a:lnTo>
                    <a:lnTo>
                      <a:pt x="321" y="282"/>
                    </a:lnTo>
                    <a:lnTo>
                      <a:pt x="431" y="287"/>
                    </a:lnTo>
                    <a:lnTo>
                      <a:pt x="542" y="275"/>
                    </a:lnTo>
                    <a:lnTo>
                      <a:pt x="651" y="270"/>
                    </a:lnTo>
                    <a:lnTo>
                      <a:pt x="762" y="258"/>
                    </a:lnTo>
                    <a:lnTo>
                      <a:pt x="872" y="253"/>
                    </a:lnTo>
                    <a:lnTo>
                      <a:pt x="902" y="243"/>
                    </a:lnTo>
                    <a:lnTo>
                      <a:pt x="925" y="236"/>
                    </a:lnTo>
                    <a:lnTo>
                      <a:pt x="937" y="226"/>
                    </a:lnTo>
                    <a:lnTo>
                      <a:pt x="942" y="214"/>
                    </a:lnTo>
                    <a:lnTo>
                      <a:pt x="937" y="175"/>
                    </a:lnTo>
                    <a:lnTo>
                      <a:pt x="937" y="141"/>
                    </a:lnTo>
                    <a:lnTo>
                      <a:pt x="797" y="130"/>
                    </a:lnTo>
                    <a:lnTo>
                      <a:pt x="686" y="113"/>
                    </a:lnTo>
                    <a:lnTo>
                      <a:pt x="576" y="84"/>
                    </a:lnTo>
                    <a:lnTo>
                      <a:pt x="489" y="57"/>
                    </a:lnTo>
                    <a:lnTo>
                      <a:pt x="395" y="23"/>
                    </a:lnTo>
                    <a:lnTo>
                      <a:pt x="303" y="6"/>
                    </a:lnTo>
                    <a:lnTo>
                      <a:pt x="204" y="0"/>
                    </a:lnTo>
                    <a:lnTo>
                      <a:pt x="99" y="12"/>
                    </a:lnTo>
                    <a:close/>
                  </a:path>
                </a:pathLst>
              </a:custGeom>
              <a:solidFill>
                <a:srgbClr val="e6a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007520" y="4289040"/>
                <a:ext cx="18720" cy="69840"/>
              </a:xfrm>
              <a:custGeom>
                <a:avLst/>
                <a:gdLst/>
                <a:ahLst/>
                <a:rect l="l" t="t" r="r" b="b"/>
                <a:pathLst>
                  <a:path w="87" h="299">
                    <a:moveTo>
                      <a:pt x="18" y="0"/>
                    </a:moveTo>
                    <a:lnTo>
                      <a:pt x="81" y="17"/>
                    </a:lnTo>
                    <a:lnTo>
                      <a:pt x="87" y="265"/>
                    </a:lnTo>
                    <a:lnTo>
                      <a:pt x="76" y="265"/>
                    </a:lnTo>
                    <a:lnTo>
                      <a:pt x="53" y="282"/>
                    </a:lnTo>
                    <a:lnTo>
                      <a:pt x="23" y="287"/>
                    </a:lnTo>
                    <a:lnTo>
                      <a:pt x="6" y="299"/>
                    </a:lnTo>
                    <a:lnTo>
                      <a:pt x="0" y="282"/>
                    </a:lnTo>
                    <a:lnTo>
                      <a:pt x="0" y="248"/>
                    </a:lnTo>
                    <a:lnTo>
                      <a:pt x="6" y="203"/>
                    </a:lnTo>
                    <a:lnTo>
                      <a:pt x="18" y="152"/>
                    </a:lnTo>
                    <a:lnTo>
                      <a:pt x="18" y="96"/>
                    </a:lnTo>
                    <a:lnTo>
                      <a:pt x="23" y="51"/>
                    </a:lnTo>
                    <a:lnTo>
                      <a:pt x="18" y="12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e6a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3048120" y="4138560"/>
              <a:ext cx="457200" cy="1804680"/>
              <a:chOff x="3048120" y="4138560"/>
              <a:chExt cx="457200" cy="1804680"/>
            </a:xfrm>
          </p:grpSpPr>
          <p:sp>
            <p:nvSpPr>
              <p:cNvPr id="175" name=""/>
              <p:cNvSpPr/>
              <p:nvPr/>
            </p:nvSpPr>
            <p:spPr>
              <a:xfrm>
                <a:off x="3178080" y="4138560"/>
                <a:ext cx="214200" cy="303480"/>
              </a:xfrm>
              <a:custGeom>
                <a:avLst/>
                <a:gdLst/>
                <a:ahLst/>
                <a:rect l="l" t="t" r="r" b="b"/>
                <a:pathLst>
                  <a:path w="947" h="1310">
                    <a:moveTo>
                      <a:pt x="412" y="0"/>
                    </a:moveTo>
                    <a:lnTo>
                      <a:pt x="243" y="79"/>
                    </a:lnTo>
                    <a:lnTo>
                      <a:pt x="116" y="253"/>
                    </a:lnTo>
                    <a:lnTo>
                      <a:pt x="28" y="477"/>
                    </a:lnTo>
                    <a:lnTo>
                      <a:pt x="0" y="731"/>
                    </a:lnTo>
                    <a:lnTo>
                      <a:pt x="17" y="967"/>
                    </a:lnTo>
                    <a:lnTo>
                      <a:pt x="110" y="1163"/>
                    </a:lnTo>
                    <a:lnTo>
                      <a:pt x="266" y="1288"/>
                    </a:lnTo>
                    <a:lnTo>
                      <a:pt x="517" y="1310"/>
                    </a:lnTo>
                    <a:lnTo>
                      <a:pt x="732" y="1214"/>
                    </a:lnTo>
                    <a:lnTo>
                      <a:pt x="877" y="1040"/>
                    </a:lnTo>
                    <a:lnTo>
                      <a:pt x="941" y="809"/>
                    </a:lnTo>
                    <a:lnTo>
                      <a:pt x="947" y="567"/>
                    </a:lnTo>
                    <a:lnTo>
                      <a:pt x="883" y="331"/>
                    </a:lnTo>
                    <a:lnTo>
                      <a:pt x="773" y="140"/>
                    </a:lnTo>
                    <a:lnTo>
                      <a:pt x="610" y="16"/>
                    </a:lnTo>
                    <a:lnTo>
                      <a:pt x="412" y="0"/>
                    </a:lnTo>
                    <a:close/>
                  </a:path>
                </a:pathLst>
              </a:custGeom>
              <a:solidFill>
                <a:srgbClr val="e6a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239280" y="4456800"/>
                <a:ext cx="82440" cy="116280"/>
              </a:xfrm>
              <a:custGeom>
                <a:avLst/>
                <a:gdLst/>
                <a:ahLst/>
                <a:rect l="l" t="t" r="r" b="b"/>
                <a:pathLst>
                  <a:path w="367" h="500">
                    <a:moveTo>
                      <a:pt x="222" y="0"/>
                    </a:moveTo>
                    <a:lnTo>
                      <a:pt x="99" y="22"/>
                    </a:lnTo>
                    <a:lnTo>
                      <a:pt x="36" y="73"/>
                    </a:lnTo>
                    <a:lnTo>
                      <a:pt x="0" y="135"/>
                    </a:lnTo>
                    <a:lnTo>
                      <a:pt x="7" y="213"/>
                    </a:lnTo>
                    <a:lnTo>
                      <a:pt x="30" y="287"/>
                    </a:lnTo>
                    <a:lnTo>
                      <a:pt x="65" y="365"/>
                    </a:lnTo>
                    <a:lnTo>
                      <a:pt x="106" y="438"/>
                    </a:lnTo>
                    <a:lnTo>
                      <a:pt x="146" y="500"/>
                    </a:lnTo>
                    <a:lnTo>
                      <a:pt x="164" y="478"/>
                    </a:lnTo>
                    <a:lnTo>
                      <a:pt x="193" y="461"/>
                    </a:lnTo>
                    <a:lnTo>
                      <a:pt x="228" y="433"/>
                    </a:lnTo>
                    <a:lnTo>
                      <a:pt x="263" y="404"/>
                    </a:lnTo>
                    <a:lnTo>
                      <a:pt x="314" y="343"/>
                    </a:lnTo>
                    <a:lnTo>
                      <a:pt x="355" y="298"/>
                    </a:lnTo>
                    <a:lnTo>
                      <a:pt x="362" y="242"/>
                    </a:lnTo>
                    <a:lnTo>
                      <a:pt x="367" y="191"/>
                    </a:lnTo>
                    <a:lnTo>
                      <a:pt x="362" y="135"/>
                    </a:lnTo>
                    <a:lnTo>
                      <a:pt x="350" y="90"/>
                    </a:lnTo>
                    <a:lnTo>
                      <a:pt x="327" y="45"/>
                    </a:lnTo>
                    <a:lnTo>
                      <a:pt x="297" y="17"/>
                    </a:lnTo>
                    <a:lnTo>
                      <a:pt x="263" y="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e6a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048120" y="4501080"/>
                <a:ext cx="457200" cy="762120"/>
              </a:xfrm>
              <a:custGeom>
                <a:avLst/>
                <a:gdLst/>
                <a:ahLst/>
                <a:rect l="l" t="t" r="r" b="b"/>
                <a:pathLst>
                  <a:path w="2023" h="3289">
                    <a:moveTo>
                      <a:pt x="1262" y="0"/>
                    </a:moveTo>
                    <a:lnTo>
                      <a:pt x="1262" y="17"/>
                    </a:lnTo>
                    <a:lnTo>
                      <a:pt x="1267" y="56"/>
                    </a:lnTo>
                    <a:lnTo>
                      <a:pt x="1273" y="96"/>
                    </a:lnTo>
                    <a:lnTo>
                      <a:pt x="1278" y="118"/>
                    </a:lnTo>
                    <a:lnTo>
                      <a:pt x="1227" y="164"/>
                    </a:lnTo>
                    <a:lnTo>
                      <a:pt x="1179" y="225"/>
                    </a:lnTo>
                    <a:lnTo>
                      <a:pt x="1133" y="281"/>
                    </a:lnTo>
                    <a:lnTo>
                      <a:pt x="1093" y="331"/>
                    </a:lnTo>
                    <a:lnTo>
                      <a:pt x="1047" y="360"/>
                    </a:lnTo>
                    <a:lnTo>
                      <a:pt x="999" y="372"/>
                    </a:lnTo>
                    <a:lnTo>
                      <a:pt x="941" y="348"/>
                    </a:lnTo>
                    <a:lnTo>
                      <a:pt x="890" y="287"/>
                    </a:lnTo>
                    <a:lnTo>
                      <a:pt x="849" y="230"/>
                    </a:lnTo>
                    <a:lnTo>
                      <a:pt x="814" y="181"/>
                    </a:lnTo>
                    <a:lnTo>
                      <a:pt x="796" y="147"/>
                    </a:lnTo>
                    <a:lnTo>
                      <a:pt x="779" y="118"/>
                    </a:lnTo>
                    <a:lnTo>
                      <a:pt x="768" y="85"/>
                    </a:lnTo>
                    <a:lnTo>
                      <a:pt x="761" y="56"/>
                    </a:lnTo>
                    <a:lnTo>
                      <a:pt x="686" y="90"/>
                    </a:lnTo>
                    <a:lnTo>
                      <a:pt x="599" y="141"/>
                    </a:lnTo>
                    <a:lnTo>
                      <a:pt x="505" y="191"/>
                    </a:lnTo>
                    <a:lnTo>
                      <a:pt x="419" y="253"/>
                    </a:lnTo>
                    <a:lnTo>
                      <a:pt x="325" y="315"/>
                    </a:lnTo>
                    <a:lnTo>
                      <a:pt x="251" y="377"/>
                    </a:lnTo>
                    <a:lnTo>
                      <a:pt x="186" y="439"/>
                    </a:lnTo>
                    <a:lnTo>
                      <a:pt x="145" y="507"/>
                    </a:lnTo>
                    <a:lnTo>
                      <a:pt x="111" y="574"/>
                    </a:lnTo>
                    <a:lnTo>
                      <a:pt x="87" y="675"/>
                    </a:lnTo>
                    <a:lnTo>
                      <a:pt x="71" y="799"/>
                    </a:lnTo>
                    <a:lnTo>
                      <a:pt x="53" y="939"/>
                    </a:lnTo>
                    <a:lnTo>
                      <a:pt x="35" y="1074"/>
                    </a:lnTo>
                    <a:lnTo>
                      <a:pt x="23" y="1209"/>
                    </a:lnTo>
                    <a:lnTo>
                      <a:pt x="12" y="1327"/>
                    </a:lnTo>
                    <a:lnTo>
                      <a:pt x="12" y="1429"/>
                    </a:lnTo>
                    <a:lnTo>
                      <a:pt x="0" y="1564"/>
                    </a:lnTo>
                    <a:lnTo>
                      <a:pt x="0" y="1682"/>
                    </a:lnTo>
                    <a:lnTo>
                      <a:pt x="6" y="1783"/>
                    </a:lnTo>
                    <a:lnTo>
                      <a:pt x="29" y="1890"/>
                    </a:lnTo>
                    <a:lnTo>
                      <a:pt x="53" y="1979"/>
                    </a:lnTo>
                    <a:lnTo>
                      <a:pt x="94" y="2075"/>
                    </a:lnTo>
                    <a:lnTo>
                      <a:pt x="140" y="2170"/>
                    </a:lnTo>
                    <a:lnTo>
                      <a:pt x="198" y="2283"/>
                    </a:lnTo>
                    <a:lnTo>
                      <a:pt x="226" y="2339"/>
                    </a:lnTo>
                    <a:lnTo>
                      <a:pt x="256" y="2401"/>
                    </a:lnTo>
                    <a:lnTo>
                      <a:pt x="285" y="2457"/>
                    </a:lnTo>
                    <a:lnTo>
                      <a:pt x="320" y="2513"/>
                    </a:lnTo>
                    <a:lnTo>
                      <a:pt x="343" y="2457"/>
                    </a:lnTo>
                    <a:lnTo>
                      <a:pt x="372" y="2406"/>
                    </a:lnTo>
                    <a:lnTo>
                      <a:pt x="408" y="2356"/>
                    </a:lnTo>
                    <a:lnTo>
                      <a:pt x="442" y="2305"/>
                    </a:lnTo>
                    <a:lnTo>
                      <a:pt x="477" y="2255"/>
                    </a:lnTo>
                    <a:lnTo>
                      <a:pt x="512" y="2204"/>
                    </a:lnTo>
                    <a:lnTo>
                      <a:pt x="553" y="2160"/>
                    </a:lnTo>
                    <a:lnTo>
                      <a:pt x="599" y="2126"/>
                    </a:lnTo>
                    <a:lnTo>
                      <a:pt x="564" y="2047"/>
                    </a:lnTo>
                    <a:lnTo>
                      <a:pt x="523" y="1968"/>
                    </a:lnTo>
                    <a:lnTo>
                      <a:pt x="471" y="1883"/>
                    </a:lnTo>
                    <a:lnTo>
                      <a:pt x="424" y="1800"/>
                    </a:lnTo>
                    <a:lnTo>
                      <a:pt x="372" y="1715"/>
                    </a:lnTo>
                    <a:lnTo>
                      <a:pt x="337" y="1631"/>
                    </a:lnTo>
                    <a:lnTo>
                      <a:pt x="314" y="1552"/>
                    </a:lnTo>
                    <a:lnTo>
                      <a:pt x="320" y="1484"/>
                    </a:lnTo>
                    <a:lnTo>
                      <a:pt x="320" y="1451"/>
                    </a:lnTo>
                    <a:lnTo>
                      <a:pt x="325" y="1405"/>
                    </a:lnTo>
                    <a:lnTo>
                      <a:pt x="332" y="1361"/>
                    </a:lnTo>
                    <a:lnTo>
                      <a:pt x="349" y="1327"/>
                    </a:lnTo>
                    <a:lnTo>
                      <a:pt x="366" y="1277"/>
                    </a:lnTo>
                    <a:lnTo>
                      <a:pt x="383" y="1287"/>
                    </a:lnTo>
                    <a:lnTo>
                      <a:pt x="401" y="1333"/>
                    </a:lnTo>
                    <a:lnTo>
                      <a:pt x="419" y="1412"/>
                    </a:lnTo>
                    <a:lnTo>
                      <a:pt x="431" y="1496"/>
                    </a:lnTo>
                    <a:lnTo>
                      <a:pt x="442" y="1586"/>
                    </a:lnTo>
                    <a:lnTo>
                      <a:pt x="459" y="1659"/>
                    </a:lnTo>
                    <a:lnTo>
                      <a:pt x="477" y="1715"/>
                    </a:lnTo>
                    <a:lnTo>
                      <a:pt x="500" y="1755"/>
                    </a:lnTo>
                    <a:lnTo>
                      <a:pt x="535" y="1800"/>
                    </a:lnTo>
                    <a:lnTo>
                      <a:pt x="570" y="1844"/>
                    </a:lnTo>
                    <a:lnTo>
                      <a:pt x="604" y="1895"/>
                    </a:lnTo>
                    <a:lnTo>
                      <a:pt x="634" y="1934"/>
                    </a:lnTo>
                    <a:lnTo>
                      <a:pt x="662" y="1979"/>
                    </a:lnTo>
                    <a:lnTo>
                      <a:pt x="692" y="2025"/>
                    </a:lnTo>
                    <a:lnTo>
                      <a:pt x="715" y="2075"/>
                    </a:lnTo>
                    <a:lnTo>
                      <a:pt x="715" y="2097"/>
                    </a:lnTo>
                    <a:lnTo>
                      <a:pt x="721" y="2120"/>
                    </a:lnTo>
                    <a:lnTo>
                      <a:pt x="715" y="2143"/>
                    </a:lnTo>
                    <a:lnTo>
                      <a:pt x="715" y="2153"/>
                    </a:lnTo>
                    <a:lnTo>
                      <a:pt x="715" y="2170"/>
                    </a:lnTo>
                    <a:lnTo>
                      <a:pt x="715" y="2193"/>
                    </a:lnTo>
                    <a:lnTo>
                      <a:pt x="727" y="2199"/>
                    </a:lnTo>
                    <a:lnTo>
                      <a:pt x="733" y="2216"/>
                    </a:lnTo>
                    <a:lnTo>
                      <a:pt x="750" y="2249"/>
                    </a:lnTo>
                    <a:lnTo>
                      <a:pt x="779" y="2283"/>
                    </a:lnTo>
                    <a:lnTo>
                      <a:pt x="796" y="2322"/>
                    </a:lnTo>
                    <a:lnTo>
                      <a:pt x="826" y="2361"/>
                    </a:lnTo>
                    <a:lnTo>
                      <a:pt x="842" y="2395"/>
                    </a:lnTo>
                    <a:lnTo>
                      <a:pt x="860" y="2440"/>
                    </a:lnTo>
                    <a:lnTo>
                      <a:pt x="872" y="2491"/>
                    </a:lnTo>
                    <a:lnTo>
                      <a:pt x="890" y="2541"/>
                    </a:lnTo>
                    <a:lnTo>
                      <a:pt x="890" y="2643"/>
                    </a:lnTo>
                    <a:lnTo>
                      <a:pt x="872" y="2722"/>
                    </a:lnTo>
                    <a:lnTo>
                      <a:pt x="837" y="2778"/>
                    </a:lnTo>
                    <a:lnTo>
                      <a:pt x="785" y="2817"/>
                    </a:lnTo>
                    <a:lnTo>
                      <a:pt x="715" y="2828"/>
                    </a:lnTo>
                    <a:lnTo>
                      <a:pt x="639" y="2828"/>
                    </a:lnTo>
                    <a:lnTo>
                      <a:pt x="553" y="2817"/>
                    </a:lnTo>
                    <a:lnTo>
                      <a:pt x="465" y="2795"/>
                    </a:lnTo>
                    <a:lnTo>
                      <a:pt x="448" y="2834"/>
                    </a:lnTo>
                    <a:lnTo>
                      <a:pt x="442" y="2891"/>
                    </a:lnTo>
                    <a:lnTo>
                      <a:pt x="431" y="2947"/>
                    </a:lnTo>
                    <a:lnTo>
                      <a:pt x="431" y="3014"/>
                    </a:lnTo>
                    <a:lnTo>
                      <a:pt x="431" y="3070"/>
                    </a:lnTo>
                    <a:lnTo>
                      <a:pt x="431" y="3132"/>
                    </a:lnTo>
                    <a:lnTo>
                      <a:pt x="431" y="3183"/>
                    </a:lnTo>
                    <a:lnTo>
                      <a:pt x="436" y="3234"/>
                    </a:lnTo>
                    <a:lnTo>
                      <a:pt x="505" y="3234"/>
                    </a:lnTo>
                    <a:lnTo>
                      <a:pt x="593" y="3244"/>
                    </a:lnTo>
                    <a:lnTo>
                      <a:pt x="674" y="3256"/>
                    </a:lnTo>
                    <a:lnTo>
                      <a:pt x="761" y="3267"/>
                    </a:lnTo>
                    <a:lnTo>
                      <a:pt x="842" y="3273"/>
                    </a:lnTo>
                    <a:lnTo>
                      <a:pt x="930" y="3278"/>
                    </a:lnTo>
                    <a:lnTo>
                      <a:pt x="1017" y="3284"/>
                    </a:lnTo>
                    <a:lnTo>
                      <a:pt x="1105" y="3289"/>
                    </a:lnTo>
                    <a:lnTo>
                      <a:pt x="1156" y="3284"/>
                    </a:lnTo>
                    <a:lnTo>
                      <a:pt x="1220" y="3289"/>
                    </a:lnTo>
                    <a:lnTo>
                      <a:pt x="1273" y="3289"/>
                    </a:lnTo>
                    <a:lnTo>
                      <a:pt x="1331" y="3289"/>
                    </a:lnTo>
                    <a:lnTo>
                      <a:pt x="1366" y="3273"/>
                    </a:lnTo>
                    <a:lnTo>
                      <a:pt x="1442" y="3239"/>
                    </a:lnTo>
                    <a:lnTo>
                      <a:pt x="1541" y="3188"/>
                    </a:lnTo>
                    <a:lnTo>
                      <a:pt x="1656" y="3143"/>
                    </a:lnTo>
                    <a:lnTo>
                      <a:pt x="1767" y="3087"/>
                    </a:lnTo>
                    <a:lnTo>
                      <a:pt x="1860" y="3048"/>
                    </a:lnTo>
                    <a:lnTo>
                      <a:pt x="1929" y="3014"/>
                    </a:lnTo>
                    <a:lnTo>
                      <a:pt x="1959" y="3003"/>
                    </a:lnTo>
                    <a:lnTo>
                      <a:pt x="1970" y="2935"/>
                    </a:lnTo>
                    <a:lnTo>
                      <a:pt x="1977" y="2862"/>
                    </a:lnTo>
                    <a:lnTo>
                      <a:pt x="1965" y="2783"/>
                    </a:lnTo>
                    <a:lnTo>
                      <a:pt x="1959" y="2710"/>
                    </a:lnTo>
                    <a:lnTo>
                      <a:pt x="1941" y="2637"/>
                    </a:lnTo>
                    <a:lnTo>
                      <a:pt x="1924" y="2570"/>
                    </a:lnTo>
                    <a:lnTo>
                      <a:pt x="1906" y="2513"/>
                    </a:lnTo>
                    <a:lnTo>
                      <a:pt x="1901" y="2474"/>
                    </a:lnTo>
                    <a:lnTo>
                      <a:pt x="1894" y="2502"/>
                    </a:lnTo>
                    <a:lnTo>
                      <a:pt x="1894" y="2536"/>
                    </a:lnTo>
                    <a:lnTo>
                      <a:pt x="1889" y="2564"/>
                    </a:lnTo>
                    <a:lnTo>
                      <a:pt x="1889" y="2597"/>
                    </a:lnTo>
                    <a:lnTo>
                      <a:pt x="1883" y="2626"/>
                    </a:lnTo>
                    <a:lnTo>
                      <a:pt x="1883" y="2654"/>
                    </a:lnTo>
                    <a:lnTo>
                      <a:pt x="1871" y="2688"/>
                    </a:lnTo>
                    <a:lnTo>
                      <a:pt x="1866" y="2722"/>
                    </a:lnTo>
                    <a:lnTo>
                      <a:pt x="1843" y="2749"/>
                    </a:lnTo>
                    <a:lnTo>
                      <a:pt x="1825" y="2773"/>
                    </a:lnTo>
                    <a:lnTo>
                      <a:pt x="1808" y="2778"/>
                    </a:lnTo>
                    <a:lnTo>
                      <a:pt x="1790" y="2783"/>
                    </a:lnTo>
                    <a:lnTo>
                      <a:pt x="1761" y="2778"/>
                    </a:lnTo>
                    <a:lnTo>
                      <a:pt x="1738" y="2778"/>
                    </a:lnTo>
                    <a:lnTo>
                      <a:pt x="1709" y="2778"/>
                    </a:lnTo>
                    <a:lnTo>
                      <a:pt x="1680" y="2783"/>
                    </a:lnTo>
                    <a:lnTo>
                      <a:pt x="1622" y="2795"/>
                    </a:lnTo>
                    <a:lnTo>
                      <a:pt x="1569" y="2817"/>
                    </a:lnTo>
                    <a:lnTo>
                      <a:pt x="1506" y="2840"/>
                    </a:lnTo>
                    <a:lnTo>
                      <a:pt x="1453" y="2857"/>
                    </a:lnTo>
                    <a:lnTo>
                      <a:pt x="1395" y="2857"/>
                    </a:lnTo>
                    <a:lnTo>
                      <a:pt x="1349" y="2840"/>
                    </a:lnTo>
                    <a:lnTo>
                      <a:pt x="1302" y="2795"/>
                    </a:lnTo>
                    <a:lnTo>
                      <a:pt x="1278" y="2722"/>
                    </a:lnTo>
                    <a:lnTo>
                      <a:pt x="1267" y="2665"/>
                    </a:lnTo>
                    <a:lnTo>
                      <a:pt x="1267" y="2614"/>
                    </a:lnTo>
                    <a:lnTo>
                      <a:pt x="1267" y="2564"/>
                    </a:lnTo>
                    <a:lnTo>
                      <a:pt x="1278" y="2513"/>
                    </a:lnTo>
                    <a:lnTo>
                      <a:pt x="1285" y="2462"/>
                    </a:lnTo>
                    <a:lnTo>
                      <a:pt x="1302" y="2418"/>
                    </a:lnTo>
                    <a:lnTo>
                      <a:pt x="1313" y="2378"/>
                    </a:lnTo>
                    <a:lnTo>
                      <a:pt x="1331" y="2345"/>
                    </a:lnTo>
                    <a:lnTo>
                      <a:pt x="1366" y="2210"/>
                    </a:lnTo>
                    <a:lnTo>
                      <a:pt x="1412" y="2092"/>
                    </a:lnTo>
                    <a:lnTo>
                      <a:pt x="1459" y="1968"/>
                    </a:lnTo>
                    <a:lnTo>
                      <a:pt x="1500" y="1844"/>
                    </a:lnTo>
                    <a:lnTo>
                      <a:pt x="1529" y="1709"/>
                    </a:lnTo>
                    <a:lnTo>
                      <a:pt x="1546" y="1574"/>
                    </a:lnTo>
                    <a:lnTo>
                      <a:pt x="1552" y="1422"/>
                    </a:lnTo>
                    <a:lnTo>
                      <a:pt x="1541" y="1265"/>
                    </a:lnTo>
                    <a:lnTo>
                      <a:pt x="1534" y="1254"/>
                    </a:lnTo>
                    <a:lnTo>
                      <a:pt x="1534" y="1231"/>
                    </a:lnTo>
                    <a:lnTo>
                      <a:pt x="1529" y="1204"/>
                    </a:lnTo>
                    <a:lnTo>
                      <a:pt x="1529" y="1187"/>
                    </a:lnTo>
                    <a:lnTo>
                      <a:pt x="1534" y="1175"/>
                    </a:lnTo>
                    <a:lnTo>
                      <a:pt x="1552" y="1170"/>
                    </a:lnTo>
                    <a:lnTo>
                      <a:pt x="1564" y="1164"/>
                    </a:lnTo>
                    <a:lnTo>
                      <a:pt x="1569" y="1175"/>
                    </a:lnTo>
                    <a:lnTo>
                      <a:pt x="1599" y="1175"/>
                    </a:lnTo>
                    <a:lnTo>
                      <a:pt x="1599" y="1226"/>
                    </a:lnTo>
                    <a:lnTo>
                      <a:pt x="1610" y="1282"/>
                    </a:lnTo>
                    <a:lnTo>
                      <a:pt x="1622" y="1344"/>
                    </a:lnTo>
                    <a:lnTo>
                      <a:pt x="1640" y="1412"/>
                    </a:lnTo>
                    <a:lnTo>
                      <a:pt x="1645" y="1473"/>
                    </a:lnTo>
                    <a:lnTo>
                      <a:pt x="1651" y="1540"/>
                    </a:lnTo>
                    <a:lnTo>
                      <a:pt x="1651" y="1608"/>
                    </a:lnTo>
                    <a:lnTo>
                      <a:pt x="1651" y="1675"/>
                    </a:lnTo>
                    <a:lnTo>
                      <a:pt x="1633" y="1721"/>
                    </a:lnTo>
                    <a:lnTo>
                      <a:pt x="1610" y="1783"/>
                    </a:lnTo>
                    <a:lnTo>
                      <a:pt x="1581" y="1861"/>
                    </a:lnTo>
                    <a:lnTo>
                      <a:pt x="1552" y="1945"/>
                    </a:lnTo>
                    <a:lnTo>
                      <a:pt x="1517" y="2025"/>
                    </a:lnTo>
                    <a:lnTo>
                      <a:pt x="1483" y="2109"/>
                    </a:lnTo>
                    <a:lnTo>
                      <a:pt x="1453" y="2182"/>
                    </a:lnTo>
                    <a:lnTo>
                      <a:pt x="1435" y="2244"/>
                    </a:lnTo>
                    <a:lnTo>
                      <a:pt x="1483" y="2271"/>
                    </a:lnTo>
                    <a:lnTo>
                      <a:pt x="1534" y="2305"/>
                    </a:lnTo>
                    <a:lnTo>
                      <a:pt x="1581" y="2345"/>
                    </a:lnTo>
                    <a:lnTo>
                      <a:pt x="1622" y="2384"/>
                    </a:lnTo>
                    <a:lnTo>
                      <a:pt x="1640" y="2412"/>
                    </a:lnTo>
                    <a:lnTo>
                      <a:pt x="1663" y="2446"/>
                    </a:lnTo>
                    <a:lnTo>
                      <a:pt x="1680" y="2479"/>
                    </a:lnTo>
                    <a:lnTo>
                      <a:pt x="1697" y="2513"/>
                    </a:lnTo>
                    <a:lnTo>
                      <a:pt x="1709" y="2541"/>
                    </a:lnTo>
                    <a:lnTo>
                      <a:pt x="1732" y="2570"/>
                    </a:lnTo>
                    <a:lnTo>
                      <a:pt x="1755" y="2597"/>
                    </a:lnTo>
                    <a:lnTo>
                      <a:pt x="1795" y="2631"/>
                    </a:lnTo>
                    <a:lnTo>
                      <a:pt x="1820" y="2525"/>
                    </a:lnTo>
                    <a:lnTo>
                      <a:pt x="1854" y="2418"/>
                    </a:lnTo>
                    <a:lnTo>
                      <a:pt x="1889" y="2305"/>
                    </a:lnTo>
                    <a:lnTo>
                      <a:pt x="1929" y="2193"/>
                    </a:lnTo>
                    <a:lnTo>
                      <a:pt x="1959" y="2075"/>
                    </a:lnTo>
                    <a:lnTo>
                      <a:pt x="1988" y="1968"/>
                    </a:lnTo>
                    <a:lnTo>
                      <a:pt x="2005" y="1861"/>
                    </a:lnTo>
                    <a:lnTo>
                      <a:pt x="2023" y="1766"/>
                    </a:lnTo>
                    <a:lnTo>
                      <a:pt x="2017" y="1692"/>
                    </a:lnTo>
                    <a:lnTo>
                      <a:pt x="2011" y="1619"/>
                    </a:lnTo>
                    <a:lnTo>
                      <a:pt x="2000" y="1540"/>
                    </a:lnTo>
                    <a:lnTo>
                      <a:pt x="1988" y="1462"/>
                    </a:lnTo>
                    <a:lnTo>
                      <a:pt x="1970" y="1378"/>
                    </a:lnTo>
                    <a:lnTo>
                      <a:pt x="1952" y="1299"/>
                    </a:lnTo>
                    <a:lnTo>
                      <a:pt x="1936" y="1221"/>
                    </a:lnTo>
                    <a:lnTo>
                      <a:pt x="1929" y="1158"/>
                    </a:lnTo>
                    <a:lnTo>
                      <a:pt x="1912" y="1063"/>
                    </a:lnTo>
                    <a:lnTo>
                      <a:pt x="1912" y="973"/>
                    </a:lnTo>
                    <a:lnTo>
                      <a:pt x="1906" y="877"/>
                    </a:lnTo>
                    <a:lnTo>
                      <a:pt x="1906" y="787"/>
                    </a:lnTo>
                    <a:lnTo>
                      <a:pt x="1894" y="698"/>
                    </a:lnTo>
                    <a:lnTo>
                      <a:pt x="1889" y="613"/>
                    </a:lnTo>
                    <a:lnTo>
                      <a:pt x="1866" y="534"/>
                    </a:lnTo>
                    <a:lnTo>
                      <a:pt x="1837" y="466"/>
                    </a:lnTo>
                    <a:lnTo>
                      <a:pt x="1790" y="399"/>
                    </a:lnTo>
                    <a:lnTo>
                      <a:pt x="1732" y="338"/>
                    </a:lnTo>
                    <a:lnTo>
                      <a:pt x="1663" y="270"/>
                    </a:lnTo>
                    <a:lnTo>
                      <a:pt x="1581" y="208"/>
                    </a:lnTo>
                    <a:lnTo>
                      <a:pt x="1494" y="141"/>
                    </a:lnTo>
                    <a:lnTo>
                      <a:pt x="1412" y="85"/>
                    </a:lnTo>
                    <a:lnTo>
                      <a:pt x="1326" y="34"/>
                    </a:lnTo>
                    <a:lnTo>
                      <a:pt x="1262" y="0"/>
                    </a:lnTo>
                    <a:close/>
                  </a:path>
                </a:pathLst>
              </a:cu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141360" y="5014800"/>
                <a:ext cx="88200" cy="126000"/>
              </a:xfrm>
              <a:custGeom>
                <a:avLst/>
                <a:gdLst/>
                <a:ahLst/>
                <a:rect l="l" t="t" r="r" b="b"/>
                <a:pathLst>
                  <a:path w="389" h="545">
                    <a:moveTo>
                      <a:pt x="215" y="0"/>
                    </a:moveTo>
                    <a:lnTo>
                      <a:pt x="175" y="33"/>
                    </a:lnTo>
                    <a:lnTo>
                      <a:pt x="140" y="72"/>
                    </a:lnTo>
                    <a:lnTo>
                      <a:pt x="104" y="118"/>
                    </a:lnTo>
                    <a:lnTo>
                      <a:pt x="81" y="168"/>
                    </a:lnTo>
                    <a:lnTo>
                      <a:pt x="52" y="213"/>
                    </a:lnTo>
                    <a:lnTo>
                      <a:pt x="35" y="263"/>
                    </a:lnTo>
                    <a:lnTo>
                      <a:pt x="18" y="320"/>
                    </a:lnTo>
                    <a:lnTo>
                      <a:pt x="0" y="376"/>
                    </a:lnTo>
                    <a:lnTo>
                      <a:pt x="52" y="415"/>
                    </a:lnTo>
                    <a:lnTo>
                      <a:pt x="104" y="455"/>
                    </a:lnTo>
                    <a:lnTo>
                      <a:pt x="127" y="472"/>
                    </a:lnTo>
                    <a:lnTo>
                      <a:pt x="157" y="489"/>
                    </a:lnTo>
                    <a:lnTo>
                      <a:pt x="186" y="506"/>
                    </a:lnTo>
                    <a:lnTo>
                      <a:pt x="226" y="528"/>
                    </a:lnTo>
                    <a:lnTo>
                      <a:pt x="290" y="545"/>
                    </a:lnTo>
                    <a:lnTo>
                      <a:pt x="343" y="533"/>
                    </a:lnTo>
                    <a:lnTo>
                      <a:pt x="372" y="494"/>
                    </a:lnTo>
                    <a:lnTo>
                      <a:pt x="389" y="444"/>
                    </a:lnTo>
                    <a:lnTo>
                      <a:pt x="389" y="376"/>
                    </a:lnTo>
                    <a:lnTo>
                      <a:pt x="383" y="309"/>
                    </a:lnTo>
                    <a:lnTo>
                      <a:pt x="366" y="236"/>
                    </a:lnTo>
                    <a:lnTo>
                      <a:pt x="348" y="179"/>
                    </a:lnTo>
                    <a:lnTo>
                      <a:pt x="314" y="129"/>
                    </a:lnTo>
                    <a:lnTo>
                      <a:pt x="279" y="89"/>
                    </a:lnTo>
                    <a:lnTo>
                      <a:pt x="244" y="39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e6a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346560" y="5043960"/>
                <a:ext cx="74520" cy="102600"/>
              </a:xfrm>
              <a:custGeom>
                <a:avLst/>
                <a:gdLst/>
                <a:ahLst/>
                <a:rect l="l" t="t" r="r" b="b"/>
                <a:pathLst>
                  <a:path w="332" h="444">
                    <a:moveTo>
                      <a:pt x="105" y="0"/>
                    </a:moveTo>
                    <a:lnTo>
                      <a:pt x="65" y="45"/>
                    </a:lnTo>
                    <a:lnTo>
                      <a:pt x="30" y="117"/>
                    </a:lnTo>
                    <a:lnTo>
                      <a:pt x="7" y="196"/>
                    </a:lnTo>
                    <a:lnTo>
                      <a:pt x="0" y="286"/>
                    </a:lnTo>
                    <a:lnTo>
                      <a:pt x="7" y="360"/>
                    </a:lnTo>
                    <a:lnTo>
                      <a:pt x="47" y="416"/>
                    </a:lnTo>
                    <a:lnTo>
                      <a:pt x="116" y="444"/>
                    </a:lnTo>
                    <a:lnTo>
                      <a:pt x="222" y="438"/>
                    </a:lnTo>
                    <a:lnTo>
                      <a:pt x="296" y="394"/>
                    </a:lnTo>
                    <a:lnTo>
                      <a:pt x="332" y="343"/>
                    </a:lnTo>
                    <a:lnTo>
                      <a:pt x="326" y="281"/>
                    </a:lnTo>
                    <a:lnTo>
                      <a:pt x="303" y="219"/>
                    </a:lnTo>
                    <a:lnTo>
                      <a:pt x="256" y="151"/>
                    </a:lnTo>
                    <a:lnTo>
                      <a:pt x="204" y="90"/>
                    </a:lnTo>
                    <a:lnTo>
                      <a:pt x="146" y="33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e6a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090240" y="5249880"/>
                <a:ext cx="382320" cy="601920"/>
              </a:xfrm>
              <a:custGeom>
                <a:avLst/>
                <a:gdLst/>
                <a:ahLst/>
                <a:rect l="l" t="t" r="r" b="b"/>
                <a:pathLst>
                  <a:path w="1692" h="2597">
                    <a:moveTo>
                      <a:pt x="1680" y="0"/>
                    </a:moveTo>
                    <a:lnTo>
                      <a:pt x="1604" y="10"/>
                    </a:lnTo>
                    <a:lnTo>
                      <a:pt x="1528" y="33"/>
                    </a:lnTo>
                    <a:lnTo>
                      <a:pt x="1454" y="50"/>
                    </a:lnTo>
                    <a:lnTo>
                      <a:pt x="1383" y="78"/>
                    </a:lnTo>
                    <a:lnTo>
                      <a:pt x="1308" y="95"/>
                    </a:lnTo>
                    <a:lnTo>
                      <a:pt x="1238" y="118"/>
                    </a:lnTo>
                    <a:lnTo>
                      <a:pt x="1168" y="135"/>
                    </a:lnTo>
                    <a:lnTo>
                      <a:pt x="1104" y="145"/>
                    </a:lnTo>
                    <a:lnTo>
                      <a:pt x="1000" y="145"/>
                    </a:lnTo>
                    <a:lnTo>
                      <a:pt x="895" y="145"/>
                    </a:lnTo>
                    <a:lnTo>
                      <a:pt x="785" y="145"/>
                    </a:lnTo>
                    <a:lnTo>
                      <a:pt x="674" y="145"/>
                    </a:lnTo>
                    <a:lnTo>
                      <a:pt x="564" y="140"/>
                    </a:lnTo>
                    <a:lnTo>
                      <a:pt x="453" y="135"/>
                    </a:lnTo>
                    <a:lnTo>
                      <a:pt x="349" y="123"/>
                    </a:lnTo>
                    <a:lnTo>
                      <a:pt x="250" y="118"/>
                    </a:lnTo>
                    <a:lnTo>
                      <a:pt x="227" y="190"/>
                    </a:lnTo>
                    <a:lnTo>
                      <a:pt x="210" y="292"/>
                    </a:lnTo>
                    <a:lnTo>
                      <a:pt x="192" y="415"/>
                    </a:lnTo>
                    <a:lnTo>
                      <a:pt x="180" y="550"/>
                    </a:lnTo>
                    <a:lnTo>
                      <a:pt x="163" y="680"/>
                    </a:lnTo>
                    <a:lnTo>
                      <a:pt x="151" y="803"/>
                    </a:lnTo>
                    <a:lnTo>
                      <a:pt x="146" y="910"/>
                    </a:lnTo>
                    <a:lnTo>
                      <a:pt x="146" y="994"/>
                    </a:lnTo>
                    <a:lnTo>
                      <a:pt x="139" y="1050"/>
                    </a:lnTo>
                    <a:lnTo>
                      <a:pt x="139" y="1118"/>
                    </a:lnTo>
                    <a:lnTo>
                      <a:pt x="139" y="1185"/>
                    </a:lnTo>
                    <a:lnTo>
                      <a:pt x="139" y="1259"/>
                    </a:lnTo>
                    <a:lnTo>
                      <a:pt x="139" y="1326"/>
                    </a:lnTo>
                    <a:lnTo>
                      <a:pt x="139" y="1399"/>
                    </a:lnTo>
                    <a:lnTo>
                      <a:pt x="146" y="1467"/>
                    </a:lnTo>
                    <a:lnTo>
                      <a:pt x="163" y="1534"/>
                    </a:lnTo>
                    <a:lnTo>
                      <a:pt x="169" y="1557"/>
                    </a:lnTo>
                    <a:lnTo>
                      <a:pt x="174" y="1574"/>
                    </a:lnTo>
                    <a:lnTo>
                      <a:pt x="151" y="1607"/>
                    </a:lnTo>
                    <a:lnTo>
                      <a:pt x="128" y="1680"/>
                    </a:lnTo>
                    <a:lnTo>
                      <a:pt x="99" y="1781"/>
                    </a:lnTo>
                    <a:lnTo>
                      <a:pt x="76" y="1899"/>
                    </a:lnTo>
                    <a:lnTo>
                      <a:pt x="40" y="2018"/>
                    </a:lnTo>
                    <a:lnTo>
                      <a:pt x="24" y="2130"/>
                    </a:lnTo>
                    <a:lnTo>
                      <a:pt x="6" y="2220"/>
                    </a:lnTo>
                    <a:lnTo>
                      <a:pt x="0" y="2282"/>
                    </a:lnTo>
                    <a:lnTo>
                      <a:pt x="52" y="2316"/>
                    </a:lnTo>
                    <a:lnTo>
                      <a:pt x="111" y="2350"/>
                    </a:lnTo>
                    <a:lnTo>
                      <a:pt x="169" y="2384"/>
                    </a:lnTo>
                    <a:lnTo>
                      <a:pt x="233" y="2416"/>
                    </a:lnTo>
                    <a:lnTo>
                      <a:pt x="291" y="2445"/>
                    </a:lnTo>
                    <a:lnTo>
                      <a:pt x="354" y="2479"/>
                    </a:lnTo>
                    <a:lnTo>
                      <a:pt x="413" y="2512"/>
                    </a:lnTo>
                    <a:lnTo>
                      <a:pt x="476" y="2551"/>
                    </a:lnTo>
                    <a:lnTo>
                      <a:pt x="575" y="2585"/>
                    </a:lnTo>
                    <a:lnTo>
                      <a:pt x="715" y="2597"/>
                    </a:lnTo>
                    <a:lnTo>
                      <a:pt x="878" y="2591"/>
                    </a:lnTo>
                    <a:lnTo>
                      <a:pt x="1052" y="2575"/>
                    </a:lnTo>
                    <a:lnTo>
                      <a:pt x="1226" y="2546"/>
                    </a:lnTo>
                    <a:lnTo>
                      <a:pt x="1395" y="2524"/>
                    </a:lnTo>
                    <a:lnTo>
                      <a:pt x="1535" y="2496"/>
                    </a:lnTo>
                    <a:lnTo>
                      <a:pt x="1651" y="2490"/>
                    </a:lnTo>
                    <a:lnTo>
                      <a:pt x="1639" y="2433"/>
                    </a:lnTo>
                    <a:lnTo>
                      <a:pt x="1634" y="2384"/>
                    </a:lnTo>
                    <a:lnTo>
                      <a:pt x="1634" y="2327"/>
                    </a:lnTo>
                    <a:lnTo>
                      <a:pt x="1634" y="2276"/>
                    </a:lnTo>
                    <a:lnTo>
                      <a:pt x="1627" y="2215"/>
                    </a:lnTo>
                    <a:lnTo>
                      <a:pt x="1627" y="2158"/>
                    </a:lnTo>
                    <a:lnTo>
                      <a:pt x="1627" y="2102"/>
                    </a:lnTo>
                    <a:lnTo>
                      <a:pt x="1627" y="2046"/>
                    </a:lnTo>
                    <a:lnTo>
                      <a:pt x="1609" y="1972"/>
                    </a:lnTo>
                    <a:lnTo>
                      <a:pt x="1593" y="1939"/>
                    </a:lnTo>
                    <a:lnTo>
                      <a:pt x="1569" y="1928"/>
                    </a:lnTo>
                    <a:lnTo>
                      <a:pt x="1552" y="1939"/>
                    </a:lnTo>
                    <a:lnTo>
                      <a:pt x="1528" y="1962"/>
                    </a:lnTo>
                    <a:lnTo>
                      <a:pt x="1505" y="2006"/>
                    </a:lnTo>
                    <a:lnTo>
                      <a:pt x="1488" y="2051"/>
                    </a:lnTo>
                    <a:lnTo>
                      <a:pt x="1477" y="2102"/>
                    </a:lnTo>
                    <a:lnTo>
                      <a:pt x="1459" y="2085"/>
                    </a:lnTo>
                    <a:lnTo>
                      <a:pt x="1447" y="2068"/>
                    </a:lnTo>
                    <a:lnTo>
                      <a:pt x="1429" y="2051"/>
                    </a:lnTo>
                    <a:lnTo>
                      <a:pt x="1424" y="2046"/>
                    </a:lnTo>
                    <a:lnTo>
                      <a:pt x="1436" y="2012"/>
                    </a:lnTo>
                    <a:lnTo>
                      <a:pt x="1454" y="1979"/>
                    </a:lnTo>
                    <a:lnTo>
                      <a:pt x="1470" y="1945"/>
                    </a:lnTo>
                    <a:lnTo>
                      <a:pt x="1488" y="1916"/>
                    </a:lnTo>
                    <a:lnTo>
                      <a:pt x="1500" y="1877"/>
                    </a:lnTo>
                    <a:lnTo>
                      <a:pt x="1517" y="1844"/>
                    </a:lnTo>
                    <a:lnTo>
                      <a:pt x="1528" y="1810"/>
                    </a:lnTo>
                    <a:lnTo>
                      <a:pt x="1546" y="1781"/>
                    </a:lnTo>
                    <a:lnTo>
                      <a:pt x="1552" y="1692"/>
                    </a:lnTo>
                    <a:lnTo>
                      <a:pt x="1563" y="1613"/>
                    </a:lnTo>
                    <a:lnTo>
                      <a:pt x="1569" y="1540"/>
                    </a:lnTo>
                    <a:lnTo>
                      <a:pt x="1575" y="1467"/>
                    </a:lnTo>
                    <a:lnTo>
                      <a:pt x="1575" y="1388"/>
                    </a:lnTo>
                    <a:lnTo>
                      <a:pt x="1581" y="1309"/>
                    </a:lnTo>
                    <a:lnTo>
                      <a:pt x="1581" y="1225"/>
                    </a:lnTo>
                    <a:lnTo>
                      <a:pt x="1598" y="1146"/>
                    </a:lnTo>
                    <a:lnTo>
                      <a:pt x="1616" y="1000"/>
                    </a:lnTo>
                    <a:lnTo>
                      <a:pt x="1634" y="854"/>
                    </a:lnTo>
                    <a:lnTo>
                      <a:pt x="1651" y="702"/>
                    </a:lnTo>
                    <a:lnTo>
                      <a:pt x="1674" y="550"/>
                    </a:lnTo>
                    <a:lnTo>
                      <a:pt x="1680" y="393"/>
                    </a:lnTo>
                    <a:lnTo>
                      <a:pt x="1692" y="246"/>
                    </a:lnTo>
                    <a:lnTo>
                      <a:pt x="1685" y="111"/>
                    </a:lnTo>
                    <a:lnTo>
                      <a:pt x="1680" y="0"/>
                    </a:lnTo>
                    <a:close/>
                  </a:path>
                </a:pathLst>
              </a:cu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107520" y="5817240"/>
                <a:ext cx="115200" cy="126000"/>
              </a:xfrm>
              <a:custGeom>
                <a:avLst/>
                <a:gdLst/>
                <a:ahLst/>
                <a:rect l="l" t="t" r="r" b="b"/>
                <a:pathLst>
                  <a:path w="511" h="546">
                    <a:moveTo>
                      <a:pt x="17" y="0"/>
                    </a:moveTo>
                    <a:lnTo>
                      <a:pt x="5" y="34"/>
                    </a:lnTo>
                    <a:lnTo>
                      <a:pt x="5" y="85"/>
                    </a:lnTo>
                    <a:lnTo>
                      <a:pt x="0" y="130"/>
                    </a:lnTo>
                    <a:lnTo>
                      <a:pt x="0" y="186"/>
                    </a:lnTo>
                    <a:lnTo>
                      <a:pt x="0" y="236"/>
                    </a:lnTo>
                    <a:lnTo>
                      <a:pt x="5" y="287"/>
                    </a:lnTo>
                    <a:lnTo>
                      <a:pt x="12" y="332"/>
                    </a:lnTo>
                    <a:lnTo>
                      <a:pt x="29" y="371"/>
                    </a:lnTo>
                    <a:lnTo>
                      <a:pt x="52" y="395"/>
                    </a:lnTo>
                    <a:lnTo>
                      <a:pt x="104" y="427"/>
                    </a:lnTo>
                    <a:lnTo>
                      <a:pt x="162" y="467"/>
                    </a:lnTo>
                    <a:lnTo>
                      <a:pt x="238" y="506"/>
                    </a:lnTo>
                    <a:lnTo>
                      <a:pt x="302" y="529"/>
                    </a:lnTo>
                    <a:lnTo>
                      <a:pt x="372" y="546"/>
                    </a:lnTo>
                    <a:lnTo>
                      <a:pt x="418" y="546"/>
                    </a:lnTo>
                    <a:lnTo>
                      <a:pt x="453" y="529"/>
                    </a:lnTo>
                    <a:lnTo>
                      <a:pt x="459" y="495"/>
                    </a:lnTo>
                    <a:lnTo>
                      <a:pt x="471" y="461"/>
                    </a:lnTo>
                    <a:lnTo>
                      <a:pt x="476" y="427"/>
                    </a:lnTo>
                    <a:lnTo>
                      <a:pt x="488" y="395"/>
                    </a:lnTo>
                    <a:lnTo>
                      <a:pt x="494" y="355"/>
                    </a:lnTo>
                    <a:lnTo>
                      <a:pt x="499" y="316"/>
                    </a:lnTo>
                    <a:lnTo>
                      <a:pt x="506" y="277"/>
                    </a:lnTo>
                    <a:lnTo>
                      <a:pt x="511" y="243"/>
                    </a:lnTo>
                    <a:lnTo>
                      <a:pt x="441" y="214"/>
                    </a:lnTo>
                    <a:lnTo>
                      <a:pt x="377" y="186"/>
                    </a:lnTo>
                    <a:lnTo>
                      <a:pt x="314" y="158"/>
                    </a:lnTo>
                    <a:lnTo>
                      <a:pt x="255" y="130"/>
                    </a:lnTo>
                    <a:lnTo>
                      <a:pt x="197" y="96"/>
                    </a:lnTo>
                    <a:lnTo>
                      <a:pt x="139" y="62"/>
                    </a:lnTo>
                    <a:lnTo>
                      <a:pt x="75" y="29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a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381840" y="5852880"/>
                <a:ext cx="9360" cy="828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0" y="0"/>
                    </a:moveTo>
                    <a:lnTo>
                      <a:pt x="0" y="17"/>
                    </a:lnTo>
                    <a:lnTo>
                      <a:pt x="0" y="40"/>
                    </a:lnTo>
                    <a:lnTo>
                      <a:pt x="7" y="34"/>
                    </a:lnTo>
                    <a:lnTo>
                      <a:pt x="30" y="34"/>
                    </a:lnTo>
                    <a:lnTo>
                      <a:pt x="41" y="29"/>
                    </a:lnTo>
                    <a:lnTo>
                      <a:pt x="35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ff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260880" y="5856480"/>
                <a:ext cx="213120" cy="65880"/>
              </a:xfrm>
              <a:custGeom>
                <a:avLst/>
                <a:gdLst/>
                <a:ahLst/>
                <a:rect l="l" t="t" r="r" b="b"/>
                <a:pathLst>
                  <a:path w="942" h="287">
                    <a:moveTo>
                      <a:pt x="99" y="12"/>
                    </a:moveTo>
                    <a:lnTo>
                      <a:pt x="58" y="12"/>
                    </a:lnTo>
                    <a:lnTo>
                      <a:pt x="35" y="28"/>
                    </a:lnTo>
                    <a:lnTo>
                      <a:pt x="18" y="45"/>
                    </a:lnTo>
                    <a:lnTo>
                      <a:pt x="12" y="74"/>
                    </a:lnTo>
                    <a:lnTo>
                      <a:pt x="0" y="96"/>
                    </a:lnTo>
                    <a:lnTo>
                      <a:pt x="7" y="124"/>
                    </a:lnTo>
                    <a:lnTo>
                      <a:pt x="7" y="158"/>
                    </a:lnTo>
                    <a:lnTo>
                      <a:pt x="18" y="192"/>
                    </a:lnTo>
                    <a:lnTo>
                      <a:pt x="18" y="226"/>
                    </a:lnTo>
                    <a:lnTo>
                      <a:pt x="18" y="265"/>
                    </a:lnTo>
                    <a:lnTo>
                      <a:pt x="111" y="270"/>
                    </a:lnTo>
                    <a:lnTo>
                      <a:pt x="215" y="282"/>
                    </a:lnTo>
                    <a:lnTo>
                      <a:pt x="321" y="282"/>
                    </a:lnTo>
                    <a:lnTo>
                      <a:pt x="431" y="287"/>
                    </a:lnTo>
                    <a:lnTo>
                      <a:pt x="542" y="275"/>
                    </a:lnTo>
                    <a:lnTo>
                      <a:pt x="651" y="270"/>
                    </a:lnTo>
                    <a:lnTo>
                      <a:pt x="762" y="258"/>
                    </a:lnTo>
                    <a:lnTo>
                      <a:pt x="872" y="253"/>
                    </a:lnTo>
                    <a:lnTo>
                      <a:pt x="902" y="243"/>
                    </a:lnTo>
                    <a:lnTo>
                      <a:pt x="925" y="236"/>
                    </a:lnTo>
                    <a:lnTo>
                      <a:pt x="937" y="226"/>
                    </a:lnTo>
                    <a:lnTo>
                      <a:pt x="942" y="214"/>
                    </a:lnTo>
                    <a:lnTo>
                      <a:pt x="937" y="175"/>
                    </a:lnTo>
                    <a:lnTo>
                      <a:pt x="937" y="141"/>
                    </a:lnTo>
                    <a:lnTo>
                      <a:pt x="797" y="130"/>
                    </a:lnTo>
                    <a:lnTo>
                      <a:pt x="686" y="113"/>
                    </a:lnTo>
                    <a:lnTo>
                      <a:pt x="576" y="84"/>
                    </a:lnTo>
                    <a:lnTo>
                      <a:pt x="489" y="57"/>
                    </a:lnTo>
                    <a:lnTo>
                      <a:pt x="395" y="23"/>
                    </a:lnTo>
                    <a:lnTo>
                      <a:pt x="303" y="6"/>
                    </a:lnTo>
                    <a:lnTo>
                      <a:pt x="204" y="0"/>
                    </a:lnTo>
                    <a:lnTo>
                      <a:pt x="99" y="12"/>
                    </a:lnTo>
                    <a:close/>
                  </a:path>
                </a:pathLst>
              </a:custGeom>
              <a:solidFill>
                <a:srgbClr val="e6a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398040" y="4289040"/>
                <a:ext cx="18720" cy="69480"/>
              </a:xfrm>
              <a:custGeom>
                <a:avLst/>
                <a:gdLst/>
                <a:ahLst/>
                <a:rect l="l" t="t" r="r" b="b"/>
                <a:pathLst>
                  <a:path w="87" h="299">
                    <a:moveTo>
                      <a:pt x="18" y="0"/>
                    </a:moveTo>
                    <a:lnTo>
                      <a:pt x="81" y="17"/>
                    </a:lnTo>
                    <a:lnTo>
                      <a:pt x="87" y="265"/>
                    </a:lnTo>
                    <a:lnTo>
                      <a:pt x="76" y="265"/>
                    </a:lnTo>
                    <a:lnTo>
                      <a:pt x="53" y="282"/>
                    </a:lnTo>
                    <a:lnTo>
                      <a:pt x="23" y="287"/>
                    </a:lnTo>
                    <a:lnTo>
                      <a:pt x="6" y="299"/>
                    </a:lnTo>
                    <a:lnTo>
                      <a:pt x="0" y="282"/>
                    </a:lnTo>
                    <a:lnTo>
                      <a:pt x="0" y="248"/>
                    </a:lnTo>
                    <a:lnTo>
                      <a:pt x="6" y="203"/>
                    </a:lnTo>
                    <a:lnTo>
                      <a:pt x="18" y="152"/>
                    </a:lnTo>
                    <a:lnTo>
                      <a:pt x="18" y="96"/>
                    </a:lnTo>
                    <a:lnTo>
                      <a:pt x="23" y="51"/>
                    </a:lnTo>
                    <a:lnTo>
                      <a:pt x="18" y="12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e6a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8413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0c0006"/>
              </a:gs>
              <a:gs pos="100000">
                <a:srgbClr val="6600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inciple of Appropriatenes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blical teaching must b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143000" y="32767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-appropri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380988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mentally-appropri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ersonal and Church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040" y="2514240"/>
            <a:ext cx="71629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have these principles been exhibited in my own spiritual lif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have they been manifested in the life of my church and/or ministr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is “Social Science”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udy of the way peopl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 Dynamic Relationship between…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914400" y="3885840"/>
            <a:ext cx="2819520" cy="11430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000025"/>
              </a:gs>
              <a:gs pos="100000">
                <a:srgbClr val="000099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Sc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86200"/>
            <a:ext cx="2819520" cy="11430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000025"/>
              </a:gs>
              <a:gs pos="100000">
                <a:srgbClr val="000099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06720" y="4454640"/>
            <a:ext cx="114300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w Do They Relate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143000" y="3352680"/>
            <a:ext cx="2819520" cy="5335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000025"/>
              </a:gs>
              <a:gs pos="100000">
                <a:srgbClr val="000099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194000" y="2971800"/>
            <a:ext cx="413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cience as master o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olog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609480" y="4267080"/>
            <a:ext cx="7800480" cy="990720"/>
            <a:chOff x="609480" y="4267080"/>
            <a:chExt cx="7800480" cy="990720"/>
          </a:xfrm>
        </p:grpSpPr>
        <p:sp>
          <p:nvSpPr>
            <p:cNvPr id="275" name=""/>
            <p:cNvSpPr/>
            <p:nvPr/>
          </p:nvSpPr>
          <p:spPr>
            <a:xfrm>
              <a:off x="1143000" y="4724280"/>
              <a:ext cx="2819520" cy="5335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50000">
                  <a:srgbClr val="000025"/>
                </a:gs>
                <a:gs pos="100000">
                  <a:srgbClr val="000099"/>
                </a:gs>
              </a:gsLst>
              <a:lin ang="81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Social Scienc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09480" y="4267080"/>
              <a:ext cx="2819520" cy="5335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50000">
                  <a:srgbClr val="000025"/>
                </a:gs>
                <a:gs pos="100000">
                  <a:srgbClr val="000099"/>
                </a:gs>
              </a:gsLst>
              <a:lin ang="81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heolog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195080" y="4267080"/>
              <a:ext cx="4214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cience as subservient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o Theology?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609480" y="2895480"/>
            <a:ext cx="2819520" cy="5335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000025"/>
              </a:gs>
              <a:gs pos="100000">
                <a:srgbClr val="000099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al Sc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762120" y="1447920"/>
            <a:ext cx="7759440" cy="1023120"/>
            <a:chOff x="762120" y="1447920"/>
            <a:chExt cx="7759440" cy="1023120"/>
          </a:xfrm>
        </p:grpSpPr>
        <p:sp>
          <p:nvSpPr>
            <p:cNvPr id="280" name=""/>
            <p:cNvSpPr/>
            <p:nvPr/>
          </p:nvSpPr>
          <p:spPr>
            <a:xfrm>
              <a:off x="1295280" y="1905120"/>
              <a:ext cx="2819520" cy="5331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50000">
                  <a:srgbClr val="000025"/>
                </a:gs>
                <a:gs pos="100000">
                  <a:srgbClr val="000099"/>
                </a:gs>
              </a:gsLst>
              <a:lin ang="81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heolog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348080" y="1523880"/>
              <a:ext cx="4173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cience that does awa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ith Theology?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62120" y="1447920"/>
              <a:ext cx="2819160" cy="5331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50000">
                  <a:srgbClr val="000025"/>
                </a:gs>
                <a:gs pos="100000">
                  <a:srgbClr val="000099"/>
                </a:gs>
              </a:gsLst>
              <a:lin ang="81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Social Scienc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1295280" y="1904760"/>
              <a:ext cx="2819520" cy="53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685800" y="5715000"/>
            <a:ext cx="7994520" cy="1023480"/>
            <a:chOff x="685800" y="5715000"/>
            <a:chExt cx="7994520" cy="1023480"/>
          </a:xfrm>
        </p:grpSpPr>
        <p:sp>
          <p:nvSpPr>
            <p:cNvPr id="285" name=""/>
            <p:cNvSpPr/>
            <p:nvPr/>
          </p:nvSpPr>
          <p:spPr>
            <a:xfrm>
              <a:off x="1219320" y="6172200"/>
              <a:ext cx="2819160" cy="5335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50000">
                  <a:srgbClr val="000025"/>
                </a:gs>
                <a:gs pos="100000">
                  <a:srgbClr val="000099"/>
                </a:gs>
              </a:gsLst>
              <a:lin ang="81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Scienc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273560" y="5791320"/>
              <a:ext cx="4406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heology that does awa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ith Science?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85800" y="5715000"/>
              <a:ext cx="2819520" cy="5335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50000">
                  <a:srgbClr val="000025"/>
                </a:gs>
                <a:gs pos="100000">
                  <a:srgbClr val="000099"/>
                </a:gs>
              </a:gsLst>
              <a:lin ang="81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heolog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1219320" y="6172200"/>
              <a:ext cx="2819160" cy="533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361960" y="304560"/>
            <a:ext cx="4190760" cy="1981080"/>
          </a:xfrm>
          <a:prstGeom prst="rect">
            <a:avLst/>
          </a:prstGeom>
          <a:blipFill rotWithShape="0">
            <a:blip r:embed="rId2"/>
            <a:stretch/>
          </a:blip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O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95480" y="5334120"/>
            <a:ext cx="2971800" cy="12189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Manki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380880" y="32004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reat Div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09480" y="3733920"/>
            <a:ext cx="784872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80880" y="320040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reat Div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09480" y="3733920"/>
            <a:ext cx="784872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361960" y="304560"/>
            <a:ext cx="4190760" cy="1981080"/>
          </a:xfrm>
          <a:prstGeom prst="rect">
            <a:avLst/>
          </a:prstGeom>
          <a:blipFill rotWithShape="0">
            <a:blip r:embed="rId2"/>
            <a:stretch/>
          </a:blip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OD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is the source of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EVLA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895480" y="5334120"/>
            <a:ext cx="2971800" cy="12189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Human Inqui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1219320"/>
            <a:ext cx="1905120" cy="5333760"/>
          </a:xfrm>
          <a:custGeom>
            <a:avLst/>
            <a:gdLst>
              <a:gd name="textAreaLeft" fmla="*/ 255240 w 1905120"/>
              <a:gd name="textAreaRight" fmla="*/ 1649880 w 1905120"/>
              <a:gd name="textAreaTop" fmla="*/ 933120 h 5333760"/>
              <a:gd name="textAreaBottom" fmla="*/ 3867120 h 533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6553080" y="1219320"/>
            <a:ext cx="1905120" cy="5333760"/>
          </a:xfrm>
          <a:custGeom>
            <a:avLst/>
            <a:gdLst>
              <a:gd name="textAreaLeft" fmla="*/ 255240 w 1905120"/>
              <a:gd name="textAreaRight" fmla="*/ 1649880 w 1905120"/>
              <a:gd name="textAreaTop" fmla="*/ 933120 h 5333760"/>
              <a:gd name="textAreaBottom" fmla="*/ 3867120 h 533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-305280" y="2209320"/>
            <a:ext cx="2590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934320" y="2209680"/>
            <a:ext cx="1904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80880" y="320040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reat Div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3733920"/>
            <a:ext cx="784872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361960" y="304560"/>
            <a:ext cx="4190760" cy="1981080"/>
          </a:xfrm>
          <a:prstGeom prst="rect">
            <a:avLst/>
          </a:prstGeom>
          <a:blipFill rotWithShape="0">
            <a:blip r:embed="rId2"/>
            <a:stretch/>
          </a:blip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OD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is the source of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EVLA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895480" y="5334120"/>
            <a:ext cx="2971800" cy="12189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Human Inqui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1219320"/>
            <a:ext cx="1905120" cy="5333760"/>
          </a:xfrm>
          <a:custGeom>
            <a:avLst/>
            <a:gdLst>
              <a:gd name="textAreaLeft" fmla="*/ 255240 w 1905120"/>
              <a:gd name="textAreaRight" fmla="*/ 1649880 w 1905120"/>
              <a:gd name="textAreaTop" fmla="*/ 933120 h 5333760"/>
              <a:gd name="textAreaBottom" fmla="*/ 3867120 h 533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6553080" y="1219320"/>
            <a:ext cx="1905120" cy="5333760"/>
          </a:xfrm>
          <a:custGeom>
            <a:avLst/>
            <a:gdLst>
              <a:gd name="textAreaLeft" fmla="*/ 255240 w 1905120"/>
              <a:gd name="textAreaRight" fmla="*/ 1649880 w 1905120"/>
              <a:gd name="textAreaTop" fmla="*/ 933120 h 5333760"/>
              <a:gd name="textAreaBottom" fmla="*/ 3867120 h 533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403848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Sc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-305280" y="2209320"/>
            <a:ext cx="2590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934320" y="2209680"/>
            <a:ext cx="1904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705720" y="403848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048120" y="2362320"/>
            <a:ext cx="2590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Re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971800" y="464832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Epistem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80880" y="320040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reat Div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09480" y="3733920"/>
            <a:ext cx="784872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361960" y="304560"/>
            <a:ext cx="4190760" cy="1981080"/>
          </a:xfrm>
          <a:prstGeom prst="rect">
            <a:avLst/>
          </a:prstGeom>
          <a:blipFill rotWithShape="0">
            <a:blip r:embed="rId2"/>
            <a:stretch/>
          </a:blip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OD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is the source of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EVLA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95480" y="5334120"/>
            <a:ext cx="2971800" cy="12189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Human Inqui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" y="1219320"/>
            <a:ext cx="1905120" cy="5333760"/>
          </a:xfrm>
          <a:custGeom>
            <a:avLst/>
            <a:gdLst>
              <a:gd name="textAreaLeft" fmla="*/ 255240 w 1905120"/>
              <a:gd name="textAreaRight" fmla="*/ 1649880 w 1905120"/>
              <a:gd name="textAreaTop" fmla="*/ 933120 h 5333760"/>
              <a:gd name="textAreaBottom" fmla="*/ 3867120 h 533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6553080" y="1219320"/>
            <a:ext cx="1905120" cy="5333760"/>
          </a:xfrm>
          <a:custGeom>
            <a:avLst/>
            <a:gdLst>
              <a:gd name="textAreaLeft" fmla="*/ 255240 w 1905120"/>
              <a:gd name="textAreaRight" fmla="*/ 1649880 w 1905120"/>
              <a:gd name="textAreaTop" fmla="*/ 933120 h 5333760"/>
              <a:gd name="textAreaBottom" fmla="*/ 3867120 h 533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403848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Sc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-305280" y="2209320"/>
            <a:ext cx="2590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934320" y="2209680"/>
            <a:ext cx="1904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705720" y="403848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8120" y="2362320"/>
            <a:ext cx="2590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Re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971800" y="464832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Epistem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2280" y="228600"/>
            <a:ext cx="1828800" cy="762120"/>
          </a:xfrm>
          <a:prstGeom prst="horizontalScroll">
            <a:avLst>
              <a:gd name="adj" fmla="val 12500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ula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162920" y="228600"/>
            <a:ext cx="1828800" cy="762120"/>
          </a:xfrm>
          <a:prstGeom prst="horizontalScroll">
            <a:avLst>
              <a:gd name="adj" fmla="val 12500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cr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590920" y="609480"/>
            <a:ext cx="5790960" cy="563256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1828800" cy="3535560"/>
          </a:xfrm>
          <a:prstGeom prst="rect">
            <a:avLst/>
          </a:prstGeom>
          <a:blipFill rotWithShape="0">
            <a:blip r:embed="rId3"/>
            <a:stretch/>
          </a:blip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onsider your student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ebrews 11:6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142640" y="15238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without faith it is impossible to pleas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i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for he who comes to God must believe that He is,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a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is a rewarder of those who seek Hi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90720" y="129528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Nature of Faith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llectual Acknowledgment (Min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ional Assent (Emo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itional Commitment (Wi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urrender of the soul, recognized as guilty, to the Lordship of Ch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eception of Christ as the source of pardon and spiritual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w do you know if real faith exists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371600" y="304776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ind blows where it wishes and you hear the sound of it, but do not know where it comes from and where it is going; so is everyone who is born of the Spirit. (John 3: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rom where does faith come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omans 12:3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91440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rough the grace given to me I say to every man among you not to think more highly of himself than he ought to think; but to think so as to have sound judgment, as God has allotted to each a measure of fait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990720" y="91440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John 6:44-4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91440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one can come to Me, unless the Father who sent Me draws him; and I will raise him up on the last day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t is written in the prophets, ‘And they shall all be taught of God.’ Everyone who has heard and learned from the Father, comes to M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90720" y="91440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James 1:5-6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91440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if any of you lacks wisdom, let him ask of God, who gives to all men generously and without reproach, and it will be given to hi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t let him ask in faith without any doubting, for the one who doubts is like the surf of the sea driven and tossed by the win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90720" y="91440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ark 9:22-24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if You can do anything, take pity on us and help us!”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Jesus said to him, “‘If You can!’ All things are possible to him who believe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mmediately the boy’s father cried out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ega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ying, “I do believe; help my unbelief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990720" y="91440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haracteristics of Learning Across the Lifespa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 Appropriate Disciple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oddlers &amp; 2 Year Old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it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ing language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ing through relationsh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f-contained (not involved in group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724280" y="1447920"/>
            <a:ext cx="3519720" cy="4913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eschool (3-5 Years Old)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le to focus on one thing at a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sory lear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physically adept than toddl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 lear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aming lear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562720" y="1371600"/>
            <a:ext cx="3314520" cy="42735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648320" y="4648320"/>
            <a:ext cx="2590560" cy="201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arly Elementary Childre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leplayers &amp; Dramat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s-on cre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rete thin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ing to 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952880" y="1447920"/>
            <a:ext cx="3643560" cy="4781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Upper Elementary Childre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hasis on group memb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ility to analyze facts &amp; inten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ical thin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ve for 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with common group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724280" y="1447920"/>
            <a:ext cx="3587760" cy="4825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iddle Schooler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ound emphasis on peer relationsh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al changes (physical and intern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dual shift from concrete to abstract thin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ility to reflect on one’s own thoughts &amp; 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5029200" y="1752480"/>
            <a:ext cx="3657600" cy="225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08-01-07T14:01:45Z</dcterms:modified>
  <cp:revision>41</cp:revision>
  <dc:subject/>
  <dc:title>Discipleship Across the Lifespan</dc:title>
</cp:coreProperties>
</file>