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png" ContentType="image/png"/>
  <Override PartName="/ppt/media/image6.gif" ContentType="image/gif"/>
  <Override PartName="/ppt/media/image10.jpeg" ContentType="image/jpeg"/>
  <Override PartName="/ppt/media/image7.wmf" ContentType="image/x-wmf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D2459-7DA4-4BDC-9676-B7DF9E736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18C11-F59E-459E-B9CF-CD4BA1549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998D6-6BA7-415F-8ABC-8BE4B73E1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84429-4A36-4905-9870-5D4CEAEDF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2E929-8A79-46B3-BC9B-91B785E10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136A7-AB47-43DE-A776-F8C24EB5E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BBFB0-27D9-4A44-B42B-C36D27937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20ED4-7E4A-4492-954A-8C609726D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154F5-0646-4E4B-B8B6-25BFBD640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070E0-CE20-4BC8-B322-8271DD409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EF032-DA59-41AE-82F1-7EDC8602C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ABD21-6744-4E2D-82FD-1167309AC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BE956-54D0-41C4-86AA-52CABAC63C7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johnstevenson.net/" TargetMode="External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Discipleship Across the Lifespan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inity International Univers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Textbook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Teaching for Spiritual Growth: An Introduction to Christian Educati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ry Downs, Zondervan, 199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Spiritual Disciplines for the Christian Lif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Donald S. Whitney, NavPress, 199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Course Syllabu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Discipleship Across the Lifespan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― CM330E 3.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Assignment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pers normally due at the beginning of each class sess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nal Paper due one week after Session F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0 to 12 pag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ed &amp; double spaced (APA formatting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n be handed in manually or Email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it is Emailed, use Word, Wordperfect or pd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ttendance Polic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Grade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676520" y="2133720"/>
            <a:ext cx="6400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ekly assignment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25 p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676520" y="2819520"/>
            <a:ext cx="64767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ass participati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5 p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676520" y="3505320"/>
            <a:ext cx="62481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nal Pape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0 p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38080" y="4114800"/>
            <a:ext cx="7010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676520" y="4495680"/>
            <a:ext cx="63244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tal Grad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200 p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500"/>
                            </p:stCondLst>
                            <p:childTnLst>
                              <p:par>
                                <p:cTn id="2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1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1000"/>
                            </p:stCondLst>
                            <p:childTnLst>
                              <p:par>
                                <p:cTn id="2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med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Personal Faith Journe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37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reak into pairs &amp; interview one anoth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ake no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 prepared to introduce one anoth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3581280" y="5425920"/>
            <a:ext cx="1676520" cy="143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5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Interview Ques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o have been the influential people in your lif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did they impact you, both positively &amp; negatively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have been the major turning point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were the major decisions you mad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re is the most room for spiritual growth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3581280" y="5425920"/>
            <a:ext cx="1676520" cy="143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500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500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500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med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905120"/>
            <a:ext cx="822960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Spiritual Discipline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687760" y="4253040"/>
            <a:ext cx="1731960" cy="457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000025"/>
              </a:gs>
              <a:gs pos="100000">
                <a:srgbClr val="000099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124080" y="3165480"/>
            <a:ext cx="1752840" cy="457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000025"/>
              </a:gs>
              <a:gs pos="100000">
                <a:srgbClr val="000099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322880" y="2611440"/>
            <a:ext cx="2840040" cy="457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0033"/>
              </a:gs>
              <a:gs pos="50000">
                <a:srgbClr val="1b000d"/>
              </a:gs>
              <a:gs pos="100000">
                <a:srgbClr val="660033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58960" y="2611440"/>
            <a:ext cx="685800" cy="457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000025"/>
              </a:gs>
              <a:gs pos="100000">
                <a:srgbClr val="000099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Matthew 28:18-20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838080" y="914400"/>
            <a:ext cx="746784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8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nd Jesus came up and spoke to them, saying, “All authority has been given to Me in heaven and on earth.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9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Go therefore and make disciples of all the nations, baptizing them in the name of the Father and the Son and the Holy Spirit,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teaching them to observe all that I commanded you; and lo, I am with you always, even to the end of the age.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62120" y="838080"/>
            <a:ext cx="7696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What is a disciple?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905120" y="2209320"/>
            <a:ext cx="54100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4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 disciple is not above his teacher, nor a slave above his master.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5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t is enough for the disciple that he become as his teacher, and the slave as his master. (Matthew 10:24-25)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Dr. John T. Stevenson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495680" y="17226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amily Lif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ademic Lif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1295280" y="1676520"/>
            <a:ext cx="2463840" cy="39621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What is a disciple?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905120" y="2209320"/>
            <a:ext cx="54100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disciple is not greater than his teacher, but everyone when fully trained will be like his teacher. (Luke 6:40 NIV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7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447920" y="4302000"/>
            <a:ext cx="533160" cy="457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33cc"/>
              </a:gs>
              <a:gs pos="50000">
                <a:srgbClr val="000924"/>
              </a:gs>
              <a:gs pos="100000">
                <a:srgbClr val="0033cc"/>
              </a:gs>
            </a:gsLst>
            <a:lin ang="81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073400" y="2362320"/>
            <a:ext cx="1143000" cy="457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33cc"/>
              </a:gs>
              <a:gs pos="50000">
                <a:srgbClr val="000924"/>
              </a:gs>
              <a:gs pos="100000">
                <a:srgbClr val="0033cc"/>
              </a:gs>
            </a:gsLst>
            <a:lin ang="81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76520" y="1849320"/>
            <a:ext cx="1143000" cy="457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33cc"/>
              </a:gs>
              <a:gs pos="50000">
                <a:srgbClr val="000924"/>
              </a:gs>
              <a:gs pos="100000">
                <a:srgbClr val="0033cc"/>
              </a:gs>
            </a:gsLst>
            <a:lin ang="81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477120" y="1849320"/>
            <a:ext cx="1143000" cy="457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33cc"/>
              </a:gs>
              <a:gs pos="50000">
                <a:srgbClr val="000924"/>
              </a:gs>
              <a:gs pos="100000">
                <a:srgbClr val="0033cc"/>
              </a:gs>
            </a:gsLst>
            <a:lin ang="81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572000" y="1371600"/>
            <a:ext cx="1143000" cy="457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33cc"/>
              </a:gs>
              <a:gs pos="50000">
                <a:srgbClr val="000924"/>
              </a:gs>
              <a:gs pos="100000">
                <a:srgbClr val="0033cc"/>
              </a:gs>
            </a:gsLst>
            <a:lin ang="81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Ephesians 4:11-13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761760" y="1295280"/>
            <a:ext cx="75438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He gave some as apostles, and some as prophets, and some as evangelists, and some as pastors and teachers,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for the equipping of the saints for the work of service, to the building up of the body of Christ;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until we all attain to the unity of the faith, and of the knowledge of the Son of God, to a mature man, to the measure of the stature which belongs to the fulness of Christ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2120" y="1143000"/>
            <a:ext cx="7467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0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What is the Correlation between…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1218960" y="3657240"/>
            <a:ext cx="2819160" cy="68580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50000">
                <a:srgbClr val="15000a"/>
              </a:gs>
              <a:gs pos="100000">
                <a:srgbClr val="660033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Discip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952880" y="3657600"/>
            <a:ext cx="2819520" cy="68580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50000">
                <a:srgbClr val="15000a"/>
              </a:gs>
              <a:gs pos="100000">
                <a:srgbClr val="660033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Discip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35320" y="4038480"/>
            <a:ext cx="685800" cy="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1 Corinthians 9:24-2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990720" y="1294920"/>
            <a:ext cx="7162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 you not know that those who run in a race all run, but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only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e receives the prize? Run in such a way that you may win.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5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nd everyone who competes in the games exercises self-control in all things. They then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do it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receive a perishable wreath, but we an imperishable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62120" y="1143000"/>
            <a:ext cx="7467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1 Corinthians 9:26-27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990720" y="1294920"/>
            <a:ext cx="7162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refore I run in such a way, as not without aim; I box in such a way, as not beating the air;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7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but I buffet my body and make it my slave, lest possibly, after I have preached to others, I myself should be disqualified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62120" y="1143000"/>
            <a:ext cx="7467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Spiritual Discipline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is a spiritual disciplin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0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3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42640" y="1905120"/>
            <a:ext cx="67057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Spiritual Discipline of Bible Reading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3200400" y="4267080"/>
            <a:ext cx="2286000" cy="12178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2 Timothy 2:1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990720" y="1294920"/>
            <a:ext cx="7162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 diligent to present yourself approved to God as a workman who does not need to be ashamed, handling accurately the word of truth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62120" y="1143000"/>
            <a:ext cx="7467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3200400" y="4267080"/>
            <a:ext cx="2286000" cy="12178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266720" y="0"/>
            <a:ext cx="4876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2 Timothy 3:16-17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609120" y="380520"/>
            <a:ext cx="8001000" cy="67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l Scripture 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spired by Go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fitabl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 teaching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 reproof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 correction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 training in righteousness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7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that the man of God may b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dequate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quipped for every good work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343400" y="762120"/>
            <a:ext cx="44956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7013520" y="1143000"/>
            <a:ext cx="1654200" cy="28195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646280"/>
            <a:ext cx="8229600" cy="26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Bible reading in the Roman Catholic versus Protestant Tradition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324480" y="4191120"/>
            <a:ext cx="2133720" cy="203508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533520" y="4191120"/>
            <a:ext cx="2743200" cy="20286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John T. Stevenson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495680" y="17226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amily Lif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ademic Lif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fessional Lif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143000" y="1676520"/>
            <a:ext cx="2655720" cy="38862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 spd="med">
    <p:fade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838080" y="2590920"/>
            <a:ext cx="7925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y word is a lamp to my feet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a light to my path. (Psalm 119:105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3200400" y="4267080"/>
            <a:ext cx="2286000" cy="121788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762120" y="457200"/>
            <a:ext cx="746748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y word I have treasured in my heart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at I may not sin against Thee. (Psalm 119:11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2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7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Spiritual Discipline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is a spiritual disciplin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are your strengths &amp; weaknesses regarding the spiritual discipline of Bible intak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ble read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ble stud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ble memoriz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ble appli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is your plan to grow in these area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fill="hold">
                      <p:stCondLst>
                        <p:cond delay="0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6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3" dur="5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0" dur="5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7" dur="50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4" dur="500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1" dur="500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John T. Stevenson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1371600" y="1905120"/>
            <a:ext cx="1974960" cy="31525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4495680" y="1722600"/>
            <a:ext cx="41148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amily Lif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ademic Lif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fessional Lif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iritual Lif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inistry Lif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John T. Stevenson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66320" y="2437920"/>
            <a:ext cx="678204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ccff"/>
                </a:solidFill>
                <a:uFillTx/>
                <a:latin typeface="Arial"/>
                <a:hlinkClick r:id="rId2"/>
              </a:rPr>
              <a:t>http://JohnStevenson.n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ohnStevenson@Bellsouth.n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Discipleship across the Lifespan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our na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our home chur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re are you in the process of discipleship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s a discipl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s one who is discipling other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what ways will this class benefit your ministry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Syllabus Overview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cipleship Across the Lifesp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ourse Objective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biblical foundation for the importance and strategies of disciple mak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 able to articulate the developmental factors which enhance or delay the disciple making mand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derstand and utilize the teaching ministry of the church to enhance disciple making over the lifespan of an individu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ourse Objective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rticulate the communication techniques to be utilized at various stages of presentation of the truths of scriptures to individua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3520" y="3886200"/>
            <a:ext cx="2514600" cy="106668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blic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nd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3886200"/>
            <a:ext cx="2514600" cy="106668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velopment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80880" y="5410080"/>
            <a:ext cx="2667240" cy="106704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ach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inist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715000" y="5410080"/>
            <a:ext cx="2666880" cy="106704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uni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chniqu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819520" y="4800600"/>
            <a:ext cx="3200400" cy="68580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50000">
                <a:srgbClr val="0f0007"/>
              </a:gs>
              <a:gs pos="100000">
                <a:srgbClr val="660033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scipleshi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4T08:55:22Z</dcterms:created>
  <dc:creator>John Stevenson</dc:creator>
  <dc:description/>
  <dc:language>en-US</dc:language>
  <cp:lastModifiedBy>John Stevenson</cp:lastModifiedBy>
  <dcterms:modified xsi:type="dcterms:W3CDTF">2007-12-11T20:20:05Z</dcterms:modified>
  <cp:revision>51</cp:revision>
  <dc:subject/>
  <dc:title>Discipleship Across the Lifespan</dc:title>
</cp:coreProperties>
</file>