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-1905120" y="0"/>
            <a:ext cx="11049120" cy="683244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5486400" y="4495680"/>
            <a:ext cx="3200400" cy="19144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Big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3352680" cy="193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© John Stevenson Bible Studies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viticus:  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Book of Holin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590920"/>
            <a:ext cx="3048120" cy="167616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eviticus tells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f the wo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aking place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Tabern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17960" y="3352680"/>
            <a:ext cx="762120" cy="18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590920"/>
            <a:ext cx="3276360" cy="167616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odus end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f the Tabern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 you walk in My statutes and keep My commandments… (26: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ive you 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nd will yield its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s of the field will bear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eat your food to the f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grant you pe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chase your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you fruitful and multiply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dwell with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 you do not obey Me and carry out all these commandments… (26:14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ppoint over you a sudden terror, consumption an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sow your seed use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be struck down before your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te you shall rule ove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flee when no one is pursu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, after these things, you do not obey me… (26:1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unish you seven times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reak down your pride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trength will be spent use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land will not produce its 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s of the land will not yield their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, then you act with hostility toward Me and are not willing… (26:2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increase the plague seve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et loose among you the beast of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all bereave you of your children and destroy your c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, by these things you are not turned to Me… (26:2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trike you seve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ring upon you a 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trike you with a pesti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bread shall be rati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f, in spite of this, you do not obey Me… (26:27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unish you seven times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eat the flesh of your sons and daugh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cut down your high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lay waste your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the land deso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catter you among the nations and you will perish among the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533520"/>
            <a:ext cx="9448920" cy="7653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6320" y="281952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63160" y="237816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ad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r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9760" y="51814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SIN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09880"/>
            <a:ext cx="5029200" cy="2743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who live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are strong, and the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fortifi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larg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moreover, we saw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endants of Anak t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umbers 13:2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1073800">
            <a:off x="5257800" y="3200400"/>
            <a:ext cx="887400" cy="1828800"/>
          </a:xfrm>
          <a:custGeom>
            <a:avLst/>
            <a:gdLst/>
            <a:ahLst/>
            <a:rect l="l" t="t" r="r" b="b"/>
            <a:pathLst>
              <a:path w="384" h="1152">
                <a:moveTo>
                  <a:pt x="0" y="1152"/>
                </a:moveTo>
                <a:cubicBezTo>
                  <a:pt x="40" y="936"/>
                  <a:pt x="80" y="720"/>
                  <a:pt x="144" y="528"/>
                </a:cubicBezTo>
                <a:cubicBezTo>
                  <a:pt x="208" y="336"/>
                  <a:pt x="296" y="168"/>
                  <a:pt x="384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-533520"/>
            <a:ext cx="9448920" cy="7653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6320" y="281952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63160" y="237816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Kad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Bar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51814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SIN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25360" y="32004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397240"/>
            <a:ext cx="2359080" cy="1895400"/>
          </a:xfrm>
          <a:custGeom>
            <a:avLst/>
            <a:gdLst/>
            <a:ahLst/>
            <a:rect l="l" t="t" r="r" b="b"/>
            <a:pathLst>
              <a:path w="1486" h="1194">
                <a:moveTo>
                  <a:pt x="0" y="717"/>
                </a:moveTo>
                <a:cubicBezTo>
                  <a:pt x="38" y="764"/>
                  <a:pt x="126" y="909"/>
                  <a:pt x="230" y="986"/>
                </a:cubicBezTo>
                <a:cubicBezTo>
                  <a:pt x="334" y="1063"/>
                  <a:pt x="462" y="1162"/>
                  <a:pt x="624" y="1178"/>
                </a:cubicBezTo>
                <a:cubicBezTo>
                  <a:pt x="786" y="1194"/>
                  <a:pt x="1059" y="1191"/>
                  <a:pt x="1200" y="1082"/>
                </a:cubicBezTo>
                <a:cubicBezTo>
                  <a:pt x="1341" y="973"/>
                  <a:pt x="1406" y="740"/>
                  <a:pt x="1446" y="564"/>
                </a:cubicBezTo>
                <a:cubicBezTo>
                  <a:pt x="1486" y="388"/>
                  <a:pt x="1477" y="117"/>
                  <a:pt x="1485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-76320" y="-457200"/>
          <a:ext cx="9448920" cy="738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-457200"/>
                    <a:ext cx="9448920" cy="738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262120" y="1905120"/>
            <a:ext cx="19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u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nnase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75320" y="3962520"/>
            <a:ext cx="1130400" cy="3047760"/>
          </a:xfrm>
          <a:custGeom>
            <a:avLst/>
            <a:gdLst/>
            <a:ahLst/>
            <a:rect l="l" t="t" r="r" b="b"/>
            <a:pathLst>
              <a:path w="712" h="2064">
                <a:moveTo>
                  <a:pt x="712" y="2064"/>
                </a:moveTo>
                <a:cubicBezTo>
                  <a:pt x="700" y="1868"/>
                  <a:pt x="688" y="1672"/>
                  <a:pt x="616" y="1488"/>
                </a:cubicBezTo>
                <a:cubicBezTo>
                  <a:pt x="544" y="1304"/>
                  <a:pt x="376" y="1152"/>
                  <a:pt x="280" y="960"/>
                </a:cubicBezTo>
                <a:cubicBezTo>
                  <a:pt x="184" y="768"/>
                  <a:pt x="80" y="496"/>
                  <a:pt x="40" y="336"/>
                </a:cubicBezTo>
                <a:cubicBezTo>
                  <a:pt x="0" y="176"/>
                  <a:pt x="20" y="88"/>
                  <a:pt x="40" y="0"/>
                </a:cubicBez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" y="76320"/>
            <a:ext cx="2837160" cy="1068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ook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ute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7400" y="1143000"/>
            <a:ext cx="16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a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362320"/>
            <a:ext cx="3353040" cy="373356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am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 Prolo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ings, Curs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atific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ve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" y="2438280"/>
            <a:ext cx="3048840" cy="581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zerain Trea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3733920" cy="121896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2362320"/>
            <a:ext cx="3733920" cy="121896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-76320" y="-530280"/>
          <a:ext cx="9448920" cy="738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-530280"/>
                    <a:ext cx="9448920" cy="738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3885480" y="3429000"/>
            <a:ext cx="2057400" cy="76212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917389"/>
                <a:lnTo>
                  <a:pt x="21264" y="15236"/>
                </a:lnTo>
                <a:lnTo>
                  <a:pt x="17280" y="21600"/>
                </a:lnTo>
                <a:lnTo>
                  <a:pt x="12624" y="15236"/>
                </a:lnTo>
                <a:lnTo>
                  <a:pt x="14784" y="15236"/>
                </a:lnTo>
                <a:arcTo wR="7560" hR="21600" stAng="-2482611" swAng="-255995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8018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257440" y="4419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Moses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Joshua takes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90920" y="1523880"/>
            <a:ext cx="4114800" cy="38862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553080" y="457200"/>
            <a:ext cx="2514600" cy="2912760"/>
            <a:chOff x="6553080" y="457200"/>
            <a:chExt cx="2514600" cy="2912760"/>
          </a:xfrm>
        </p:grpSpPr>
        <p:sp>
          <p:nvSpPr>
            <p:cNvPr id="110" name=""/>
            <p:cNvSpPr/>
            <p:nvPr/>
          </p:nvSpPr>
          <p:spPr>
            <a:xfrm>
              <a:off x="6705720" y="1143000"/>
              <a:ext cx="2361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Israelites did evil in the sight of the LORD.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553080" y="457200"/>
              <a:ext cx="12193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Sin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91320" y="4419720"/>
            <a:ext cx="3352680" cy="2210400"/>
            <a:chOff x="5791320" y="4419720"/>
            <a:chExt cx="3352680" cy="2210400"/>
          </a:xfrm>
        </p:grpSpPr>
        <p:sp>
          <p:nvSpPr>
            <p:cNvPr id="113" name=""/>
            <p:cNvSpPr/>
            <p:nvPr/>
          </p:nvSpPr>
          <p:spPr>
            <a:xfrm>
              <a:off x="5791320" y="5256360"/>
              <a:ext cx="3352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LORD sold them into the hands of their enemies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629400" y="4419720"/>
              <a:ext cx="24382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Judgement</a:t>
              </a:r>
              <a:endPara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2280" y="4495680"/>
            <a:ext cx="3581640" cy="2135880"/>
            <a:chOff x="152280" y="4495680"/>
            <a:chExt cx="3581640" cy="2135880"/>
          </a:xfrm>
        </p:grpSpPr>
        <p:sp>
          <p:nvSpPr>
            <p:cNvPr id="116" name=""/>
            <p:cNvSpPr/>
            <p:nvPr/>
          </p:nvSpPr>
          <p:spPr>
            <a:xfrm>
              <a:off x="304920" y="5257800"/>
              <a:ext cx="342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d when the sons of Israel cried out to the LORD…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52280" y="4495680"/>
              <a:ext cx="26672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epentanc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920" y="304920"/>
            <a:ext cx="2819160" cy="2210400"/>
            <a:chOff x="304920" y="304920"/>
            <a:chExt cx="2819160" cy="2210400"/>
          </a:xfrm>
        </p:grpSpPr>
        <p:sp>
          <p:nvSpPr>
            <p:cNvPr id="119" name=""/>
            <p:cNvSpPr/>
            <p:nvPr/>
          </p:nvSpPr>
          <p:spPr>
            <a:xfrm>
              <a:off x="304920" y="1141560"/>
              <a:ext cx="2649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LORD raised up a deliverer.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04920" y="304920"/>
              <a:ext cx="281916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Deliveranc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3429000" y="2666880"/>
            <a:ext cx="2800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Sin Cy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248520" y="457200"/>
            <a:ext cx="2590560" cy="1999440"/>
            <a:chOff x="6248520" y="457200"/>
            <a:chExt cx="2590560" cy="1999440"/>
          </a:xfrm>
        </p:grpSpPr>
        <p:sp>
          <p:nvSpPr>
            <p:cNvPr id="123" name=""/>
            <p:cNvSpPr/>
            <p:nvPr/>
          </p:nvSpPr>
          <p:spPr>
            <a:xfrm>
              <a:off x="6477120" y="144792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Israelites did evil in the sight of the LORD.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248520" y="457200"/>
              <a:ext cx="16002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Sin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248520" y="4343400"/>
            <a:ext cx="2743200" cy="1999440"/>
            <a:chOff x="6248520" y="4343400"/>
            <a:chExt cx="2743200" cy="1999440"/>
          </a:xfrm>
        </p:grpSpPr>
        <p:sp>
          <p:nvSpPr>
            <p:cNvPr id="126" name=""/>
            <p:cNvSpPr/>
            <p:nvPr/>
          </p:nvSpPr>
          <p:spPr>
            <a:xfrm>
              <a:off x="6248520" y="5334120"/>
              <a:ext cx="274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LORD sold them into the hands of their enemies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781680" y="4343400"/>
              <a:ext cx="22100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Judgement</a:t>
              </a:r>
              <a:endPara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4920" y="4572000"/>
            <a:ext cx="2743200" cy="1846800"/>
            <a:chOff x="304920" y="4572000"/>
            <a:chExt cx="2743200" cy="1846800"/>
          </a:xfrm>
        </p:grpSpPr>
        <p:sp>
          <p:nvSpPr>
            <p:cNvPr id="129" name=""/>
            <p:cNvSpPr/>
            <p:nvPr/>
          </p:nvSpPr>
          <p:spPr>
            <a:xfrm>
              <a:off x="457200" y="5410080"/>
              <a:ext cx="259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d when the sons of Israel cried out to the LORD…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04920" y="4572000"/>
              <a:ext cx="22762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epentanc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920" y="609480"/>
            <a:ext cx="2581200" cy="1694520"/>
            <a:chOff x="304920" y="609480"/>
            <a:chExt cx="2581200" cy="1694520"/>
          </a:xfrm>
        </p:grpSpPr>
        <p:sp>
          <p:nvSpPr>
            <p:cNvPr id="132" name=""/>
            <p:cNvSpPr/>
            <p:nvPr/>
          </p:nvSpPr>
          <p:spPr>
            <a:xfrm>
              <a:off x="304920" y="160020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LORD raised up a deliverer.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609480" y="609480"/>
              <a:ext cx="22766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Deliverance</a:t>
              </a:r>
              <a:endPara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 rot="20464200">
            <a:off x="3200400" y="837720"/>
            <a:ext cx="2800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ud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2666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438280"/>
            <a:ext cx="243828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h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bo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d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ephth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17:6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360" y="11426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ose days there was no king in Israel; every man did what was right in his own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838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0880" y="3048120"/>
            <a:ext cx="8229600" cy="1066680"/>
            <a:chOff x="380880" y="3048120"/>
            <a:chExt cx="8229600" cy="1066680"/>
          </a:xfrm>
        </p:grpSpPr>
        <p:sp>
          <p:nvSpPr>
            <p:cNvPr id="141" name=""/>
            <p:cNvSpPr/>
            <p:nvPr/>
          </p:nvSpPr>
          <p:spPr>
            <a:xfrm>
              <a:off x="1523880" y="3048120"/>
              <a:ext cx="7086600" cy="10486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Levite from Bethlehem becomes a priest to the people of D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880" y="3048120"/>
              <a:ext cx="1143000" cy="1066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7: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0880" y="4114800"/>
            <a:ext cx="8229600" cy="1526040"/>
            <a:chOff x="380880" y="4114800"/>
            <a:chExt cx="8229600" cy="1526040"/>
          </a:xfrm>
        </p:grpSpPr>
        <p:sp>
          <p:nvSpPr>
            <p:cNvPr id="144" name=""/>
            <p:cNvSpPr/>
            <p:nvPr/>
          </p:nvSpPr>
          <p:spPr>
            <a:xfrm>
              <a:off x="380880" y="4114800"/>
              <a:ext cx="1143000" cy="152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9: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4114800"/>
              <a:ext cx="7086600" cy="152604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oncubine from Bethlehem murdered in Gibeah and sparks war against tribe of Benjami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2200" y="415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960" y="4069080"/>
            <a:ext cx="17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Je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(Jerusalem</a:t>
            </a: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7640" y="4921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7960" y="365652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Gibe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8520" y="370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20720" y="499788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Bethle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962520"/>
            <a:ext cx="444240" cy="1066680"/>
          </a:xfrm>
          <a:custGeom>
            <a:avLst/>
            <a:gdLst/>
            <a:ahLst/>
            <a:rect l="l" t="t" r="r" b="b"/>
            <a:pathLst>
              <a:path w="280" h="576">
                <a:moveTo>
                  <a:pt x="0" y="576"/>
                </a:moveTo>
                <a:cubicBezTo>
                  <a:pt x="100" y="480"/>
                  <a:pt x="200" y="384"/>
                  <a:pt x="240" y="288"/>
                </a:cubicBezTo>
                <a:cubicBezTo>
                  <a:pt x="280" y="192"/>
                  <a:pt x="240" y="56"/>
                  <a:pt x="240" y="0"/>
                </a:cubicBezTo>
              </a:path>
            </a:pathLst>
          </a:custGeom>
          <a:noFill/>
          <a:ln w="1080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65520" y="1355400"/>
            <a:ext cx="219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ill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f Ephra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17:6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90360" y="11426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ose days there was no king in Israel; every man did what was right in his own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838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3048120"/>
            <a:ext cx="8229600" cy="1066680"/>
            <a:chOff x="380880" y="3048120"/>
            <a:chExt cx="8229600" cy="1066680"/>
          </a:xfrm>
        </p:grpSpPr>
        <p:sp>
          <p:nvSpPr>
            <p:cNvPr id="159" name=""/>
            <p:cNvSpPr/>
            <p:nvPr/>
          </p:nvSpPr>
          <p:spPr>
            <a:xfrm>
              <a:off x="1523880" y="3048120"/>
              <a:ext cx="7086600" cy="10486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Levite from Bethlehem becomes a priest to the people of D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3048120"/>
              <a:ext cx="1143000" cy="1066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7: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0880" y="4114800"/>
            <a:ext cx="8229600" cy="1526040"/>
            <a:chOff x="380880" y="4114800"/>
            <a:chExt cx="8229600" cy="1526040"/>
          </a:xfrm>
        </p:grpSpPr>
        <p:sp>
          <p:nvSpPr>
            <p:cNvPr id="162" name=""/>
            <p:cNvSpPr/>
            <p:nvPr/>
          </p:nvSpPr>
          <p:spPr>
            <a:xfrm>
              <a:off x="380880" y="4114800"/>
              <a:ext cx="1143000" cy="152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9: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4114800"/>
              <a:ext cx="7086600" cy="152604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oncubine from Bethlehem murdered in Gibeah and sparks war against tribe of Benjami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0880" y="5638680"/>
            <a:ext cx="8229600" cy="1069560"/>
            <a:chOff x="380880" y="5638680"/>
            <a:chExt cx="8229600" cy="1069560"/>
          </a:xfrm>
        </p:grpSpPr>
        <p:sp>
          <p:nvSpPr>
            <p:cNvPr id="165" name=""/>
            <p:cNvSpPr/>
            <p:nvPr/>
          </p:nvSpPr>
          <p:spPr>
            <a:xfrm>
              <a:off x="1523880" y="5659560"/>
              <a:ext cx="7086600" cy="10486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uth and Naomi return to Bethlehem where Ruth has grandfather of Davi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880" y="5638680"/>
              <a:ext cx="1143000" cy="106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u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533520"/>
            <a:ext cx="9448920" cy="765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85840" y="29718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72200" y="442440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3000" y="5033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Sin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1752120"/>
            <a:ext cx="64008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pt in the days of the Exod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3659040"/>
            <a:ext cx="4357800" cy="286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235908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43600" y="380880"/>
            <a:ext cx="23972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838080" y="-33480"/>
            <a:ext cx="10820160" cy="689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5080" y="5562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Plagues of Egyp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nted by Josep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rner in 18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80880" y="-61920"/>
            <a:ext cx="9753480" cy="747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795240"/>
            <a:ext cx="9448920" cy="765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85280" y="28954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11200" y="6035760"/>
            <a:ext cx="124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18d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8018d"/>
                </a:solidFill>
                <a:latin typeface="Arial Black"/>
              </a:rPr>
              <a:t>Y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18d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8018d"/>
                </a:solidFill>
                <a:latin typeface="Arial Black"/>
              </a:rPr>
              <a:t>SUP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30481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44" y="36"/>
                  <a:pt x="288" y="72"/>
                  <a:pt x="336" y="144"/>
                </a:cubicBezTo>
                <a:cubicBezTo>
                  <a:pt x="384" y="216"/>
                  <a:pt x="248" y="368"/>
                  <a:pt x="288" y="432"/>
                </a:cubicBezTo>
                <a:cubicBezTo>
                  <a:pt x="328" y="496"/>
                  <a:pt x="480" y="512"/>
                  <a:pt x="576" y="528"/>
                </a:cubicBezTo>
                <a:cubicBezTo>
                  <a:pt x="672" y="544"/>
                  <a:pt x="784" y="520"/>
                  <a:pt x="864" y="528"/>
                </a:cubicBezTo>
                <a:cubicBezTo>
                  <a:pt x="944" y="536"/>
                  <a:pt x="1000" y="556"/>
                  <a:pt x="1056" y="576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3680" y="533520"/>
            <a:ext cx="2777760" cy="155628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odus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ypt: 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50040" y="2666880"/>
            <a:ext cx="3364200" cy="155628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ing of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w: 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800600"/>
            <a:ext cx="2598840" cy="1556280"/>
          </a:xfrm>
          <a:prstGeom prst="rect">
            <a:avLst/>
          </a:prstGeom>
          <a:gradFill rotWithShape="0">
            <a:gsLst>
              <a:gs pos="0">
                <a:srgbClr val="08018d"/>
              </a:gs>
              <a:gs pos="100000">
                <a:srgbClr val="03004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ernacl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10896480" cy="7004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876920"/>
            <a:ext cx="3352680" cy="1600200"/>
          </a:xfrm>
          <a:prstGeom prst="rect">
            <a:avLst/>
          </a:prstGeom>
          <a:gradFill rotWithShape="0">
            <a:gsLst>
              <a:gs pos="0">
                <a:srgbClr val="004386"/>
              </a:gs>
              <a:gs pos="100000">
                <a:srgbClr val="001e3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he cloud covered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ent of meeting, and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glory of the Lord fi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he tabernacle (Exod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40: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11-17T13:55:29Z</dcterms:modified>
  <cp:revision>69</cp:revision>
  <dc:subject/>
  <dc:title>Slide 1</dc:title>
</cp:coreProperties>
</file>