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EBB-15F4-4F05-8481-D73B86A3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A12-DA53-4911-885C-9836CF99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89F-1692-4826-B5A7-B41113C8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3B1-167F-4E84-B5CA-C1ADD533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A57A-56D8-4DEF-A2CB-C2BCF06F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2EF-2694-4330-B50E-B22F3D43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75AB-2289-402F-AFE2-EDA6446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81EF-BD0A-474F-80E6-1ED3293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5149-83CE-4592-95D2-BAD5435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ED8C-40F9-4413-B97D-8DEDAC0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AAC-E3BD-4C5F-8D6E-8C4E296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A75-25E7-48AE-8C68-4CF9073A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D231-ADC4-4E4A-9E15-D3427D2A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F71-7821-4B26-AD2E-7DEFCB1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5C75-AE02-408C-9BFF-B6DFF79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967D-1796-4586-B6FC-8C27761A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FCA-6259-443A-A450-CC49D815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642-9B67-4475-9A9B-94C413F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604-C277-44E6-AFA0-6D93156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D0C-3980-4363-88AE-80C5BA6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34B-342C-4CAE-A54D-3421157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90D-0DCB-47F2-8E66-F4F6A47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21A-43BD-4BC2-AF80-E3C74E1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440-261D-4EB0-B7AE-1F423B1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748-B45F-4105-87A1-E95C786709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EE0-60A9-40A4-9887-784D980EB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629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 Black"/>
              </a:rPr>
              <a:t>ZEPHANIAH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dgment against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33920" y="4648320"/>
            <a:ext cx="4800600" cy="380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67080"/>
            <a:ext cx="6019920" cy="38124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057400"/>
            <a:ext cx="2514600" cy="380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3:8-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-378000" y="927000"/>
          <a:ext cx="115779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8000" y="927000"/>
                    <a:ext cx="115779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3:11-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In that day you will feel no sh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ecause of all your d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y which you have rebelled against M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hen I will remove from your mid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ur proud, exulting on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you will never again be haugh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n My holy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But I will leave among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humble and lowly peo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they will take refuge in the name of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396252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3:14-1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ut for joy, O daughter of Zion! Shou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triump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 Israel! Rejoice and exult with a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, O daughter of Jerusale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LORD has taken awa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s against you, He has cleared away your enemies. The King of Israel, the LORD, is in your midst; You will fear disaster no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3:19-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Behold, I am going to deal at that time With all your oppressors, I will save the lame And gather the outcast, And I will turn their shame into praise and renown In all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At that time I will bring you in, Even at the time when I gather you together; Indeed, I will give you renown and praise Among all the peoples of the earth, When I restore your fortunes before your eyes," Says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milar Na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:  Last king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chariah:  Later prophet after the Ex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phaniah:  Prophet and writer of this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1: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676520"/>
          <a:ext cx="670572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70572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Date of Wri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 the days of Josiah son of Amon, king of Judah (Zephaniah 1:1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ll for National Repen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ly prior to Jeremi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etells the Destruction of Nineveh (2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" y="7920"/>
            <a:ext cx="9145440" cy="685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           630            620            610            600            590            5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8680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33720"/>
            <a:ext cx="7848720" cy="8380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3840" y="1676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ings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0600" y="2362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s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447920"/>
            <a:ext cx="1295280" cy="533160"/>
          </a:xfrm>
          <a:prstGeom prst="wedgeRectCallout">
            <a:avLst>
              <a:gd name="adj1" fmla="val -13236"/>
              <a:gd name="adj2" fmla="val 87203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ah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0" y="23623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iak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1447920"/>
            <a:ext cx="1447560" cy="533160"/>
          </a:xfrm>
          <a:prstGeom prst="wedgeRectCallout">
            <a:avLst>
              <a:gd name="adj1" fmla="val -19624"/>
              <a:gd name="adj2" fmla="val 99106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hoia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840" y="2362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deki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2971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04812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rusalem &amp; Temple Destro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09880" y="6095160"/>
            <a:ext cx="1219320" cy="762120"/>
          </a:xfrm>
          <a:prstGeom prst="wedgeRectCallout">
            <a:avLst>
              <a:gd name="adj1" fmla="val -19796"/>
              <a:gd name="adj2" fmla="val 12166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neve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657600"/>
            <a:ext cx="190512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267080"/>
            <a:ext cx="58672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rem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5029200"/>
            <a:ext cx="43434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1520" y="5715000"/>
            <a:ext cx="25974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zek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18288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1:2-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95400" y="1595520"/>
          <a:ext cx="9155160" cy="37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400" y="1595520"/>
                    <a:ext cx="915516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-1219320" y="1371600"/>
          <a:ext cx="107920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371600"/>
                    <a:ext cx="107920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231720" y="990720"/>
            <a:ext cx="2434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Zephan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sons for Divine Judg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6705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Pluralism (1:4-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ful Neglect (1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Stagnation (1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5334120"/>
            <a:ext cx="3124080" cy="38088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53341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229280"/>
            <a:ext cx="2667240" cy="38088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Zephaniah 2:1-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" y="1290600"/>
          <a:ext cx="8956440" cy="52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290600"/>
                    <a:ext cx="895644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295280" y="1066680"/>
            <a:ext cx="632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25:34Z</dcterms:created>
  <dc:creator>Port Everglades</dc:creator>
  <dc:description/>
  <dc:language>en-US</dc:language>
  <cp:lastModifiedBy>John Stevenson</cp:lastModifiedBy>
  <dcterms:modified xsi:type="dcterms:W3CDTF">2006-10-15T02:53:25Z</dcterms:modified>
  <cp:revision>27</cp:revision>
  <dc:subject/>
  <dc:title>Amos</dc:title>
</cp:coreProperties>
</file>