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wmf" ContentType="image/x-wmf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38050-39F0-4BA5-B1BE-A804B6418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0FE4C-7614-4654-AEC9-0DC6C5C5D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CC717-829A-4E19-9A28-41930CB37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A479D-099E-4BB1-B79B-DD21CF660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4D0D3-8AA6-468D-BBAC-F80951E83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A15E1-C35C-4E34-ACAD-F80AE70C9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A102A-D1DE-4405-836E-8F03E5D61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1D7A8-C8F9-457D-AA3E-4CE12A55E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99A0C-9007-4D99-B646-5FA66ED58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B8324-3764-4A7D-9866-F007BA7BA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45D62-AEF6-412E-81A4-ADA552657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F6C31-E8C7-4741-9C4B-4341251E3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92E57-0006-463E-8B95-6264D4A1F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78CD7-2076-4320-89E6-25E70AD1C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766CA-6C49-4B07-9A09-1A066ABE7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EEAD7-0820-4CF1-8C6B-DC43E0696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7F4C7-C2CE-4B3A-9019-A78109FE5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79B4F-AC9C-45D0-976F-A72DCCBFF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F6950-02F7-4D3F-A415-70BF8ABE6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AC3C4-4AFA-41B4-A0DE-49204B4E2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63859-2CD5-46FF-888E-1889DE951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C5F10-5E0F-4F6B-B0D2-290C50C09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DC598-36AE-440D-9C1D-651C907D7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53E64-F481-42F6-A672-5A656E700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13B80-1A0A-4537-B0E6-5FDE8C6B436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46D32-308B-4FD7-BD1C-5312565B86A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18960" y="838080"/>
            <a:ext cx="64767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b2b2b2"/>
                </a:solidFill>
                <a:latin typeface="Arial Black"/>
              </a:rPr>
              <a:t>HABAKKUK</a:t>
            </a:r>
            <a:endParaRPr b="0" lang="en-US" sz="7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4952520" y="3123720"/>
            <a:ext cx="3637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Prayer &amp; Praise of God’s Proph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600200" y="2438280"/>
            <a:ext cx="2664000" cy="372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 Black"/>
              </a:rPr>
              <a:t>Habakkuk 3:19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3000" y="838080"/>
            <a:ext cx="6553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143000" y="1372680"/>
            <a:ext cx="8001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The Lord God is my strength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And He has made my feet like hinds' feet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And makes me walk on my high place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For the choir director, on my stringed instrument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240" y="7920"/>
            <a:ext cx="9145440" cy="685944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609480"/>
            <a:ext cx="9144000" cy="60984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40            630            620            610            600            590            58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" y="1066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828800" y="1066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200400" y="1066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572000" y="1066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943600" y="1066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315200" y="1066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8686800" y="1066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2133720"/>
            <a:ext cx="7848720" cy="83808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473840" y="1676520"/>
            <a:ext cx="25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Kings of Juda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830600" y="2362320"/>
            <a:ext cx="114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osia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876920" y="21337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952880" y="21337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419720" y="1447920"/>
            <a:ext cx="1295280" cy="533160"/>
          </a:xfrm>
          <a:prstGeom prst="wedgeRectCallout">
            <a:avLst>
              <a:gd name="adj1" fmla="val -13236"/>
              <a:gd name="adj2" fmla="val 87203"/>
            </a:avLst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hoahaz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953600" y="2362320"/>
            <a:ext cx="142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hoiaki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400800" y="21337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477120" y="21337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019920" y="1447920"/>
            <a:ext cx="1447560" cy="533160"/>
          </a:xfrm>
          <a:prstGeom prst="wedgeRectCallout">
            <a:avLst>
              <a:gd name="adj1" fmla="val -19624"/>
              <a:gd name="adj2" fmla="val 99106"/>
            </a:avLst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hoiachi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477840" y="2362320"/>
            <a:ext cx="1284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edekia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848720" y="297180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162920" y="3048120"/>
            <a:ext cx="1616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erusalem &amp; Temple Destroy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809880" y="6095160"/>
            <a:ext cx="1219320" cy="762120"/>
          </a:xfrm>
          <a:prstGeom prst="wedgeRectCallout">
            <a:avLst>
              <a:gd name="adj1" fmla="val -19796"/>
              <a:gd name="adj2" fmla="val 121666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all of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ineve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95280" y="3657600"/>
            <a:ext cx="1905120" cy="3808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Zephania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28600" y="21337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362320" y="4267080"/>
            <a:ext cx="5867280" cy="4572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eremia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334120" y="5029200"/>
            <a:ext cx="4343400" cy="3808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ni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858000" y="5867280"/>
            <a:ext cx="2597040" cy="3812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zeki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5029200"/>
            <a:ext cx="1828800" cy="3808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hu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419720" y="5638680"/>
            <a:ext cx="1676160" cy="3812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bakku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1" name=""/>
          <p:cNvGraphicFramePr/>
          <p:nvPr/>
        </p:nvGraphicFramePr>
        <p:xfrm>
          <a:off x="-1066680" y="838080"/>
          <a:ext cx="11277360" cy="5338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066680" y="838080"/>
                    <a:ext cx="11277360" cy="533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 Black"/>
              </a:rPr>
              <a:t>Lessons from Habakkuk’s Question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od Balances His Books in His own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1676520" y="3124080"/>
          <a:ext cx="12107880" cy="18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3124080"/>
                    <a:ext cx="12107880" cy="18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1600200" y="3246480"/>
          <a:ext cx="11887200" cy="3611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00200" y="3246480"/>
                    <a:ext cx="11887200" cy="361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9" name=""/>
          <p:cNvGraphicFramePr/>
          <p:nvPr/>
        </p:nvGraphicFramePr>
        <p:xfrm>
          <a:off x="1523880" y="3200400"/>
          <a:ext cx="13335120" cy="2448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23880" y="3200400"/>
                    <a:ext cx="13335120" cy="244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 Black"/>
              </a:rPr>
              <a:t>Lessons from Habakkuk’s Question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od Balances His Books in His own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85800" y="2895480"/>
            <a:ext cx="777240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hen God Balances His Books, He does it His own w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814400" y="4422240"/>
            <a:ext cx="5896080" cy="605880"/>
          </a:xfrm>
          <a:prstGeom prst="rect">
            <a:avLst/>
          </a:prstGeom>
          <a:solidFill>
            <a:srgbClr val="66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y does God use evil peopl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-914400" y="4124160"/>
          <a:ext cx="11134800" cy="2222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914400" y="4124160"/>
                    <a:ext cx="11134800" cy="222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8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 Black"/>
              </a:rPr>
              <a:t>Lessons from Habakkuk’s Question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od Balances His Books in His own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hen God Balances His Books, He does it His own w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85800" y="3962520"/>
            <a:ext cx="77724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od Balances His Books without Partia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948320" y="5337720"/>
            <a:ext cx="4830120" cy="678600"/>
          </a:xfrm>
          <a:prstGeom prst="rect">
            <a:avLst/>
          </a:prstGeom>
          <a:solidFill>
            <a:srgbClr val="66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ve Woes Proclaime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 Black"/>
              </a:rPr>
              <a:t>Lessons from Habakkuk’s Question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od Balances His Books in His own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hen God Balances His Books, He does it His own w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od Balances His Books without Partia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od Ultimately Balanced His Books upon the Cro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 Black"/>
              </a:rPr>
              <a:t>Habakkuk 3:3-5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143000" y="838080"/>
            <a:ext cx="6553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219320" y="1068480"/>
            <a:ext cx="7924680" cy="54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 God comes from Teman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And the Holy One from Mount Paran. Sela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His splendor covers the heavens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And the earth is full of His prais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 His radiance is like the sunlight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He has rays flashing from His hand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And there is the hiding of His pow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 Before Him goes pestilence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And plague comes after Hi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 Black"/>
              </a:rPr>
              <a:t>Habakkuk 3:13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143000" y="838080"/>
            <a:ext cx="6553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219320" y="1446840"/>
            <a:ext cx="71625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Thou didst go forth for the salvation of Thy people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For the salvation of Thine anointed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Thou didst strike the head of the house of the evi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To lay him open from thigh to neck. Sela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0T07:25:34Z</dcterms:created>
  <dc:creator>Port Everglades</dc:creator>
  <dc:description/>
  <dc:language>en-US</dc:language>
  <cp:lastModifiedBy>John Stevenson</cp:lastModifiedBy>
  <dcterms:modified xsi:type="dcterms:W3CDTF">2007-08-06T13:19:01Z</dcterms:modified>
  <cp:revision>22</cp:revision>
  <dc:subject/>
  <dc:title>Amos</dc:title>
</cp:coreProperties>
</file>