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AF4-83AA-4216-86CA-002FB640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82A-9BAF-451E-86AF-A87CC1E6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3E7-413C-4226-983E-CD1808E4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6B4-ABC7-4919-AA30-B9485F03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450-3825-4F7D-81E9-797ADB3B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AFA0-3BC5-4975-A4F0-492DD6B0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64E2-4AA6-4296-A5D0-9B565A48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642-72F6-40A2-9946-353D7179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3BA4-0856-4335-87C6-6F9ED5CF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6ADA-DBF6-4FA9-A987-980C5C34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D47-52F7-4303-9D38-46BF209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F37-81FC-4C4E-B7B6-B606649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A199-1FAB-4C48-BC78-907CE96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1DF1-9622-435B-A2B8-F7D78EC9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0881-C31A-4520-ABF9-F4ACB91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50C9-986B-4DF6-996F-9D0E0805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AA0D-B21F-4A83-816A-7A7C19EB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742-EECB-4E21-989F-9156E5FB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542-5CF5-477C-98EC-5255CF37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D1C-B079-4733-9497-8458EC2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3DC-384F-421F-BD89-8CD4841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770-D730-4DBA-8627-B8A9A62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22A-FA18-4A3F-BB75-78408C8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4B4-5B0F-44B9-A3C2-1A76345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4E2-C122-4C3A-92C8-A11F0FA20D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A66-871E-4FBF-9B4C-1F6E20CB18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38320"/>
            <a:ext cx="7772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2b2b2"/>
                </a:solidFill>
                <a:latin typeface="Arial Black"/>
              </a:rPr>
              <a:t>NAHUM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phet of Nineveh’s De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hum and Jon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focus upon Assyria and their capital city of Nineve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contain prophecies of Nineveh's de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close their books with a qu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Nahum means “comfort”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28800" y="2438280"/>
          <a:ext cx="5850000" cy="47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585000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-231840"/>
          <a:ext cx="7772400" cy="708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231840"/>
                    <a:ext cx="777240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133720" y="1905120"/>
            <a:ext cx="617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2514600" y="49320"/>
            <a:ext cx="11658600" cy="6808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9600" y="401148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</a:t>
            </a:r>
            <a:r>
              <a:rPr b="0" lang="en-US" sz="2400" spc="-1" strike="noStrike">
                <a:solidFill>
                  <a:srgbClr val="ffffff"/>
                </a:solidFill>
                <a:latin typeface="WP IconicSymbolsA"/>
                <a:ea typeface="WP IconicSymbolsA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3960" y="180180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inev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27480" y="347832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</a:t>
            </a:r>
            <a:r>
              <a:rPr b="0" lang="en-US" sz="24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by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04080" y="397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960" y="40114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Chald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85840" y="20304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080" y="4302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y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486400" y="2335320"/>
            <a:ext cx="457200" cy="1218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171840" y="2106360"/>
            <a:ext cx="11430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15000" y="88740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371600"/>
            <a:ext cx="1676160" cy="1295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essons from Nahu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concerned with politics and political happe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akes it seriously when anyone hurts His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God shows compassion, He demands that compassion is shown to ot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09-15T17:01:15Z</dcterms:modified>
  <cp:revision>19</cp:revision>
  <dc:subject/>
  <dc:title>Amos</dc:title>
</cp:coreProperties>
</file>