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510E-473C-415F-9164-7DE9156E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EA8-FC31-4330-BC4E-0A32A28F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F691-A1B6-4148-8BDE-03B7892C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B364-3612-456B-A13A-4ABC82BB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107B-BC36-472B-AA2D-AEE1A731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A080-FA3C-426E-AF35-738C8F45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669D-987F-4BF2-9F94-B0FC9F03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254B-8F02-4492-ADB0-973CC339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C823-A8D9-4BCB-A2BD-873859B3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6368-362E-42AE-A948-842F8A39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B349-16BA-41CB-9ABB-C4DF92A0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13DD-F6D4-4A6F-B0F1-0B389E95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7675-5E29-4846-A302-50551704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2C6F-280F-41B6-8E88-F536494A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FFD5-FD50-4316-97F6-BDDE8191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DBED-4DE4-488F-B194-A7A51B8C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E409-8C55-4BBA-A35D-FB769451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7E63-EBDF-4494-8767-7B846CE1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C69-1932-42A0-B101-000D3A0D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0810-FB8E-4F5F-A000-9FF9471E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1F87-2D51-4D07-BB06-E41FDFA9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AC43-E037-4568-99E8-BA427D29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8203-74A4-4EC9-9ADA-DCC6C715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4A90-FC04-491D-875E-509DDD41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A8E3-AF92-499A-9644-2CB85FEE9D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F43E-6906-4BF0-A4BD-222947C402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15238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2b2b2"/>
                </a:solidFill>
                <a:latin typeface="Arial Black"/>
              </a:rPr>
              <a:t>MICAH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828800" y="3962520"/>
            <a:ext cx="547992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 is like Yahweh?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 Black"/>
              </a:rPr>
              <a:t>Micah 2:1-2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-36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Woe to those who scheme iniquit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ho work out evil on their bed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hen morning comes, they do i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r it is in the power of their h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They covet fields and then seize them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d houses, and take them a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y rob a man and his hous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 man and his inheritance.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914400"/>
            <a:ext cx="7238880" cy="0"/>
          </a:xfrm>
          <a:prstGeom prst="line">
            <a:avLst/>
          </a:prstGeom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 Black"/>
              </a:rPr>
              <a:t>Micah 2:3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36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refore, thus says the LOR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"Behold, I am planning against this family a calam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rom which you cannot remove your neck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d you will not walk haughtil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r it will be an evil time.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914400"/>
            <a:ext cx="7238880" cy="0"/>
          </a:xfrm>
          <a:prstGeom prst="line">
            <a:avLst/>
          </a:prstGeom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-2286000" y="1371600"/>
          <a:ext cx="13792320" cy="386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0" y="1371600"/>
                    <a:ext cx="1379232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 Black"/>
              </a:rPr>
              <a:t>Micah 2:12-13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81240" y="1143000"/>
            <a:ext cx="9296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I will surely assemble all of you, Jacob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 will surely gather the remnant of Isra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 will put them together like sheep in the fol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ike a flock in the midst of its pas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 will be noisy with 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The breaker goes up before them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 break out, pass through the gate, and go out by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o their king goes on before them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d the LORD at their he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914400"/>
            <a:ext cx="7238880" cy="0"/>
          </a:xfrm>
          <a:prstGeom prst="line">
            <a:avLst/>
          </a:prstGeom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THE SECOND ORACL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Arial"/>
              </a:rPr>
              <a:t>AN INDICTMENT AGAINST L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 Black"/>
              </a:rPr>
              <a:t>Micah 3:1-3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And I said, “Hear now, heads of Jac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rulers of the house of Isra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s it not for you to know justi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You who hate good and love evi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ho tear off their skin from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their flesh from their bone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And who eat the flesh of my peopl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trip off their skin from them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reak their bone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chop them up as for the p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as meat in a kett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914400"/>
            <a:ext cx="7238880" cy="0"/>
          </a:xfrm>
          <a:prstGeom prst="line">
            <a:avLst/>
          </a:prstGeom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 Black"/>
              </a:rPr>
              <a:t>Micah 3:11-12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-360" y="11430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Her leaders pronounce judgment for a brib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r priests instruct for a pric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d her prophets divine for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 they lean on the LORD saying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 not the LORD in our mid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lamity will not come upon u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Therefore, on account of you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Zion will be plowed as a fiel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erusalem will become a heap of ruin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d the mountain of the temple will become high places of a forest.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914400"/>
            <a:ext cx="7238880" cy="0"/>
          </a:xfrm>
          <a:prstGeom prst="line">
            <a:avLst/>
          </a:prstGeom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 Black"/>
              </a:rPr>
              <a:t>Micah 4:1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it will come about in the last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at the mountain of the house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ill be established as the chief of the mountai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t will be raised above the hill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the peoples will stream to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914400"/>
            <a:ext cx="7238880" cy="0"/>
          </a:xfrm>
          <a:prstGeom prst="line">
            <a:avLst/>
          </a:prstGeom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 Black"/>
              </a:rPr>
              <a:t>Micah 4:2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many nations will come and sa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me and let us go up to the mountain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to the house of the God of Jacob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at He may teach us about His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that we may walk in His path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or from Zion will go forth the law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ven the word of the LORD from Jerusa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914400"/>
            <a:ext cx="7238880" cy="0"/>
          </a:xfrm>
          <a:prstGeom prst="line">
            <a:avLst/>
          </a:prstGeom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 Black"/>
              </a:rPr>
              <a:t>Micah 4:3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He will judge between many peo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render decisions for mighty, distant n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n they will hammer their swords into plowsh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their spears into pruning hook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ation will not lift up sword against natio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never again will they train for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914400"/>
            <a:ext cx="7238880" cy="0"/>
          </a:xfrm>
          <a:prstGeom prst="line">
            <a:avLst/>
          </a:prstGeom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 Black"/>
              </a:rPr>
              <a:t>Micah 1:1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4920" y="175212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word of the LORD which came to Micah of Moresheth in the days of Jotham, Ahaz, and Hezekiah, kings of Judah, which he saw concerning Samaria and Jerusal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06668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 Promise of Prosper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33520" y="1676520"/>
          <a:ext cx="8034120" cy="491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8034120" cy="49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 Black"/>
              </a:rPr>
              <a:t>Micah 4:9-10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Now, why do you cry out loud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 there no king among you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r has your counselor perishe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at agony has gripped you like a woman in childbir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Writhe and labor to give birth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aughter of Zio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ike a woman in childbirth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 now you will go out of the cit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well in the fiel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d go to Babyl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re you will be rescue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re the LORD will redeem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rom the hand of your enemies.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914400"/>
            <a:ext cx="7238880" cy="0"/>
          </a:xfrm>
          <a:prstGeom prst="line">
            <a:avLst/>
          </a:prstGeom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 Black"/>
              </a:rPr>
              <a:t>Micah 5:1-2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w muster yourselves in troops, daughter of troop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y have laid siege against u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ith a rod they will smite the judge of Israel on the chee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ut as for you, Bethlehem Ephrathah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oo little to be among the clans of Judah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rom you One will go forth for Me to be ruler in Isra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is goings forth are from long ago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rom the days of eternity.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914400"/>
            <a:ext cx="7238880" cy="0"/>
          </a:xfrm>
          <a:prstGeom prst="line">
            <a:avLst/>
          </a:prstGeom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 Black"/>
              </a:rPr>
              <a:t>Micah 6:6-7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With what shall I come to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bow myself before the God on hig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hall I come to Him with burnt offering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ith yearling calv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Does the LORD take delight in thousands of ram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 ten thousand rivers of oi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hall I present my first-born for my rebellious act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fruit of my body for the sin of my sou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914400"/>
            <a:ext cx="7238880" cy="0"/>
          </a:xfrm>
          <a:prstGeom prst="line">
            <a:avLst/>
          </a:prstGeom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 Black"/>
              </a:rPr>
              <a:t>Micah 6:8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e has told you, O man, what is goo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what does the LORD require of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ut to do justice, to love kindnes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to walk humbly with your God?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914400"/>
            <a:ext cx="7238880" cy="0"/>
          </a:xfrm>
          <a:prstGeom prst="line">
            <a:avLst/>
          </a:prstGeom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 Black"/>
              </a:rPr>
              <a:t>Micah 7:18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ho is a God like Thee, who pardons iniqu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passes over the rebellious act of the remnant of His possess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e does not retain His anger forev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ecause He delights in unchanging lo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914400"/>
            <a:ext cx="7238880" cy="0"/>
          </a:xfrm>
          <a:prstGeom prst="line">
            <a:avLst/>
          </a:prstGeom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 Black"/>
              </a:rPr>
              <a:t>Micah 7:19-20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He will again have compassion on u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e will tread our iniquities under foo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es, Thou wilt cast all their sins Into the depths of the s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Thou wilt give truth to Jac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unchanging love to Abraham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hich Thou didst swear to our forefa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rom the days of old.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914400"/>
            <a:ext cx="7238880" cy="0"/>
          </a:xfrm>
          <a:prstGeom prst="line">
            <a:avLst/>
          </a:prstGeom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2133720"/>
          <a:ext cx="9144000" cy="519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9144000" cy="5197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05" name=""/>
          <p:cNvGrpSpPr/>
          <p:nvPr/>
        </p:nvGrpSpPr>
        <p:grpSpPr>
          <a:xfrm>
            <a:off x="0" y="0"/>
            <a:ext cx="9144000" cy="1981080"/>
            <a:chOff x="0" y="0"/>
            <a:chExt cx="9144000" cy="1981080"/>
          </a:xfrm>
        </p:grpSpPr>
        <p:graphicFrame>
          <p:nvGraphicFramePr>
            <p:cNvPr id="106" name=""/>
            <p:cNvGraphicFramePr/>
            <p:nvPr/>
          </p:nvGraphicFramePr>
          <p:xfrm>
            <a:off x="0" y="0"/>
            <a:ext cx="9144000" cy="19810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0"/>
                      <a:ext cx="914400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"/>
            <p:cNvSpPr/>
            <p:nvPr/>
          </p:nvSpPr>
          <p:spPr>
            <a:xfrm>
              <a:off x="0" y="99072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72200" y="68580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95480" y="68580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 Black"/>
              </a:rPr>
              <a:t>Micah 1:2-4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-228600" y="1066680"/>
            <a:ext cx="9067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Hear, O peoples, all of you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isten, O earth and all it contain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let the Lord God be a witness against you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Lord from His holy tem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For behold, the LORD is coming forth from His pl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e will come down and tread on the high places of the ear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The mountains will melt under Him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the valleys will be spli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ike wax before the fir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ike water poured down a steep 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 Black"/>
              </a:rPr>
              <a:t>Micah 1:5-6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-228600" y="1066680"/>
            <a:ext cx="9067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All this is for the rebellion of Jac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for the sins of the house of Isra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hat is the rebellion of Jacob?  Is it not Samari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hat is the high place of Judah? Is it not Jerusa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For I will make Samaria a heap of ruins in the open countr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lanting places for a vineya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 will pour her stones down into the vall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will lay bare her found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 Black"/>
              </a:rPr>
              <a:t>Micah 1:7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-228600" y="1294920"/>
            <a:ext cx="9067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ll of her idols will be smashe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ll of her earnings will be burned with fir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d all of her images I will make desolat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 she collected them from a harlot's earning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d to the earnings of a harlot they will return.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5920" y="30492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6699"/>
                </a:solidFill>
                <a:latin typeface="Arial Black"/>
              </a:rPr>
              <a:t>Sam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 Black"/>
              </a:rPr>
              <a:t>Micah 1:10-12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-228600" y="1294920"/>
            <a:ext cx="9067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ell it not in Gath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ep not at 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Beth-le-aphrah roll yourself in the du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o on your way, inhabitant of Shaphir, in shameful naked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inhabitant of Zaanan does not esca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amentation of Bethezel: "He will take from you its support.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r the inhabitant of Maro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omes weak waiting for goo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 a calamity has come down from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the gate of Jerusa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914400"/>
            <a:ext cx="7391160" cy="0"/>
          </a:xfrm>
          <a:prstGeom prst="line">
            <a:avLst/>
          </a:prstGeom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320" y="228600"/>
            <a:ext cx="7543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ell it not in Tellingt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ail not in Wail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ust Manor will eat dir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ressy Town will flee nak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afefold will not sav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llchester's walls are dow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 bitter dose drinks Bittert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oward Jerusalem, City of Peac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Lord sends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arness the war-steed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 men of Barstea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Zion's beginning of sinning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qual to Israel's cri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o Welfare a last farewel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or Trapping trapped Israel's k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7:25:34Z</dcterms:created>
  <dc:creator>Port Everglades</dc:creator>
  <dc:description/>
  <dc:language>en-US</dc:language>
  <cp:lastModifiedBy>John Stevenson</cp:lastModifiedBy>
  <dcterms:modified xsi:type="dcterms:W3CDTF">2006-09-23T03:32:06Z</dcterms:modified>
  <cp:revision>23</cp:revision>
  <dc:subject/>
  <dc:title>Amos</dc:title>
</cp:coreProperties>
</file>