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B93-8E26-497A-92AB-16B171E1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3BB-A0D2-49E8-87E0-26479C9B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252-068F-4B42-8178-019601B6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34C-A60C-4043-AC6A-C272D87F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A27-05CC-4493-A84D-21070D04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4BD6-54FE-46D9-BAF0-B82969E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6690-E276-4074-B883-D89B70AE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60A-2814-49CF-80F8-6DCAFCA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55B5-3F4A-4A31-AF28-88CF154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0B39-A1B4-4FC9-93A8-0065B31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ED79-119D-40FB-A776-7AEA95B9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E15-CE0A-4B87-840A-74DD836C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FB95-CE4D-49C3-ADE1-11123DCE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F472-2DE6-406E-B8AF-9DED76ED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C57F-2235-4ED7-8F69-7101813C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588D-0338-4E20-8A85-2020D39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14D9-D196-4E69-8DE4-4557FA47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187-A20A-482B-81E9-3545C2C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5F4-6A44-42BC-9567-C4C59B11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2BC-3480-4114-8C5C-806C3EF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94E-E029-4AE1-88C1-00AA5CD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CEE-F29C-4B92-85B5-FE345AC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415-D7CE-40D4-BDCD-AD3B99E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FE1-496C-4FB0-9FF2-11F5364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366-F5D3-4D93-BC42-0BAB4F84CC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603-43FD-45F8-BDF0-C7F0E96C81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33920" y="5331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 Black"/>
              </a:rPr>
              <a:t>OBADIAH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105160" y="2362320"/>
            <a:ext cx="2361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acle against 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0272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" y="7920"/>
            <a:ext cx="9145440" cy="685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0                 630                   620                 610                   600                    590                5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868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7848720" cy="8380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14400" y="16765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Kings of Jud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0" y="2462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447920"/>
            <a:ext cx="1295280" cy="533160"/>
          </a:xfrm>
          <a:prstGeom prst="wedgeRectCallout">
            <a:avLst>
              <a:gd name="adj1" fmla="val -13236"/>
              <a:gd name="adj2" fmla="val 87203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hoah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9960" y="24606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hoiaki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447920"/>
            <a:ext cx="1447560" cy="533160"/>
          </a:xfrm>
          <a:prstGeom prst="wedgeRectCallout">
            <a:avLst>
              <a:gd name="adj1" fmla="val -19624"/>
              <a:gd name="adj2" fmla="val 99106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hoiach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4680" y="2471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edekia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971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04812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rusalem &amp; Temple Destroy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6095160"/>
            <a:ext cx="1219320" cy="762120"/>
          </a:xfrm>
          <a:prstGeom prst="wedgeRectCallout">
            <a:avLst>
              <a:gd name="adj1" fmla="val -19796"/>
              <a:gd name="adj2" fmla="val 12166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l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neve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657600"/>
            <a:ext cx="190512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phan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267080"/>
            <a:ext cx="5867280" cy="45720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rem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5029200"/>
            <a:ext cx="434340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1520" y="5715000"/>
            <a:ext cx="259740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zek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657600"/>
            <a:ext cx="236232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adia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182880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h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307800"/>
            <a:ext cx="9144000" cy="7473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079520" y="2738880"/>
            <a:ext cx="1137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48920" y="5329800"/>
            <a:ext cx="111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-1219320" y="609480"/>
          <a:ext cx="11506320" cy="65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609480"/>
                    <a:ext cx="1150632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Obadiah 1:3-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The arrogance of your heart has deceived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ho live in the clefts of the roc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oftiness of your dwelling pla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ay in your hear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Who will bring me down to earth?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Though you build high like the eag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you set your nest among the star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re I will bring you down," declares the L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99072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4165560" cy="555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593880" cy="4790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95740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172040" y="304920"/>
            <a:ext cx="4736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Lessons from Obadi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cares for his people when they su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warns but will eventually judge those who persecute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will give victory to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’s faithful people will inherit the kingdom of God in its full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7-08-06T13:52:50Z</dcterms:modified>
  <cp:revision>22</cp:revision>
  <dc:subject/>
  <dc:title>Amos</dc:title>
</cp:coreProperties>
</file>