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355-6246-4E9A-8906-AABF310B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FEA-A4A2-4750-8CF6-B74DA716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A3B-6098-48FD-90AE-2FF1CFDB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98E-EAFF-4A43-80E8-09B71B34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917-572E-4807-B8F1-58E86B1A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5375-0AB1-43C1-BB7E-050CA54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8E25-C52A-40C3-8F31-6D9406C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A4FC-EB05-4CA8-A951-A7AC52E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BC4-1B13-4594-8AA9-CB0798BC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485-E5CD-4BC0-8CE4-E8B7B7B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F8DB-2998-4F38-AD22-0FAE937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262-8CF3-4133-946F-7765290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C55-C88D-48CD-A4AE-00F1AB1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BFB2-DAF0-4B32-A70B-698313C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2E4D-14DE-4470-AF3E-4FA1E0D1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46E3-531B-4C52-BCC5-DC80FF7D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BDD7-E142-4D2D-9BC6-A687589F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754-F7C7-4A4D-ABF2-D3911C3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BBD-31A6-4C24-8FDE-3B44AEDD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661-B8F8-4C29-9912-B10AAD6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9A2-A985-41B0-8875-C9819633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6EC-EDF2-4ACD-8848-04BA345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27E-175C-4511-89B7-71ACAF7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7E1-8CB4-4755-9885-6C9E02A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DB7-76A4-453D-89D3-17C0AC5889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7543-8C0D-44A3-8C62-4928BA449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oe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hweh i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2:30-3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219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d I will display wonders in the sky and on the ear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lood, fire, and columns of sm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 sun will be turned into darknes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 moon into bloo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efore the great and awesome day of the LORD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Prophecy &amp; Fulfill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’s Spirit to be poured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s and daughters to proph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eams and 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and fire, and vapor of sm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darkened, moon into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’s Spirit was poured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 and women prophesied in the book of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eams and visions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of Jesus &amp; tongues of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darkened at crucifi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The Day of the Lo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 from the Almighty (Isaiah 13:6; Joel 1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el, with fury and burning anger (Isaiah 13: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ay of the Lord’s Anger (Lamentations 2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ay of the Lord will come like a Thief (2 Peter 3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3:1-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behold, in those days and at that ti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en I restore the fortunes of Judah and Jerusale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 will gather all the n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bring them down to the valley of Jehoshaph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n I will enter into judgment with them the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n behalf of My people and My inheritance, Israe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om they have scattered among the n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y have divided up My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edi" descr=""/>
          <p:cNvPicPr/>
          <p:nvPr/>
        </p:nvPicPr>
        <p:blipFill>
          <a:blip r:embed="rId1"/>
          <a:stretch/>
        </p:blipFill>
        <p:spPr>
          <a:xfrm>
            <a:off x="-1066680" y="-279360"/>
            <a:ext cx="10591560" cy="713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24600" y="5634360"/>
            <a:ext cx="107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38280" y="4088880"/>
            <a:ext cx="1093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m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4572000"/>
            <a:ext cx="685800" cy="1981080"/>
          </a:xfrm>
          <a:custGeom>
            <a:avLst/>
            <a:gdLst/>
            <a:ahLst/>
            <a:rect l="l" t="t" r="r" b="b"/>
            <a:pathLst>
              <a:path w="432" h="1248">
                <a:moveTo>
                  <a:pt x="432" y="0"/>
                </a:moveTo>
                <a:cubicBezTo>
                  <a:pt x="428" y="292"/>
                  <a:pt x="424" y="584"/>
                  <a:pt x="384" y="768"/>
                </a:cubicBezTo>
                <a:cubicBezTo>
                  <a:pt x="344" y="952"/>
                  <a:pt x="256" y="1024"/>
                  <a:pt x="192" y="1104"/>
                </a:cubicBezTo>
                <a:cubicBezTo>
                  <a:pt x="128" y="1184"/>
                  <a:pt x="64" y="1216"/>
                  <a:pt x="0" y="1248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84880" y="4533840"/>
            <a:ext cx="2235240" cy="2286000"/>
          </a:xfrm>
          <a:custGeom>
            <a:avLst/>
            <a:gdLst/>
            <a:ahLst/>
            <a:rect l="l" t="t" r="r" b="b"/>
            <a:pathLst>
              <a:path w="1408" h="1440">
                <a:moveTo>
                  <a:pt x="1408" y="1080"/>
                </a:moveTo>
                <a:cubicBezTo>
                  <a:pt x="1324" y="1172"/>
                  <a:pt x="1240" y="1264"/>
                  <a:pt x="1072" y="1320"/>
                </a:cubicBezTo>
                <a:cubicBezTo>
                  <a:pt x="904" y="1376"/>
                  <a:pt x="568" y="1440"/>
                  <a:pt x="400" y="1416"/>
                </a:cubicBezTo>
                <a:cubicBezTo>
                  <a:pt x="232" y="1392"/>
                  <a:pt x="128" y="1288"/>
                  <a:pt x="64" y="1176"/>
                </a:cubicBezTo>
                <a:cubicBezTo>
                  <a:pt x="0" y="1064"/>
                  <a:pt x="0" y="920"/>
                  <a:pt x="16" y="744"/>
                </a:cubicBezTo>
                <a:cubicBezTo>
                  <a:pt x="32" y="568"/>
                  <a:pt x="136" y="240"/>
                  <a:pt x="160" y="120"/>
                </a:cubicBezTo>
                <a:cubicBezTo>
                  <a:pt x="184" y="0"/>
                  <a:pt x="172" y="12"/>
                  <a:pt x="160" y="24"/>
                </a:cubicBezTo>
              </a:path>
            </a:pathLst>
          </a:custGeom>
          <a:noFill/>
          <a:ln w="76320">
            <a:solidFill>
              <a:srgbClr val="66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181480"/>
            <a:ext cx="3429000" cy="6098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nd Chronicles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11160" y="609480"/>
          <a:ext cx="915516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609480"/>
                    <a:ext cx="915516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Other Observ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l makes no mention of the northern kingdom of Israel as a separate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does speak of Israel, he uses it in a sense where it seems to refer to a united covenant peopl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Outline of Jo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304920" y="914400"/>
          <a:ext cx="9677520" cy="31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914400"/>
                    <a:ext cx="96775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-609480" y="4267080"/>
          <a:ext cx="10439280" cy="386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09480" y="4267080"/>
                    <a:ext cx="1043928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11480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1:2-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18288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ar this, O elder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listen, all inhabitants of the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s anything like this happened in your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 in your fathers' 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ll your sons about 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let your sons tell their s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ir sons the next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1: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16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the gnawing locust has left, the swarming locust has eat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what the swarming locust has left, the creeping locust has eat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what the creeping locust has left, the stripping locust has eaten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1: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1752120"/>
            <a:ext cx="4572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field is ruin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land mour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he grain is ruin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new wine dries up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sh oil f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1752480"/>
            <a:ext cx="4572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field fail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land los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he grain is gon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wine wither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sh oil f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Joel 2:12-1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1752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"Yet even now," declares the LOR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"Return to Me with all your hea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with fasting, weeping, and mourning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d rend your heart and not your garments."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2952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4648320"/>
          <a:ext cx="6226200" cy="12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648320"/>
                    <a:ext cx="62262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-685800" y="304920"/>
          <a:ext cx="10744200" cy="72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304920"/>
                    <a:ext cx="10744200" cy="72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7-01T18:41:03Z</dcterms:modified>
  <cp:revision>15</cp:revision>
  <dc:subject/>
  <dc:title>Amos</dc:title>
</cp:coreProperties>
</file>