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77FD-A36C-4F28-8838-99EAF711E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AA6F-EDD4-453F-A01D-288F1107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FF43-C048-4D9B-80B3-212EA325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D784-6835-4D21-A44E-6ED24E912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E7DA-B26D-4C54-ABD9-F52AE439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056A-3C79-4145-8E1A-C5AC64E6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0712-2BC0-43F8-A15A-E81526A9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04AB-0454-4F53-AC52-F2BB2566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82CD-96CA-4279-B6BE-B3E8498F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5A76-C96E-4030-AFF1-3D77D180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0A3B-9A20-42AE-B451-83AAD6EC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BBDA-619D-46CA-98F8-78814383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53EB-1166-4F13-A614-68A08298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D92D-5C91-45DC-BAF2-B40E6057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F415-FFDD-4ECB-B3A9-E8715773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877D-74D2-44CD-921A-E133F1F30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4A31-FA02-465B-820E-9B50793D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9E48-1611-45D3-B619-E4D5C7FF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8681-D2A8-4BB3-9B34-23226655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A13D-2125-41E2-B7D3-C1925BD2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1155-647D-452C-90D0-2E95C617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D9E1-D246-439E-9DD4-FD4A94A4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3110-F2D5-4621-8093-9366ADE7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3B2A-7023-4EF3-B1E6-11E4ECF0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1900-5D33-406E-984E-5DF40FC9F9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9C54-AAC3-4DCB-A7AE-FD28740374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LAMENTATION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ok of Sorr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Jeremiah 39:8-9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7720" y="1447920"/>
            <a:ext cx="7543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Chaldeans also burned with fire the king's palace and the houses of the people, and they broke down the walls of Jerusalem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And as for the rest of the people who were left in the city, the deserters who had gone over to him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1143000"/>
            <a:ext cx="6781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Temple2" descr=""/>
          <p:cNvPicPr/>
          <p:nvPr/>
        </p:nvPicPr>
        <p:blipFill>
          <a:blip r:embed="rId1"/>
          <a:stretch/>
        </p:blipFill>
        <p:spPr>
          <a:xfrm>
            <a:off x="5486400" y="4419720"/>
            <a:ext cx="3657600" cy="217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38080" y="4038480"/>
            <a:ext cx="46483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rest of the people who remained, Nebuzaradan the captain of the bodyguard carried them into exile in Babylon.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emple%20destroyed" descr=""/>
          <p:cNvPicPr/>
          <p:nvPr/>
        </p:nvPicPr>
        <p:blipFill>
          <a:blip r:embed="rId1"/>
          <a:stretch/>
        </p:blipFill>
        <p:spPr>
          <a:xfrm>
            <a:off x="0" y="407880"/>
            <a:ext cx="9220320" cy="59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0" y="0"/>
          <a:ext cx="9383760" cy="721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83760" cy="721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42200" y="2953800"/>
            <a:ext cx="175644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rusa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n as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weep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dow 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 sorr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11320" y="2945880"/>
            <a:ext cx="1569960" cy="33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d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ain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f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ra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2987640"/>
            <a:ext cx="1904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remiah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men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es wi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hope for the f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11880" y="2969280"/>
            <a:ext cx="178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Israel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99640" y="2972160"/>
            <a:ext cx="1789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rayer 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id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pai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ry f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to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essons from Lamenta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is Sovereign over the Events of M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amentations 3:37-3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 brings forth Tragic Conseque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amentations 5:15-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Hope in the Dark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amentations 3:19-2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07:25:34Z</dcterms:created>
  <dc:creator>Port Everglades</dc:creator>
  <dc:description/>
  <dc:language>en-US</dc:language>
  <cp:lastModifiedBy>John Stevenson</cp:lastModifiedBy>
  <dcterms:modified xsi:type="dcterms:W3CDTF">2006-06-01T23:19:35Z</dcterms:modified>
  <cp:revision>55</cp:revision>
  <dc:subject/>
  <dc:title>Amos</dc:title>
</cp:coreProperties>
</file>