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0.jpeg" ContentType="image/jpeg"/>
  <Override PartName="/ppt/media/image9.png" ContentType="image/png"/>
  <Override PartName="/ppt/media/image13.png" ContentType="image/png"/>
  <Override PartName="/ppt/media/image12.wmf" ContentType="image/x-wmf"/>
  <Override PartName="/ppt/media/image8.png" ContentType="image/png"/>
  <Override PartName="/ppt/media/image19.wmf" ContentType="image/x-wmf"/>
  <Override PartName="/ppt/media/image1.wmf" ContentType="image/x-wmf"/>
  <Override PartName="/ppt/media/image16.jpeg" ContentType="image/jpeg"/>
  <Override PartName="/ppt/media/image14.png" ContentType="image/png"/>
  <Override PartName="/ppt/media/image11.wmf" ContentType="image/x-wmf"/>
  <Override PartName="/ppt/media/image17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8.png" ContentType="image/png"/>
  <Override PartName="/ppt/media/image7.jpeg" ContentType="image/jpeg"/>
  <Override PartName="/ppt/media/image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4177-D69E-43C5-BDB6-82418DE18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39C5-E9E6-464C-8B6A-45A57FBA7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548C-0FDD-4BF5-9D28-7C8FC2B5B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9133-C1EF-4480-A72F-80B351F1C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6A43B-E853-4F6C-AFC5-27F9976FC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A1FBE-4E54-471A-A185-7ED7E213F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4B6D8-9CD5-42CD-B936-45C313665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730CD-750E-40C6-8D64-BBFD7293C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13D62-E6E5-4024-8EE9-2460DDF0D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299D5-9A24-4428-ADA8-A3F4C0726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5F2EC-3367-42BA-A315-DB1AE618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137F-61E9-412F-9AD3-B61E9E297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045D3-AC5F-4974-94F2-7631FEB6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F8DF1-0D3D-4C5B-9D72-B00F1351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969A6-0FCA-4FE7-A158-61A477323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E15E7-5365-4129-AF2A-1EBDD2EFC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ECA5F-AB07-44DD-B838-F81C76844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16AD-D2F0-436C-8231-03B5ED65D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D725-6239-4958-9F92-8C0AEFA49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A720-ACE2-4001-9D12-94828842C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3B1D-3127-442C-8E0B-5315C149E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BAAE-57B4-48F9-BB06-BFCF364E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F073-2B1D-4E12-9761-2CE57667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0CBF-26D1-4D5E-8E8E-D792986E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8FCAF-5217-4BE4-8A0F-426C83BA868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BFCF9-7B34-4824-8D9D-C1E30A3FD67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Isaiah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ifth Gosp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 Black"/>
              </a:rPr>
              <a:t>Isaiah 1:21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686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How the faithful city has become a harlot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She who was full of justic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Righteousness once lodged in her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But now murderers.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47920" y="1066680"/>
            <a:ext cx="6553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-1752480" y="3809880"/>
          <a:ext cx="12648960" cy="269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752480" y="3809880"/>
                    <a:ext cx="12648960" cy="26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 Black"/>
              </a:rPr>
              <a:t>Isaiah 1:26-27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0" y="12949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26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Then I will restore your judges as at the first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nd your counselors as at the beginning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fter that you will be called the city of righteousnes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 faithful city."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27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Zion will be redeemed with just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nd her repentant ones with righteousness.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447920" y="1066680"/>
            <a:ext cx="6553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 Black"/>
              </a:rPr>
              <a:t>Isaiah 6:1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19320" y="1294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In the year of King Uzziah's death, I saw the Lord sitting on a throne, lofty and exalted, with the train of His robe filling the temple.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47920" y="1066680"/>
            <a:ext cx="6553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295280" y="3505320"/>
          <a:ext cx="6782040" cy="3125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505320"/>
                    <a:ext cx="6782040" cy="31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 Black"/>
              </a:rPr>
              <a:t>Isaiah 6:2-4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914400" y="1294920"/>
            <a:ext cx="7391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raphim stood above Him, each having six wings; with two he covered his face, and with two he covered his feet, and with two he flew.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And one called out to another and said, “Holy, Holy, Holy, is the LORD of hosts, The whole earth is full of His glory.”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And the foundations of the thresholds trembled at the voice of him who called out, while the temple was filling with smok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47920" y="1066680"/>
            <a:ext cx="6553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09680" y="0"/>
            <a:ext cx="5842080" cy="6477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048120" y="-152280"/>
            <a:ext cx="5221080" cy="70102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0" y="-647640"/>
            <a:ext cx="10210680" cy="75056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5483160" y="0"/>
            <a:ext cx="3660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 Black"/>
              </a:rPr>
              <a:t>Isaiah 6:5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14040" y="1294920"/>
            <a:ext cx="7162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en I said, “Woe is me, for I am ruined! Because I am a man of unclean lips, And I live among a people of unclean lips; For my eyes have seen the King, the LORD of hosts.”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47920" y="1066680"/>
            <a:ext cx="6553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 Black"/>
              </a:rPr>
              <a:t>Isaiah 6:6-7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4040" y="1294920"/>
            <a:ext cx="7162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en one of the seraphim flew to me, with a burning coal in his hand which he had taken from the altar with tongs.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And he touched my mouth with it and said, “Behold, this has touched your lips; and your iniquity is taken away, and your sin is forgiven.”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47920" y="1066680"/>
            <a:ext cx="6553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hild Motif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03040" y="1599840"/>
            <a:ext cx="7583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hear-jashub (Isaiah 7: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manu-el (Isaiah 7:14; 8:8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her-shalal-hash-baz (Isaiah 8: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aiah’s children (Isaiah 8:18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oyal Child (Isaiah 9:6-7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1066680" y="-304920"/>
          <a:ext cx="9101160" cy="741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-304920"/>
                    <a:ext cx="9101160" cy="741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1554120" y="2209680"/>
            <a:ext cx="17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aiah 1-3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Historical Interlud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aiah 36-3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-838080" y="1600200"/>
          <a:ext cx="10812240" cy="320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38080" y="1600200"/>
                    <a:ext cx="10812240" cy="32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4343400" y="1981080"/>
            <a:ext cx="0" cy="22860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0" y="1752480"/>
          <a:ext cx="9372600" cy="3292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372600" cy="329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 Black"/>
              </a:rPr>
              <a:t>Isaiah 36:1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Now it came about in the fourteenth year of King Hezekiah, Sennacherib king of Assyria came up against all the fortified cities of Judah and seized them.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1066680"/>
            <a:ext cx="6553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601200" cy="57358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304920"/>
            <a:ext cx="9144000" cy="60800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1333440" y="0"/>
            <a:ext cx="7810560" cy="69022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5378400" cy="6858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Isaiah 37:36-37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1371600"/>
            <a:ext cx="6400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6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n the angel of the LORD went out, and struck 185,000 in the camp of the Assyrians; and when men arose early in the morning, behold, all of these were de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7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 Sennacherib, king of Assyria, departed and returned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hom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and lived at Nineve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990720"/>
            <a:ext cx="66294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5324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aylor Prism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840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by Austen Henry Layard in 184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nacherib’s account of the campa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for Hezekiah the Jew… Himself, like a caged bird, I shut up in Jerusalem, his royal city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638680" y="0"/>
            <a:ext cx="2884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Isaiah 40-66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0" y="1905120"/>
          <a:ext cx="9031320" cy="340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05120"/>
                    <a:ext cx="903132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Isaiah 40:1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240" y="2514240"/>
            <a:ext cx="6629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"Speak kindly to Jerusalem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call out to her, that her warfare has ended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her iniquity has been removed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she has received of the LORD's h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uble for all her sins."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371600" y="1295280"/>
            <a:ext cx="6705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"Comfort, O comfort My people," says your G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00200" y="914400"/>
            <a:ext cx="624852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228600"/>
            <a:ext cx="761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-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Isaiah 42:1-2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914400"/>
            <a:ext cx="624852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371600" y="1219320"/>
            <a:ext cx="7315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Behold, My Servant, whom I uphol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y chosen one in whom My soul deligh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 have put My Spirit upon Him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He will bring forth justice to the n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He will not cry out or raise His voice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Nor make His voice heard in the stre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Isaiah 42:3-4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914400"/>
            <a:ext cx="624852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1219320"/>
            <a:ext cx="7086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A bruised reed He will not break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nd a dimly burning wick He will not extinguish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He will faithfully bring forth just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4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He will not be disheartened or crushed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Until He has established justice in the earth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nd the coastlands will wait expectantly for His la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5943600" y="990720"/>
            <a:ext cx="2743200" cy="990360"/>
          </a:xfrm>
          <a:prstGeom prst="rect">
            <a:avLst/>
          </a:prstGeom>
          <a:solidFill>
            <a:srgbClr val="33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Exal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53:10-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600200" y="3048120"/>
            <a:ext cx="2743200" cy="990360"/>
          </a:xfrm>
          <a:prstGeom prst="rect">
            <a:avLst/>
          </a:prstGeom>
          <a:solidFill>
            <a:srgbClr val="33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j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53:1-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791320" y="3048120"/>
            <a:ext cx="2743200" cy="990360"/>
          </a:xfrm>
          <a:prstGeom prst="rect">
            <a:avLst/>
          </a:prstGeom>
          <a:solidFill>
            <a:srgbClr val="33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j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53:7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743200" y="5105520"/>
            <a:ext cx="4800600" cy="990360"/>
          </a:xfrm>
          <a:prstGeom prst="rect">
            <a:avLst/>
          </a:prstGeom>
          <a:solidFill>
            <a:srgbClr val="33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uffe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53:4-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19320" y="990720"/>
            <a:ext cx="2743200" cy="990360"/>
          </a:xfrm>
          <a:prstGeom prst="rect">
            <a:avLst/>
          </a:prstGeom>
          <a:solidFill>
            <a:srgbClr val="33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Exal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52:13-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666880" y="2133720"/>
            <a:ext cx="152640" cy="7617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352680" y="4191120"/>
            <a:ext cx="457200" cy="8380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114440"/>
            <a:ext cx="457200" cy="7621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7068600" y="2137680"/>
            <a:ext cx="187560" cy="7538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 Black"/>
              </a:rPr>
              <a:t>Isaiah 1:1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1676520"/>
            <a:ext cx="6400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e vision of Isaiah the son of Amoz, concerning Judah and Jerusalem which he saw during the reigns of Uzziah, Jotham, Ahaz, and Hezekiah, kings of Judah.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1066680"/>
            <a:ext cx="6553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Israel’s Need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3809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r griefs (53: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23920" y="1447560"/>
            <a:ext cx="3962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Himself bore (53: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2362320"/>
            <a:ext cx="3809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r sorrows (53: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724280" y="2362320"/>
            <a:ext cx="3962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carried (53: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62120" y="2971800"/>
            <a:ext cx="3809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3000"/>
          </a:bodyPr>
          <a:p>
            <a:pPr marL="250200" indent="-250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our transgressions (53: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724280" y="2971800"/>
            <a:ext cx="3962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was pierced (53: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62120" y="4343400"/>
            <a:ext cx="3809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8000"/>
          </a:bodyPr>
          <a:p>
            <a:pPr marL="267480" indent="-2674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our iniquities (53: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724280" y="4343400"/>
            <a:ext cx="3962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8000"/>
          </a:bodyPr>
          <a:p>
            <a:pPr marL="267480" indent="-2674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was crushed (53: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62120" y="5334120"/>
            <a:ext cx="3809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8000"/>
          </a:bodyPr>
          <a:p>
            <a:pPr marL="267480" indent="-2674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our well-being (53: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724280" y="5334120"/>
            <a:ext cx="3962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1000"/>
          </a:bodyPr>
          <a:p>
            <a:pPr marL="209160" indent="-20916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hastening… fell upon Him (53: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419720" y="0"/>
            <a:ext cx="4267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The Servant’s Remed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495680" y="0"/>
            <a:ext cx="0" cy="685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761760" y="1447560"/>
            <a:ext cx="38098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267480" indent="-2674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need of healing (53: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723920" y="1447560"/>
            <a:ext cx="39625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267480" indent="-2674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His scourging (53: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62120" y="2590920"/>
            <a:ext cx="3809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1000"/>
          </a:bodyPr>
          <a:p>
            <a:pPr marL="209160" indent="-20916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we like sheep have gone astray (53: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724280" y="2590920"/>
            <a:ext cx="3962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1000"/>
          </a:bodyPr>
          <a:p>
            <a:pPr marL="209160" indent="-20916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ord has caused the iniquity of us all to fall on Him (53: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38080" y="4191120"/>
            <a:ext cx="381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marL="205560" indent="-20556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the transgression of my people to whom the stroke was due (53: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4191120"/>
            <a:ext cx="3962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1000"/>
          </a:bodyPr>
          <a:p>
            <a:pPr marL="209160" indent="-20916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was cut off out of the land of the living (53: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title"/>
          </p:nvPr>
        </p:nvSpPr>
        <p:spPr>
          <a:xfrm>
            <a:off x="685800" y="-36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Israel’s Need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419720" y="0"/>
            <a:ext cx="4267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The Servant’s Remed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495680" y="0"/>
            <a:ext cx="0" cy="685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500"/>
                            </p:stCondLst>
                            <p:childTnLst>
                              <p:par>
                                <p:cTn id="5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228600" y="865080"/>
          <a:ext cx="8686800" cy="525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865080"/>
                    <a:ext cx="8686800" cy="5256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-528480" y="846000"/>
          <a:ext cx="10105920" cy="472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28480" y="846000"/>
                    <a:ext cx="10105920" cy="472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b2b2b2"/>
                </a:solidFill>
                <a:latin typeface="Arial"/>
              </a:rPr>
              <a:t>Isaiah 1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295280" y="22096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 Microcosm of the Entire Book of Isai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-457200" y="3124080"/>
          <a:ext cx="10131480" cy="259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57200" y="3124080"/>
                    <a:ext cx="10131480" cy="25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 Black"/>
              </a:rPr>
              <a:t>Isaiah 1:2-3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Listen, O heavens, and hear, O earth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For the LORD speak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Sons I have reared and brought up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But they have revolted against 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An ox knows its owner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nd a donkey its master's manger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But Israel does not know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y people do not understand.”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47920" y="1066680"/>
            <a:ext cx="6553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 Black"/>
              </a:rPr>
              <a:t>Isaiah 1:4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las, sinful nation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eople weighed down with iniquity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Offspring of evildoer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Sons who act corruptly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ey have abandoned the Lord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ey have despised the Holy One of Israel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ey have turned away from Him.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47920" y="1066680"/>
            <a:ext cx="6553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43000" y="2209680"/>
            <a:ext cx="4572000" cy="762120"/>
          </a:xfrm>
          <a:prstGeom prst="ellipse">
            <a:avLst/>
          </a:prstGeom>
          <a:noFill/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918480" y="2438280"/>
            <a:ext cx="222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 Black"/>
              </a:rPr>
              <a:t>Literally “Seed of Evil Ones.”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5867280" y="2666880"/>
            <a:ext cx="990720" cy="15264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 Black"/>
              </a:rPr>
              <a:t>Isaiah 1:10-11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-457200" y="12949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Hear the word of the LORD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You rulers of Sodom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Give ear to the instruction of our God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You people of Gomorra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"What are your multiplied sacrifices to Me?"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Says the LOR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"I have had enough of burnt offerings of ram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nd the fat of fed catt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nd I take no pleasure in the blood of bulls, lambs, or goa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47920" y="1066680"/>
            <a:ext cx="6553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819520" y="2286000"/>
            <a:ext cx="137160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48120" y="3352680"/>
            <a:ext cx="175248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0T07:25:34Z</dcterms:created>
  <dc:creator>Port Everglades</dc:creator>
  <dc:description/>
  <dc:language>en-US</dc:language>
  <cp:lastModifiedBy>John Stevenson</cp:lastModifiedBy>
  <dcterms:modified xsi:type="dcterms:W3CDTF">2007-07-18T14:14:55Z</dcterms:modified>
  <cp:revision>21</cp:revision>
  <dc:subject/>
  <dc:title>Amos</dc:title>
</cp:coreProperties>
</file>