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568-650E-49AB-A70F-2AB29426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2D4F-D641-49C3-86A1-1548921D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AC7-7FF0-4D0F-BE69-6E30F5DA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3217-D3E2-4EB0-A948-219B51A9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88A2-63E7-40F9-B0AF-471BB061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2655-704D-4180-AA77-A257993D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855B-6C77-4CDD-BD0D-EB870791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C1D8-A6C5-4C59-9FEA-334E5EC6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41A6-7EDF-4697-BBCE-338C25A4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F459-7AA1-4619-9CFB-FDB5A6F1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2B93-1AF3-4526-95A4-EBBDACF4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1C0-609C-4F89-AB89-DC6FE67D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E82B-5A9B-467B-B7A5-7B68E800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3264-585A-436B-A924-A65019EA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1673-716F-449A-BA8B-1444E0BD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DC64-C457-41B1-9609-15FFDC33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0838-028C-42A4-99A4-71228F44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7EA-F14D-483E-8A4B-9ECC0C80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D3A-A711-4B97-AE8B-7F72CF8F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D15-7E6E-4CE7-9794-A292D745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847-A7E2-475B-B367-317A9D2B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722-BEA1-496F-8F27-9F7139D7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B690-F2A7-43E6-B671-A3D2D0B5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A6E0-7EDA-4195-BD9A-36F1F2F2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0049-28DF-4F7A-B3B2-EC5DF847A4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BD36-2C29-4644-9C98-13BAE5D183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 Black"/>
              </a:rPr>
              <a:t>SONG OF SONG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Love Song of the Scrip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Song of Songs 1:7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ell me, O you whom my soul lov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here do you pasture your flock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here do you make it lie down at no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r why should I be like one who veils he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eside the flocks of your compan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Story behind the So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ory be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y meets gir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2895480"/>
            <a:ext cx="83059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promises to re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returns, not as a shepherd, but as the reigning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omon takes his bride to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temporary separation (Chapters 5-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servations from the Boo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ame of Yahweh is not mentio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ook is never quoted in the New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ws would not permit their young people to read this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essons from the Song of Song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is concerned with all of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is concerned with our sex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of life reflects our relationship with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criptures contain love so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are a part of a sacred ro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-228600" y="1893960"/>
          <a:ext cx="9677520" cy="31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893960"/>
                    <a:ext cx="9677520" cy="31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529440" y="1066680"/>
            <a:ext cx="21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Megill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(“The Scrolls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pretations of the Boo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egorical Interpreta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Entire book is seen as an allegory of the Lord’s love for His people Isra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ltic Interpreta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Cultic poems for use in marriage rit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epherd Interpreta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Views Solomon as the vill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ical Interpreta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Type of the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ural or Literal Interpre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Cast of Character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1040" y="1934640"/>
            <a:ext cx="77454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om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Shelomoh “Peacefu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hulamith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eminine of Shelom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2133720"/>
            <a:ext cx="2743200" cy="114300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 Black"/>
              </a:rPr>
              <a:t>Romance 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 Black"/>
              </a:rPr>
              <a:t>Honeymo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 Black"/>
              </a:rPr>
              <a:t>(Chapters 1-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2133720"/>
            <a:ext cx="2743200" cy="114300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 Black"/>
              </a:rPr>
              <a:t>Happily 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 Black"/>
              </a:rPr>
              <a:t>af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 Black"/>
              </a:rPr>
              <a:t>(Chapters 7-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038480"/>
            <a:ext cx="3124080" cy="99072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 Black"/>
              </a:rPr>
              <a:t>Marital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 Black"/>
              </a:rPr>
              <a:t>(Chapters 5-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3276720"/>
            <a:ext cx="106668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10080" y="3352320"/>
            <a:ext cx="99072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1640" y="76212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utline of the 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Story behind the So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ory be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Song of Songs 1:5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"I am black but lovel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 daughters of Jerusale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Like the tents of Keda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Like the curtains of Solom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2971800"/>
            <a:ext cx="3581280" cy="4572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Song of Songs 1:6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"Do not stare at me because I am swarth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r the sun has burned 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y mother's sons were angry with m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y made me caretaker of the vineyar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ut I have not taken care of my own vineyar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Story behind the So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ory be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3623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y meets gir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7:25:34Z</dcterms:created>
  <dc:creator>Port Everglades</dc:creator>
  <dc:description/>
  <dc:language>en-US</dc:language>
  <cp:lastModifiedBy>John Stevenson</cp:lastModifiedBy>
  <dcterms:modified xsi:type="dcterms:W3CDTF">2006-05-11T20:57:19Z</dcterms:modified>
  <cp:revision>21</cp:revision>
  <dc:subject/>
  <dc:title>Amos</dc:title>
</cp:coreProperties>
</file>