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451-E5BD-4BEF-B920-A8233254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966-8959-41B4-A78D-99DCB54A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8D3-292B-4E6D-81C2-82C63380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9A3-6E31-4B20-8445-4F714C53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7D0B-F793-402A-939F-1B2436BB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B44F-77A9-41A3-8A62-25C890BB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E83-492F-4FFF-BF74-CD77D5E1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81FB-2302-41C1-AC54-8E9A1259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6413-70F7-464E-8AB2-B3BE3BC3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1C5F-EF20-44FF-8CD5-5E648FEB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0BE6-5B2D-48B6-9511-4643A2A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334-2271-4647-B86D-BF574805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5CD6-E70A-4FEF-9781-70E27DB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886B-174E-4001-AFF1-61B28FB2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1EDF-C173-495F-BE5F-3045D7A8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4E6-B076-40D8-AC32-C6CEF2A2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4A05-9343-488F-A30D-50C327B6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5FD-1EAD-4CB2-B581-1E12B28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E85-2A50-4A3D-B15F-FB7B33A8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12D-ABFA-4DD3-A1A8-4F763AAB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062-4898-481D-B119-52EB715E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A8C-6B8C-4307-AEF4-A7612090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6C8-12D6-4993-9056-6F7DAE54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774-D9C3-48A7-A994-5B4C88B6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CEAF-8A1B-49D9-87F0-15B4F04A66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E051-581A-4CAD-9F73-02FEF39849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 Black"/>
              </a:rPr>
              <a:t>ECCLESIAS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Question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228600" y="1893960"/>
          <a:ext cx="9677520" cy="31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893960"/>
                    <a:ext cx="967752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529440" y="106668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Megill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“The Scroll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280" y="6094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73080" y="6094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1880" y="6094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30680" y="6094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6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59480" y="609480"/>
            <a:ext cx="18288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80" y="208116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life is emptiness, but man ought to enjoy goodness because it is from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3080" y="207648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profit in seeing God as the giver of all of the seasons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1880" y="2076480"/>
            <a:ext cx="1828800" cy="30200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being fearful, enjoy life while it lasts because it is a gift from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30680" y="207648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 sees life as a struggle, but God gave life to be enj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59480" y="2076480"/>
            <a:ext cx="1828800" cy="3385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the emptiness of this life, man ought to fear the Lord and follow His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73080" y="11430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1880" y="11430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30680" y="11430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9480" y="11430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80" y="1143000"/>
            <a:ext cx="1828800" cy="947160"/>
          </a:xfrm>
          <a:prstGeom prst="rect">
            <a:avLst/>
          </a:prstGeom>
          <a:gradFill rotWithShape="0">
            <a:gsLst>
              <a:gs pos="0">
                <a:srgbClr val="320000"/>
              </a:gs>
              <a:gs pos="50000">
                <a:srgbClr val="580000"/>
              </a:gs>
              <a:gs pos="100000">
                <a:srgbClr val="32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Ser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omon’s Di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71800" y="2743200"/>
            <a:ext cx="4000680" cy="18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mptines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ssons from the Seasons of 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543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is a gift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verything there is a s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all to live purposefu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called to enjoy the jou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this enjoyment is found in the “one another principl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Preacher gives four reasons why it is better not to be alo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0600" y="2771640"/>
            <a:ext cx="2209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: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30280" y="2771640"/>
            <a:ext cx="2210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: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40320" y="2771640"/>
            <a:ext cx="22096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: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50000" y="2771640"/>
            <a:ext cx="2362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: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0600" y="3244680"/>
            <a:ext cx="899172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are better than one 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0600" y="3828960"/>
            <a:ext cx="2209680" cy="155700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good results in their l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30280" y="3828960"/>
            <a:ext cx="2210040" cy="155700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pick up one another in tr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40320" y="3828960"/>
            <a:ext cx="2209680" cy="155700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warm one another in the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50000" y="3828960"/>
            <a:ext cx="2362320" cy="155700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hold up one another in ad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0600" y="5378400"/>
            <a:ext cx="2209680" cy="52056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30280" y="5378400"/>
            <a:ext cx="2210040" cy="52056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0320" y="5378400"/>
            <a:ext cx="2209680" cy="52056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50000" y="5378400"/>
            <a:ext cx="2362320" cy="520560"/>
          </a:xfrm>
          <a:prstGeom prst="rect">
            <a:avLst/>
          </a:prstGeom>
          <a:gradFill rotWithShape="0">
            <a:gsLst>
              <a:gs pos="0">
                <a:srgbClr val="000e2a"/>
              </a:gs>
              <a:gs pos="50000">
                <a:srgbClr val="001f5c"/>
              </a:gs>
              <a:gs pos="100000">
                <a:srgbClr val="000e2a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12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inciples of Prior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5520" y="2057400"/>
            <a:ext cx="2622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1: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2057400"/>
            <a:ext cx="25905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1: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2057400"/>
            <a:ext cx="3048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2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5520" y="2521080"/>
            <a:ext cx="2622600" cy="18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oice...  in young man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521080"/>
            <a:ext cx="259056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vexation from your heart pain from your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521080"/>
            <a:ext cx="304812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your Creator in the days of your y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member the Lord becaus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n't getting any You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s designed you to the Empty without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s the Time to Prepare for Eter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8-04-16T11:45:15Z</dcterms:modified>
  <cp:revision>29</cp:revision>
  <dc:subject/>
  <dc:title>Amos</dc:title>
</cp:coreProperties>
</file>