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886-715D-482D-97E9-0147F661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856-BA15-4E5A-953E-422F50FD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17C-013C-41DA-A05C-45303D83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592-9311-4924-A6A4-0FFB399A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27D4-1DE0-4847-B65B-683A27B2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B416-CEF0-4983-8298-20A9D20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BA18-30C5-4B01-B8B4-D6B9667A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F350-A106-4EC2-BC86-C3E9751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DFD5-709D-4A92-B348-90A41C0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0CE-7432-4E9D-B994-544F79E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1332-35F5-42BE-B710-D4992EA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D8D-9DD3-4136-815A-36B590E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F4B0-B7CB-48E8-8751-64D7AE2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0DA-D58A-4883-834F-A6748199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222A-8C1A-459A-A5A1-306323D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109F-9B12-4D91-9920-35024F38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F1B8-CA49-4C9F-8B7B-9CC1A5CE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638-D74D-4E8B-9D8F-475CE0F8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28C-2400-4527-9403-2A02C686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95B-668F-49B6-A2B5-D269496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79E-197A-4281-B09E-FD8F5130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A87-8721-4958-B208-FD986ED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8CC-43CB-44F9-B6FC-53DFEAE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9B7-5B69-440B-BAE4-C6A7ADD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65AF-1FD9-4798-8743-2F800559F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FC2-7E25-4207-A293-9F12CEF66B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PROVERB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ook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362320"/>
            <a:ext cx="7391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 have directed you in the way of wisdom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ed you in upright p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you walk, your steps will not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de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run, you will not stumble. (Proverbs 4:11-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286000"/>
            <a:ext cx="7391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hold of instruction; do not let 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d her, for she is you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enter the path of the wick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o not proceed in the way of evil men. (Proverbs 4:13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2096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void it, do not pass by i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away from it and pass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cannot sleep unless they do evil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are robbed of sleep unless they ma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mble. (Proverbs 4:15-1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28600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eat the bread of wicked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rink the wine of viol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the path of the righteous is like the light of daw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hines brighter and brighter until the full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way of the wicked is like darknes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know over what they stumble. (Proverbs 4:17-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28600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y son, give attention to my word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ine your ear to my say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let them depart from your sigh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hem in the midst of your heart. (Proverbs 4:20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28600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y are life to those who find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alth to all their whol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ch over your heart with all dilig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from i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ings of life. (Proverbs 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828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819520"/>
            <a:ext cx="838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ll-gotten gains do not profi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ighteousness delivers from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LORD will not allow the righteous to hunge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He will thru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i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aving of the wic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is he who works with a negligent han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hand of the diligent makes rich. (Proverbs 10:2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gathers in summer is a son who acts wisel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sleeps in harvest is a son who acts shamefully. (Proverbs 10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8195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vinegar to the teeth and smoke to the ey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s the lazy one to those who send him.(Proverbs 10: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89548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see a man skilled in his wor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stand before king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not stand before obscure men. (Proverbs 10: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4382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igent work will lead to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962520"/>
            <a:ext cx="7924680" cy="1600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y of the sluggard is as a hedge of thor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path of the upright is a high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15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505320"/>
            <a:ext cx="7924680" cy="31240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ant, O slugg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her ways and be wi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, having no chief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r, or rul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s her food in the summ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athers her provisions in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15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362320"/>
            <a:ext cx="7391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Business and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505320"/>
            <a:ext cx="8610480" cy="31240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withhold good from those to whom it is d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is in your power to d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not say to your neighb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Go, and come bac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morrow I will gi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have it with you. (Proverbs 3:27-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429000"/>
            <a:ext cx="7848720" cy="19051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trusts in his riches will fal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righteous will flourish like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verbs 3:27-2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es in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Business and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29718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Spiritual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5120" y="4191120"/>
            <a:ext cx="85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lack of wood the fire goes ou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where there is no whisperer, contention quiets d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verbs 26:2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verbs 22:10-14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2640" y="10666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rive out the scoffer, and contention will go ou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 strife and dishonor will ce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e who loves purity of hea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se speech is gracious, the king is his fri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eyes of the LORD preserve knowledg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He overthrows the words of the treacherous 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sluggard says, "There is a lion outsid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shall be slain in the streets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mouth of an adulteress is a deep pi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ho is cursed of the LORD will fall into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83808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verbs 13:1-3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42640" y="10666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wise s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cepts h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her's discipl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a scoffer does not listen to rebu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the fruit of a man's mouth he enjoys goo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the desire of the treacherous is viol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one who guards his mouth preserves his life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e who opens wide his lips comes to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83808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xcellent Wife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verbs 31:10-31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onducts her affairs in such a way as to instill trust on the part of her husband (31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both hard-working and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not afraid to engage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is given both to her husband as well as to 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the Prover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ersal need for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versal Arena of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Wise is also what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rather than Prom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 view of the re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are called to be street-sm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457200" y="639720"/>
          <a:ext cx="10134720" cy="62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639720"/>
                    <a:ext cx="10134720" cy="62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99680" y="4572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ETICAL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Title of the book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97180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verbs of Solomon the son of David, king of Israel (Proverbs 1:1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429000"/>
            <a:ext cx="91440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8200" y="5715000"/>
            <a:ext cx="129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lv;m'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6080" y="5029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rom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oot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roverbs 1:2-4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know wisdom and instruc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discern the sayings of understand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receive instruction in wise behavi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ghteousness, justice and equ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give prudence to the naiv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the youth knowledge and discre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roverbs 1:5-6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 wise man will hear and increase in learn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a man of understanding will acquire wise couns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o understand a proverb and a fig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words of the wise and their ridd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72200" y="388620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Exodus 28:2-3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"And you shall make holy garments for Aaron your brother, for glory and for beau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"And you shall speak to all the skillful persons whom I have endowed with the spirit of wisdom, that they make Aaron's garments to consecrate him, that he may minister as priest to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roverbs 1:7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fear of the LORD is the beginning of knowledg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ols despise wisdom and in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50532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41520" y="41911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Fear that Drives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60240" y="5105520"/>
            <a:ext cx="41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Fear that brings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-1905120" y="990720"/>
          <a:ext cx="13106520" cy="49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990720"/>
                    <a:ext cx="1310652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-685800" y="1676520"/>
          <a:ext cx="1036332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1676520"/>
                    <a:ext cx="10363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028320" y="129528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utline of Pro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4-30T02:00:33Z</dcterms:modified>
  <cp:revision>20</cp:revision>
  <dc:subject/>
  <dc:title>Amos</dc:title>
</cp:coreProperties>
</file>