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E09-1F80-4394-A993-09AC119F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D47-C544-486F-B384-D7B6EDB3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E42-E1D9-4680-8579-CF88CCBF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26D-6E24-4D25-8FFB-B41F0401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B2E-56B0-438C-8035-FDB3C363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FE42-B29E-44BC-9013-9B0886D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81E4-F15E-4FB3-B8FA-185BAB09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CAA-24CC-4EA8-8AA7-F262EF7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26DE-0684-4C78-BCEC-B7C1C1A1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2181-83F6-4A37-892C-612B6B2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BA3C-387C-4BCF-8276-D5CEB355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0EA-809A-4F27-B710-8FCCB015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DEAB-0CBB-4992-A5DC-ED2052A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03C-3E39-4101-ABDB-F73B6C6B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77E-EA58-4586-B6B5-F0AD25A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4DE8-957C-42C3-B0AA-BEE74A7D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93E-D155-4E00-AC84-7195C8A8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8E9-0A5E-42DB-AD6B-5315476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9BD-BA78-4CD2-802D-BB7A563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FDF-11DF-468C-827C-FC34A74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1D9-9A9B-4D34-BC3E-14B245B3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91B-55DD-4163-93D6-C4B00D7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AD2-0D7C-4CDA-B39D-5BB5ECC2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E45-812D-46CB-B45E-E54387F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90A5-EF7C-4E1C-8794-BEFED5397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9C9-0C92-48E1-AEDA-577F3C7B3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PSALM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Hymnbook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42:1-3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s the deer pants for the water brook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o my soul pants for Thee, O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My soul thirsts for God, for the living Go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en shall I come and appear before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My tears have been my food day and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ile they say to me all day lo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Where is your God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42:4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se things I remember, and I pour out my soul within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I used to go along with the throng and lead them in procession to the house of Go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ith the voice of joy and thanksgiving, a multitude keeping festi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410080"/>
            <a:ext cx="80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You cannot rest on yesterday’s exper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utual support &amp; encour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42:5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y are you in despair, O my so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why have you become disturbed within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ope in God, for I shall again praise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the help of His pre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45:1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the choir director; according to the Shoshann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askil of the sons of Kor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ong of L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y heart overflows with a good the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 address my verses to the K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y tongue is the pen of a ready wri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45:7-8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ou hast loved righteousness, and hated wicked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refore God, Thy God, has anointed Thee With the oil of joy above Thy fel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ll Thy garments are fragrant with myrrh and aloes and cassi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ut of ivory palaces stringed instruments have made Thee g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1295280"/>
            <a:ext cx="3276720" cy="106704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ayer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storation (1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1295280"/>
            <a:ext cx="3429000" cy="106704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ayer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a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storation (18-1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276720"/>
            <a:ext cx="2666880" cy="83808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f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3-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276720"/>
            <a:ext cx="2666880" cy="83808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anksgi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3-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800600"/>
            <a:ext cx="4495680" cy="129528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ayer for Rest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eansing from sin (7-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ward renewal (10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67760" y="38088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SALM 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362320"/>
            <a:ext cx="38088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049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867280" y="4190760"/>
            <a:ext cx="2286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437920"/>
            <a:ext cx="30492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salm 52-5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696080" cy="30477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59720" y="236232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avid’s flight from Sa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9718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6576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29718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18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62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700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140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80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24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68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1280" y="3124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297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7200" y="4114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kils of Dav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6240" y="3962520"/>
            <a:ext cx="16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khtam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av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3080" y="55627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dit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2800" y="603396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Lk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be Pr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29800" y="5562720"/>
            <a:ext cx="20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olden Pray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7200" y="6033960"/>
            <a:ext cx="17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~t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57:1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-22860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the choir director; set to Al-tashh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Mikhtam of David, when he fled from Saul, in the c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 gracious to me, O God, be gracious to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my soul takes refuge in The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in the shadow of Thy wings I will take refu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ntil destruction passes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2578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-380880" y="1752480"/>
          <a:ext cx="99820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752480"/>
                    <a:ext cx="99820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352680" y="2133720"/>
            <a:ext cx="1905120" cy="1371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33040" y="48006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cus upon Israel, Jerusale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e Te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-380880" y="1752480"/>
          <a:ext cx="99820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752480"/>
                    <a:ext cx="99820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257800" y="2133720"/>
            <a:ext cx="2133720" cy="1371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03840" y="49528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n exclusive use of Yahw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stics of the Psal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0400" y="1599840"/>
            <a:ext cx="782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thousand years of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sical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oted in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lates our response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“sensory”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90:1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04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Prayer of Moses the man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Lord, Thou hast been our dwelling place in all gen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efore the mountains were bor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r Thou didst give birth to the earth and the worl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ven from everlasting to everlas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ou art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92:1-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 Psalm, a Song for the Sabbath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t is good to give thanks to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o sing praises to Thy na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 Most Hig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declare Thy lovingkindness in the morn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y faithfulness by nig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92:3-4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404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ith the ten-stringed lute, and with the har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ith resounding music upon the ly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For Thou, O LORD, hast made me glad by what Thou hast d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 will sing for joy at the works of Thy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00:1-3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040" y="10663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Psalm for Thanksg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out joyfully to the LORD, all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Serve the LORD with glad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me before Him with joyful sing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Know that the LORD Himself is Go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t is He who has made us, and not we ourselv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e are His people and the sheep of His pas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00:4-5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Enter His gates with thanksgiv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His courts with p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ive thanks to Him; bless His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For the LORD is goo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is lovingkindness is everlas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His faithfulness to all gen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as high as the heavens are above the earth, So great is His lovingkindness toward those who fear 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03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 for man, his days are like grass; As a flower of the field, so he flourishes.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When the wind has passed over it, it is no more; And its place acknowledges it no lon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03:15-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established the earth upon its found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04: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He has remembered His covenant forev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word which He commanded to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ousand generat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 covenant which He made with Abraha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His oath to Isaa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n He confirmed it to Jacob for a statu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Israel as an everlasting covenant (Psalm 105:8-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03-108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rebuked the Red Sea and it dried up; And He led them through the deeps, as through the wilder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06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d has spoken in His holiness: "I will exult, I will portion out Shechem, And measure out the valley of Succ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ilead is Mine, Manasseh is Mine; Ephraim also is the helmet of My head; Judah is My scep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Psalm 108:7-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-380880" y="1752480"/>
          <a:ext cx="99820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752480"/>
                    <a:ext cx="99820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7391520" y="2133720"/>
            <a:ext cx="1752480" cy="22096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10:1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4343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Psalm of Dav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ORD says to my Lo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Sit at My right h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til I make Thine enemies a footstool for Thy feet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footstool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6609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-380880" y="1752480"/>
          <a:ext cx="99820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752480"/>
                    <a:ext cx="99820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689560" y="137160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ructure of the Psa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33720"/>
            <a:ext cx="1752480" cy="1371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Halle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salms of Pra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salms 113-1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ng at Passo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18:21-23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I shall give thanks to Thee, for Thou hast answered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ou hast become my sal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 stone which the builders rej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s become the chief corner st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is is the LORD's do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t is marvelous in our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20:1-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 Song of Ascents, of Dav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 Was glad when they said to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Let us go to the house of the LORD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Our feet are 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ithin your gates, O Jerusal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20:3-4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Jerusalem, that is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s a city that is compact togeth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which the tribes go up, even the tribes of the LORD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 ordinance for Israel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give thanks to the name of the L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34:1-3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 Song of Asc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hold, bless the LORD, all servants of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o serve by night in the house of the LO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Lift up your hands to the sanctuar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bless the L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May the LORD bless you from Z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 who made heaven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1" descr=""/>
          <p:cNvPicPr/>
          <p:nvPr/>
        </p:nvPicPr>
        <p:blipFill>
          <a:blip r:embed="rId1"/>
          <a:stretch/>
        </p:blipFill>
        <p:spPr>
          <a:xfrm>
            <a:off x="-685800" y="4680"/>
            <a:ext cx="9829800" cy="6853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5791320" y="5029200"/>
            <a:ext cx="457200" cy="30492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37:1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the rivers of Babyl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re we sat down and wep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en we remembered Z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3032280"/>
            <a:ext cx="5334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37:2-4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2189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Upon the willows in the midst of it We hung our har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For there our captors demanded of us song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our tormentors mirth, saying, "Sing us one of the songs of Zion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How can we sing the LORD's 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 a foreign l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137:5-6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523520" y="121896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If I forget you, O Jerusal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y my right hand forget her sk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May my tongue cleave to the roof of my mou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f I do not remember yo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f I do not exalt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bove my chief j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The Value of the Psalm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47440" y="1852560"/>
            <a:ext cx="69390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mmentary of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urgy for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attern for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sdom for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-380880" y="1371600"/>
          <a:ext cx="982980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371600"/>
                    <a:ext cx="98298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603240" y="91440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SAL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2:1-2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y are the nations in an upro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peoples devising a vain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kings of the earth take their sta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rulers take counsel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gainst the LORD and against His Anoi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2:6-7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ut as for Me, I have installed My King Upon Z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y holy mountain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I will surely tell of the decree of the LOR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 said to Me, 'Thou art My S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day I have begotten Th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salm 2:8-9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'Ask of Me, and I will surely give the nations as Thine inherita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very ends of the earth as Thy pos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'Thou shalt break them with a rod of ir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ou shalt shatter them like earthenware.'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914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salm 22-2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3040" y="1934640"/>
            <a:ext cx="75834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alm 22.  The Suffering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alm 23.  The Good Sheph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alm 24.  The Sovereign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-380880" y="1752480"/>
          <a:ext cx="9982080" cy="29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752480"/>
                    <a:ext cx="99820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752480" y="2133720"/>
            <a:ext cx="1676520" cy="1371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57520" y="4800600"/>
            <a:ext cx="39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e title Elohim is used much 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an is the name Yahw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4-15T00:35:51Z</dcterms:modified>
  <cp:revision>108</cp:revision>
  <dc:subject/>
  <dc:title>Amos</dc:title>
</cp:coreProperties>
</file>