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wmf" ContentType="image/x-wmf"/>
  <Override PartName="/ppt/media/image13.jpeg" ContentType="image/jpeg"/>
  <Override PartName="/ppt/media/image19.png" ContentType="image/png"/>
  <Override PartName="/ppt/media/image18.jpeg" ContentType="image/jpeg"/>
  <Override PartName="/ppt/media/image17.wmf" ContentType="image/x-wmf"/>
  <Override PartName="/ppt/media/image3.wmf" ContentType="image/x-wmf"/>
  <Override PartName="/ppt/media/image15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6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15A-A14C-41A4-8BCA-1CC31348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B45-8FFB-4EDE-BFA8-8C8C1844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D1E-EFA7-4EAE-8334-D0403CDF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CD82-0D83-4DD6-AFD1-9EE98DBE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982C-0C2B-48F3-9640-E69713F0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19A5-61B6-414A-800C-40071D8E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FE4E-8143-4A8D-95AB-68897636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0F62-BA52-49F9-9394-B598BE1A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25C9-BF42-42D6-9E5B-A7B95ED4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B438-2B93-4BAC-AE93-AF45FD63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62F0-1B8B-45BB-855A-BD08268C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EFF-7E24-4D61-B895-874A108B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8D94-E7E6-471D-9E54-E8C80EC8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971D-5F39-41FF-8A33-D33B80CB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E60A-C04A-4C5B-9037-7E46086D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E729-EE16-4001-81A3-C66BA1A9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5B59-520B-4564-9099-FA09CABA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707-C42F-437E-9B25-05D83A1F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0C4-C6F7-4451-A2E5-7F7B52EB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3C3-0FFA-4B8B-A926-ABCDBD6E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70C-4AA8-4DD8-9A02-184DC564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95C-975E-4AF4-9110-8C870999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6934-9957-459A-8DF0-3BD63C86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1B3-5AD8-431A-AF92-26F0F108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6925-583A-4403-ABDE-BDF3E5ACD0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8182-B093-452F-A1C6-2CD1FEBA59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 Black"/>
              </a:rPr>
              <a:t>1st King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105520" y="289512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Kingdom United and Di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2971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1 Kings 11:3-4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14040" y="106632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e had seven hundred wives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esses, and three hundred concubines, and his wives turned his heart away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it came about when Solomon was old, his wives turned his heart away after other gods; and his heart was not wholly devoted to the LORD his God, as the heart of David his fath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ad be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1 Kings 11:5-6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219320" y="106632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Solomon went after Ashtoreth the goddess of the Sidonians and after Milcom the detestable idol of the Ammonites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Solomon did what was evil in the sight of the LORD, and did not follow the LORD fully, as David his fath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ad d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2584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1 Kings 11:7-8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19320" y="106632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Solomon built a high place for Chemosh the detestable idol of Moab, on the mountain which is east of Jerusalem, and for Molech the detestable idol of the sons of Ammon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us also he did for all his foreign wives, who burned incense and sacrificed to their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2584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Decree of God’s Judg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is for the Jud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3623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w the LORD was angry with Solomon because his heart was turned away from the LORD, the God of Israel, who had appeared to him twice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and had commanded him concerning this thing, that he should not go after other gods; but he did not observe what the LORD had commanded. (1 Kings 11:9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Decree of God’s Judg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is for the Jud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97180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 the LORD said to Solomon, "Because you have done this, and you have not kept My covenant and My statutes, which I have commanded you, I will surely tear the kingdom from you, and will give it to your servant.(1 Kings 11:1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aling of the Jud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Decree of God’s Judg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is for the Jud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505320"/>
            <a:ext cx="7543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evertheless I will not do it in your days for the sake of your father David, but I will tear it out of the hand of your son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However, I will not tear away all the kingdom, but I will give one tribe to your son for the sake of My servant David and for the sake of Jerusalem which I have chosen. (1 Kings 11:1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aling of the Jud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438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ce Amidst the Jud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1 Kings 11:30-31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14040" y="106632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n Ahijah took hold of the new cloak which was on him, and tore it into twelve pie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he said to Jeroboam, “Take for yourself ten pieces; for thus says the Lord, the God of Israel, ‘Behold, I will tear the kingdom out of the hand of Solomon and give you ten tribes.’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458200" y="5257800"/>
            <a:ext cx="685800" cy="1600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685800" cy="1600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2971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1 Samuel 15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276720" y="22824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amuel &amp; Sa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ul tears Samuel’s robe and it is used as a picture of the kingdom being torn from Sa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90512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1 Kings 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2209680"/>
            <a:ext cx="5867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hijah &amp; Jerobo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ijah tears his robe and gives 10 pieces to Jeroboam to illustrate how the kingdom will be torn a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4267080"/>
            <a:ext cx="5867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Jesus on the Cr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eil of the temple is torn from top to bottom to show the way to God has been ope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3809880"/>
            <a:ext cx="29718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Matthew 27</a:t>
            </a:r>
            <a:br>
              <a:rPr sz="3600"/>
            </a:b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Mark 15</a:t>
            </a:r>
            <a:br>
              <a:rPr sz="3600"/>
            </a:b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Luke 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1148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1 Kings 11:37-38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914400" y="10663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 will take you, and you shall reign over whatever you desire, and you shall be king over Israel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n it will be, that if you listen to all that I command you and walk in My ways, and do what is right in My sight by observing My statutes and My commandments, as My servant David did, then I will be with you and build you an enduring house as I built for David, and I will give Israel to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96640" cy="6880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874960" y="3832200"/>
            <a:ext cx="2681280" cy="2895480"/>
          </a:xfrm>
          <a:custGeom>
            <a:avLst/>
            <a:gdLst/>
            <a:ahLst/>
            <a:rect l="l" t="t" r="r" b="b"/>
            <a:pathLst>
              <a:path w="1689" h="1824">
                <a:moveTo>
                  <a:pt x="1656" y="241"/>
                </a:moveTo>
                <a:cubicBezTo>
                  <a:pt x="1560" y="228"/>
                  <a:pt x="1487" y="205"/>
                  <a:pt x="1412" y="141"/>
                </a:cubicBezTo>
                <a:cubicBezTo>
                  <a:pt x="1400" y="131"/>
                  <a:pt x="1392" y="116"/>
                  <a:pt x="1378" y="108"/>
                </a:cubicBezTo>
                <a:cubicBezTo>
                  <a:pt x="1358" y="97"/>
                  <a:pt x="1312" y="86"/>
                  <a:pt x="1312" y="86"/>
                </a:cubicBezTo>
                <a:cubicBezTo>
                  <a:pt x="1290" y="93"/>
                  <a:pt x="1267" y="101"/>
                  <a:pt x="1245" y="108"/>
                </a:cubicBezTo>
                <a:cubicBezTo>
                  <a:pt x="1230" y="113"/>
                  <a:pt x="1215" y="100"/>
                  <a:pt x="1200" y="97"/>
                </a:cubicBezTo>
                <a:cubicBezTo>
                  <a:pt x="1131" y="82"/>
                  <a:pt x="1067" y="52"/>
                  <a:pt x="989" y="119"/>
                </a:cubicBezTo>
                <a:cubicBezTo>
                  <a:pt x="953" y="95"/>
                  <a:pt x="908" y="77"/>
                  <a:pt x="867" y="64"/>
                </a:cubicBezTo>
                <a:cubicBezTo>
                  <a:pt x="740" y="75"/>
                  <a:pt x="762" y="0"/>
                  <a:pt x="667" y="64"/>
                </a:cubicBezTo>
                <a:cubicBezTo>
                  <a:pt x="656" y="71"/>
                  <a:pt x="645" y="79"/>
                  <a:pt x="634" y="86"/>
                </a:cubicBezTo>
                <a:cubicBezTo>
                  <a:pt x="623" y="93"/>
                  <a:pt x="600" y="108"/>
                  <a:pt x="600" y="108"/>
                </a:cubicBezTo>
                <a:cubicBezTo>
                  <a:pt x="595" y="115"/>
                  <a:pt x="538" y="195"/>
                  <a:pt x="534" y="197"/>
                </a:cubicBezTo>
                <a:cubicBezTo>
                  <a:pt x="491" y="218"/>
                  <a:pt x="389" y="225"/>
                  <a:pt x="345" y="230"/>
                </a:cubicBezTo>
                <a:cubicBezTo>
                  <a:pt x="327" y="242"/>
                  <a:pt x="301" y="255"/>
                  <a:pt x="289" y="275"/>
                </a:cubicBezTo>
                <a:cubicBezTo>
                  <a:pt x="283" y="285"/>
                  <a:pt x="283" y="298"/>
                  <a:pt x="278" y="308"/>
                </a:cubicBezTo>
                <a:cubicBezTo>
                  <a:pt x="265" y="335"/>
                  <a:pt x="253" y="344"/>
                  <a:pt x="234" y="364"/>
                </a:cubicBezTo>
                <a:cubicBezTo>
                  <a:pt x="197" y="469"/>
                  <a:pt x="173" y="576"/>
                  <a:pt x="123" y="675"/>
                </a:cubicBezTo>
                <a:cubicBezTo>
                  <a:pt x="96" y="728"/>
                  <a:pt x="98" y="755"/>
                  <a:pt x="56" y="797"/>
                </a:cubicBezTo>
                <a:cubicBezTo>
                  <a:pt x="37" y="855"/>
                  <a:pt x="12" y="902"/>
                  <a:pt x="0" y="963"/>
                </a:cubicBezTo>
                <a:cubicBezTo>
                  <a:pt x="8" y="1082"/>
                  <a:pt x="30" y="1190"/>
                  <a:pt x="45" y="1308"/>
                </a:cubicBezTo>
                <a:cubicBezTo>
                  <a:pt x="47" y="1326"/>
                  <a:pt x="47" y="1416"/>
                  <a:pt x="67" y="1452"/>
                </a:cubicBezTo>
                <a:cubicBezTo>
                  <a:pt x="98" y="1508"/>
                  <a:pt x="144" y="1563"/>
                  <a:pt x="189" y="1608"/>
                </a:cubicBezTo>
                <a:cubicBezTo>
                  <a:pt x="205" y="1655"/>
                  <a:pt x="236" y="1692"/>
                  <a:pt x="267" y="1730"/>
                </a:cubicBezTo>
                <a:cubicBezTo>
                  <a:pt x="275" y="1740"/>
                  <a:pt x="276" y="1759"/>
                  <a:pt x="289" y="1763"/>
                </a:cubicBezTo>
                <a:cubicBezTo>
                  <a:pt x="324" y="1775"/>
                  <a:pt x="363" y="1770"/>
                  <a:pt x="400" y="1775"/>
                </a:cubicBezTo>
                <a:cubicBezTo>
                  <a:pt x="467" y="1784"/>
                  <a:pt x="532" y="1808"/>
                  <a:pt x="600" y="1819"/>
                </a:cubicBezTo>
                <a:cubicBezTo>
                  <a:pt x="797" y="1811"/>
                  <a:pt x="842" y="1824"/>
                  <a:pt x="989" y="1775"/>
                </a:cubicBezTo>
                <a:cubicBezTo>
                  <a:pt x="1047" y="1756"/>
                  <a:pt x="1124" y="1766"/>
                  <a:pt x="1178" y="1730"/>
                </a:cubicBezTo>
                <a:cubicBezTo>
                  <a:pt x="1222" y="1701"/>
                  <a:pt x="1257" y="1669"/>
                  <a:pt x="1301" y="1641"/>
                </a:cubicBezTo>
                <a:cubicBezTo>
                  <a:pt x="1334" y="1541"/>
                  <a:pt x="1381" y="1530"/>
                  <a:pt x="1445" y="1463"/>
                </a:cubicBezTo>
                <a:cubicBezTo>
                  <a:pt x="1478" y="1332"/>
                  <a:pt x="1426" y="1515"/>
                  <a:pt x="1489" y="1375"/>
                </a:cubicBezTo>
                <a:cubicBezTo>
                  <a:pt x="1495" y="1362"/>
                  <a:pt x="1504" y="1292"/>
                  <a:pt x="1512" y="1275"/>
                </a:cubicBezTo>
                <a:cubicBezTo>
                  <a:pt x="1522" y="1254"/>
                  <a:pt x="1543" y="1239"/>
                  <a:pt x="1556" y="1219"/>
                </a:cubicBezTo>
                <a:cubicBezTo>
                  <a:pt x="1552" y="1167"/>
                  <a:pt x="1558" y="1114"/>
                  <a:pt x="1545" y="1063"/>
                </a:cubicBezTo>
                <a:cubicBezTo>
                  <a:pt x="1539" y="1037"/>
                  <a:pt x="1501" y="997"/>
                  <a:pt x="1501" y="997"/>
                </a:cubicBezTo>
                <a:cubicBezTo>
                  <a:pt x="1511" y="928"/>
                  <a:pt x="1527" y="867"/>
                  <a:pt x="1534" y="797"/>
                </a:cubicBezTo>
                <a:cubicBezTo>
                  <a:pt x="1549" y="655"/>
                  <a:pt x="1532" y="716"/>
                  <a:pt x="1556" y="641"/>
                </a:cubicBezTo>
                <a:cubicBezTo>
                  <a:pt x="1565" y="555"/>
                  <a:pt x="1558" y="538"/>
                  <a:pt x="1612" y="486"/>
                </a:cubicBezTo>
                <a:cubicBezTo>
                  <a:pt x="1631" y="426"/>
                  <a:pt x="1616" y="463"/>
                  <a:pt x="1667" y="386"/>
                </a:cubicBezTo>
                <a:cubicBezTo>
                  <a:pt x="1674" y="375"/>
                  <a:pt x="1689" y="352"/>
                  <a:pt x="1689" y="352"/>
                </a:cubicBezTo>
                <a:cubicBezTo>
                  <a:pt x="1685" y="337"/>
                  <a:pt x="1686" y="321"/>
                  <a:pt x="1678" y="308"/>
                </a:cubicBezTo>
                <a:cubicBezTo>
                  <a:pt x="1671" y="297"/>
                  <a:pt x="1649" y="299"/>
                  <a:pt x="1645" y="286"/>
                </a:cubicBezTo>
                <a:cubicBezTo>
                  <a:pt x="1640" y="271"/>
                  <a:pt x="1652" y="256"/>
                  <a:pt x="1656" y="241"/>
                </a:cubicBezTo>
                <a:close/>
              </a:path>
            </a:pathLst>
          </a:custGeom>
          <a:noFill/>
          <a:ln w="57240">
            <a:solidFill>
              <a:srgbClr val="00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1240" y="4952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lack"/>
              </a:rPr>
              <a:t>JUD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048120"/>
            <a:ext cx="6858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cubicBezTo>
                  <a:pt x="44" y="92"/>
                  <a:pt x="88" y="184"/>
                  <a:pt x="144" y="240"/>
                </a:cubicBezTo>
                <a:cubicBezTo>
                  <a:pt x="200" y="296"/>
                  <a:pt x="288" y="288"/>
                  <a:pt x="336" y="336"/>
                </a:cubicBezTo>
                <a:cubicBezTo>
                  <a:pt x="384" y="384"/>
                  <a:pt x="408" y="456"/>
                  <a:pt x="432" y="528"/>
                </a:cubicBezTo>
              </a:path>
            </a:pathLst>
          </a:custGeom>
          <a:noFill/>
          <a:ln w="57240">
            <a:solidFill>
              <a:srgbClr val="00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888840"/>
            <a:ext cx="1854360" cy="4445280"/>
          </a:xfrm>
          <a:custGeom>
            <a:avLst/>
            <a:gdLst/>
            <a:ahLst/>
            <a:rect l="l" t="t" r="r" b="b"/>
            <a:pathLst>
              <a:path w="1168" h="2800">
                <a:moveTo>
                  <a:pt x="0" y="2752"/>
                </a:moveTo>
                <a:cubicBezTo>
                  <a:pt x="68" y="2776"/>
                  <a:pt x="136" y="2800"/>
                  <a:pt x="192" y="2800"/>
                </a:cubicBezTo>
                <a:cubicBezTo>
                  <a:pt x="248" y="2800"/>
                  <a:pt x="288" y="2760"/>
                  <a:pt x="336" y="2752"/>
                </a:cubicBezTo>
                <a:cubicBezTo>
                  <a:pt x="384" y="2744"/>
                  <a:pt x="432" y="2792"/>
                  <a:pt x="480" y="2752"/>
                </a:cubicBezTo>
                <a:cubicBezTo>
                  <a:pt x="528" y="2712"/>
                  <a:pt x="560" y="2592"/>
                  <a:pt x="624" y="2512"/>
                </a:cubicBezTo>
                <a:cubicBezTo>
                  <a:pt x="688" y="2432"/>
                  <a:pt x="808" y="2376"/>
                  <a:pt x="864" y="2272"/>
                </a:cubicBezTo>
                <a:cubicBezTo>
                  <a:pt x="920" y="2168"/>
                  <a:pt x="920" y="1992"/>
                  <a:pt x="960" y="1888"/>
                </a:cubicBezTo>
                <a:cubicBezTo>
                  <a:pt x="1000" y="1784"/>
                  <a:pt x="1072" y="1760"/>
                  <a:pt x="1104" y="1648"/>
                </a:cubicBezTo>
                <a:cubicBezTo>
                  <a:pt x="1136" y="1536"/>
                  <a:pt x="1168" y="1328"/>
                  <a:pt x="1152" y="1216"/>
                </a:cubicBezTo>
                <a:cubicBezTo>
                  <a:pt x="1136" y="1104"/>
                  <a:pt x="1032" y="1072"/>
                  <a:pt x="1008" y="976"/>
                </a:cubicBezTo>
                <a:cubicBezTo>
                  <a:pt x="984" y="880"/>
                  <a:pt x="1032" y="744"/>
                  <a:pt x="1008" y="640"/>
                </a:cubicBezTo>
                <a:cubicBezTo>
                  <a:pt x="984" y="536"/>
                  <a:pt x="904" y="440"/>
                  <a:pt x="864" y="352"/>
                </a:cubicBezTo>
                <a:cubicBezTo>
                  <a:pt x="824" y="264"/>
                  <a:pt x="832" y="168"/>
                  <a:pt x="768" y="112"/>
                </a:cubicBezTo>
                <a:cubicBezTo>
                  <a:pt x="704" y="56"/>
                  <a:pt x="568" y="32"/>
                  <a:pt x="480" y="16"/>
                </a:cubicBezTo>
                <a:cubicBezTo>
                  <a:pt x="392" y="0"/>
                  <a:pt x="304" y="0"/>
                  <a:pt x="240" y="16"/>
                </a:cubicBezTo>
                <a:cubicBezTo>
                  <a:pt x="176" y="32"/>
                  <a:pt x="128" y="104"/>
                  <a:pt x="96" y="112"/>
                </a:cubicBezTo>
                <a:cubicBezTo>
                  <a:pt x="64" y="120"/>
                  <a:pt x="56" y="92"/>
                  <a:pt x="48" y="64"/>
                </a:cubicBezTo>
              </a:path>
            </a:pathLst>
          </a:custGeom>
          <a:noFill/>
          <a:ln w="57240">
            <a:solidFill>
              <a:srgbClr val="00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76320"/>
            <a:ext cx="38124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240"/>
                </a:moveTo>
                <a:cubicBezTo>
                  <a:pt x="68" y="152"/>
                  <a:pt x="136" y="64"/>
                  <a:pt x="240" y="0"/>
                </a:cubicBezTo>
              </a:path>
            </a:pathLst>
          </a:custGeom>
          <a:noFill/>
          <a:ln w="57240">
            <a:solidFill>
              <a:srgbClr val="00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0"/>
            <a:ext cx="152280" cy="304920"/>
          </a:xfrm>
          <a:custGeom>
            <a:avLst/>
            <a:gdLst/>
            <a:ahLst/>
            <a:rect l="l" t="t" r="r" b="b"/>
            <a:pathLst>
              <a:path w="96" h="192">
                <a:moveTo>
                  <a:pt x="96" y="192"/>
                </a:moveTo>
                <a:cubicBezTo>
                  <a:pt x="80" y="160"/>
                  <a:pt x="64" y="128"/>
                  <a:pt x="48" y="96"/>
                </a:cubicBezTo>
                <a:cubicBezTo>
                  <a:pt x="32" y="64"/>
                  <a:pt x="16" y="32"/>
                  <a:pt x="0" y="0"/>
                </a:cubicBezTo>
              </a:path>
            </a:pathLst>
          </a:custGeom>
          <a:noFill/>
          <a:ln w="57240">
            <a:solidFill>
              <a:srgbClr val="00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0080" y="1371600"/>
            <a:ext cx="14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02400" y="25909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Wingdings"/>
                <a:ea typeface="Wingdings"/>
              </a:rPr>
              <a:t>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7680" y="2666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Wingdings"/>
                <a:ea typeface="Wingdings"/>
              </a:rPr>
              <a:t>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67960" y="2743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99520" y="259092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Penu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0280" y="358128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Webdings"/>
                <a:ea typeface="Webdings"/>
              </a:rPr>
              <a:t>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92080" y="33526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 Black"/>
              </a:rPr>
              <a:t>Beth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304920"/>
            <a:ext cx="56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 Black"/>
              </a:rPr>
              <a:t>D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410080" y="0"/>
            <a:ext cx="152640" cy="5335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50120" y="24382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Wingdings"/>
                <a:ea typeface="Wingdings"/>
              </a:rPr>
              <a:t>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35680" y="21337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Sa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-1447920" y="304920"/>
          <a:ext cx="12039840" cy="6284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47920" y="304920"/>
                    <a:ext cx="1203984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-457200" y="31680"/>
            <a:ext cx="10134720" cy="6826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33520" y="5867280"/>
            <a:ext cx="2209680" cy="609840"/>
          </a:xfrm>
          <a:prstGeom prst="rect">
            <a:avLst/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a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685800" y="1828800"/>
            <a:ext cx="4114800" cy="2743200"/>
            <a:chOff x="685800" y="1828800"/>
            <a:chExt cx="4114800" cy="2743200"/>
          </a:xfrm>
        </p:grpSpPr>
        <p:sp>
          <p:nvSpPr>
            <p:cNvPr id="207" name=""/>
            <p:cNvSpPr/>
            <p:nvPr/>
          </p:nvSpPr>
          <p:spPr>
            <a:xfrm>
              <a:off x="685800" y="2362320"/>
              <a:ext cx="1752480" cy="9144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Ethba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(Itto-Baal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48120" y="2362320"/>
              <a:ext cx="1752480" cy="9144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OMR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96920" y="182880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SID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51680" y="182880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ISRA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48120" y="3962520"/>
              <a:ext cx="1752480" cy="6094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Aha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962520"/>
              <a:ext cx="1752480" cy="6094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Jezeb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23880" y="32767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86200" y="32767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438280" y="42670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81840" y="0"/>
            <a:ext cx="306216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175160" y="4708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Si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66"/>
                </a:solidFill>
                <a:latin typeface="Wingdings 2"/>
                <a:ea typeface="Wingdings 2"/>
              </a:rPr>
              <a:t>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180200" y="31222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Isra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97160" y="492120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Jud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990720"/>
            <a:ext cx="3962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w Elijah the Tishbite, who was of the settlers of Gilead, said to Ahab, “As the Lord, the God of Israel lives, before whom I stand, surely there shall be neither dew nor rain these years, except by my word.” (1 Kings 17: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081840" y="0"/>
            <a:ext cx="306216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175160" y="4708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Si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66"/>
                </a:solidFill>
                <a:latin typeface="Wingdings 2"/>
                <a:ea typeface="Wingdings 2"/>
              </a:rPr>
              <a:t>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0200" y="31222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Isra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797160" y="492120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 Black"/>
              </a:rPr>
              <a:t>Jud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1480" y="533520"/>
            <a:ext cx="1676520" cy="990360"/>
          </a:xfrm>
          <a:prstGeom prst="wedgeRoundRectCallout">
            <a:avLst>
              <a:gd name="adj1" fmla="val 55870"/>
              <a:gd name="adj2" fmla="val 164421"/>
              <a:gd name="adj3" fmla="val 16667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ar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09480" y="1828800"/>
            <a:ext cx="4953240" cy="3657600"/>
            <a:chOff x="609480" y="1828800"/>
            <a:chExt cx="4953240" cy="3657600"/>
          </a:xfrm>
        </p:grpSpPr>
        <p:sp>
          <p:nvSpPr>
            <p:cNvPr id="227" name=""/>
            <p:cNvSpPr/>
            <p:nvPr/>
          </p:nvSpPr>
          <p:spPr>
            <a:xfrm>
              <a:off x="1676520" y="3657600"/>
              <a:ext cx="761760" cy="533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809520" y="3581280"/>
              <a:ext cx="76212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14400" y="3124080"/>
              <a:ext cx="1523880" cy="609840"/>
            </a:xfrm>
            <a:prstGeom prst="rect">
              <a:avLst/>
            </a:prstGeom>
            <a:solidFill>
              <a:srgbClr val="01016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lija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480" y="1828800"/>
              <a:ext cx="2133720" cy="762120"/>
            </a:xfrm>
            <a:prstGeom prst="rect">
              <a:avLst/>
            </a:prstGeom>
            <a:solidFill>
              <a:srgbClr val="54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b2b2b2"/>
                  </a:solidFill>
                  <a:latin typeface="Arial"/>
                </a:rPr>
                <a:t>Yahwe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33920" y="3124080"/>
              <a:ext cx="1523880" cy="609840"/>
            </a:xfrm>
            <a:prstGeom prst="rect">
              <a:avLst/>
            </a:prstGeom>
            <a:solidFill>
              <a:srgbClr val="01016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ha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29000" y="1828800"/>
              <a:ext cx="2133720" cy="762120"/>
            </a:xfrm>
            <a:prstGeom prst="rect">
              <a:avLst/>
            </a:prstGeom>
            <a:solidFill>
              <a:srgbClr val="54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b2b2b2"/>
                  </a:solidFill>
                  <a:latin typeface="Arial"/>
                </a:rPr>
                <a:t>Baa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76520" y="2590920"/>
              <a:ext cx="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95680" y="2590920"/>
              <a:ext cx="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81080" y="4419720"/>
              <a:ext cx="2133720" cy="1066680"/>
            </a:xfrm>
            <a:prstGeom prst="rect">
              <a:avLst/>
            </a:prstGeom>
            <a:solidFill>
              <a:srgbClr val="01016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ho will you serve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-1905120" y="1828800"/>
          <a:ext cx="12497040" cy="294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5120" y="1828800"/>
                    <a:ext cx="1249704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28240" y="3200400"/>
            <a:ext cx="8915760" cy="914400"/>
            <a:chOff x="228240" y="3200400"/>
            <a:chExt cx="8915760" cy="914400"/>
          </a:xfrm>
        </p:grpSpPr>
        <p:sp>
          <p:nvSpPr>
            <p:cNvPr id="103" name=""/>
            <p:cNvSpPr/>
            <p:nvPr/>
          </p:nvSpPr>
          <p:spPr>
            <a:xfrm flipH="1">
              <a:off x="228240" y="3200400"/>
              <a:ext cx="441972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15400" y="3200400"/>
              <a:ext cx="228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-534960" y="1604880"/>
          <a:ext cx="10144080" cy="198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4960" y="1604880"/>
                    <a:ext cx="1014408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-1295280" y="4114800"/>
          <a:ext cx="11963160" cy="2075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295280" y="4114800"/>
                    <a:ext cx="1196316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205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178080" y="3438360"/>
            <a:ext cx="696960" cy="1217880"/>
          </a:xfrm>
          <a:custGeom>
            <a:avLst/>
            <a:gdLst/>
            <a:ahLst/>
            <a:rect l="l" t="t" r="r" b="b"/>
            <a:pathLst>
              <a:path w="439" h="767">
                <a:moveTo>
                  <a:pt x="98" y="723"/>
                </a:moveTo>
                <a:cubicBezTo>
                  <a:pt x="65" y="645"/>
                  <a:pt x="27" y="767"/>
                  <a:pt x="9" y="712"/>
                </a:cubicBezTo>
                <a:cubicBezTo>
                  <a:pt x="35" y="557"/>
                  <a:pt x="0" y="708"/>
                  <a:pt x="43" y="612"/>
                </a:cubicBezTo>
                <a:cubicBezTo>
                  <a:pt x="53" y="591"/>
                  <a:pt x="65" y="545"/>
                  <a:pt x="65" y="545"/>
                </a:cubicBezTo>
                <a:cubicBezTo>
                  <a:pt x="55" y="433"/>
                  <a:pt x="45" y="322"/>
                  <a:pt x="76" y="212"/>
                </a:cubicBezTo>
                <a:cubicBezTo>
                  <a:pt x="92" y="156"/>
                  <a:pt x="86" y="180"/>
                  <a:pt x="143" y="123"/>
                </a:cubicBezTo>
                <a:cubicBezTo>
                  <a:pt x="151" y="115"/>
                  <a:pt x="165" y="100"/>
                  <a:pt x="165" y="100"/>
                </a:cubicBezTo>
                <a:cubicBezTo>
                  <a:pt x="165" y="100"/>
                  <a:pt x="182" y="28"/>
                  <a:pt x="187" y="23"/>
                </a:cubicBezTo>
                <a:cubicBezTo>
                  <a:pt x="204" y="6"/>
                  <a:pt x="232" y="8"/>
                  <a:pt x="254" y="0"/>
                </a:cubicBezTo>
                <a:cubicBezTo>
                  <a:pt x="298" y="46"/>
                  <a:pt x="286" y="66"/>
                  <a:pt x="276" y="134"/>
                </a:cubicBezTo>
                <a:cubicBezTo>
                  <a:pt x="286" y="208"/>
                  <a:pt x="284" y="233"/>
                  <a:pt x="354" y="256"/>
                </a:cubicBezTo>
                <a:cubicBezTo>
                  <a:pt x="431" y="335"/>
                  <a:pt x="439" y="314"/>
                  <a:pt x="398" y="467"/>
                </a:cubicBezTo>
                <a:cubicBezTo>
                  <a:pt x="395" y="478"/>
                  <a:pt x="376" y="474"/>
                  <a:pt x="365" y="478"/>
                </a:cubicBezTo>
                <a:cubicBezTo>
                  <a:pt x="331" y="467"/>
                  <a:pt x="315" y="455"/>
                  <a:pt x="276" y="478"/>
                </a:cubicBezTo>
                <a:cubicBezTo>
                  <a:pt x="264" y="485"/>
                  <a:pt x="259" y="500"/>
                  <a:pt x="254" y="512"/>
                </a:cubicBezTo>
                <a:cubicBezTo>
                  <a:pt x="230" y="567"/>
                  <a:pt x="215" y="631"/>
                  <a:pt x="198" y="689"/>
                </a:cubicBezTo>
                <a:cubicBezTo>
                  <a:pt x="192" y="710"/>
                  <a:pt x="194" y="706"/>
                  <a:pt x="176" y="712"/>
                </a:cubicBezTo>
                <a:cubicBezTo>
                  <a:pt x="161" y="717"/>
                  <a:pt x="120" y="678"/>
                  <a:pt x="98" y="723"/>
                </a:cubicBezTo>
                <a:close/>
              </a:path>
            </a:pathLst>
          </a:custGeom>
          <a:solidFill>
            <a:srgbClr val="008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8280" y="182880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SSY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3440" y="47736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GY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8680" y="1635120"/>
            <a:ext cx="2998800" cy="3921120"/>
          </a:xfrm>
          <a:custGeom>
            <a:avLst/>
            <a:gdLst/>
            <a:ahLst/>
            <a:rect l="l" t="t" r="r" b="b"/>
            <a:pathLst>
              <a:path w="1889" h="2470">
                <a:moveTo>
                  <a:pt x="523" y="2447"/>
                </a:moveTo>
                <a:cubicBezTo>
                  <a:pt x="470" y="2413"/>
                  <a:pt x="465" y="2374"/>
                  <a:pt x="445" y="2314"/>
                </a:cubicBezTo>
                <a:cubicBezTo>
                  <a:pt x="421" y="2240"/>
                  <a:pt x="164" y="2189"/>
                  <a:pt x="145" y="2114"/>
                </a:cubicBezTo>
                <a:cubicBezTo>
                  <a:pt x="0" y="1948"/>
                  <a:pt x="111" y="1914"/>
                  <a:pt x="267" y="1825"/>
                </a:cubicBezTo>
                <a:cubicBezTo>
                  <a:pt x="287" y="1764"/>
                  <a:pt x="456" y="1592"/>
                  <a:pt x="511" y="1514"/>
                </a:cubicBezTo>
                <a:cubicBezTo>
                  <a:pt x="549" y="1404"/>
                  <a:pt x="525" y="1501"/>
                  <a:pt x="545" y="1359"/>
                </a:cubicBezTo>
                <a:cubicBezTo>
                  <a:pt x="545" y="1357"/>
                  <a:pt x="558" y="1281"/>
                  <a:pt x="567" y="1270"/>
                </a:cubicBezTo>
                <a:cubicBezTo>
                  <a:pt x="582" y="1251"/>
                  <a:pt x="613" y="1243"/>
                  <a:pt x="634" y="1236"/>
                </a:cubicBezTo>
                <a:cubicBezTo>
                  <a:pt x="641" y="1214"/>
                  <a:pt x="649" y="1192"/>
                  <a:pt x="656" y="1170"/>
                </a:cubicBezTo>
                <a:cubicBezTo>
                  <a:pt x="660" y="1159"/>
                  <a:pt x="657" y="1143"/>
                  <a:pt x="667" y="1136"/>
                </a:cubicBezTo>
                <a:cubicBezTo>
                  <a:pt x="713" y="1106"/>
                  <a:pt x="756" y="1088"/>
                  <a:pt x="800" y="1059"/>
                </a:cubicBezTo>
                <a:cubicBezTo>
                  <a:pt x="854" y="978"/>
                  <a:pt x="821" y="1004"/>
                  <a:pt x="889" y="970"/>
                </a:cubicBezTo>
                <a:cubicBezTo>
                  <a:pt x="908" y="913"/>
                  <a:pt x="931" y="842"/>
                  <a:pt x="978" y="803"/>
                </a:cubicBezTo>
                <a:cubicBezTo>
                  <a:pt x="988" y="794"/>
                  <a:pt x="1002" y="790"/>
                  <a:pt x="1012" y="781"/>
                </a:cubicBezTo>
                <a:cubicBezTo>
                  <a:pt x="1032" y="764"/>
                  <a:pt x="1067" y="725"/>
                  <a:pt x="1067" y="725"/>
                </a:cubicBezTo>
                <a:cubicBezTo>
                  <a:pt x="1093" y="648"/>
                  <a:pt x="1100" y="626"/>
                  <a:pt x="1145" y="559"/>
                </a:cubicBezTo>
                <a:cubicBezTo>
                  <a:pt x="1172" y="518"/>
                  <a:pt x="1169" y="498"/>
                  <a:pt x="1212" y="470"/>
                </a:cubicBezTo>
                <a:cubicBezTo>
                  <a:pt x="1248" y="359"/>
                  <a:pt x="1247" y="301"/>
                  <a:pt x="1334" y="214"/>
                </a:cubicBezTo>
                <a:cubicBezTo>
                  <a:pt x="1377" y="171"/>
                  <a:pt x="1412" y="166"/>
                  <a:pt x="1467" y="148"/>
                </a:cubicBezTo>
                <a:cubicBezTo>
                  <a:pt x="1478" y="144"/>
                  <a:pt x="1500" y="137"/>
                  <a:pt x="1500" y="137"/>
                </a:cubicBezTo>
                <a:cubicBezTo>
                  <a:pt x="1528" y="109"/>
                  <a:pt x="1551" y="94"/>
                  <a:pt x="1589" y="81"/>
                </a:cubicBezTo>
                <a:cubicBezTo>
                  <a:pt x="1606" y="64"/>
                  <a:pt x="1614" y="38"/>
                  <a:pt x="1634" y="25"/>
                </a:cubicBezTo>
                <a:cubicBezTo>
                  <a:pt x="1654" y="12"/>
                  <a:pt x="1701" y="3"/>
                  <a:pt x="1701" y="3"/>
                </a:cubicBezTo>
                <a:cubicBezTo>
                  <a:pt x="1768" y="20"/>
                  <a:pt x="1740" y="0"/>
                  <a:pt x="1767" y="81"/>
                </a:cubicBezTo>
                <a:cubicBezTo>
                  <a:pt x="1772" y="96"/>
                  <a:pt x="1821" y="110"/>
                  <a:pt x="1834" y="114"/>
                </a:cubicBezTo>
                <a:cubicBezTo>
                  <a:pt x="1883" y="166"/>
                  <a:pt x="1889" y="243"/>
                  <a:pt x="1856" y="314"/>
                </a:cubicBezTo>
                <a:cubicBezTo>
                  <a:pt x="1846" y="335"/>
                  <a:pt x="1811" y="329"/>
                  <a:pt x="1789" y="337"/>
                </a:cubicBezTo>
                <a:cubicBezTo>
                  <a:pt x="1743" y="353"/>
                  <a:pt x="1767" y="341"/>
                  <a:pt x="1723" y="370"/>
                </a:cubicBezTo>
                <a:cubicBezTo>
                  <a:pt x="1701" y="403"/>
                  <a:pt x="1684" y="442"/>
                  <a:pt x="1656" y="470"/>
                </a:cubicBezTo>
                <a:cubicBezTo>
                  <a:pt x="1629" y="497"/>
                  <a:pt x="1618" y="503"/>
                  <a:pt x="1601" y="537"/>
                </a:cubicBezTo>
                <a:cubicBezTo>
                  <a:pt x="1564" y="610"/>
                  <a:pt x="1535" y="669"/>
                  <a:pt x="1467" y="714"/>
                </a:cubicBezTo>
                <a:cubicBezTo>
                  <a:pt x="1438" y="759"/>
                  <a:pt x="1397" y="781"/>
                  <a:pt x="1356" y="814"/>
                </a:cubicBezTo>
                <a:cubicBezTo>
                  <a:pt x="1322" y="842"/>
                  <a:pt x="1291" y="889"/>
                  <a:pt x="1267" y="925"/>
                </a:cubicBezTo>
                <a:cubicBezTo>
                  <a:pt x="1252" y="973"/>
                  <a:pt x="1228" y="1010"/>
                  <a:pt x="1212" y="1059"/>
                </a:cubicBezTo>
                <a:cubicBezTo>
                  <a:pt x="1207" y="1074"/>
                  <a:pt x="1188" y="1080"/>
                  <a:pt x="1178" y="1092"/>
                </a:cubicBezTo>
                <a:cubicBezTo>
                  <a:pt x="1169" y="1102"/>
                  <a:pt x="1163" y="1114"/>
                  <a:pt x="1156" y="1125"/>
                </a:cubicBezTo>
                <a:cubicBezTo>
                  <a:pt x="1130" y="1203"/>
                  <a:pt x="1134" y="1188"/>
                  <a:pt x="1089" y="1248"/>
                </a:cubicBezTo>
                <a:cubicBezTo>
                  <a:pt x="1073" y="1269"/>
                  <a:pt x="1045" y="1314"/>
                  <a:pt x="1045" y="1314"/>
                </a:cubicBezTo>
                <a:cubicBezTo>
                  <a:pt x="1015" y="1406"/>
                  <a:pt x="1026" y="1358"/>
                  <a:pt x="1012" y="1459"/>
                </a:cubicBezTo>
                <a:cubicBezTo>
                  <a:pt x="1004" y="1643"/>
                  <a:pt x="1018" y="1851"/>
                  <a:pt x="900" y="2003"/>
                </a:cubicBezTo>
                <a:cubicBezTo>
                  <a:pt x="885" y="2047"/>
                  <a:pt x="877" y="2099"/>
                  <a:pt x="845" y="2136"/>
                </a:cubicBezTo>
                <a:cubicBezTo>
                  <a:pt x="758" y="2237"/>
                  <a:pt x="838" y="2140"/>
                  <a:pt x="767" y="2203"/>
                </a:cubicBezTo>
                <a:cubicBezTo>
                  <a:pt x="747" y="2220"/>
                  <a:pt x="731" y="2240"/>
                  <a:pt x="712" y="2259"/>
                </a:cubicBezTo>
                <a:cubicBezTo>
                  <a:pt x="704" y="2267"/>
                  <a:pt x="689" y="2281"/>
                  <a:pt x="689" y="2281"/>
                </a:cubicBezTo>
                <a:cubicBezTo>
                  <a:pt x="682" y="2303"/>
                  <a:pt x="680" y="2328"/>
                  <a:pt x="667" y="2347"/>
                </a:cubicBezTo>
                <a:cubicBezTo>
                  <a:pt x="660" y="2358"/>
                  <a:pt x="650" y="2369"/>
                  <a:pt x="645" y="2381"/>
                </a:cubicBezTo>
                <a:cubicBezTo>
                  <a:pt x="637" y="2399"/>
                  <a:pt x="631" y="2470"/>
                  <a:pt x="589" y="2470"/>
                </a:cubicBezTo>
                <a:cubicBezTo>
                  <a:pt x="566" y="2470"/>
                  <a:pt x="545" y="2455"/>
                  <a:pt x="523" y="2447"/>
                </a:cubicBez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002f00"/>
              </a:gs>
              <a:gs pos="100000">
                <a:srgbClr val="0066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19000" y="350532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lack"/>
              </a:rPr>
              <a:t>Solomon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lack"/>
              </a:rPr>
              <a:t>Kingd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895480"/>
            <a:ext cx="380880" cy="536760"/>
          </a:xfrm>
          <a:custGeom>
            <a:avLst/>
            <a:gdLst/>
            <a:ahLst/>
            <a:rect l="l" t="t" r="r" b="b"/>
            <a:pathLst>
              <a:path w="193" h="282">
                <a:moveTo>
                  <a:pt x="0" y="264"/>
                </a:moveTo>
                <a:cubicBezTo>
                  <a:pt x="174" y="242"/>
                  <a:pt x="40" y="282"/>
                  <a:pt x="111" y="220"/>
                </a:cubicBezTo>
                <a:cubicBezTo>
                  <a:pt x="131" y="202"/>
                  <a:pt x="178" y="175"/>
                  <a:pt x="178" y="175"/>
                </a:cubicBezTo>
                <a:cubicBezTo>
                  <a:pt x="174" y="123"/>
                  <a:pt x="193" y="65"/>
                  <a:pt x="167" y="20"/>
                </a:cubicBezTo>
                <a:cubicBezTo>
                  <a:pt x="155" y="0"/>
                  <a:pt x="117" y="25"/>
                  <a:pt x="100" y="42"/>
                </a:cubicBezTo>
                <a:cubicBezTo>
                  <a:pt x="87" y="55"/>
                  <a:pt x="94" y="80"/>
                  <a:pt x="89" y="98"/>
                </a:cubicBezTo>
                <a:cubicBezTo>
                  <a:pt x="80" y="136"/>
                  <a:pt x="60" y="160"/>
                  <a:pt x="33" y="186"/>
                </a:cubicBezTo>
                <a:cubicBezTo>
                  <a:pt x="17" y="236"/>
                  <a:pt x="27" y="209"/>
                  <a:pt x="0" y="264"/>
                </a:cubicBezTo>
                <a:close/>
              </a:path>
            </a:pathLst>
          </a:custGeom>
          <a:solidFill>
            <a:srgbClr val="66ff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72480" y="259092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Arial Black"/>
              </a:rPr>
              <a:t>Phoenicia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971800"/>
            <a:ext cx="838080" cy="152280"/>
          </a:xfrm>
          <a:prstGeom prst="line">
            <a:avLst/>
          </a:prstGeom>
          <a:ln w="1260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1 Kings 4:25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14040" y="1066680"/>
            <a:ext cx="4267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 Judah and Israel lived in safety, every man under his vine and his fig tree, from Dan even to Beersheba, all the days of Solom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3095640" cy="5791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982560" y="10666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Dan </a:t>
            </a:r>
            <a:r>
              <a:rPr b="0" lang="en-US" sz="1800" spc="-1" strike="noStrike">
                <a:solidFill>
                  <a:srgbClr val="663300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99040" y="5410080"/>
            <a:ext cx="13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663300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 Black"/>
              </a:rPr>
              <a:t>Beershe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clamation of Solomon</a:t>
            </a:r>
            <a:br>
              <a:rPr sz="4400"/>
            </a:b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1 Kings 1:32-40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7428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down to Gih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213372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omon to ride the King’s m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50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-982800"/>
            <a:ext cx="9144000" cy="7864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04040" y="3454560"/>
            <a:ext cx="1498680" cy="3089160"/>
          </a:xfrm>
          <a:custGeom>
            <a:avLst/>
            <a:gdLst/>
            <a:ahLst/>
            <a:rect l="l" t="t" r="r" b="b"/>
            <a:pathLst>
              <a:path w="944" h="1946">
                <a:moveTo>
                  <a:pt x="400" y="24"/>
                </a:moveTo>
                <a:cubicBezTo>
                  <a:pt x="396" y="35"/>
                  <a:pt x="396" y="48"/>
                  <a:pt x="389" y="57"/>
                </a:cubicBezTo>
                <a:cubicBezTo>
                  <a:pt x="364" y="91"/>
                  <a:pt x="323" y="111"/>
                  <a:pt x="300" y="146"/>
                </a:cubicBezTo>
                <a:cubicBezTo>
                  <a:pt x="272" y="188"/>
                  <a:pt x="287" y="170"/>
                  <a:pt x="255" y="202"/>
                </a:cubicBezTo>
                <a:cubicBezTo>
                  <a:pt x="251" y="213"/>
                  <a:pt x="249" y="225"/>
                  <a:pt x="244" y="235"/>
                </a:cubicBezTo>
                <a:cubicBezTo>
                  <a:pt x="238" y="247"/>
                  <a:pt x="227" y="256"/>
                  <a:pt x="222" y="268"/>
                </a:cubicBezTo>
                <a:cubicBezTo>
                  <a:pt x="202" y="314"/>
                  <a:pt x="220" y="330"/>
                  <a:pt x="189" y="379"/>
                </a:cubicBezTo>
                <a:cubicBezTo>
                  <a:pt x="166" y="414"/>
                  <a:pt x="149" y="452"/>
                  <a:pt x="133" y="490"/>
                </a:cubicBezTo>
                <a:cubicBezTo>
                  <a:pt x="108" y="550"/>
                  <a:pt x="99" y="617"/>
                  <a:pt x="78" y="679"/>
                </a:cubicBezTo>
                <a:cubicBezTo>
                  <a:pt x="63" y="784"/>
                  <a:pt x="77" y="725"/>
                  <a:pt x="55" y="790"/>
                </a:cubicBezTo>
                <a:cubicBezTo>
                  <a:pt x="47" y="812"/>
                  <a:pt x="33" y="857"/>
                  <a:pt x="33" y="857"/>
                </a:cubicBezTo>
                <a:cubicBezTo>
                  <a:pt x="4" y="1031"/>
                  <a:pt x="15" y="945"/>
                  <a:pt x="0" y="1113"/>
                </a:cubicBezTo>
                <a:cubicBezTo>
                  <a:pt x="4" y="1302"/>
                  <a:pt x="4" y="1490"/>
                  <a:pt x="11" y="1679"/>
                </a:cubicBezTo>
                <a:cubicBezTo>
                  <a:pt x="13" y="1730"/>
                  <a:pt x="29" y="1799"/>
                  <a:pt x="67" y="1835"/>
                </a:cubicBezTo>
                <a:cubicBezTo>
                  <a:pt x="85" y="1888"/>
                  <a:pt x="122" y="1917"/>
                  <a:pt x="167" y="1946"/>
                </a:cubicBezTo>
                <a:cubicBezTo>
                  <a:pt x="189" y="1942"/>
                  <a:pt x="213" y="1945"/>
                  <a:pt x="233" y="1935"/>
                </a:cubicBezTo>
                <a:cubicBezTo>
                  <a:pt x="245" y="1929"/>
                  <a:pt x="246" y="1911"/>
                  <a:pt x="255" y="1901"/>
                </a:cubicBezTo>
                <a:cubicBezTo>
                  <a:pt x="278" y="1873"/>
                  <a:pt x="304" y="1857"/>
                  <a:pt x="333" y="1835"/>
                </a:cubicBezTo>
                <a:cubicBezTo>
                  <a:pt x="337" y="1813"/>
                  <a:pt x="338" y="1790"/>
                  <a:pt x="344" y="1768"/>
                </a:cubicBezTo>
                <a:cubicBezTo>
                  <a:pt x="350" y="1745"/>
                  <a:pt x="367" y="1701"/>
                  <a:pt x="367" y="1701"/>
                </a:cubicBezTo>
                <a:cubicBezTo>
                  <a:pt x="378" y="1609"/>
                  <a:pt x="377" y="1516"/>
                  <a:pt x="389" y="1424"/>
                </a:cubicBezTo>
                <a:cubicBezTo>
                  <a:pt x="397" y="1361"/>
                  <a:pt x="433" y="1299"/>
                  <a:pt x="444" y="1235"/>
                </a:cubicBezTo>
                <a:cubicBezTo>
                  <a:pt x="454" y="1172"/>
                  <a:pt x="454" y="1121"/>
                  <a:pt x="489" y="1068"/>
                </a:cubicBezTo>
                <a:cubicBezTo>
                  <a:pt x="493" y="1048"/>
                  <a:pt x="500" y="1001"/>
                  <a:pt x="511" y="979"/>
                </a:cubicBezTo>
                <a:cubicBezTo>
                  <a:pt x="555" y="890"/>
                  <a:pt x="515" y="999"/>
                  <a:pt x="544" y="913"/>
                </a:cubicBezTo>
                <a:cubicBezTo>
                  <a:pt x="557" y="832"/>
                  <a:pt x="582" y="777"/>
                  <a:pt x="633" y="713"/>
                </a:cubicBezTo>
                <a:cubicBezTo>
                  <a:pt x="651" y="600"/>
                  <a:pt x="699" y="558"/>
                  <a:pt x="778" y="479"/>
                </a:cubicBezTo>
                <a:cubicBezTo>
                  <a:pt x="789" y="468"/>
                  <a:pt x="800" y="457"/>
                  <a:pt x="811" y="446"/>
                </a:cubicBezTo>
                <a:cubicBezTo>
                  <a:pt x="828" y="429"/>
                  <a:pt x="878" y="424"/>
                  <a:pt x="878" y="424"/>
                </a:cubicBezTo>
                <a:cubicBezTo>
                  <a:pt x="934" y="387"/>
                  <a:pt x="932" y="339"/>
                  <a:pt x="944" y="279"/>
                </a:cubicBezTo>
                <a:cubicBezTo>
                  <a:pt x="940" y="242"/>
                  <a:pt x="939" y="205"/>
                  <a:pt x="933" y="168"/>
                </a:cubicBezTo>
                <a:cubicBezTo>
                  <a:pt x="931" y="157"/>
                  <a:pt x="930" y="143"/>
                  <a:pt x="922" y="135"/>
                </a:cubicBezTo>
                <a:cubicBezTo>
                  <a:pt x="914" y="127"/>
                  <a:pt x="899" y="129"/>
                  <a:pt x="889" y="124"/>
                </a:cubicBezTo>
                <a:cubicBezTo>
                  <a:pt x="877" y="118"/>
                  <a:pt x="866" y="110"/>
                  <a:pt x="856" y="102"/>
                </a:cubicBezTo>
                <a:cubicBezTo>
                  <a:pt x="848" y="95"/>
                  <a:pt x="843" y="84"/>
                  <a:pt x="833" y="79"/>
                </a:cubicBezTo>
                <a:cubicBezTo>
                  <a:pt x="773" y="49"/>
                  <a:pt x="709" y="43"/>
                  <a:pt x="644" y="35"/>
                </a:cubicBezTo>
                <a:cubicBezTo>
                  <a:pt x="622" y="28"/>
                  <a:pt x="600" y="20"/>
                  <a:pt x="578" y="13"/>
                </a:cubicBezTo>
                <a:cubicBezTo>
                  <a:pt x="567" y="9"/>
                  <a:pt x="544" y="2"/>
                  <a:pt x="544" y="2"/>
                </a:cubicBezTo>
                <a:cubicBezTo>
                  <a:pt x="503" y="6"/>
                  <a:pt x="461" y="0"/>
                  <a:pt x="422" y="13"/>
                </a:cubicBezTo>
                <a:cubicBezTo>
                  <a:pt x="411" y="17"/>
                  <a:pt x="421" y="41"/>
                  <a:pt x="411" y="46"/>
                </a:cubicBezTo>
                <a:cubicBezTo>
                  <a:pt x="404" y="50"/>
                  <a:pt x="404" y="31"/>
                  <a:pt x="400" y="24"/>
                </a:cubicBezTo>
                <a:close/>
              </a:path>
            </a:pathLst>
          </a:custGeom>
          <a:noFill/>
          <a:ln w="76320">
            <a:solidFill>
              <a:srgbClr val="66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914400"/>
            <a:ext cx="1828800" cy="533520"/>
          </a:xfrm>
          <a:prstGeom prst="rect">
            <a:avLst/>
          </a:prstGeom>
          <a:solidFill>
            <a:srgbClr val="3399ff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 Black"/>
              </a:rPr>
              <a:t>Te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3352680"/>
            <a:ext cx="1828800" cy="914400"/>
          </a:xfrm>
          <a:prstGeom prst="rect">
            <a:avLst/>
          </a:prstGeom>
          <a:solidFill>
            <a:srgbClr val="3399ff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 Black"/>
              </a:rPr>
              <a:t>David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 Black"/>
              </a:rPr>
              <a:t>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419112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447920"/>
            <a:ext cx="1143000" cy="1066680"/>
          </a:xfrm>
          <a:prstGeom prst="line">
            <a:avLst/>
          </a:prstGeom>
          <a:ln w="381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-457200" y="-304920"/>
            <a:ext cx="9829800" cy="7108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086600" y="228600"/>
            <a:ext cx="1828800" cy="533520"/>
          </a:xfrm>
          <a:prstGeom prst="rect">
            <a:avLst/>
          </a:prstGeom>
          <a:solidFill>
            <a:srgbClr val="3399ff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 Black"/>
              </a:rPr>
              <a:t>Te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762120"/>
            <a:ext cx="0" cy="838080"/>
          </a:xfrm>
          <a:prstGeom prst="line">
            <a:avLst/>
          </a:prstGeom>
          <a:ln w="381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1676520"/>
            <a:ext cx="228600" cy="152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-228600" y="-304920"/>
            <a:ext cx="9372600" cy="7029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0" y="-572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1 Kings 11:1-2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040" y="106632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King Solomon loved many foreign women along with the daughter of Pharaoh: Moabite, Ammonite, Edomite, Sidonian, and Hittite women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the nations concerning which the LORD had said to the sons of Israel, "You shall not associate with them, neither shall they associate with you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ill surely turn your heart away after their gods." Solomon held fast to these in l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25:34Z</dcterms:created>
  <dc:creator>Port Everglades</dc:creator>
  <dc:description/>
  <dc:language>en-US</dc:language>
  <cp:lastModifiedBy>John Stevenson</cp:lastModifiedBy>
  <dcterms:modified xsi:type="dcterms:W3CDTF">2007-08-06T13:33:25Z</dcterms:modified>
  <cp:revision>63</cp:revision>
  <dc:subject/>
  <dc:title>Amos</dc:title>
</cp:coreProperties>
</file>