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4400C-7D45-4A9E-8B89-7DE6446F7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BE07-D956-4C06-8DE8-3338C1C8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429BA-ED39-41C3-BFDC-1859BF985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49D6C-4349-4C63-9587-943ECB840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6326A-E4A6-48FB-9493-75883D852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3C45A-2EFF-4500-9D91-1708AA2A5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07AC2-7A5E-4E04-83EA-0DD784BA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4F6CA-7287-4AA9-9DFD-5CF228A06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E0E7-A7B5-47DC-9590-3E644B463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6C032-4421-48A6-ADDD-0F3AE52DE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391FA-CE1D-4FC8-A66F-7B81F1A76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F3092-BE03-4E7F-8586-5BBED855E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2CD78-8AB9-4559-A7D6-5F68F878F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B1BAB-01EA-4A86-9F84-35E9AA575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A88B2-F54E-47B3-A68A-95971885D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4B827-1F59-499A-B434-5E4A9C840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91BA4-2350-4226-BEAF-AB7BDC2F9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3059-3E17-4A16-9609-87436190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12CB-839E-4BF2-8106-C723EDE3C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2069F-F739-4385-81E1-FDBBEFABD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65AD6-C2BA-41DC-8619-13C03BA4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458C-B4FE-4BF0-9B63-0B6F46890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9A839-63A9-457D-A47E-DB46F60D8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F18C-168C-4337-BD8A-CB91A5789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606B-EB85-4CBE-989E-2129D151E4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FB1B-4E5A-4BC7-B6EB-ED4077AFC85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Ruth</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Romance of Redem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3" name=""/>
          <p:cNvGraphicFramePr/>
          <p:nvPr/>
        </p:nvGraphicFramePr>
        <p:xfrm>
          <a:off x="-1676520" y="914400"/>
          <a:ext cx="12877920" cy="3138480"/>
        </p:xfrm>
        <a:graphic>
          <a:graphicData uri="http://schemas.openxmlformats.org/presentationml/2006/ole">
            <p:oleObj progId="Word.Document.12" r:id="rId1" spid="">
              <p:embed/>
              <p:pic>
                <p:nvPicPr>
                  <p:cNvPr id="124" name="" descr=""/>
                  <p:cNvPicPr/>
                  <p:nvPr/>
                </p:nvPicPr>
                <p:blipFill>
                  <a:blip r:embed="rId2"/>
                  <a:stretch/>
                </p:blipFill>
                <p:spPr>
                  <a:xfrm>
                    <a:off x="-1676520" y="914400"/>
                    <a:ext cx="12877920" cy="3138480"/>
                  </a:xfrm>
                  <a:prstGeom prst="rect">
                    <a:avLst/>
                  </a:prstGeom>
                  <a:ln w="0">
                    <a:noFill/>
                  </a:ln>
                </p:spPr>
              </p:pic>
            </p:oleObj>
          </a:graphicData>
        </a:graphic>
      </p:graphicFrame>
      <p:grpSp>
        <p:nvGrpSpPr>
          <p:cNvPr id="125" name=""/>
          <p:cNvGrpSpPr/>
          <p:nvPr/>
        </p:nvGrpSpPr>
        <p:grpSpPr>
          <a:xfrm>
            <a:off x="152280" y="3200400"/>
            <a:ext cx="1067040" cy="3428640"/>
            <a:chOff x="152280" y="3200400"/>
            <a:chExt cx="1067040" cy="3428640"/>
          </a:xfrm>
        </p:grpSpPr>
        <p:sp>
          <p:nvSpPr>
            <p:cNvPr id="126" name=""/>
            <p:cNvSpPr/>
            <p:nvPr/>
          </p:nvSpPr>
          <p:spPr>
            <a:xfrm>
              <a:off x="152280" y="3906000"/>
              <a:ext cx="1067040" cy="2723040"/>
            </a:xfrm>
            <a:custGeom>
              <a:avLst/>
              <a:gdLst/>
              <a:ahLst/>
              <a:rect l="l" t="t" r="r" b="b"/>
              <a:pathLst>
                <a:path w="1056" h="2160">
                  <a:moveTo>
                    <a:pt x="240" y="240"/>
                  </a:moveTo>
                  <a:lnTo>
                    <a:pt x="336" y="576"/>
                  </a:lnTo>
                  <a:lnTo>
                    <a:pt x="240" y="960"/>
                  </a:lnTo>
                  <a:lnTo>
                    <a:pt x="192" y="1632"/>
                  </a:lnTo>
                  <a:lnTo>
                    <a:pt x="192" y="2064"/>
                  </a:lnTo>
                  <a:lnTo>
                    <a:pt x="288" y="2112"/>
                  </a:lnTo>
                  <a:lnTo>
                    <a:pt x="480" y="2160"/>
                  </a:lnTo>
                  <a:lnTo>
                    <a:pt x="672" y="2160"/>
                  </a:lnTo>
                  <a:lnTo>
                    <a:pt x="960" y="2064"/>
                  </a:lnTo>
                  <a:lnTo>
                    <a:pt x="960" y="1680"/>
                  </a:lnTo>
                  <a:lnTo>
                    <a:pt x="864" y="864"/>
                  </a:lnTo>
                  <a:lnTo>
                    <a:pt x="768" y="576"/>
                  </a:lnTo>
                  <a:lnTo>
                    <a:pt x="816" y="192"/>
                  </a:lnTo>
                  <a:lnTo>
                    <a:pt x="864" y="384"/>
                  </a:lnTo>
                  <a:lnTo>
                    <a:pt x="960" y="720"/>
                  </a:lnTo>
                  <a:lnTo>
                    <a:pt x="960" y="816"/>
                  </a:lnTo>
                  <a:lnTo>
                    <a:pt x="1056" y="768"/>
                  </a:lnTo>
                  <a:lnTo>
                    <a:pt x="1008" y="480"/>
                  </a:lnTo>
                  <a:lnTo>
                    <a:pt x="912" y="96"/>
                  </a:lnTo>
                  <a:lnTo>
                    <a:pt x="768" y="0"/>
                  </a:lnTo>
                  <a:lnTo>
                    <a:pt x="624" y="0"/>
                  </a:lnTo>
                  <a:lnTo>
                    <a:pt x="576" y="144"/>
                  </a:lnTo>
                  <a:lnTo>
                    <a:pt x="432" y="144"/>
                  </a:lnTo>
                  <a:lnTo>
                    <a:pt x="384" y="48"/>
                  </a:lnTo>
                  <a:lnTo>
                    <a:pt x="240" y="48"/>
                  </a:lnTo>
                  <a:lnTo>
                    <a:pt x="144" y="96"/>
                  </a:lnTo>
                  <a:lnTo>
                    <a:pt x="96" y="240"/>
                  </a:lnTo>
                  <a:lnTo>
                    <a:pt x="48" y="576"/>
                  </a:lnTo>
                  <a:lnTo>
                    <a:pt x="0" y="816"/>
                  </a:lnTo>
                  <a:lnTo>
                    <a:pt x="96" y="816"/>
                  </a:lnTo>
                  <a:lnTo>
                    <a:pt x="144" y="528"/>
                  </a:lnTo>
                  <a:lnTo>
                    <a:pt x="192" y="33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7" name=""/>
            <p:cNvGrpSpPr/>
            <p:nvPr/>
          </p:nvGrpSpPr>
          <p:grpSpPr>
            <a:xfrm>
              <a:off x="394920" y="3200400"/>
              <a:ext cx="581760" cy="907560"/>
              <a:chOff x="394920" y="3200400"/>
              <a:chExt cx="581760" cy="907560"/>
            </a:xfrm>
          </p:grpSpPr>
          <p:sp>
            <p:nvSpPr>
              <p:cNvPr id="128" name=""/>
              <p:cNvSpPr/>
              <p:nvPr/>
            </p:nvSpPr>
            <p:spPr>
              <a:xfrm>
                <a:off x="511200" y="3319200"/>
                <a:ext cx="329760" cy="65916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0804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30" name=""/>
              <p:cNvSpPr/>
              <p:nvPr/>
            </p:nvSpPr>
            <p:spPr>
              <a:xfrm>
                <a:off x="69552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31" name=""/>
              <p:cNvSpPr/>
              <p:nvPr/>
            </p:nvSpPr>
            <p:spPr>
              <a:xfrm flipH="1" flipV="1">
                <a:off x="597600" y="3664080"/>
                <a:ext cx="154440" cy="1724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H="1" flipV="1">
                <a:off x="646920" y="3674880"/>
                <a:ext cx="48240" cy="428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33" name=""/>
              <p:cNvSpPr/>
              <p:nvPr/>
            </p:nvSpPr>
            <p:spPr>
              <a:xfrm>
                <a:off x="394920" y="3200400"/>
                <a:ext cx="581760" cy="907560"/>
              </a:xfrm>
              <a:custGeom>
                <a:avLst/>
                <a:gdLst/>
                <a:ahLst/>
                <a:rect l="l" t="t" r="r" b="b"/>
                <a:pathLst>
                  <a:path w="2880" h="4032">
                    <a:moveTo>
                      <a:pt x="1680" y="960"/>
                    </a:moveTo>
                    <a:lnTo>
                      <a:pt x="1584" y="1248"/>
                    </a:lnTo>
                    <a:lnTo>
                      <a:pt x="1440" y="1440"/>
                    </a:lnTo>
                    <a:lnTo>
                      <a:pt x="1488" y="1248"/>
                    </a:lnTo>
                    <a:lnTo>
                      <a:pt x="1344" y="1344"/>
                    </a:lnTo>
                    <a:lnTo>
                      <a:pt x="1248" y="1392"/>
                    </a:lnTo>
                    <a:lnTo>
                      <a:pt x="1344" y="1200"/>
                    </a:lnTo>
                    <a:lnTo>
                      <a:pt x="1392" y="1056"/>
                    </a:lnTo>
                    <a:lnTo>
                      <a:pt x="1296" y="1200"/>
                    </a:lnTo>
                    <a:lnTo>
                      <a:pt x="1104" y="1296"/>
                    </a:lnTo>
                    <a:lnTo>
                      <a:pt x="1200" y="1104"/>
                    </a:lnTo>
                    <a:lnTo>
                      <a:pt x="1152" y="1008"/>
                    </a:lnTo>
                    <a:lnTo>
                      <a:pt x="912" y="1104"/>
                    </a:lnTo>
                    <a:lnTo>
                      <a:pt x="768" y="1344"/>
                    </a:lnTo>
                    <a:lnTo>
                      <a:pt x="672" y="1632"/>
                    </a:lnTo>
                    <a:lnTo>
                      <a:pt x="576" y="2016"/>
                    </a:lnTo>
                    <a:lnTo>
                      <a:pt x="576" y="2352"/>
                    </a:lnTo>
                    <a:lnTo>
                      <a:pt x="672" y="2736"/>
                    </a:lnTo>
                    <a:lnTo>
                      <a:pt x="768" y="3024"/>
                    </a:lnTo>
                    <a:lnTo>
                      <a:pt x="816" y="3312"/>
                    </a:lnTo>
                    <a:lnTo>
                      <a:pt x="816" y="3600"/>
                    </a:lnTo>
                    <a:lnTo>
                      <a:pt x="720" y="3888"/>
                    </a:lnTo>
                    <a:lnTo>
                      <a:pt x="672" y="3504"/>
                    </a:lnTo>
                    <a:lnTo>
                      <a:pt x="528" y="3360"/>
                    </a:lnTo>
                    <a:lnTo>
                      <a:pt x="576" y="3696"/>
                    </a:lnTo>
                    <a:lnTo>
                      <a:pt x="384" y="3984"/>
                    </a:lnTo>
                    <a:lnTo>
                      <a:pt x="384" y="3648"/>
                    </a:lnTo>
                    <a:lnTo>
                      <a:pt x="240" y="3216"/>
                    </a:lnTo>
                    <a:lnTo>
                      <a:pt x="144" y="3552"/>
                    </a:lnTo>
                    <a:lnTo>
                      <a:pt x="192" y="3792"/>
                    </a:lnTo>
                    <a:lnTo>
                      <a:pt x="48" y="3552"/>
                    </a:lnTo>
                    <a:lnTo>
                      <a:pt x="0" y="3024"/>
                    </a:lnTo>
                    <a:lnTo>
                      <a:pt x="0" y="2304"/>
                    </a:lnTo>
                    <a:lnTo>
                      <a:pt x="48" y="1920"/>
                    </a:lnTo>
                    <a:lnTo>
                      <a:pt x="0" y="1440"/>
                    </a:lnTo>
                    <a:lnTo>
                      <a:pt x="48" y="864"/>
                    </a:lnTo>
                    <a:lnTo>
                      <a:pt x="240" y="480"/>
                    </a:lnTo>
                    <a:lnTo>
                      <a:pt x="528" y="336"/>
                    </a:lnTo>
                    <a:lnTo>
                      <a:pt x="912" y="288"/>
                    </a:lnTo>
                    <a:lnTo>
                      <a:pt x="768" y="144"/>
                    </a:lnTo>
                    <a:lnTo>
                      <a:pt x="576" y="48"/>
                    </a:lnTo>
                    <a:lnTo>
                      <a:pt x="816" y="96"/>
                    </a:lnTo>
                    <a:lnTo>
                      <a:pt x="1008" y="192"/>
                    </a:lnTo>
                    <a:lnTo>
                      <a:pt x="1056" y="288"/>
                    </a:lnTo>
                    <a:lnTo>
                      <a:pt x="1104" y="96"/>
                    </a:lnTo>
                    <a:lnTo>
                      <a:pt x="1248" y="0"/>
                    </a:lnTo>
                    <a:lnTo>
                      <a:pt x="1344" y="0"/>
                    </a:lnTo>
                    <a:lnTo>
                      <a:pt x="1248" y="48"/>
                    </a:lnTo>
                    <a:lnTo>
                      <a:pt x="1200" y="192"/>
                    </a:lnTo>
                    <a:lnTo>
                      <a:pt x="1200" y="288"/>
                    </a:lnTo>
                    <a:lnTo>
                      <a:pt x="1296" y="192"/>
                    </a:lnTo>
                    <a:lnTo>
                      <a:pt x="1488" y="96"/>
                    </a:lnTo>
                    <a:lnTo>
                      <a:pt x="1776" y="48"/>
                    </a:lnTo>
                    <a:lnTo>
                      <a:pt x="1680" y="144"/>
                    </a:lnTo>
                    <a:lnTo>
                      <a:pt x="1536" y="240"/>
                    </a:lnTo>
                    <a:lnTo>
                      <a:pt x="1488" y="336"/>
                    </a:lnTo>
                    <a:lnTo>
                      <a:pt x="1680" y="288"/>
                    </a:lnTo>
                    <a:lnTo>
                      <a:pt x="1920" y="240"/>
                    </a:lnTo>
                    <a:lnTo>
                      <a:pt x="2112" y="288"/>
                    </a:lnTo>
                    <a:lnTo>
                      <a:pt x="1920" y="336"/>
                    </a:lnTo>
                    <a:lnTo>
                      <a:pt x="2112" y="384"/>
                    </a:lnTo>
                    <a:lnTo>
                      <a:pt x="2352" y="528"/>
                    </a:lnTo>
                    <a:lnTo>
                      <a:pt x="2544" y="672"/>
                    </a:lnTo>
                    <a:lnTo>
                      <a:pt x="2640" y="912"/>
                    </a:lnTo>
                    <a:lnTo>
                      <a:pt x="2688" y="1248"/>
                    </a:lnTo>
                    <a:lnTo>
                      <a:pt x="2688" y="1584"/>
                    </a:lnTo>
                    <a:lnTo>
                      <a:pt x="2688" y="1968"/>
                    </a:lnTo>
                    <a:lnTo>
                      <a:pt x="2736" y="2400"/>
                    </a:lnTo>
                    <a:lnTo>
                      <a:pt x="2832" y="2928"/>
                    </a:lnTo>
                    <a:lnTo>
                      <a:pt x="2832" y="3360"/>
                    </a:lnTo>
                    <a:lnTo>
                      <a:pt x="2880" y="3648"/>
                    </a:lnTo>
                    <a:lnTo>
                      <a:pt x="2784" y="3888"/>
                    </a:lnTo>
                    <a:lnTo>
                      <a:pt x="2736" y="3600"/>
                    </a:lnTo>
                    <a:lnTo>
                      <a:pt x="2544" y="3456"/>
                    </a:lnTo>
                    <a:lnTo>
                      <a:pt x="2400" y="3696"/>
                    </a:lnTo>
                    <a:lnTo>
                      <a:pt x="2448" y="3936"/>
                    </a:lnTo>
                    <a:lnTo>
                      <a:pt x="2496" y="4032"/>
                    </a:lnTo>
                    <a:lnTo>
                      <a:pt x="2304" y="3888"/>
                    </a:lnTo>
                    <a:lnTo>
                      <a:pt x="2160" y="3552"/>
                    </a:lnTo>
                    <a:lnTo>
                      <a:pt x="2208" y="3360"/>
                    </a:lnTo>
                    <a:lnTo>
                      <a:pt x="2016" y="3552"/>
                    </a:lnTo>
                    <a:lnTo>
                      <a:pt x="1968" y="3744"/>
                    </a:lnTo>
                    <a:lnTo>
                      <a:pt x="1920" y="3360"/>
                    </a:lnTo>
                    <a:lnTo>
                      <a:pt x="2064" y="3024"/>
                    </a:lnTo>
                    <a:lnTo>
                      <a:pt x="2112" y="2736"/>
                    </a:lnTo>
                    <a:lnTo>
                      <a:pt x="2208" y="2352"/>
                    </a:lnTo>
                    <a:lnTo>
                      <a:pt x="2208" y="1920"/>
                    </a:lnTo>
                    <a:lnTo>
                      <a:pt x="2112" y="1440"/>
                    </a:lnTo>
                    <a:lnTo>
                      <a:pt x="2016" y="1296"/>
                    </a:lnTo>
                    <a:lnTo>
                      <a:pt x="2064" y="1536"/>
                    </a:lnTo>
                    <a:lnTo>
                      <a:pt x="1920" y="1392"/>
                    </a:lnTo>
                    <a:lnTo>
                      <a:pt x="1872" y="1200"/>
                    </a:lnTo>
                    <a:lnTo>
                      <a:pt x="1776" y="1056"/>
                    </a:lnTo>
                    <a:lnTo>
                      <a:pt x="1680" y="960"/>
                    </a:lnTo>
                    <a:close/>
                  </a:path>
                </a:pathLst>
              </a:custGeom>
              <a:solidFill>
                <a:srgbClr val="ff9933"/>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4" name=""/>
          <p:cNvGrpSpPr/>
          <p:nvPr/>
        </p:nvGrpSpPr>
        <p:grpSpPr>
          <a:xfrm>
            <a:off x="152280" y="3200400"/>
            <a:ext cx="1067040" cy="3428640"/>
            <a:chOff x="152280" y="3200400"/>
            <a:chExt cx="1067040" cy="3428640"/>
          </a:xfrm>
        </p:grpSpPr>
        <p:sp>
          <p:nvSpPr>
            <p:cNvPr id="135" name=""/>
            <p:cNvSpPr/>
            <p:nvPr/>
          </p:nvSpPr>
          <p:spPr>
            <a:xfrm>
              <a:off x="152280" y="3906000"/>
              <a:ext cx="1067040" cy="2723040"/>
            </a:xfrm>
            <a:custGeom>
              <a:avLst/>
              <a:gdLst/>
              <a:ahLst/>
              <a:rect l="l" t="t" r="r" b="b"/>
              <a:pathLst>
                <a:path w="1056" h="2160">
                  <a:moveTo>
                    <a:pt x="240" y="240"/>
                  </a:moveTo>
                  <a:lnTo>
                    <a:pt x="336" y="576"/>
                  </a:lnTo>
                  <a:lnTo>
                    <a:pt x="240" y="960"/>
                  </a:lnTo>
                  <a:lnTo>
                    <a:pt x="192" y="1632"/>
                  </a:lnTo>
                  <a:lnTo>
                    <a:pt x="192" y="2064"/>
                  </a:lnTo>
                  <a:lnTo>
                    <a:pt x="288" y="2112"/>
                  </a:lnTo>
                  <a:lnTo>
                    <a:pt x="480" y="2160"/>
                  </a:lnTo>
                  <a:lnTo>
                    <a:pt x="672" y="2160"/>
                  </a:lnTo>
                  <a:lnTo>
                    <a:pt x="960" y="2064"/>
                  </a:lnTo>
                  <a:lnTo>
                    <a:pt x="960" y="1680"/>
                  </a:lnTo>
                  <a:lnTo>
                    <a:pt x="864" y="864"/>
                  </a:lnTo>
                  <a:lnTo>
                    <a:pt x="768" y="576"/>
                  </a:lnTo>
                  <a:lnTo>
                    <a:pt x="816" y="192"/>
                  </a:lnTo>
                  <a:lnTo>
                    <a:pt x="864" y="384"/>
                  </a:lnTo>
                  <a:lnTo>
                    <a:pt x="960" y="720"/>
                  </a:lnTo>
                  <a:lnTo>
                    <a:pt x="960" y="816"/>
                  </a:lnTo>
                  <a:lnTo>
                    <a:pt x="1056" y="768"/>
                  </a:lnTo>
                  <a:lnTo>
                    <a:pt x="1008" y="480"/>
                  </a:lnTo>
                  <a:lnTo>
                    <a:pt x="912" y="96"/>
                  </a:lnTo>
                  <a:lnTo>
                    <a:pt x="768" y="0"/>
                  </a:lnTo>
                  <a:lnTo>
                    <a:pt x="624" y="0"/>
                  </a:lnTo>
                  <a:lnTo>
                    <a:pt x="576" y="144"/>
                  </a:lnTo>
                  <a:lnTo>
                    <a:pt x="432" y="144"/>
                  </a:lnTo>
                  <a:lnTo>
                    <a:pt x="384" y="48"/>
                  </a:lnTo>
                  <a:lnTo>
                    <a:pt x="240" y="48"/>
                  </a:lnTo>
                  <a:lnTo>
                    <a:pt x="144" y="96"/>
                  </a:lnTo>
                  <a:lnTo>
                    <a:pt x="96" y="240"/>
                  </a:lnTo>
                  <a:lnTo>
                    <a:pt x="48" y="576"/>
                  </a:lnTo>
                  <a:lnTo>
                    <a:pt x="0" y="816"/>
                  </a:lnTo>
                  <a:lnTo>
                    <a:pt x="96" y="816"/>
                  </a:lnTo>
                  <a:lnTo>
                    <a:pt x="144" y="528"/>
                  </a:lnTo>
                  <a:lnTo>
                    <a:pt x="192" y="33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6" name=""/>
            <p:cNvGrpSpPr/>
            <p:nvPr/>
          </p:nvGrpSpPr>
          <p:grpSpPr>
            <a:xfrm>
              <a:off x="394920" y="3200400"/>
              <a:ext cx="581760" cy="907560"/>
              <a:chOff x="394920" y="3200400"/>
              <a:chExt cx="581760" cy="907560"/>
            </a:xfrm>
          </p:grpSpPr>
          <p:sp>
            <p:nvSpPr>
              <p:cNvPr id="137" name=""/>
              <p:cNvSpPr/>
              <p:nvPr/>
            </p:nvSpPr>
            <p:spPr>
              <a:xfrm>
                <a:off x="511200" y="3319200"/>
                <a:ext cx="329760" cy="65916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0804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39" name=""/>
              <p:cNvSpPr/>
              <p:nvPr/>
            </p:nvSpPr>
            <p:spPr>
              <a:xfrm>
                <a:off x="69552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40" name=""/>
              <p:cNvSpPr/>
              <p:nvPr/>
            </p:nvSpPr>
            <p:spPr>
              <a:xfrm flipH="1" flipV="1">
                <a:off x="597600" y="3664080"/>
                <a:ext cx="154440" cy="1724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H="1" flipV="1">
                <a:off x="646920" y="3674880"/>
                <a:ext cx="48240" cy="428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2" name=""/>
              <p:cNvSpPr/>
              <p:nvPr/>
            </p:nvSpPr>
            <p:spPr>
              <a:xfrm>
                <a:off x="394920" y="3200400"/>
                <a:ext cx="581760" cy="907560"/>
              </a:xfrm>
              <a:custGeom>
                <a:avLst/>
                <a:gdLst/>
                <a:ahLst/>
                <a:rect l="l" t="t" r="r" b="b"/>
                <a:pathLst>
                  <a:path w="2880" h="4032">
                    <a:moveTo>
                      <a:pt x="1680" y="960"/>
                    </a:moveTo>
                    <a:lnTo>
                      <a:pt x="1584" y="1248"/>
                    </a:lnTo>
                    <a:lnTo>
                      <a:pt x="1440" y="1440"/>
                    </a:lnTo>
                    <a:lnTo>
                      <a:pt x="1488" y="1248"/>
                    </a:lnTo>
                    <a:lnTo>
                      <a:pt x="1344" y="1344"/>
                    </a:lnTo>
                    <a:lnTo>
                      <a:pt x="1248" y="1392"/>
                    </a:lnTo>
                    <a:lnTo>
                      <a:pt x="1344" y="1200"/>
                    </a:lnTo>
                    <a:lnTo>
                      <a:pt x="1392" y="1056"/>
                    </a:lnTo>
                    <a:lnTo>
                      <a:pt x="1296" y="1200"/>
                    </a:lnTo>
                    <a:lnTo>
                      <a:pt x="1104" y="1296"/>
                    </a:lnTo>
                    <a:lnTo>
                      <a:pt x="1200" y="1104"/>
                    </a:lnTo>
                    <a:lnTo>
                      <a:pt x="1152" y="1008"/>
                    </a:lnTo>
                    <a:lnTo>
                      <a:pt x="912" y="1104"/>
                    </a:lnTo>
                    <a:lnTo>
                      <a:pt x="768" y="1344"/>
                    </a:lnTo>
                    <a:lnTo>
                      <a:pt x="672" y="1632"/>
                    </a:lnTo>
                    <a:lnTo>
                      <a:pt x="576" y="2016"/>
                    </a:lnTo>
                    <a:lnTo>
                      <a:pt x="576" y="2352"/>
                    </a:lnTo>
                    <a:lnTo>
                      <a:pt x="672" y="2736"/>
                    </a:lnTo>
                    <a:lnTo>
                      <a:pt x="768" y="3024"/>
                    </a:lnTo>
                    <a:lnTo>
                      <a:pt x="816" y="3312"/>
                    </a:lnTo>
                    <a:lnTo>
                      <a:pt x="816" y="3600"/>
                    </a:lnTo>
                    <a:lnTo>
                      <a:pt x="720" y="3888"/>
                    </a:lnTo>
                    <a:lnTo>
                      <a:pt x="672" y="3504"/>
                    </a:lnTo>
                    <a:lnTo>
                      <a:pt x="528" y="3360"/>
                    </a:lnTo>
                    <a:lnTo>
                      <a:pt x="576" y="3696"/>
                    </a:lnTo>
                    <a:lnTo>
                      <a:pt x="384" y="3984"/>
                    </a:lnTo>
                    <a:lnTo>
                      <a:pt x="384" y="3648"/>
                    </a:lnTo>
                    <a:lnTo>
                      <a:pt x="240" y="3216"/>
                    </a:lnTo>
                    <a:lnTo>
                      <a:pt x="144" y="3552"/>
                    </a:lnTo>
                    <a:lnTo>
                      <a:pt x="192" y="3792"/>
                    </a:lnTo>
                    <a:lnTo>
                      <a:pt x="48" y="3552"/>
                    </a:lnTo>
                    <a:lnTo>
                      <a:pt x="0" y="3024"/>
                    </a:lnTo>
                    <a:lnTo>
                      <a:pt x="0" y="2304"/>
                    </a:lnTo>
                    <a:lnTo>
                      <a:pt x="48" y="1920"/>
                    </a:lnTo>
                    <a:lnTo>
                      <a:pt x="0" y="1440"/>
                    </a:lnTo>
                    <a:lnTo>
                      <a:pt x="48" y="864"/>
                    </a:lnTo>
                    <a:lnTo>
                      <a:pt x="240" y="480"/>
                    </a:lnTo>
                    <a:lnTo>
                      <a:pt x="528" y="336"/>
                    </a:lnTo>
                    <a:lnTo>
                      <a:pt x="912" y="288"/>
                    </a:lnTo>
                    <a:lnTo>
                      <a:pt x="768" y="144"/>
                    </a:lnTo>
                    <a:lnTo>
                      <a:pt x="576" y="48"/>
                    </a:lnTo>
                    <a:lnTo>
                      <a:pt x="816" y="96"/>
                    </a:lnTo>
                    <a:lnTo>
                      <a:pt x="1008" y="192"/>
                    </a:lnTo>
                    <a:lnTo>
                      <a:pt x="1056" y="288"/>
                    </a:lnTo>
                    <a:lnTo>
                      <a:pt x="1104" y="96"/>
                    </a:lnTo>
                    <a:lnTo>
                      <a:pt x="1248" y="0"/>
                    </a:lnTo>
                    <a:lnTo>
                      <a:pt x="1344" y="0"/>
                    </a:lnTo>
                    <a:lnTo>
                      <a:pt x="1248" y="48"/>
                    </a:lnTo>
                    <a:lnTo>
                      <a:pt x="1200" y="192"/>
                    </a:lnTo>
                    <a:lnTo>
                      <a:pt x="1200" y="288"/>
                    </a:lnTo>
                    <a:lnTo>
                      <a:pt x="1296" y="192"/>
                    </a:lnTo>
                    <a:lnTo>
                      <a:pt x="1488" y="96"/>
                    </a:lnTo>
                    <a:lnTo>
                      <a:pt x="1776" y="48"/>
                    </a:lnTo>
                    <a:lnTo>
                      <a:pt x="1680" y="144"/>
                    </a:lnTo>
                    <a:lnTo>
                      <a:pt x="1536" y="240"/>
                    </a:lnTo>
                    <a:lnTo>
                      <a:pt x="1488" y="336"/>
                    </a:lnTo>
                    <a:lnTo>
                      <a:pt x="1680" y="288"/>
                    </a:lnTo>
                    <a:lnTo>
                      <a:pt x="1920" y="240"/>
                    </a:lnTo>
                    <a:lnTo>
                      <a:pt x="2112" y="288"/>
                    </a:lnTo>
                    <a:lnTo>
                      <a:pt x="1920" y="336"/>
                    </a:lnTo>
                    <a:lnTo>
                      <a:pt x="2112" y="384"/>
                    </a:lnTo>
                    <a:lnTo>
                      <a:pt x="2352" y="528"/>
                    </a:lnTo>
                    <a:lnTo>
                      <a:pt x="2544" y="672"/>
                    </a:lnTo>
                    <a:lnTo>
                      <a:pt x="2640" y="912"/>
                    </a:lnTo>
                    <a:lnTo>
                      <a:pt x="2688" y="1248"/>
                    </a:lnTo>
                    <a:lnTo>
                      <a:pt x="2688" y="1584"/>
                    </a:lnTo>
                    <a:lnTo>
                      <a:pt x="2688" y="1968"/>
                    </a:lnTo>
                    <a:lnTo>
                      <a:pt x="2736" y="2400"/>
                    </a:lnTo>
                    <a:lnTo>
                      <a:pt x="2832" y="2928"/>
                    </a:lnTo>
                    <a:lnTo>
                      <a:pt x="2832" y="3360"/>
                    </a:lnTo>
                    <a:lnTo>
                      <a:pt x="2880" y="3648"/>
                    </a:lnTo>
                    <a:lnTo>
                      <a:pt x="2784" y="3888"/>
                    </a:lnTo>
                    <a:lnTo>
                      <a:pt x="2736" y="3600"/>
                    </a:lnTo>
                    <a:lnTo>
                      <a:pt x="2544" y="3456"/>
                    </a:lnTo>
                    <a:lnTo>
                      <a:pt x="2400" y="3696"/>
                    </a:lnTo>
                    <a:lnTo>
                      <a:pt x="2448" y="3936"/>
                    </a:lnTo>
                    <a:lnTo>
                      <a:pt x="2496" y="4032"/>
                    </a:lnTo>
                    <a:lnTo>
                      <a:pt x="2304" y="3888"/>
                    </a:lnTo>
                    <a:lnTo>
                      <a:pt x="2160" y="3552"/>
                    </a:lnTo>
                    <a:lnTo>
                      <a:pt x="2208" y="3360"/>
                    </a:lnTo>
                    <a:lnTo>
                      <a:pt x="2016" y="3552"/>
                    </a:lnTo>
                    <a:lnTo>
                      <a:pt x="1968" y="3744"/>
                    </a:lnTo>
                    <a:lnTo>
                      <a:pt x="1920" y="3360"/>
                    </a:lnTo>
                    <a:lnTo>
                      <a:pt x="2064" y="3024"/>
                    </a:lnTo>
                    <a:lnTo>
                      <a:pt x="2112" y="2736"/>
                    </a:lnTo>
                    <a:lnTo>
                      <a:pt x="2208" y="2352"/>
                    </a:lnTo>
                    <a:lnTo>
                      <a:pt x="2208" y="1920"/>
                    </a:lnTo>
                    <a:lnTo>
                      <a:pt x="2112" y="1440"/>
                    </a:lnTo>
                    <a:lnTo>
                      <a:pt x="2016" y="1296"/>
                    </a:lnTo>
                    <a:lnTo>
                      <a:pt x="2064" y="1536"/>
                    </a:lnTo>
                    <a:lnTo>
                      <a:pt x="1920" y="1392"/>
                    </a:lnTo>
                    <a:lnTo>
                      <a:pt x="1872" y="1200"/>
                    </a:lnTo>
                    <a:lnTo>
                      <a:pt x="1776" y="1056"/>
                    </a:lnTo>
                    <a:lnTo>
                      <a:pt x="1680" y="960"/>
                    </a:lnTo>
                    <a:close/>
                  </a:path>
                </a:pathLst>
              </a:custGeom>
              <a:solidFill>
                <a:srgbClr val="ff9933"/>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aphicFrame>
        <p:nvGraphicFramePr>
          <p:cNvPr id="143" name=""/>
          <p:cNvGraphicFramePr/>
          <p:nvPr/>
        </p:nvGraphicFramePr>
        <p:xfrm>
          <a:off x="-838080" y="76320"/>
          <a:ext cx="10667880" cy="3565440"/>
        </p:xfrm>
        <a:graphic>
          <a:graphicData uri="http://schemas.openxmlformats.org/presentationml/2006/ole">
            <p:oleObj progId="Word.Document.12" r:id="rId1" spid="">
              <p:embed/>
              <p:pic>
                <p:nvPicPr>
                  <p:cNvPr id="144" name="" descr=""/>
                  <p:cNvPicPr/>
                  <p:nvPr/>
                </p:nvPicPr>
                <p:blipFill>
                  <a:blip r:embed="rId2"/>
                  <a:stretch/>
                </p:blipFill>
                <p:spPr>
                  <a:xfrm>
                    <a:off x="-838080" y="76320"/>
                    <a:ext cx="10667880" cy="3565440"/>
                  </a:xfrm>
                  <a:prstGeom prst="rect">
                    <a:avLst/>
                  </a:prstGeom>
                  <a:ln w="0">
                    <a:noFill/>
                  </a:ln>
                </p:spPr>
              </p:pic>
            </p:oleObj>
          </a:graphicData>
        </a:graphic>
      </p:graphicFrame>
      <p:grpSp>
        <p:nvGrpSpPr>
          <p:cNvPr id="145" name=""/>
          <p:cNvGrpSpPr/>
          <p:nvPr/>
        </p:nvGrpSpPr>
        <p:grpSpPr>
          <a:xfrm>
            <a:off x="7848720" y="3124080"/>
            <a:ext cx="1218960" cy="3581280"/>
            <a:chOff x="7848720" y="3124080"/>
            <a:chExt cx="1218960" cy="3581280"/>
          </a:xfrm>
        </p:grpSpPr>
        <p:sp>
          <p:nvSpPr>
            <p:cNvPr id="146" name=""/>
            <p:cNvSpPr/>
            <p:nvPr/>
          </p:nvSpPr>
          <p:spPr>
            <a:xfrm>
              <a:off x="7888680" y="5419440"/>
              <a:ext cx="110880" cy="353160"/>
            </a:xfrm>
            <a:custGeom>
              <a:avLst/>
              <a:gdLst/>
              <a:ahLst/>
              <a:rect l="l" t="t" r="r" b="b"/>
              <a:pathLst>
                <a:path w="336" h="720">
                  <a:moveTo>
                    <a:pt x="0" y="0"/>
                  </a:moveTo>
                  <a:lnTo>
                    <a:pt x="0" y="384"/>
                  </a:lnTo>
                  <a:lnTo>
                    <a:pt x="144" y="624"/>
                  </a:lnTo>
                  <a:lnTo>
                    <a:pt x="336" y="720"/>
                  </a:lnTo>
                  <a:lnTo>
                    <a:pt x="336" y="336"/>
                  </a:lnTo>
                  <a:lnTo>
                    <a:pt x="240" y="144"/>
                  </a:lnTo>
                  <a:lnTo>
                    <a:pt x="240" y="0"/>
                  </a:lnTo>
                  <a:lnTo>
                    <a:pt x="0" y="0"/>
                  </a:lnTo>
                  <a:close/>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8741160" y="5552640"/>
              <a:ext cx="259560" cy="35316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848720" y="4183920"/>
              <a:ext cx="1218960" cy="247212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gradFill rotWithShape="0">
              <a:gsLst>
                <a:gs pos="0">
                  <a:srgbClr val="ffcc00"/>
                </a:gs>
                <a:gs pos="100000">
                  <a:srgbClr val="765e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991640" y="3217320"/>
              <a:ext cx="833400" cy="123984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102520" y="3402720"/>
              <a:ext cx="222840" cy="527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8297280" y="3402720"/>
              <a:ext cx="221760" cy="527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8047080" y="3650760"/>
              <a:ext cx="500400" cy="62280"/>
            </a:xfrm>
            <a:custGeom>
              <a:avLst/>
              <a:gdLst/>
              <a:ahLst/>
              <a:rect l="l" t="t" r="r" b="b"/>
              <a:pathLst>
                <a:path w="864" h="96">
                  <a:moveTo>
                    <a:pt x="0" y="0"/>
                  </a:moveTo>
                  <a:cubicBezTo>
                    <a:pt x="168" y="48"/>
                    <a:pt x="336" y="96"/>
                    <a:pt x="480" y="96"/>
                  </a:cubicBezTo>
                  <a:cubicBezTo>
                    <a:pt x="624" y="96"/>
                    <a:pt x="744" y="48"/>
                    <a:pt x="864" y="0"/>
                  </a:cubicBezTo>
                </a:path>
              </a:pathLst>
            </a:custGeom>
            <a:solidFill>
              <a:srgbClr val="ffcc66"/>
            </a:solidFill>
            <a:ln w="2844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153" name=""/>
            <p:cNvSpPr/>
            <p:nvPr/>
          </p:nvSpPr>
          <p:spPr>
            <a:xfrm>
              <a:off x="8130600" y="3682440"/>
              <a:ext cx="82440" cy="92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8325360" y="3682440"/>
              <a:ext cx="82440" cy="92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8129520" y="3930480"/>
              <a:ext cx="213480" cy="12816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631360" y="3558240"/>
              <a:ext cx="63720" cy="28764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963200" y="3124080"/>
              <a:ext cx="889560" cy="102276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8018640" y="3774600"/>
              <a:ext cx="667800" cy="80640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213400" y="4085280"/>
              <a:ext cx="194400" cy="12384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8741160" y="5596200"/>
              <a:ext cx="297360" cy="2203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963200" y="5508360"/>
              <a:ext cx="704520" cy="4392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62" name=""/>
            <p:cNvSpPr/>
            <p:nvPr/>
          </p:nvSpPr>
          <p:spPr>
            <a:xfrm>
              <a:off x="8435520" y="6507000"/>
              <a:ext cx="418680" cy="1983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7974000" y="6507000"/>
              <a:ext cx="376920" cy="1983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4" name=""/>
          <p:cNvGrpSpPr/>
          <p:nvPr/>
        </p:nvGrpSpPr>
        <p:grpSpPr>
          <a:xfrm>
            <a:off x="152280" y="3200400"/>
            <a:ext cx="1067040" cy="3428640"/>
            <a:chOff x="152280" y="3200400"/>
            <a:chExt cx="1067040" cy="3428640"/>
          </a:xfrm>
        </p:grpSpPr>
        <p:sp>
          <p:nvSpPr>
            <p:cNvPr id="165" name=""/>
            <p:cNvSpPr/>
            <p:nvPr/>
          </p:nvSpPr>
          <p:spPr>
            <a:xfrm>
              <a:off x="152280" y="3906000"/>
              <a:ext cx="1067040" cy="2723040"/>
            </a:xfrm>
            <a:custGeom>
              <a:avLst/>
              <a:gdLst/>
              <a:ahLst/>
              <a:rect l="l" t="t" r="r" b="b"/>
              <a:pathLst>
                <a:path w="1056" h="2160">
                  <a:moveTo>
                    <a:pt x="240" y="240"/>
                  </a:moveTo>
                  <a:lnTo>
                    <a:pt x="336" y="576"/>
                  </a:lnTo>
                  <a:lnTo>
                    <a:pt x="240" y="960"/>
                  </a:lnTo>
                  <a:lnTo>
                    <a:pt x="192" y="1632"/>
                  </a:lnTo>
                  <a:lnTo>
                    <a:pt x="192" y="2064"/>
                  </a:lnTo>
                  <a:lnTo>
                    <a:pt x="288" y="2112"/>
                  </a:lnTo>
                  <a:lnTo>
                    <a:pt x="480" y="2160"/>
                  </a:lnTo>
                  <a:lnTo>
                    <a:pt x="672" y="2160"/>
                  </a:lnTo>
                  <a:lnTo>
                    <a:pt x="960" y="2064"/>
                  </a:lnTo>
                  <a:lnTo>
                    <a:pt x="960" y="1680"/>
                  </a:lnTo>
                  <a:lnTo>
                    <a:pt x="864" y="864"/>
                  </a:lnTo>
                  <a:lnTo>
                    <a:pt x="768" y="576"/>
                  </a:lnTo>
                  <a:lnTo>
                    <a:pt x="816" y="192"/>
                  </a:lnTo>
                  <a:lnTo>
                    <a:pt x="864" y="384"/>
                  </a:lnTo>
                  <a:lnTo>
                    <a:pt x="960" y="720"/>
                  </a:lnTo>
                  <a:lnTo>
                    <a:pt x="960" y="816"/>
                  </a:lnTo>
                  <a:lnTo>
                    <a:pt x="1056" y="768"/>
                  </a:lnTo>
                  <a:lnTo>
                    <a:pt x="1008" y="480"/>
                  </a:lnTo>
                  <a:lnTo>
                    <a:pt x="912" y="96"/>
                  </a:lnTo>
                  <a:lnTo>
                    <a:pt x="768" y="0"/>
                  </a:lnTo>
                  <a:lnTo>
                    <a:pt x="624" y="0"/>
                  </a:lnTo>
                  <a:lnTo>
                    <a:pt x="576" y="144"/>
                  </a:lnTo>
                  <a:lnTo>
                    <a:pt x="432" y="144"/>
                  </a:lnTo>
                  <a:lnTo>
                    <a:pt x="384" y="48"/>
                  </a:lnTo>
                  <a:lnTo>
                    <a:pt x="240" y="48"/>
                  </a:lnTo>
                  <a:lnTo>
                    <a:pt x="144" y="96"/>
                  </a:lnTo>
                  <a:lnTo>
                    <a:pt x="96" y="240"/>
                  </a:lnTo>
                  <a:lnTo>
                    <a:pt x="48" y="576"/>
                  </a:lnTo>
                  <a:lnTo>
                    <a:pt x="0" y="816"/>
                  </a:lnTo>
                  <a:lnTo>
                    <a:pt x="96" y="816"/>
                  </a:lnTo>
                  <a:lnTo>
                    <a:pt x="144" y="528"/>
                  </a:lnTo>
                  <a:lnTo>
                    <a:pt x="192" y="33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394920" y="3200400"/>
              <a:ext cx="581760" cy="907560"/>
              <a:chOff x="394920" y="3200400"/>
              <a:chExt cx="581760" cy="907560"/>
            </a:xfrm>
          </p:grpSpPr>
          <p:sp>
            <p:nvSpPr>
              <p:cNvPr id="167" name=""/>
              <p:cNvSpPr/>
              <p:nvPr/>
            </p:nvSpPr>
            <p:spPr>
              <a:xfrm>
                <a:off x="511200" y="3319200"/>
                <a:ext cx="329760" cy="65916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60804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69" name=""/>
              <p:cNvSpPr/>
              <p:nvPr/>
            </p:nvSpPr>
            <p:spPr>
              <a:xfrm>
                <a:off x="69552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70" name=""/>
              <p:cNvSpPr/>
              <p:nvPr/>
            </p:nvSpPr>
            <p:spPr>
              <a:xfrm flipH="1" flipV="1">
                <a:off x="597600" y="3664080"/>
                <a:ext cx="154440" cy="1724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flipV="1">
                <a:off x="646920" y="3674880"/>
                <a:ext cx="48240" cy="428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72" name=""/>
              <p:cNvSpPr/>
              <p:nvPr/>
            </p:nvSpPr>
            <p:spPr>
              <a:xfrm>
                <a:off x="394920" y="3200400"/>
                <a:ext cx="581760" cy="907560"/>
              </a:xfrm>
              <a:custGeom>
                <a:avLst/>
                <a:gdLst/>
                <a:ahLst/>
                <a:rect l="l" t="t" r="r" b="b"/>
                <a:pathLst>
                  <a:path w="2880" h="4032">
                    <a:moveTo>
                      <a:pt x="1680" y="960"/>
                    </a:moveTo>
                    <a:lnTo>
                      <a:pt x="1584" y="1248"/>
                    </a:lnTo>
                    <a:lnTo>
                      <a:pt x="1440" y="1440"/>
                    </a:lnTo>
                    <a:lnTo>
                      <a:pt x="1488" y="1248"/>
                    </a:lnTo>
                    <a:lnTo>
                      <a:pt x="1344" y="1344"/>
                    </a:lnTo>
                    <a:lnTo>
                      <a:pt x="1248" y="1392"/>
                    </a:lnTo>
                    <a:lnTo>
                      <a:pt x="1344" y="1200"/>
                    </a:lnTo>
                    <a:lnTo>
                      <a:pt x="1392" y="1056"/>
                    </a:lnTo>
                    <a:lnTo>
                      <a:pt x="1296" y="1200"/>
                    </a:lnTo>
                    <a:lnTo>
                      <a:pt x="1104" y="1296"/>
                    </a:lnTo>
                    <a:lnTo>
                      <a:pt x="1200" y="1104"/>
                    </a:lnTo>
                    <a:lnTo>
                      <a:pt x="1152" y="1008"/>
                    </a:lnTo>
                    <a:lnTo>
                      <a:pt x="912" y="1104"/>
                    </a:lnTo>
                    <a:lnTo>
                      <a:pt x="768" y="1344"/>
                    </a:lnTo>
                    <a:lnTo>
                      <a:pt x="672" y="1632"/>
                    </a:lnTo>
                    <a:lnTo>
                      <a:pt x="576" y="2016"/>
                    </a:lnTo>
                    <a:lnTo>
                      <a:pt x="576" y="2352"/>
                    </a:lnTo>
                    <a:lnTo>
                      <a:pt x="672" y="2736"/>
                    </a:lnTo>
                    <a:lnTo>
                      <a:pt x="768" y="3024"/>
                    </a:lnTo>
                    <a:lnTo>
                      <a:pt x="816" y="3312"/>
                    </a:lnTo>
                    <a:lnTo>
                      <a:pt x="816" y="3600"/>
                    </a:lnTo>
                    <a:lnTo>
                      <a:pt x="720" y="3888"/>
                    </a:lnTo>
                    <a:lnTo>
                      <a:pt x="672" y="3504"/>
                    </a:lnTo>
                    <a:lnTo>
                      <a:pt x="528" y="3360"/>
                    </a:lnTo>
                    <a:lnTo>
                      <a:pt x="576" y="3696"/>
                    </a:lnTo>
                    <a:lnTo>
                      <a:pt x="384" y="3984"/>
                    </a:lnTo>
                    <a:lnTo>
                      <a:pt x="384" y="3648"/>
                    </a:lnTo>
                    <a:lnTo>
                      <a:pt x="240" y="3216"/>
                    </a:lnTo>
                    <a:lnTo>
                      <a:pt x="144" y="3552"/>
                    </a:lnTo>
                    <a:lnTo>
                      <a:pt x="192" y="3792"/>
                    </a:lnTo>
                    <a:lnTo>
                      <a:pt x="48" y="3552"/>
                    </a:lnTo>
                    <a:lnTo>
                      <a:pt x="0" y="3024"/>
                    </a:lnTo>
                    <a:lnTo>
                      <a:pt x="0" y="2304"/>
                    </a:lnTo>
                    <a:lnTo>
                      <a:pt x="48" y="1920"/>
                    </a:lnTo>
                    <a:lnTo>
                      <a:pt x="0" y="1440"/>
                    </a:lnTo>
                    <a:lnTo>
                      <a:pt x="48" y="864"/>
                    </a:lnTo>
                    <a:lnTo>
                      <a:pt x="240" y="480"/>
                    </a:lnTo>
                    <a:lnTo>
                      <a:pt x="528" y="336"/>
                    </a:lnTo>
                    <a:lnTo>
                      <a:pt x="912" y="288"/>
                    </a:lnTo>
                    <a:lnTo>
                      <a:pt x="768" y="144"/>
                    </a:lnTo>
                    <a:lnTo>
                      <a:pt x="576" y="48"/>
                    </a:lnTo>
                    <a:lnTo>
                      <a:pt x="816" y="96"/>
                    </a:lnTo>
                    <a:lnTo>
                      <a:pt x="1008" y="192"/>
                    </a:lnTo>
                    <a:lnTo>
                      <a:pt x="1056" y="288"/>
                    </a:lnTo>
                    <a:lnTo>
                      <a:pt x="1104" y="96"/>
                    </a:lnTo>
                    <a:lnTo>
                      <a:pt x="1248" y="0"/>
                    </a:lnTo>
                    <a:lnTo>
                      <a:pt x="1344" y="0"/>
                    </a:lnTo>
                    <a:lnTo>
                      <a:pt x="1248" y="48"/>
                    </a:lnTo>
                    <a:lnTo>
                      <a:pt x="1200" y="192"/>
                    </a:lnTo>
                    <a:lnTo>
                      <a:pt x="1200" y="288"/>
                    </a:lnTo>
                    <a:lnTo>
                      <a:pt x="1296" y="192"/>
                    </a:lnTo>
                    <a:lnTo>
                      <a:pt x="1488" y="96"/>
                    </a:lnTo>
                    <a:lnTo>
                      <a:pt x="1776" y="48"/>
                    </a:lnTo>
                    <a:lnTo>
                      <a:pt x="1680" y="144"/>
                    </a:lnTo>
                    <a:lnTo>
                      <a:pt x="1536" y="240"/>
                    </a:lnTo>
                    <a:lnTo>
                      <a:pt x="1488" y="336"/>
                    </a:lnTo>
                    <a:lnTo>
                      <a:pt x="1680" y="288"/>
                    </a:lnTo>
                    <a:lnTo>
                      <a:pt x="1920" y="240"/>
                    </a:lnTo>
                    <a:lnTo>
                      <a:pt x="2112" y="288"/>
                    </a:lnTo>
                    <a:lnTo>
                      <a:pt x="1920" y="336"/>
                    </a:lnTo>
                    <a:lnTo>
                      <a:pt x="2112" y="384"/>
                    </a:lnTo>
                    <a:lnTo>
                      <a:pt x="2352" y="528"/>
                    </a:lnTo>
                    <a:lnTo>
                      <a:pt x="2544" y="672"/>
                    </a:lnTo>
                    <a:lnTo>
                      <a:pt x="2640" y="912"/>
                    </a:lnTo>
                    <a:lnTo>
                      <a:pt x="2688" y="1248"/>
                    </a:lnTo>
                    <a:lnTo>
                      <a:pt x="2688" y="1584"/>
                    </a:lnTo>
                    <a:lnTo>
                      <a:pt x="2688" y="1968"/>
                    </a:lnTo>
                    <a:lnTo>
                      <a:pt x="2736" y="2400"/>
                    </a:lnTo>
                    <a:lnTo>
                      <a:pt x="2832" y="2928"/>
                    </a:lnTo>
                    <a:lnTo>
                      <a:pt x="2832" y="3360"/>
                    </a:lnTo>
                    <a:lnTo>
                      <a:pt x="2880" y="3648"/>
                    </a:lnTo>
                    <a:lnTo>
                      <a:pt x="2784" y="3888"/>
                    </a:lnTo>
                    <a:lnTo>
                      <a:pt x="2736" y="3600"/>
                    </a:lnTo>
                    <a:lnTo>
                      <a:pt x="2544" y="3456"/>
                    </a:lnTo>
                    <a:lnTo>
                      <a:pt x="2400" y="3696"/>
                    </a:lnTo>
                    <a:lnTo>
                      <a:pt x="2448" y="3936"/>
                    </a:lnTo>
                    <a:lnTo>
                      <a:pt x="2496" y="4032"/>
                    </a:lnTo>
                    <a:lnTo>
                      <a:pt x="2304" y="3888"/>
                    </a:lnTo>
                    <a:lnTo>
                      <a:pt x="2160" y="3552"/>
                    </a:lnTo>
                    <a:lnTo>
                      <a:pt x="2208" y="3360"/>
                    </a:lnTo>
                    <a:lnTo>
                      <a:pt x="2016" y="3552"/>
                    </a:lnTo>
                    <a:lnTo>
                      <a:pt x="1968" y="3744"/>
                    </a:lnTo>
                    <a:lnTo>
                      <a:pt x="1920" y="3360"/>
                    </a:lnTo>
                    <a:lnTo>
                      <a:pt x="2064" y="3024"/>
                    </a:lnTo>
                    <a:lnTo>
                      <a:pt x="2112" y="2736"/>
                    </a:lnTo>
                    <a:lnTo>
                      <a:pt x="2208" y="2352"/>
                    </a:lnTo>
                    <a:lnTo>
                      <a:pt x="2208" y="1920"/>
                    </a:lnTo>
                    <a:lnTo>
                      <a:pt x="2112" y="1440"/>
                    </a:lnTo>
                    <a:lnTo>
                      <a:pt x="2016" y="1296"/>
                    </a:lnTo>
                    <a:lnTo>
                      <a:pt x="2064" y="1536"/>
                    </a:lnTo>
                    <a:lnTo>
                      <a:pt x="1920" y="1392"/>
                    </a:lnTo>
                    <a:lnTo>
                      <a:pt x="1872" y="1200"/>
                    </a:lnTo>
                    <a:lnTo>
                      <a:pt x="1776" y="1056"/>
                    </a:lnTo>
                    <a:lnTo>
                      <a:pt x="1680" y="960"/>
                    </a:lnTo>
                    <a:close/>
                  </a:path>
                </a:pathLst>
              </a:custGeom>
              <a:solidFill>
                <a:srgbClr val="ff9933"/>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3" name=""/>
          <p:cNvGrpSpPr/>
          <p:nvPr/>
        </p:nvGrpSpPr>
        <p:grpSpPr>
          <a:xfrm>
            <a:off x="7848720" y="3124080"/>
            <a:ext cx="1218960" cy="3581280"/>
            <a:chOff x="7848720" y="3124080"/>
            <a:chExt cx="1218960" cy="3581280"/>
          </a:xfrm>
        </p:grpSpPr>
        <p:sp>
          <p:nvSpPr>
            <p:cNvPr id="174" name=""/>
            <p:cNvSpPr/>
            <p:nvPr/>
          </p:nvSpPr>
          <p:spPr>
            <a:xfrm>
              <a:off x="7888680" y="5419440"/>
              <a:ext cx="110880" cy="353160"/>
            </a:xfrm>
            <a:custGeom>
              <a:avLst/>
              <a:gdLst/>
              <a:ahLst/>
              <a:rect l="l" t="t" r="r" b="b"/>
              <a:pathLst>
                <a:path w="336" h="720">
                  <a:moveTo>
                    <a:pt x="0" y="0"/>
                  </a:moveTo>
                  <a:lnTo>
                    <a:pt x="0" y="384"/>
                  </a:lnTo>
                  <a:lnTo>
                    <a:pt x="144" y="624"/>
                  </a:lnTo>
                  <a:lnTo>
                    <a:pt x="336" y="720"/>
                  </a:lnTo>
                  <a:lnTo>
                    <a:pt x="336" y="336"/>
                  </a:lnTo>
                  <a:lnTo>
                    <a:pt x="240" y="144"/>
                  </a:lnTo>
                  <a:lnTo>
                    <a:pt x="240" y="0"/>
                  </a:lnTo>
                  <a:lnTo>
                    <a:pt x="0" y="0"/>
                  </a:lnTo>
                  <a:close/>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8741160" y="5552640"/>
              <a:ext cx="259560" cy="35316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848720" y="4183920"/>
              <a:ext cx="1218960" cy="247212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gradFill rotWithShape="0">
              <a:gsLst>
                <a:gs pos="0">
                  <a:srgbClr val="ffcc00"/>
                </a:gs>
                <a:gs pos="100000">
                  <a:srgbClr val="765e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991640" y="3217320"/>
              <a:ext cx="833400" cy="123984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102520" y="3402720"/>
              <a:ext cx="222840" cy="527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8297280" y="3402720"/>
              <a:ext cx="221760" cy="527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8047080" y="3650760"/>
              <a:ext cx="500400" cy="62280"/>
            </a:xfrm>
            <a:custGeom>
              <a:avLst/>
              <a:gdLst/>
              <a:ahLst/>
              <a:rect l="l" t="t" r="r" b="b"/>
              <a:pathLst>
                <a:path w="864" h="96">
                  <a:moveTo>
                    <a:pt x="0" y="0"/>
                  </a:moveTo>
                  <a:cubicBezTo>
                    <a:pt x="168" y="48"/>
                    <a:pt x="336" y="96"/>
                    <a:pt x="480" y="96"/>
                  </a:cubicBezTo>
                  <a:cubicBezTo>
                    <a:pt x="624" y="96"/>
                    <a:pt x="744" y="48"/>
                    <a:pt x="864" y="0"/>
                  </a:cubicBezTo>
                </a:path>
              </a:pathLst>
            </a:custGeom>
            <a:solidFill>
              <a:srgbClr val="ffcc66"/>
            </a:solidFill>
            <a:ln w="2844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181" name=""/>
            <p:cNvSpPr/>
            <p:nvPr/>
          </p:nvSpPr>
          <p:spPr>
            <a:xfrm>
              <a:off x="8130600" y="3682440"/>
              <a:ext cx="82440" cy="92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8325360" y="3682440"/>
              <a:ext cx="82440" cy="92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8129520" y="3930480"/>
              <a:ext cx="213480" cy="12816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631360" y="3558240"/>
              <a:ext cx="63720" cy="28764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963200" y="3124080"/>
              <a:ext cx="889560" cy="102276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018640" y="3774600"/>
              <a:ext cx="667800" cy="80640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13400" y="4085280"/>
              <a:ext cx="194400" cy="12384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8741160" y="5596200"/>
              <a:ext cx="297360" cy="2203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963200" y="5508360"/>
              <a:ext cx="704520" cy="4392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190" name=""/>
            <p:cNvSpPr/>
            <p:nvPr/>
          </p:nvSpPr>
          <p:spPr>
            <a:xfrm>
              <a:off x="8435520" y="6507000"/>
              <a:ext cx="418680" cy="1983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flipH="1">
              <a:off x="7974000" y="6507000"/>
              <a:ext cx="376920" cy="1983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192" name=""/>
          <p:cNvGraphicFramePr/>
          <p:nvPr/>
        </p:nvGraphicFramePr>
        <p:xfrm>
          <a:off x="-1600200" y="1427040"/>
          <a:ext cx="12115800" cy="3221280"/>
        </p:xfrm>
        <a:graphic>
          <a:graphicData uri="http://schemas.openxmlformats.org/presentationml/2006/ole">
            <p:oleObj progId="Word.Document.12" r:id="rId1" spid="">
              <p:embed/>
              <p:pic>
                <p:nvPicPr>
                  <p:cNvPr id="193" name="" descr=""/>
                  <p:cNvPicPr/>
                  <p:nvPr/>
                </p:nvPicPr>
                <p:blipFill>
                  <a:blip r:embed="rId2"/>
                  <a:stretch/>
                </p:blipFill>
                <p:spPr>
                  <a:xfrm>
                    <a:off x="-1600200" y="1427040"/>
                    <a:ext cx="12115800" cy="322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4" name=""/>
          <p:cNvGrpSpPr/>
          <p:nvPr/>
        </p:nvGrpSpPr>
        <p:grpSpPr>
          <a:xfrm>
            <a:off x="152280" y="3200400"/>
            <a:ext cx="1067040" cy="3428640"/>
            <a:chOff x="152280" y="3200400"/>
            <a:chExt cx="1067040" cy="3428640"/>
          </a:xfrm>
        </p:grpSpPr>
        <p:sp>
          <p:nvSpPr>
            <p:cNvPr id="195" name=""/>
            <p:cNvSpPr/>
            <p:nvPr/>
          </p:nvSpPr>
          <p:spPr>
            <a:xfrm>
              <a:off x="152280" y="3906000"/>
              <a:ext cx="1067040" cy="2723040"/>
            </a:xfrm>
            <a:custGeom>
              <a:avLst/>
              <a:gdLst/>
              <a:ahLst/>
              <a:rect l="l" t="t" r="r" b="b"/>
              <a:pathLst>
                <a:path w="1056" h="2160">
                  <a:moveTo>
                    <a:pt x="240" y="240"/>
                  </a:moveTo>
                  <a:lnTo>
                    <a:pt x="336" y="576"/>
                  </a:lnTo>
                  <a:lnTo>
                    <a:pt x="240" y="960"/>
                  </a:lnTo>
                  <a:lnTo>
                    <a:pt x="192" y="1632"/>
                  </a:lnTo>
                  <a:lnTo>
                    <a:pt x="192" y="2064"/>
                  </a:lnTo>
                  <a:lnTo>
                    <a:pt x="288" y="2112"/>
                  </a:lnTo>
                  <a:lnTo>
                    <a:pt x="480" y="2160"/>
                  </a:lnTo>
                  <a:lnTo>
                    <a:pt x="672" y="2160"/>
                  </a:lnTo>
                  <a:lnTo>
                    <a:pt x="960" y="2064"/>
                  </a:lnTo>
                  <a:lnTo>
                    <a:pt x="960" y="1680"/>
                  </a:lnTo>
                  <a:lnTo>
                    <a:pt x="864" y="864"/>
                  </a:lnTo>
                  <a:lnTo>
                    <a:pt x="768" y="576"/>
                  </a:lnTo>
                  <a:lnTo>
                    <a:pt x="816" y="192"/>
                  </a:lnTo>
                  <a:lnTo>
                    <a:pt x="864" y="384"/>
                  </a:lnTo>
                  <a:lnTo>
                    <a:pt x="960" y="720"/>
                  </a:lnTo>
                  <a:lnTo>
                    <a:pt x="960" y="816"/>
                  </a:lnTo>
                  <a:lnTo>
                    <a:pt x="1056" y="768"/>
                  </a:lnTo>
                  <a:lnTo>
                    <a:pt x="1008" y="480"/>
                  </a:lnTo>
                  <a:lnTo>
                    <a:pt x="912" y="96"/>
                  </a:lnTo>
                  <a:lnTo>
                    <a:pt x="768" y="0"/>
                  </a:lnTo>
                  <a:lnTo>
                    <a:pt x="624" y="0"/>
                  </a:lnTo>
                  <a:lnTo>
                    <a:pt x="576" y="144"/>
                  </a:lnTo>
                  <a:lnTo>
                    <a:pt x="432" y="144"/>
                  </a:lnTo>
                  <a:lnTo>
                    <a:pt x="384" y="48"/>
                  </a:lnTo>
                  <a:lnTo>
                    <a:pt x="240" y="48"/>
                  </a:lnTo>
                  <a:lnTo>
                    <a:pt x="144" y="96"/>
                  </a:lnTo>
                  <a:lnTo>
                    <a:pt x="96" y="240"/>
                  </a:lnTo>
                  <a:lnTo>
                    <a:pt x="48" y="576"/>
                  </a:lnTo>
                  <a:lnTo>
                    <a:pt x="0" y="816"/>
                  </a:lnTo>
                  <a:lnTo>
                    <a:pt x="96" y="816"/>
                  </a:lnTo>
                  <a:lnTo>
                    <a:pt x="144" y="528"/>
                  </a:lnTo>
                  <a:lnTo>
                    <a:pt x="192" y="33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6" name=""/>
            <p:cNvGrpSpPr/>
            <p:nvPr/>
          </p:nvGrpSpPr>
          <p:grpSpPr>
            <a:xfrm>
              <a:off x="394920" y="3200400"/>
              <a:ext cx="581760" cy="907560"/>
              <a:chOff x="394920" y="3200400"/>
              <a:chExt cx="581760" cy="907560"/>
            </a:xfrm>
          </p:grpSpPr>
          <p:sp>
            <p:nvSpPr>
              <p:cNvPr id="197" name=""/>
              <p:cNvSpPr/>
              <p:nvPr/>
            </p:nvSpPr>
            <p:spPr>
              <a:xfrm>
                <a:off x="511200" y="3319200"/>
                <a:ext cx="329760" cy="65916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0804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99" name=""/>
              <p:cNvSpPr/>
              <p:nvPr/>
            </p:nvSpPr>
            <p:spPr>
              <a:xfrm>
                <a:off x="695520" y="3535200"/>
                <a:ext cx="48240" cy="97200"/>
              </a:xfrm>
              <a:prstGeom prst="ellipse">
                <a:avLst/>
              </a:prstGeom>
              <a:solidFill>
                <a:srgbClr val="0033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200" name=""/>
              <p:cNvSpPr/>
              <p:nvPr/>
            </p:nvSpPr>
            <p:spPr>
              <a:xfrm flipH="1" flipV="1">
                <a:off x="597600" y="3664080"/>
                <a:ext cx="154440" cy="1724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flipV="1">
                <a:off x="646920" y="3674880"/>
                <a:ext cx="48240" cy="42840"/>
              </a:xfrm>
              <a:custGeom>
                <a:avLst/>
                <a:gdLst/>
                <a:ahLst/>
                <a:rect l="l" t="t" r="r" b="b"/>
                <a:pathLst>
                  <a:path stroke="0" w="21600" h="21600">
                    <a:moveTo>
                      <a:pt x="144" y="9044"/>
                    </a:moveTo>
                    <a:arcTo wR="10800" hR="10800" stAng="-10238551" swAng="9922028"/>
                    <a:lnTo>
                      <a:pt x="10800" y="10800"/>
                    </a:lnTo>
                    <a:close/>
                  </a:path>
                  <a:path fill="none" w="21600" h="21600">
                    <a:moveTo>
                      <a:pt x="144" y="9044"/>
                    </a:moveTo>
                    <a:arcTo wR="10800" hR="10800" stAng="-10238551" swAng="9922028"/>
                  </a:path>
                </a:pathLst>
              </a:custGeom>
              <a:noFill/>
              <a:ln w="7632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202" name=""/>
              <p:cNvSpPr/>
              <p:nvPr/>
            </p:nvSpPr>
            <p:spPr>
              <a:xfrm>
                <a:off x="394920" y="3200400"/>
                <a:ext cx="581760" cy="907560"/>
              </a:xfrm>
              <a:custGeom>
                <a:avLst/>
                <a:gdLst/>
                <a:ahLst/>
                <a:rect l="l" t="t" r="r" b="b"/>
                <a:pathLst>
                  <a:path w="2880" h="4032">
                    <a:moveTo>
                      <a:pt x="1680" y="960"/>
                    </a:moveTo>
                    <a:lnTo>
                      <a:pt x="1584" y="1248"/>
                    </a:lnTo>
                    <a:lnTo>
                      <a:pt x="1440" y="1440"/>
                    </a:lnTo>
                    <a:lnTo>
                      <a:pt x="1488" y="1248"/>
                    </a:lnTo>
                    <a:lnTo>
                      <a:pt x="1344" y="1344"/>
                    </a:lnTo>
                    <a:lnTo>
                      <a:pt x="1248" y="1392"/>
                    </a:lnTo>
                    <a:lnTo>
                      <a:pt x="1344" y="1200"/>
                    </a:lnTo>
                    <a:lnTo>
                      <a:pt x="1392" y="1056"/>
                    </a:lnTo>
                    <a:lnTo>
                      <a:pt x="1296" y="1200"/>
                    </a:lnTo>
                    <a:lnTo>
                      <a:pt x="1104" y="1296"/>
                    </a:lnTo>
                    <a:lnTo>
                      <a:pt x="1200" y="1104"/>
                    </a:lnTo>
                    <a:lnTo>
                      <a:pt x="1152" y="1008"/>
                    </a:lnTo>
                    <a:lnTo>
                      <a:pt x="912" y="1104"/>
                    </a:lnTo>
                    <a:lnTo>
                      <a:pt x="768" y="1344"/>
                    </a:lnTo>
                    <a:lnTo>
                      <a:pt x="672" y="1632"/>
                    </a:lnTo>
                    <a:lnTo>
                      <a:pt x="576" y="2016"/>
                    </a:lnTo>
                    <a:lnTo>
                      <a:pt x="576" y="2352"/>
                    </a:lnTo>
                    <a:lnTo>
                      <a:pt x="672" y="2736"/>
                    </a:lnTo>
                    <a:lnTo>
                      <a:pt x="768" y="3024"/>
                    </a:lnTo>
                    <a:lnTo>
                      <a:pt x="816" y="3312"/>
                    </a:lnTo>
                    <a:lnTo>
                      <a:pt x="816" y="3600"/>
                    </a:lnTo>
                    <a:lnTo>
                      <a:pt x="720" y="3888"/>
                    </a:lnTo>
                    <a:lnTo>
                      <a:pt x="672" y="3504"/>
                    </a:lnTo>
                    <a:lnTo>
                      <a:pt x="528" y="3360"/>
                    </a:lnTo>
                    <a:lnTo>
                      <a:pt x="576" y="3696"/>
                    </a:lnTo>
                    <a:lnTo>
                      <a:pt x="384" y="3984"/>
                    </a:lnTo>
                    <a:lnTo>
                      <a:pt x="384" y="3648"/>
                    </a:lnTo>
                    <a:lnTo>
                      <a:pt x="240" y="3216"/>
                    </a:lnTo>
                    <a:lnTo>
                      <a:pt x="144" y="3552"/>
                    </a:lnTo>
                    <a:lnTo>
                      <a:pt x="192" y="3792"/>
                    </a:lnTo>
                    <a:lnTo>
                      <a:pt x="48" y="3552"/>
                    </a:lnTo>
                    <a:lnTo>
                      <a:pt x="0" y="3024"/>
                    </a:lnTo>
                    <a:lnTo>
                      <a:pt x="0" y="2304"/>
                    </a:lnTo>
                    <a:lnTo>
                      <a:pt x="48" y="1920"/>
                    </a:lnTo>
                    <a:lnTo>
                      <a:pt x="0" y="1440"/>
                    </a:lnTo>
                    <a:lnTo>
                      <a:pt x="48" y="864"/>
                    </a:lnTo>
                    <a:lnTo>
                      <a:pt x="240" y="480"/>
                    </a:lnTo>
                    <a:lnTo>
                      <a:pt x="528" y="336"/>
                    </a:lnTo>
                    <a:lnTo>
                      <a:pt x="912" y="288"/>
                    </a:lnTo>
                    <a:lnTo>
                      <a:pt x="768" y="144"/>
                    </a:lnTo>
                    <a:lnTo>
                      <a:pt x="576" y="48"/>
                    </a:lnTo>
                    <a:lnTo>
                      <a:pt x="816" y="96"/>
                    </a:lnTo>
                    <a:lnTo>
                      <a:pt x="1008" y="192"/>
                    </a:lnTo>
                    <a:lnTo>
                      <a:pt x="1056" y="288"/>
                    </a:lnTo>
                    <a:lnTo>
                      <a:pt x="1104" y="96"/>
                    </a:lnTo>
                    <a:lnTo>
                      <a:pt x="1248" y="0"/>
                    </a:lnTo>
                    <a:lnTo>
                      <a:pt x="1344" y="0"/>
                    </a:lnTo>
                    <a:lnTo>
                      <a:pt x="1248" y="48"/>
                    </a:lnTo>
                    <a:lnTo>
                      <a:pt x="1200" y="192"/>
                    </a:lnTo>
                    <a:lnTo>
                      <a:pt x="1200" y="288"/>
                    </a:lnTo>
                    <a:lnTo>
                      <a:pt x="1296" y="192"/>
                    </a:lnTo>
                    <a:lnTo>
                      <a:pt x="1488" y="96"/>
                    </a:lnTo>
                    <a:lnTo>
                      <a:pt x="1776" y="48"/>
                    </a:lnTo>
                    <a:lnTo>
                      <a:pt x="1680" y="144"/>
                    </a:lnTo>
                    <a:lnTo>
                      <a:pt x="1536" y="240"/>
                    </a:lnTo>
                    <a:lnTo>
                      <a:pt x="1488" y="336"/>
                    </a:lnTo>
                    <a:lnTo>
                      <a:pt x="1680" y="288"/>
                    </a:lnTo>
                    <a:lnTo>
                      <a:pt x="1920" y="240"/>
                    </a:lnTo>
                    <a:lnTo>
                      <a:pt x="2112" y="288"/>
                    </a:lnTo>
                    <a:lnTo>
                      <a:pt x="1920" y="336"/>
                    </a:lnTo>
                    <a:lnTo>
                      <a:pt x="2112" y="384"/>
                    </a:lnTo>
                    <a:lnTo>
                      <a:pt x="2352" y="528"/>
                    </a:lnTo>
                    <a:lnTo>
                      <a:pt x="2544" y="672"/>
                    </a:lnTo>
                    <a:lnTo>
                      <a:pt x="2640" y="912"/>
                    </a:lnTo>
                    <a:lnTo>
                      <a:pt x="2688" y="1248"/>
                    </a:lnTo>
                    <a:lnTo>
                      <a:pt x="2688" y="1584"/>
                    </a:lnTo>
                    <a:lnTo>
                      <a:pt x="2688" y="1968"/>
                    </a:lnTo>
                    <a:lnTo>
                      <a:pt x="2736" y="2400"/>
                    </a:lnTo>
                    <a:lnTo>
                      <a:pt x="2832" y="2928"/>
                    </a:lnTo>
                    <a:lnTo>
                      <a:pt x="2832" y="3360"/>
                    </a:lnTo>
                    <a:lnTo>
                      <a:pt x="2880" y="3648"/>
                    </a:lnTo>
                    <a:lnTo>
                      <a:pt x="2784" y="3888"/>
                    </a:lnTo>
                    <a:lnTo>
                      <a:pt x="2736" y="3600"/>
                    </a:lnTo>
                    <a:lnTo>
                      <a:pt x="2544" y="3456"/>
                    </a:lnTo>
                    <a:lnTo>
                      <a:pt x="2400" y="3696"/>
                    </a:lnTo>
                    <a:lnTo>
                      <a:pt x="2448" y="3936"/>
                    </a:lnTo>
                    <a:lnTo>
                      <a:pt x="2496" y="4032"/>
                    </a:lnTo>
                    <a:lnTo>
                      <a:pt x="2304" y="3888"/>
                    </a:lnTo>
                    <a:lnTo>
                      <a:pt x="2160" y="3552"/>
                    </a:lnTo>
                    <a:lnTo>
                      <a:pt x="2208" y="3360"/>
                    </a:lnTo>
                    <a:lnTo>
                      <a:pt x="2016" y="3552"/>
                    </a:lnTo>
                    <a:lnTo>
                      <a:pt x="1968" y="3744"/>
                    </a:lnTo>
                    <a:lnTo>
                      <a:pt x="1920" y="3360"/>
                    </a:lnTo>
                    <a:lnTo>
                      <a:pt x="2064" y="3024"/>
                    </a:lnTo>
                    <a:lnTo>
                      <a:pt x="2112" y="2736"/>
                    </a:lnTo>
                    <a:lnTo>
                      <a:pt x="2208" y="2352"/>
                    </a:lnTo>
                    <a:lnTo>
                      <a:pt x="2208" y="1920"/>
                    </a:lnTo>
                    <a:lnTo>
                      <a:pt x="2112" y="1440"/>
                    </a:lnTo>
                    <a:lnTo>
                      <a:pt x="2016" y="1296"/>
                    </a:lnTo>
                    <a:lnTo>
                      <a:pt x="2064" y="1536"/>
                    </a:lnTo>
                    <a:lnTo>
                      <a:pt x="1920" y="1392"/>
                    </a:lnTo>
                    <a:lnTo>
                      <a:pt x="1872" y="1200"/>
                    </a:lnTo>
                    <a:lnTo>
                      <a:pt x="1776" y="1056"/>
                    </a:lnTo>
                    <a:lnTo>
                      <a:pt x="1680" y="960"/>
                    </a:lnTo>
                    <a:close/>
                  </a:path>
                </a:pathLst>
              </a:custGeom>
              <a:solidFill>
                <a:srgbClr val="ff9933"/>
              </a:solid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3" name=""/>
          <p:cNvGrpSpPr/>
          <p:nvPr/>
        </p:nvGrpSpPr>
        <p:grpSpPr>
          <a:xfrm>
            <a:off x="7848720" y="3124080"/>
            <a:ext cx="1218960" cy="3581280"/>
            <a:chOff x="7848720" y="3124080"/>
            <a:chExt cx="1218960" cy="3581280"/>
          </a:xfrm>
        </p:grpSpPr>
        <p:sp>
          <p:nvSpPr>
            <p:cNvPr id="204" name=""/>
            <p:cNvSpPr/>
            <p:nvPr/>
          </p:nvSpPr>
          <p:spPr>
            <a:xfrm>
              <a:off x="7888680" y="5419440"/>
              <a:ext cx="110880" cy="353160"/>
            </a:xfrm>
            <a:custGeom>
              <a:avLst/>
              <a:gdLst/>
              <a:ahLst/>
              <a:rect l="l" t="t" r="r" b="b"/>
              <a:pathLst>
                <a:path w="336" h="720">
                  <a:moveTo>
                    <a:pt x="0" y="0"/>
                  </a:moveTo>
                  <a:lnTo>
                    <a:pt x="0" y="384"/>
                  </a:lnTo>
                  <a:lnTo>
                    <a:pt x="144" y="624"/>
                  </a:lnTo>
                  <a:lnTo>
                    <a:pt x="336" y="720"/>
                  </a:lnTo>
                  <a:lnTo>
                    <a:pt x="336" y="336"/>
                  </a:lnTo>
                  <a:lnTo>
                    <a:pt x="240" y="144"/>
                  </a:lnTo>
                  <a:lnTo>
                    <a:pt x="240" y="0"/>
                  </a:lnTo>
                  <a:lnTo>
                    <a:pt x="0" y="0"/>
                  </a:lnTo>
                  <a:close/>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8741160" y="5552640"/>
              <a:ext cx="259560" cy="35316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48720" y="4183920"/>
              <a:ext cx="1218960" cy="247212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gradFill rotWithShape="0">
              <a:gsLst>
                <a:gs pos="0">
                  <a:srgbClr val="ffcc00"/>
                </a:gs>
                <a:gs pos="100000">
                  <a:srgbClr val="765e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991640" y="3217320"/>
              <a:ext cx="833400" cy="123984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102520" y="3402720"/>
              <a:ext cx="222840" cy="527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8297280" y="3402720"/>
              <a:ext cx="221760" cy="527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047080" y="3650760"/>
              <a:ext cx="500400" cy="62280"/>
            </a:xfrm>
            <a:custGeom>
              <a:avLst/>
              <a:gdLst/>
              <a:ahLst/>
              <a:rect l="l" t="t" r="r" b="b"/>
              <a:pathLst>
                <a:path w="864" h="96">
                  <a:moveTo>
                    <a:pt x="0" y="0"/>
                  </a:moveTo>
                  <a:cubicBezTo>
                    <a:pt x="168" y="48"/>
                    <a:pt x="336" y="96"/>
                    <a:pt x="480" y="96"/>
                  </a:cubicBezTo>
                  <a:cubicBezTo>
                    <a:pt x="624" y="96"/>
                    <a:pt x="744" y="48"/>
                    <a:pt x="864" y="0"/>
                  </a:cubicBezTo>
                </a:path>
              </a:pathLst>
            </a:custGeom>
            <a:solidFill>
              <a:srgbClr val="ffcc66"/>
            </a:solidFill>
            <a:ln w="2844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211" name=""/>
            <p:cNvSpPr/>
            <p:nvPr/>
          </p:nvSpPr>
          <p:spPr>
            <a:xfrm>
              <a:off x="8130600" y="3682440"/>
              <a:ext cx="82440" cy="92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8325360" y="3682440"/>
              <a:ext cx="82440" cy="92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8129520" y="3930480"/>
              <a:ext cx="213480" cy="12816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8631360" y="3558240"/>
              <a:ext cx="63720" cy="28764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7963200" y="3124080"/>
              <a:ext cx="889560" cy="102276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8018640" y="3774600"/>
              <a:ext cx="667800" cy="80640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8213400" y="4085280"/>
              <a:ext cx="194400" cy="12384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8741160" y="5596200"/>
              <a:ext cx="297360" cy="2203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963200" y="5508360"/>
              <a:ext cx="704520" cy="4392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220" name=""/>
            <p:cNvSpPr/>
            <p:nvPr/>
          </p:nvSpPr>
          <p:spPr>
            <a:xfrm>
              <a:off x="8435520" y="6507000"/>
              <a:ext cx="418680" cy="1983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974000" y="6507000"/>
              <a:ext cx="376920" cy="1983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ac07"/>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222" name=""/>
          <p:cNvGraphicFramePr/>
          <p:nvPr/>
        </p:nvGraphicFramePr>
        <p:xfrm>
          <a:off x="-1219320" y="1143000"/>
          <a:ext cx="11354040" cy="2232000"/>
        </p:xfrm>
        <a:graphic>
          <a:graphicData uri="http://schemas.openxmlformats.org/presentationml/2006/ole">
            <p:oleObj progId="Word.Document.12" r:id="rId1" spid="">
              <p:embed/>
              <p:pic>
                <p:nvPicPr>
                  <p:cNvPr id="223" name="" descr=""/>
                  <p:cNvPicPr/>
                  <p:nvPr/>
                </p:nvPicPr>
                <p:blipFill>
                  <a:blip r:embed="rId2"/>
                  <a:stretch/>
                </p:blipFill>
                <p:spPr>
                  <a:xfrm>
                    <a:off x="-1219320" y="1143000"/>
                    <a:ext cx="11354040" cy="2232000"/>
                  </a:xfrm>
                  <a:prstGeom prst="rect">
                    <a:avLst/>
                  </a:prstGeom>
                  <a:ln w="0">
                    <a:noFill/>
                  </a:ln>
                </p:spPr>
              </p:pic>
            </p:oleObj>
          </a:graphicData>
        </a:graphic>
      </p:graphicFrame>
      <p:sp>
        <p:nvSpPr>
          <p:cNvPr id="224" name=""/>
          <p:cNvSpPr/>
          <p:nvPr/>
        </p:nvSpPr>
        <p:spPr>
          <a:xfrm>
            <a:off x="1676520" y="3657600"/>
            <a:ext cx="579096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wnership and the law</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rate Marri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sman Redee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25" name=""/>
          <p:cNvGraphicFramePr/>
          <p:nvPr/>
        </p:nvGraphicFramePr>
        <p:xfrm>
          <a:off x="-1752480" y="1295280"/>
          <a:ext cx="12573000" cy="2300400"/>
        </p:xfrm>
        <a:graphic>
          <a:graphicData uri="http://schemas.openxmlformats.org/presentationml/2006/ole">
            <p:oleObj progId="Word.Document.12" r:id="rId1" spid="">
              <p:embed/>
              <p:pic>
                <p:nvPicPr>
                  <p:cNvPr id="226" name="" descr=""/>
                  <p:cNvPicPr/>
                  <p:nvPr/>
                </p:nvPicPr>
                <p:blipFill>
                  <a:blip r:embed="rId2"/>
                  <a:stretch/>
                </p:blipFill>
                <p:spPr>
                  <a:xfrm>
                    <a:off x="-1752480" y="1295280"/>
                    <a:ext cx="12573000" cy="2300400"/>
                  </a:xfrm>
                  <a:prstGeom prst="rect">
                    <a:avLst/>
                  </a:prstGeom>
                  <a:ln w="0">
                    <a:noFill/>
                  </a:ln>
                </p:spPr>
              </p:pic>
            </p:oleObj>
          </a:graphicData>
        </a:graphic>
      </p:graphicFrame>
      <p:sp>
        <p:nvSpPr>
          <p:cNvPr id="227" name=""/>
          <p:cNvSpPr/>
          <p:nvPr/>
        </p:nvSpPr>
        <p:spPr>
          <a:xfrm>
            <a:off x="1447920" y="3962520"/>
            <a:ext cx="6476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Then the women said to Naomi, “Blessed is the Lord who has not left you without a redeemer today, and may his name become famous in Israel. (Ruth 4:1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0" name=""/>
          <p:cNvGraphicFramePr/>
          <p:nvPr/>
        </p:nvGraphicFramePr>
        <p:xfrm>
          <a:off x="-76320" y="228600"/>
          <a:ext cx="9601200" cy="6013440"/>
        </p:xfrm>
        <a:graphic>
          <a:graphicData uri="http://schemas.openxmlformats.org/presentationml/2006/ole">
            <p:oleObj progId="Word.Document.12" r:id="rId1" spid="">
              <p:embed/>
              <p:pic>
                <p:nvPicPr>
                  <p:cNvPr id="101" name="" descr=""/>
                  <p:cNvPicPr/>
                  <p:nvPr/>
                </p:nvPicPr>
                <p:blipFill>
                  <a:blip r:embed="rId2"/>
                  <a:stretch/>
                </p:blipFill>
                <p:spPr>
                  <a:xfrm>
                    <a:off x="-76320" y="228600"/>
                    <a:ext cx="9601200" cy="60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2" name=""/>
          <p:cNvGraphicFramePr/>
          <p:nvPr/>
        </p:nvGraphicFramePr>
        <p:xfrm>
          <a:off x="-380880" y="347760"/>
          <a:ext cx="10134360" cy="5727600"/>
        </p:xfrm>
        <a:graphic>
          <a:graphicData uri="http://schemas.openxmlformats.org/presentationml/2006/ole">
            <p:oleObj progId="Word.Document.12" r:id="rId1" spid="">
              <p:embed/>
              <p:pic>
                <p:nvPicPr>
                  <p:cNvPr id="103" name="" descr=""/>
                  <p:cNvPicPr/>
                  <p:nvPr/>
                </p:nvPicPr>
                <p:blipFill>
                  <a:blip r:embed="rId2"/>
                  <a:stretch/>
                </p:blipFill>
                <p:spPr>
                  <a:xfrm>
                    <a:off x="-380880" y="347760"/>
                    <a:ext cx="10134360" cy="57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Date of Writing</a:t>
            </a:r>
            <a:endParaRPr b="0" lang="en-US" sz="5400" spc="-1" strike="noStrike">
              <a:solidFill>
                <a:srgbClr val="b2b2b2"/>
              </a:solidFill>
              <a:latin typeface="Arial"/>
            </a:endParaRPr>
          </a:p>
        </p:txBody>
      </p:sp>
      <p:sp>
        <p:nvSpPr>
          <p:cNvPr id="105" name="PlaceHolder 2"/>
          <p:cNvSpPr>
            <a:spLocks noGrp="1"/>
          </p:cNvSpPr>
          <p:nvPr>
            <p:ph/>
          </p:nvPr>
        </p:nvSpPr>
        <p:spPr>
          <a:xfrm>
            <a:off x="1103400" y="1599840"/>
            <a:ext cx="70992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tory takes place in the days when the judges governed (Ruth 1:1).</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uth 4:7 speaks of a custom “in former times in Israel.”</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vid is mentioned at the end of the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76040"/>
            <a:ext cx="9144000" cy="7067520"/>
          </a:xfrm>
          <a:prstGeom prst="rect">
            <a:avLst/>
          </a:prstGeom>
          <a:ln w="0">
            <a:noFill/>
          </a:ln>
        </p:spPr>
      </p:pic>
      <p:sp>
        <p:nvSpPr>
          <p:cNvPr id="107" name="PlaceHolder 1"/>
          <p:cNvSpPr>
            <a:spLocks noGrp="1"/>
          </p:cNvSpPr>
          <p:nvPr>
            <p:ph type="title"/>
          </p:nvPr>
        </p:nvSpPr>
        <p:spPr>
          <a:xfrm>
            <a:off x="5866920" y="5334120"/>
            <a:ext cx="175284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ab</a:t>
            </a:r>
            <a:endParaRPr b="0" lang="en-US" sz="3600" spc="-1" strike="noStrike">
              <a:solidFill>
                <a:srgbClr val="b2b2b2"/>
              </a:solidFill>
              <a:latin typeface="Arial"/>
            </a:endParaRPr>
          </a:p>
        </p:txBody>
      </p:sp>
      <p:sp>
        <p:nvSpPr>
          <p:cNvPr id="108" name="PlaceHolder 2"/>
          <p:cNvSpPr>
            <a:spLocks noGrp="1"/>
          </p:cNvSpPr>
          <p:nvPr>
            <p:ph type="subTitle"/>
          </p:nvPr>
        </p:nvSpPr>
        <p:spPr>
          <a:xfrm>
            <a:off x="2971440" y="4266720"/>
            <a:ext cx="2438280" cy="6858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thlehem</a:t>
            </a:r>
            <a:endParaRPr b="0" lang="en-US" sz="2400" spc="-1" strike="noStrike">
              <a:solidFill>
                <a:srgbClr val="ffffff"/>
              </a:solidFill>
              <a:latin typeface="Arial"/>
            </a:endParaRPr>
          </a:p>
        </p:txBody>
      </p:sp>
      <p:sp>
        <p:nvSpPr>
          <p:cNvPr id="109" name=""/>
          <p:cNvSpPr/>
          <p:nvPr/>
        </p:nvSpPr>
        <p:spPr>
          <a:xfrm>
            <a:off x="4572000" y="4114800"/>
            <a:ext cx="152280" cy="152280"/>
          </a:xfrm>
          <a:prstGeom prst="ellipse">
            <a:avLst/>
          </a:prstGeom>
          <a:solidFill>
            <a:srgbClr val="0101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04920" y="0"/>
            <a:ext cx="7467480" cy="3385800"/>
          </a:xfrm>
          <a:prstGeom prst="rect">
            <a:avLst/>
          </a:prstGeom>
          <a:solidFill>
            <a:srgbClr val="0101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No Ammonite or Moabite shall enter the assembly of the Lord; none of their descendants, even to the tenth generation, shall ever enter the assembly of the Lord, </a:t>
            </a:r>
            <a:r>
              <a:rPr b="1" i="1" lang="en-US" sz="1600" spc="-1" strike="noStrike">
                <a:solidFill>
                  <a:srgbClr val="ffffff"/>
                </a:solidFill>
                <a:latin typeface="Arial"/>
              </a:rPr>
              <a:t>4</a:t>
            </a:r>
            <a:r>
              <a:rPr b="1" i="1" lang="en-US" sz="2400" spc="-1" strike="noStrike">
                <a:solidFill>
                  <a:srgbClr val="ffffff"/>
                </a:solidFill>
                <a:latin typeface="Arial"/>
              </a:rPr>
              <a:t> because they did not meet you with food and water on the way when you came out of Egypt, and because they hired against you Balaam the son of Beor from Pethor of Mesopotamia, to curse you.” (Deuteronomy 23: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1" name=""/>
          <p:cNvGraphicFramePr/>
          <p:nvPr/>
        </p:nvGraphicFramePr>
        <p:xfrm>
          <a:off x="-1447920" y="1601640"/>
          <a:ext cx="12268440" cy="3816360"/>
        </p:xfrm>
        <a:graphic>
          <a:graphicData uri="http://schemas.openxmlformats.org/presentationml/2006/ole">
            <p:oleObj progId="Word.Document.12" r:id="rId1" spid="">
              <p:embed/>
              <p:pic>
                <p:nvPicPr>
                  <p:cNvPr id="112" name="" descr=""/>
                  <p:cNvPicPr/>
                  <p:nvPr/>
                </p:nvPicPr>
                <p:blipFill>
                  <a:blip r:embed="rId2"/>
                  <a:stretch/>
                </p:blipFill>
                <p:spPr>
                  <a:xfrm>
                    <a:off x="-1447920" y="1601640"/>
                    <a:ext cx="1226844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3" name=""/>
          <p:cNvGraphicFramePr/>
          <p:nvPr/>
        </p:nvGraphicFramePr>
        <p:xfrm>
          <a:off x="-1523880" y="752400"/>
          <a:ext cx="11887200" cy="4853160"/>
        </p:xfrm>
        <a:graphic>
          <a:graphicData uri="http://schemas.openxmlformats.org/presentationml/2006/ole">
            <p:oleObj progId="Word.Document.12" r:id="rId1" spid="">
              <p:embed/>
              <p:pic>
                <p:nvPicPr>
                  <p:cNvPr id="114" name="" descr=""/>
                  <p:cNvPicPr/>
                  <p:nvPr/>
                </p:nvPicPr>
                <p:blipFill>
                  <a:blip r:embed="rId2"/>
                  <a:stretch/>
                </p:blipFill>
                <p:spPr>
                  <a:xfrm>
                    <a:off x="-1523880" y="752400"/>
                    <a:ext cx="11887200" cy="48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1447920" y="1679400"/>
          <a:ext cx="11887200" cy="3137040"/>
        </p:xfrm>
        <a:graphic>
          <a:graphicData uri="http://schemas.openxmlformats.org/presentationml/2006/ole">
            <p:oleObj progId="Word.Document.12" r:id="rId1" spid="">
              <p:embed/>
              <p:pic>
                <p:nvPicPr>
                  <p:cNvPr id="116" name="" descr=""/>
                  <p:cNvPicPr/>
                  <p:nvPr/>
                </p:nvPicPr>
                <p:blipFill>
                  <a:blip r:embed="rId2"/>
                  <a:stretch/>
                </p:blipFill>
                <p:spPr>
                  <a:xfrm>
                    <a:off x="-1447920" y="1679400"/>
                    <a:ext cx="11887200" cy="31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057400" y="3962520"/>
            <a:ext cx="838080" cy="457200"/>
          </a:xfrm>
          <a:prstGeom prst="roundRect">
            <a:avLst>
              <a:gd name="adj" fmla="val 16667"/>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238880" y="3505320"/>
            <a:ext cx="1295640" cy="533160"/>
          </a:xfrm>
          <a:prstGeom prst="roundRect">
            <a:avLst>
              <a:gd name="adj" fmla="val 16667"/>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685800" y="228600"/>
            <a:ext cx="7772400" cy="1022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Ruth 1:19</a:t>
            </a:r>
            <a:endParaRPr b="0" lang="en-US" sz="4800" spc="-1" strike="noStrike">
              <a:solidFill>
                <a:srgbClr val="b2b2b2"/>
              </a:solidFill>
              <a:latin typeface="Arial"/>
            </a:endParaRPr>
          </a:p>
        </p:txBody>
      </p:sp>
      <p:sp>
        <p:nvSpPr>
          <p:cNvPr id="120" name="PlaceHolder 2"/>
          <p:cNvSpPr>
            <a:spLocks noGrp="1"/>
          </p:cNvSpPr>
          <p:nvPr>
            <p:ph type="subTitle"/>
          </p:nvPr>
        </p:nvSpPr>
        <p:spPr>
          <a:xfrm>
            <a:off x="761760" y="1295280"/>
            <a:ext cx="7924680" cy="556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9</a:t>
            </a:r>
            <a:r>
              <a:rPr b="0" lang="en-US" sz="2800" spc="-1" strike="noStrike">
                <a:solidFill>
                  <a:srgbClr val="ffffff"/>
                </a:solidFill>
                <a:latin typeface="Arial"/>
              </a:rPr>
              <a:t> So they both went until they came to Bethlehem. And it came about when they had come to Bethlehem, that all the city was stirred because of them, and the women said, "Is this Naomi?"</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And she said to them, "Do not call me Naomi; call me Mara, for the Almighty has dealt very bitterly with me. </a:t>
            </a:r>
            <a:r>
              <a:rPr b="0" lang="en-US" sz="1800" spc="-1" strike="noStrike">
                <a:solidFill>
                  <a:srgbClr val="ffffff"/>
                </a:solidFill>
                <a:latin typeface="Arial"/>
              </a:rPr>
              <a:t>21</a:t>
            </a:r>
            <a:r>
              <a:rPr b="0" lang="en-US" sz="2800" spc="-1" strike="noStrike">
                <a:solidFill>
                  <a:srgbClr val="ffffff"/>
                </a:solidFill>
                <a:latin typeface="Arial"/>
              </a:rPr>
              <a:t> I went out full, but the LORD has brought me back empty. Why do you call me Naomi, since the LORD has witnessed against me and the Almighty has afflicted m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
          <p:cNvSpPr/>
          <p:nvPr/>
        </p:nvSpPr>
        <p:spPr>
          <a:xfrm>
            <a:off x="685800" y="114300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666200" y="3021120"/>
            <a:ext cx="126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Swe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1-17T12:53:16Z</dcterms:modified>
  <cp:revision>39</cp:revision>
  <dc:subject/>
  <dc:title>Amos</dc:title>
</cp:coreProperties>
</file>