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jpeg" ContentType="image/jpeg"/>
  <Override PartName="/ppt/media/image1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jpeg" ContentType="image/jpeg"/>
  <Override PartName="/ppt/media/image6.wmf" ContentType="image/x-wmf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9F9-7082-4DFA-9F16-CE85322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AA2-1603-445C-B025-42C1756B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2D5-C981-475E-AF13-0F61239F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4E2-7FC9-4C3E-AE0A-94EA614A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215-5532-4F83-8AA3-A9DBEC05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81E9-9486-458C-9CBF-B4502E5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6CE-B711-4283-8292-A1C9415B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54AB-FC60-480A-BB64-7AA88A4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34AB-35F0-49A6-B829-4FA6203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C0E5-A810-43D1-9845-38589A2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0601-6616-4997-ABF9-F526E66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FFD-EA79-4356-B996-A89E1C7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B12-8968-4D61-A37C-65850B0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301-4E9C-4D96-BF3C-12ECCAA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710-AFC8-4C33-939E-2EE8B131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EA94-689C-4A73-ACF0-67289F25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F65-8ECD-470C-8B50-C1A4BE48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5BC-E12D-4F91-8209-A1D3126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842-4145-41A7-8F03-A475E0F8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5A2-DA6E-42AB-8D96-73F94D5A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128-8F35-481B-9E2D-5E51AC7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48E-70A4-4439-8709-5D44972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DD6-0E2D-466E-8D43-E5C40A8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C6E-79C3-4099-939F-95C6511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BB8-A84C-47BC-8659-8DF539595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F6A-5750-4CE4-90A1-7AA7D46437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JUDG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ook of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ctory from the See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f the Wom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-2590920" y="1447920"/>
          <a:ext cx="1120140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90920" y="1447920"/>
                    <a:ext cx="1120140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Samso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Judges 13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524880" cy="6959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00400" y="2743200"/>
            <a:ext cx="3556080" cy="1981080"/>
          </a:xfrm>
          <a:custGeom>
            <a:avLst/>
            <a:gdLst/>
            <a:ahLst/>
            <a:rect l="l" t="t" r="r" b="b"/>
            <a:pathLst>
              <a:path w="2240" h="1248">
                <a:moveTo>
                  <a:pt x="0" y="0"/>
                </a:moveTo>
                <a:cubicBezTo>
                  <a:pt x="268" y="72"/>
                  <a:pt x="536" y="144"/>
                  <a:pt x="768" y="192"/>
                </a:cubicBezTo>
                <a:cubicBezTo>
                  <a:pt x="1000" y="240"/>
                  <a:pt x="1232" y="256"/>
                  <a:pt x="1392" y="288"/>
                </a:cubicBezTo>
                <a:cubicBezTo>
                  <a:pt x="1552" y="320"/>
                  <a:pt x="1600" y="336"/>
                  <a:pt x="1728" y="384"/>
                </a:cubicBezTo>
                <a:cubicBezTo>
                  <a:pt x="1856" y="432"/>
                  <a:pt x="2080" y="480"/>
                  <a:pt x="2160" y="576"/>
                </a:cubicBezTo>
                <a:cubicBezTo>
                  <a:pt x="2240" y="672"/>
                  <a:pt x="2224" y="856"/>
                  <a:pt x="2208" y="960"/>
                </a:cubicBezTo>
                <a:cubicBezTo>
                  <a:pt x="2192" y="1064"/>
                  <a:pt x="2096" y="1152"/>
                  <a:pt x="2064" y="1200"/>
                </a:cubicBezTo>
                <a:cubicBezTo>
                  <a:pt x="2032" y="1248"/>
                  <a:pt x="2024" y="1248"/>
                  <a:pt x="2016" y="1248"/>
                </a:cubicBezTo>
              </a:path>
            </a:pathLst>
          </a:custGeom>
          <a:noFill/>
          <a:ln w="12384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3920" y="233028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ea Peo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7000" y="3016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Minoa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372600" cy="696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15200" y="1600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Wingdings"/>
                <a:ea typeface="Wingdings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67160" y="1523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06668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Wingdings"/>
                <a:ea typeface="Wingdings"/>
              </a:rPr>
              <a:t>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87280" y="106668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167652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Wingdings"/>
                <a:ea typeface="Wingdings"/>
              </a:rPr>
              <a:t>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62520" y="19051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Gibe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2560" y="26384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Jerusal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67480" y="43434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 Black"/>
              </a:rPr>
              <a:t>Heb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76320" y="3962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0200" y="39625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G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133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9680" y="1905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Timna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43828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Wingdings"/>
                <a:ea typeface="Wingdings"/>
              </a:rPr>
              <a:t>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1440" y="2666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Beth Sheme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362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429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Wingdings"/>
                <a:ea typeface="Wingdings"/>
              </a:rPr>
              <a:t>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63400" y="36576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Et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3434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Wingdings"/>
                <a:ea typeface="Wingdings"/>
              </a:rPr>
              <a:t>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339000">
            <a:off x="358200" y="26305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hilist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84720" cy="6934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22480" y="211716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hilist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29280" cy="693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5919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Judges 19:1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w it came about in those days, when there was no king in Israel, that there was a certain Levite staying in the remote part of the hill country of Ephraim, who took a concubine for himself from Bethlehem in Juda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838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2209680"/>
            <a:ext cx="472428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8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2200" y="415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61960" y="4190040"/>
            <a:ext cx="11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Jeb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 Black"/>
              </a:rPr>
              <a:t>(Jerusale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7640" y="4921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66120" y="3701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Gibe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337280" y="3153960"/>
            <a:ext cx="866520" cy="535320"/>
            <a:chOff x="4337280" y="3153960"/>
            <a:chExt cx="866520" cy="535320"/>
          </a:xfrm>
        </p:grpSpPr>
        <p:sp>
          <p:nvSpPr>
            <p:cNvPr id="193" name=""/>
            <p:cNvSpPr/>
            <p:nvPr/>
          </p:nvSpPr>
          <p:spPr>
            <a:xfrm>
              <a:off x="4724280" y="3321000"/>
              <a:ext cx="2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Wingdings"/>
                  <a:ea typeface="Wingdings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37280" y="315396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3300"/>
                  </a:solidFill>
                  <a:latin typeface="Arial Black"/>
                </a:rPr>
                <a:t>Gibe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258520" y="370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6640" y="505872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Bethleh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3962520"/>
            <a:ext cx="444240" cy="1066680"/>
          </a:xfrm>
          <a:custGeom>
            <a:avLst/>
            <a:gdLst/>
            <a:ahLst/>
            <a:rect l="l" t="t" r="r" b="b"/>
            <a:pathLst>
              <a:path w="280" h="576">
                <a:moveTo>
                  <a:pt x="0" y="576"/>
                </a:moveTo>
                <a:cubicBezTo>
                  <a:pt x="100" y="480"/>
                  <a:pt x="200" y="384"/>
                  <a:pt x="240" y="288"/>
                </a:cubicBezTo>
                <a:cubicBezTo>
                  <a:pt x="280" y="192"/>
                  <a:pt x="240" y="56"/>
                  <a:pt x="240" y="0"/>
                </a:cubicBezTo>
              </a:path>
            </a:pathLst>
          </a:custGeom>
          <a:noFill/>
          <a:ln w="1080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07360" y="141588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ill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Ephr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457200" y="-254160"/>
          <a:ext cx="10134720" cy="740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-254160"/>
                    <a:ext cx="10134720" cy="740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1066680" y="533520"/>
          <a:ext cx="11277360" cy="58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533520"/>
                    <a:ext cx="11277360" cy="58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-838080" y="685800"/>
          <a:ext cx="10896480" cy="52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685800"/>
                    <a:ext cx="1089648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90920" y="1752480"/>
            <a:ext cx="4114800" cy="38862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1447920"/>
            <a:ext cx="23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sraelites did evil in the sight of the LORD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5334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ORD sold them into the hands of their enemi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41008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when the sons of Israel cried out to the LORD…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67652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ORD raised up a deliverer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48520" y="45720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81680" y="434340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udgemen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4572000"/>
            <a:ext cx="2276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entanc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609480"/>
            <a:ext cx="22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liverance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29000" y="2895480"/>
            <a:ext cx="280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Sin Cy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-228600" y="-398520"/>
          <a:ext cx="9753480" cy="763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398520"/>
                    <a:ext cx="9753480" cy="763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700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98160" y="371808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O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990720"/>
            <a:ext cx="1447560" cy="2438280"/>
          </a:xfrm>
          <a:custGeom>
            <a:avLst/>
            <a:gdLst/>
            <a:ahLst/>
            <a:rect l="l" t="t" r="r" b="b"/>
            <a:pathLst>
              <a:path w="1408" h="1888">
                <a:moveTo>
                  <a:pt x="1152" y="1888"/>
                </a:moveTo>
                <a:cubicBezTo>
                  <a:pt x="1148" y="1832"/>
                  <a:pt x="1144" y="1776"/>
                  <a:pt x="1152" y="1696"/>
                </a:cubicBezTo>
                <a:cubicBezTo>
                  <a:pt x="1160" y="1616"/>
                  <a:pt x="1160" y="1536"/>
                  <a:pt x="1200" y="1408"/>
                </a:cubicBezTo>
                <a:cubicBezTo>
                  <a:pt x="1240" y="1280"/>
                  <a:pt x="1376" y="1096"/>
                  <a:pt x="1392" y="928"/>
                </a:cubicBezTo>
                <a:cubicBezTo>
                  <a:pt x="1408" y="760"/>
                  <a:pt x="1368" y="536"/>
                  <a:pt x="1296" y="400"/>
                </a:cubicBezTo>
                <a:cubicBezTo>
                  <a:pt x="1224" y="264"/>
                  <a:pt x="1120" y="176"/>
                  <a:pt x="960" y="112"/>
                </a:cubicBezTo>
                <a:cubicBezTo>
                  <a:pt x="800" y="48"/>
                  <a:pt x="496" y="32"/>
                  <a:pt x="336" y="16"/>
                </a:cubicBezTo>
                <a:cubicBezTo>
                  <a:pt x="176" y="0"/>
                  <a:pt x="56" y="16"/>
                  <a:pt x="0" y="16"/>
                </a:cubicBezTo>
              </a:path>
            </a:pathLst>
          </a:custGeom>
          <a:noFill/>
          <a:ln w="108000">
            <a:solidFill>
              <a:srgbClr val="99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533520"/>
            <a:ext cx="3457800" cy="1143000"/>
            <a:chOff x="1676520" y="533520"/>
            <a:chExt cx="3457800" cy="1143000"/>
          </a:xfrm>
        </p:grpSpPr>
        <p:sp>
          <p:nvSpPr>
            <p:cNvPr id="120" name=""/>
            <p:cNvSpPr/>
            <p:nvPr/>
          </p:nvSpPr>
          <p:spPr>
            <a:xfrm>
              <a:off x="1676520" y="533520"/>
              <a:ext cx="2133360" cy="1143000"/>
            </a:xfrm>
            <a:prstGeom prst="wedgeRectCallout">
              <a:avLst>
                <a:gd name="adj1" fmla="val 95462"/>
                <a:gd name="adj2" fmla="val -6944"/>
              </a:avLst>
            </a:prstGeom>
            <a:solidFill>
              <a:srgbClr val="00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Jerich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City of Pal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5000" y="806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ffcc"/>
                  </a:solidFill>
                  <a:latin typeface="Wingdings"/>
                  <a:ea typeface="Wingdings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358760" y="150804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22440" y="627696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ma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914400" y="0"/>
            <a:ext cx="10733040" cy="7031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263880" y="621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7432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2743200"/>
            <a:ext cx="3504960" cy="4572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Judges 3:15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ut when the sons of Israel cried to the Lord, the Lord raised up a deliverer for them, Ehud the son of Gera, the Benjamite, a left-handed man.  And the sons of Israel sent tribute by him to Eglon the king of Moa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380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7040" y="4479840"/>
            <a:ext cx="54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Anymiy&gt;-dy: rJeai vyai</a:t>
            </a:r>
            <a:r>
              <a:rPr b="0" lang="en-US" sz="1800" spc="-1" strike="noStrike">
                <a:solidFill>
                  <a:srgbClr val="ffffff"/>
                </a:solidFill>
                <a:latin typeface="Bwheb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12280" y="527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 man b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 his right han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200400"/>
            <a:ext cx="457200" cy="129528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812160" y="463212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ynIymiy&gt;h;-!B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38080" y="3200400"/>
            <a:ext cx="152640" cy="1523880"/>
          </a:xfrm>
          <a:prstGeom prst="line">
            <a:avLst/>
          </a:prstGeom>
          <a:ln w="2844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960" y="542376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on of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ight han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6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720" y="1644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9240" y="15080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Haz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82640" y="367128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Harosh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Ha-goy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191120"/>
            <a:ext cx="1828800" cy="457200"/>
          </a:xfrm>
          <a:prstGeom prst="wedgeRoundRectCallout">
            <a:avLst>
              <a:gd name="adj1" fmla="val -67273"/>
              <a:gd name="adj2" fmla="val -34027"/>
              <a:gd name="adj3" fmla="val 16667"/>
            </a:avLst>
          </a:prstGeom>
          <a:solidFill>
            <a:srgbClr val="9933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t Tab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5400" y="443304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Cutting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the Nation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32800">
            <a:off x="3063600" y="415908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1840" cy="6991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7640" y="64450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Arial"/>
              </a:rPr>
              <a:t>Gideon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Abimele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7-06-01T22:49:20Z</dcterms:modified>
  <cp:revision>33</cp:revision>
  <dc:subject/>
  <dc:title>Amos</dc:title>
</cp:coreProperties>
</file>