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B07-EF64-4BF0-9C8D-CCB42DF8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8D0-E73B-44F2-998D-C5E8D381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A5D-5478-4E97-BE38-CF88EC4D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F5E-91CC-4DC2-B981-38BC6FB5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9A1-DB13-43AA-9BB0-762507F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02C-79F3-44A6-B629-143E2387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386-2E22-4ADB-97BB-B442BEA0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F61-1CE2-4B25-B7AA-D7B14467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BD9-D7B8-4FED-9074-EA820CC3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E97-F69E-49E8-A3E9-2F960F06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FFB-BC31-43F8-AB85-27DAD664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01C-64CD-4C2A-A023-B6ADB19B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14E-B550-4C05-9CCA-47B3801A74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077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 Black"/>
              </a:rPr>
              <a:t>Deuteronomy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Second Giving of th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itle of the Book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6777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eek Name: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euteronom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895480"/>
            <a:ext cx="838188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w it shall come about when he 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 the throne of his kingdom, he shall write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imself a copy of this law on a scroll in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sence of the Levitical priests. (Deuter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7: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895480"/>
            <a:ext cx="677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rew Name:  </a:t>
            </a:r>
            <a:r>
              <a:rPr b="0" lang="en-US" sz="4800" spc="-1" strike="noStrike">
                <a:solidFill>
                  <a:srgbClr val="ffffff"/>
                </a:solidFill>
                <a:latin typeface="Bwhebb"/>
              </a:rPr>
              <a:t>~yrIb'D&gt;h; hL,a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These are the wor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419720"/>
            <a:ext cx="8686800" cy="1676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se are the words which Moses spo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o all Israel across the Jordan in the wildernes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Deuteronomy 1: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" dur="1" fill="hold"/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-1295280" y="-447840"/>
          <a:ext cx="11810880" cy="769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95280" y="-447840"/>
                    <a:ext cx="11810880" cy="769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448920" cy="738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448920" cy="738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652720" y="42670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uteronomy &amp; the Suzerain Trea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248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Prea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Historical Prolo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ti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posit and Reading of the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it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ses &amp; Bless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7640"/>
          <a:ext cx="9137520" cy="70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640"/>
                    <a:ext cx="9137520" cy="70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01-26T17:28:02Z</dcterms:modified>
  <cp:revision>396</cp:revision>
  <dc:subject/>
  <dc:title>Discipleship Across the Lifespan</dc:title>
</cp:coreProperties>
</file>