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625-77DC-4E48-A466-3F52E9DB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14D-C429-4743-B820-E7817ACB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D92-F8A4-4F9F-86FB-49117224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2D3-E28B-4EDA-B592-DB64B49E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62A-DDDD-4293-A892-397835D3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F35-DCDA-4975-8E4D-A1046C07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976-2548-4784-8D1D-4529B6E4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578-A15C-420C-B816-CA86D2D8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84F-002D-4D53-B5DF-EF9256B8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3BF-B0B0-469D-8D31-EAF389A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2E5-848B-4666-8C23-064310AE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066-4FAD-441E-A1EF-86366BDE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CB1B-1FC3-4759-9279-69B24BE180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Book of Deliv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24080" y="2133720"/>
            <a:ext cx="2895840" cy="896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od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8424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4648320"/>
            <a:ext cx="3276360" cy="1676160"/>
          </a:xfrm>
          <a:prstGeom prst="rect">
            <a:avLst/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He caused their chari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wheels to swerve,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He made them dr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with difficulty (Exod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14:2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15000" y="3581280"/>
            <a:ext cx="190512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3962520"/>
            <a:ext cx="10666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962520"/>
            <a:ext cx="20574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3200400"/>
            <a:ext cx="16761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Mosaic Covenan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8148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eam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438280"/>
            <a:ext cx="7086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w then, if you will indeed obey My voice and keep My covenant, then you shall be My own possession among all the peoples, for all the earth is Mine;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nd you shall be to Me a kingdom of priests and a holy nation.”   These are the words that you shall speak to the sons of Israel.” (Exodus 19:5-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Mosaic Covenan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eam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86000"/>
            <a:ext cx="7696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Decalo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Jud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aberna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4120" y="457200"/>
            <a:ext cx="3504960" cy="2011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ernacle built; God enter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5-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6438600" y="2704680"/>
            <a:ext cx="1219320" cy="380880"/>
          </a:xfrm>
          <a:prstGeom prst="rightArrow">
            <a:avLst>
              <a:gd name="adj1" fmla="val 55361"/>
              <a:gd name="adj2" fmla="val 105036"/>
            </a:avLst>
          </a:prstGeom>
          <a:gradFill rotWithShape="0">
            <a:gsLst>
              <a:gs pos="0">
                <a:srgbClr val="3366cc"/>
              </a:gs>
              <a:gs pos="100000">
                <a:srgbClr val="0e1d3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200400"/>
            <a:ext cx="350496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rebe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2-3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7269800">
            <a:off x="6210000" y="4533480"/>
            <a:ext cx="1219320" cy="380880"/>
          </a:xfrm>
          <a:prstGeom prst="rightArrow">
            <a:avLst>
              <a:gd name="adj1" fmla="val 55361"/>
              <a:gd name="adj2" fmla="val 105036"/>
            </a:avLst>
          </a:prstGeom>
          <a:gradFill rotWithShape="0">
            <a:gsLst>
              <a:gs pos="0">
                <a:srgbClr val="3366cc"/>
              </a:gs>
              <a:gs pos="100000">
                <a:srgbClr val="0e1d3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952880"/>
            <a:ext cx="3809880" cy="1524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s for building Tabernacle (25-3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5562720"/>
            <a:ext cx="1218960" cy="380880"/>
          </a:xfrm>
          <a:prstGeom prst="rightArrow">
            <a:avLst>
              <a:gd name="adj1" fmla="val 55361"/>
              <a:gd name="adj2" fmla="val 105005"/>
            </a:avLst>
          </a:prstGeom>
          <a:gradFill rotWithShape="0">
            <a:gsLst>
              <a:gs pos="0">
                <a:srgbClr val="3366cc"/>
              </a:gs>
              <a:gs pos="100000">
                <a:srgbClr val="0e1d3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4952880"/>
            <a:ext cx="3809880" cy="1524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nant Laws &amp; Commands (19-2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4529400">
            <a:off x="1714320" y="4305240"/>
            <a:ext cx="1219320" cy="380880"/>
          </a:xfrm>
          <a:prstGeom prst="rightArrow">
            <a:avLst>
              <a:gd name="adj1" fmla="val 55361"/>
              <a:gd name="adj2" fmla="val 105036"/>
            </a:avLst>
          </a:prstGeom>
          <a:gradFill rotWithShape="0">
            <a:gsLst>
              <a:gs pos="0">
                <a:srgbClr val="3366cc"/>
              </a:gs>
              <a:gs pos="100000">
                <a:srgbClr val="0e1d3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200400"/>
            <a:ext cx="350496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rebe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4-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561680" y="2476440"/>
            <a:ext cx="1219320" cy="381240"/>
          </a:xfrm>
          <a:prstGeom prst="rightArrow">
            <a:avLst>
              <a:gd name="adj1" fmla="val 55361"/>
              <a:gd name="adj2" fmla="val 104937"/>
            </a:avLst>
          </a:prstGeom>
          <a:gradFill rotWithShape="0">
            <a:gsLst>
              <a:gs pos="0">
                <a:srgbClr val="3366cc"/>
              </a:gs>
              <a:gs pos="100000">
                <a:srgbClr val="0e1d3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3504960" cy="2011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meets Moses; Israel exits from Egypt (1-13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Mosaic Covenan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eam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286000"/>
            <a:ext cx="7696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Decalo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Jud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aberna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838080" y="-243000"/>
            <a:ext cx="11048760" cy="7101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4876920"/>
            <a:ext cx="3352680" cy="16002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he cloud covered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ent of meeting, and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glory of the Lord fi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he tabernacle (Exod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40:3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600"/>
            <a:ext cx="4267080" cy="642600"/>
          </a:xfrm>
          <a:prstGeom prst="rect">
            <a:avLst/>
          </a:pr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ene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228600"/>
            <a:ext cx="4267080" cy="642600"/>
          </a:xfrm>
          <a:prstGeom prst="rect">
            <a:avLst/>
          </a:pr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xod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885960"/>
            <a:ext cx="4267080" cy="1068840"/>
          </a:xfrm>
          <a:prstGeom prst="rect">
            <a:avLst/>
          </a:prstGeom>
          <a:gradFill rotWithShape="0">
            <a:gsLst>
              <a:gs pos="0">
                <a:srgbClr val="000d1b"/>
              </a:gs>
              <a:gs pos="50000">
                <a:srgbClr val="003366"/>
              </a:gs>
              <a:gs pos="100000">
                <a:srgbClr val="000d1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gins with all of the Israelites in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57320"/>
            <a:ext cx="4267080" cy="2043720"/>
          </a:xfrm>
          <a:prstGeom prst="rect">
            <a:avLst/>
          </a:prstGeom>
          <a:gradFill rotWithShape="0">
            <a:gsLst>
              <a:gs pos="0">
                <a:srgbClr val="000d1b"/>
              </a:gs>
              <a:gs pos="50000">
                <a:srgbClr val="003366"/>
              </a:gs>
              <a:gs pos="100000">
                <a:srgbClr val="000d1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entually focuses upon one man ― Abraham &amp; his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967040"/>
            <a:ext cx="4267080" cy="1556280"/>
          </a:xfrm>
          <a:prstGeom prst="rect">
            <a:avLst/>
          </a:prstGeom>
          <a:gradFill rotWithShape="0">
            <a:gsLst>
              <a:gs pos="0">
                <a:srgbClr val="000d1b"/>
              </a:gs>
              <a:gs pos="50000">
                <a:srgbClr val="003366"/>
              </a:gs>
              <a:gs pos="100000">
                <a:srgbClr val="000d1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entually focuses upon one man ― Moses &amp; his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887400"/>
            <a:ext cx="4267080" cy="1068840"/>
          </a:xfrm>
          <a:prstGeom prst="rect">
            <a:avLst/>
          </a:prstGeom>
          <a:gradFill rotWithShape="0">
            <a:gsLst>
              <a:gs pos="0">
                <a:srgbClr val="000d1b"/>
              </a:gs>
              <a:gs pos="50000">
                <a:srgbClr val="003366"/>
              </a:gs>
              <a:gs pos="100000">
                <a:srgbClr val="000d1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gins with all of humanity in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519360"/>
            <a:ext cx="4267080" cy="1556280"/>
          </a:xfrm>
          <a:prstGeom prst="rect">
            <a:avLst/>
          </a:prstGeom>
          <a:gradFill rotWithShape="0">
            <a:gsLst>
              <a:gs pos="0">
                <a:srgbClr val="000d1b"/>
              </a:gs>
              <a:gs pos="50000">
                <a:srgbClr val="003366"/>
              </a:gs>
              <a:gs pos="100000">
                <a:srgbClr val="000d1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braham has two siblings ― Nahor and Ha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524400"/>
            <a:ext cx="4267080" cy="1556280"/>
          </a:xfrm>
          <a:prstGeom prst="rect">
            <a:avLst/>
          </a:prstGeom>
          <a:gradFill rotWithShape="0">
            <a:gsLst>
              <a:gs pos="0">
                <a:srgbClr val="000d1b"/>
              </a:gs>
              <a:gs pos="50000">
                <a:srgbClr val="003366"/>
              </a:gs>
              <a:gs pos="100000">
                <a:srgbClr val="000d1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ses has two siblings ― Aaron and Miri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081760"/>
            <a:ext cx="4267080" cy="1556280"/>
          </a:xfrm>
          <a:prstGeom prst="rect">
            <a:avLst/>
          </a:prstGeom>
          <a:gradFill rotWithShape="0">
            <a:gsLst>
              <a:gs pos="0">
                <a:srgbClr val="000d1b"/>
              </a:gs>
              <a:gs pos="50000">
                <a:srgbClr val="003366"/>
              </a:gs>
              <a:gs pos="100000">
                <a:srgbClr val="000d1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is called to leave his home and travel to a foreign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091120"/>
            <a:ext cx="4267080" cy="1556280"/>
          </a:xfrm>
          <a:prstGeom prst="rect">
            <a:avLst/>
          </a:prstGeom>
          <a:gradFill rotWithShape="0">
            <a:gsLst>
              <a:gs pos="0">
                <a:srgbClr val="000d1b"/>
              </a:gs>
              <a:gs pos="50000">
                <a:srgbClr val="003366"/>
              </a:gs>
              <a:gs pos="100000">
                <a:srgbClr val="000d1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is forced to flee his home and travel to a foreign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286000"/>
            <a:ext cx="3886200" cy="1371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O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286000"/>
            <a:ext cx="3886200" cy="1371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236232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297180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523880"/>
            <a:ext cx="9144000" cy="21337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Exodus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odus from Egypt:  10 Plag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iving of the Law:  10 Command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ding the Tabernacle:  10 I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038480"/>
            <a:ext cx="6172200" cy="21337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The Pres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 Black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Arial Black"/>
              </a:rPr>
              <a:t>I A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Early Career of Mos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irth &amp; Inf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ducation (Acts 7:2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Decision of Moses (Acts 7:23; Hebrews 11:24-2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urder (Exodus 2:11-12; Acts 7: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light to Mid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-533520"/>
            <a:ext cx="9448920" cy="7653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63160" y="31240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12960" y="44956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MID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-1523880" y="866880"/>
          <a:ext cx="12344400" cy="5189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3880" y="866880"/>
                    <a:ext cx="12344400" cy="51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-795240"/>
            <a:ext cx="9448920" cy="765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63160" y="31240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18720" y="3049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Arial Black"/>
              </a:rPr>
              <a:t>YAM SUPH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2895480"/>
            <a:ext cx="1295280" cy="177840"/>
          </a:xfrm>
          <a:custGeom>
            <a:avLst/>
            <a:gdLst/>
            <a:ahLst/>
            <a:rect l="l" t="t" r="r" b="b"/>
            <a:pathLst>
              <a:path w="816" h="112">
                <a:moveTo>
                  <a:pt x="0" y="0"/>
                </a:moveTo>
                <a:cubicBezTo>
                  <a:pt x="172" y="40"/>
                  <a:pt x="344" y="80"/>
                  <a:pt x="480" y="96"/>
                </a:cubicBezTo>
                <a:cubicBezTo>
                  <a:pt x="616" y="112"/>
                  <a:pt x="716" y="104"/>
                  <a:pt x="816" y="96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1879560"/>
            <a:ext cx="3048120" cy="863640"/>
          </a:xfrm>
          <a:custGeom>
            <a:avLst/>
            <a:gdLst/>
            <a:ahLst/>
            <a:rect l="l" t="t" r="r" b="b"/>
            <a:pathLst>
              <a:path w="1920" h="544">
                <a:moveTo>
                  <a:pt x="0" y="544"/>
                </a:moveTo>
                <a:cubicBezTo>
                  <a:pt x="152" y="480"/>
                  <a:pt x="304" y="416"/>
                  <a:pt x="432" y="352"/>
                </a:cubicBezTo>
                <a:cubicBezTo>
                  <a:pt x="560" y="288"/>
                  <a:pt x="656" y="216"/>
                  <a:pt x="768" y="160"/>
                </a:cubicBezTo>
                <a:cubicBezTo>
                  <a:pt x="880" y="104"/>
                  <a:pt x="1016" y="32"/>
                  <a:pt x="1104" y="16"/>
                </a:cubicBezTo>
                <a:cubicBezTo>
                  <a:pt x="1192" y="0"/>
                  <a:pt x="1208" y="40"/>
                  <a:pt x="1296" y="64"/>
                </a:cubicBezTo>
                <a:cubicBezTo>
                  <a:pt x="1384" y="88"/>
                  <a:pt x="1544" y="144"/>
                  <a:pt x="1632" y="160"/>
                </a:cubicBezTo>
                <a:cubicBezTo>
                  <a:pt x="1720" y="176"/>
                  <a:pt x="1776" y="160"/>
                  <a:pt x="1824" y="160"/>
                </a:cubicBezTo>
                <a:cubicBezTo>
                  <a:pt x="1872" y="160"/>
                  <a:pt x="1896" y="160"/>
                  <a:pt x="1920" y="16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0481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44" y="36"/>
                  <a:pt x="288" y="72"/>
                  <a:pt x="336" y="144"/>
                </a:cubicBezTo>
                <a:cubicBezTo>
                  <a:pt x="384" y="216"/>
                  <a:pt x="248" y="368"/>
                  <a:pt x="288" y="432"/>
                </a:cubicBezTo>
                <a:cubicBezTo>
                  <a:pt x="328" y="496"/>
                  <a:pt x="480" y="512"/>
                  <a:pt x="576" y="528"/>
                </a:cubicBezTo>
                <a:cubicBezTo>
                  <a:pt x="672" y="544"/>
                  <a:pt x="784" y="520"/>
                  <a:pt x="864" y="528"/>
                </a:cubicBezTo>
                <a:cubicBezTo>
                  <a:pt x="944" y="536"/>
                  <a:pt x="1000" y="556"/>
                  <a:pt x="1056" y="576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2895480"/>
            <a:ext cx="4419720" cy="3124440"/>
          </a:xfrm>
          <a:custGeom>
            <a:avLst/>
            <a:gdLst/>
            <a:ahLst/>
            <a:rect l="l" t="t" r="r" b="b"/>
            <a:pathLst>
              <a:path w="2784" h="1968">
                <a:moveTo>
                  <a:pt x="0" y="0"/>
                </a:moveTo>
                <a:cubicBezTo>
                  <a:pt x="164" y="60"/>
                  <a:pt x="328" y="120"/>
                  <a:pt x="480" y="240"/>
                </a:cubicBezTo>
                <a:cubicBezTo>
                  <a:pt x="632" y="360"/>
                  <a:pt x="784" y="544"/>
                  <a:pt x="912" y="720"/>
                </a:cubicBezTo>
                <a:cubicBezTo>
                  <a:pt x="1040" y="896"/>
                  <a:pt x="1160" y="1144"/>
                  <a:pt x="1248" y="1296"/>
                </a:cubicBezTo>
                <a:cubicBezTo>
                  <a:pt x="1336" y="1448"/>
                  <a:pt x="1376" y="1528"/>
                  <a:pt x="1440" y="1632"/>
                </a:cubicBezTo>
                <a:cubicBezTo>
                  <a:pt x="1504" y="1736"/>
                  <a:pt x="1528" y="1872"/>
                  <a:pt x="1632" y="1920"/>
                </a:cubicBezTo>
                <a:cubicBezTo>
                  <a:pt x="1736" y="1968"/>
                  <a:pt x="1920" y="1936"/>
                  <a:pt x="2064" y="1920"/>
                </a:cubicBezTo>
                <a:cubicBezTo>
                  <a:pt x="2208" y="1904"/>
                  <a:pt x="2376" y="1864"/>
                  <a:pt x="2496" y="1824"/>
                </a:cubicBezTo>
                <a:cubicBezTo>
                  <a:pt x="2616" y="1784"/>
                  <a:pt x="2700" y="1732"/>
                  <a:pt x="2784" y="168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124080" y="2286000"/>
            <a:ext cx="3657600" cy="4572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odus 14:21-22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n Moses stretched out his hand over the sea; and the Lord swept the sea back by a strong east wind all night, and turned the sea into dry land, so the waters were divi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the sons of Israel went through the midst of the sea on the dry land, and the waters were like a wall to them, on their right hand and on their left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990720"/>
            <a:ext cx="701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01-26T17:18:25Z</dcterms:modified>
  <cp:revision>392</cp:revision>
  <dc:subject/>
  <dc:title>Discipleship Across the Lifespan</dc:title>
</cp:coreProperties>
</file>