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63D-CA42-4915-B537-DED66D88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BD7-E363-4E8E-944B-D8862B14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207-C5CC-4BAF-8B33-F863CBCA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923-090D-4407-8C19-EA625979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8EE-CAFA-4DF2-AF46-5D077F4C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87E-7E97-427E-ACC4-7F1E271A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AB5-2E75-4144-9913-92F0BD4E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EFD-4B08-44A5-8ADD-9DB27B1A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AC4-5F43-4AD2-9BAC-40FD5793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815-B5E2-4C71-AF98-0DA4E77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AE2-A1EB-459C-8DB2-7E990702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07D-3B2B-404A-BF46-F62B5D86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F90B-2D61-4892-8FC5-0F0609549F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86000" y="5014800"/>
            <a:ext cx="464832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 Kingdom of Pri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676520"/>
            <a:ext cx="71625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wish Backgroun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61102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6415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ps by David P. Barrett, used by per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3720" y="2743200"/>
            <a:ext cx="426708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the Bi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189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5867280" y="5181480"/>
            <a:ext cx="21812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rd Centu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ynagog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7238880" y="5638680"/>
            <a:ext cx="1400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sul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77520" cy="6835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18760" y="182880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a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Galil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840" y="365760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egid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7240" y="3411360"/>
            <a:ext cx="1467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zare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5920" y="2752560"/>
            <a:ext cx="1349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ibe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19000" y="1468440"/>
            <a:ext cx="2125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apernau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8001000" cy="581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87520" y="365040"/>
            <a:ext cx="7970760" cy="612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304920"/>
            <a:ext cx="41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People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203480"/>
            <a:ext cx="3657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Deser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505320" y="228600"/>
            <a:ext cx="5333760" cy="6430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the LORD’S portion is His peopl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acob is the allotment of His inherita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He found him in a desert lan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in the howling waste of a wildernes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encircled him, He cared for hi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guarded him as the pupil of His eye. (Deuteronomy 32:9-1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3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48320" y="129528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alm of Davi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my shepher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hall not wa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14300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337824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Exodus 19:3-4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went up to God, and the LORD called to him from the mountain, saying, “Thus you shall say to the house of Jacob and tell the sons of Israel: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‘You yourselves have seen what I did to the Egyptians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ore you on eagles’ wings, and brought you to Myself.’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762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334120"/>
            <a:ext cx="2057400" cy="106884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d has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3:2a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239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makes me lie down in green pastures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14300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7619760" cy="39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3: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makes me lie down in green pasture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leads me beside quiet wat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14300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3: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stores my soul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guides me in the paths of righteous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His name’s sak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14300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5029200" cy="2998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3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360" y="129528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I walk through the valley of the shadow of deat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ar no evil, for You are with m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rod and Your staff, they comfort 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14300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1911240" cy="50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057560" y="2781360"/>
            <a:ext cx="8384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809880"/>
            <a:ext cx="990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67160" y="3809880"/>
            <a:ext cx="9907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3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90360" y="129528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I walk through the valley of the shadow of deat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ar no evil, for You are with m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rod and Your staff, they comfort 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2463840" cy="419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3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360" y="129528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ough I walk through the valley of the shadow of deat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ar no evil, for You are with m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rod and Your staff, they comfort 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1371600"/>
            <a:ext cx="228456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3: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prepare a table before me in the presence of my enemie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anointed my head with oil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cup over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14300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81080" y="3581280"/>
            <a:ext cx="4648320" cy="291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salm 23: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ely goodness and lovingkindness will follow me all the days of my lif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will dwell in the house of the LORD forev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-1727280"/>
            <a:ext cx="9144000" cy="8585280"/>
            <a:chOff x="0" y="-1727280"/>
            <a:chExt cx="9144000" cy="85852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0" y="-1714680"/>
              <a:ext cx="9144000" cy="857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873160" y="4006800"/>
              <a:ext cx="146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Nazaret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49160" y="1981080"/>
              <a:ext cx="2125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apernaum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 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4400" y="332100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Tiberi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78560" y="-990720"/>
              <a:ext cx="10447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Lais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(Dan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8640" y="-1727280"/>
              <a:ext cx="1533960" cy="13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aesare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hili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 0.24815 E">
                                      <p:cBhvr>
                                        <p:cTn id="8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9296640" cy="695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5638680"/>
            <a:ext cx="207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la Valle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Exodus 19:5-6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162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n, if you will indeed obey My voice and keep My covenant, then you shall be My own possession among all the peoples, for all the earth is Mine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you shall be to Me a kingdom of priests and a holy nation.’ These are the words that you shall speak to the sons of Israel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62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334120"/>
            <a:ext cx="2057400" cy="106884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d has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5334120"/>
            <a:ext cx="2286000" cy="106884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rael is to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5638680"/>
            <a:ext cx="762120" cy="457200"/>
          </a:xfrm>
          <a:prstGeom prst="rightArrow">
            <a:avLst>
              <a:gd name="adj1" fmla="val 35833"/>
              <a:gd name="adj2" fmla="val 71384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5334120"/>
            <a:ext cx="2057400" cy="106884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d will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5638680"/>
            <a:ext cx="762120" cy="457200"/>
          </a:xfrm>
          <a:prstGeom prst="rightArrow">
            <a:avLst>
              <a:gd name="adj1" fmla="val 35833"/>
              <a:gd name="adj2" fmla="val 71384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304920"/>
            <a:ext cx="3886200" cy="1373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 the king consulted, and made two golden calves(1 Kings 12:28 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4724280"/>
            <a:ext cx="3429000" cy="1800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 set one in Bethel, and the other he put in Dan (1 Kings 12:29 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85800" y="6858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tes of the 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85800" y="6858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tes of the 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685800" y="6858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tes of the 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2819520"/>
            <a:ext cx="3504960" cy="3506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r husband is known in the gat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he sits among the elders of the land. (Proverbs 31:2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85800" y="6858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tes of the 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819520"/>
            <a:ext cx="3504960" cy="3506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r husband is known in the gat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he sits among the elders of the land. (Proverbs 31:2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685800" y="6858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tes of the 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419720"/>
            <a:ext cx="571500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her the product of her hand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et her works praise her in the gates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roverbs 31:3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8585280"/>
            <a:chOff x="0" y="0"/>
            <a:chExt cx="9144000" cy="858528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0" y="12600"/>
              <a:ext cx="9144000" cy="857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873160" y="5734080"/>
              <a:ext cx="146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Nazaret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49160" y="3708360"/>
              <a:ext cx="2125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apernaum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 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4400" y="504828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Tiberi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8560" y="736560"/>
              <a:ext cx="10447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Lais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(Dan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8640" y="0"/>
              <a:ext cx="1533960" cy="13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Caesare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hili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610480" cy="553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066680" y="4989600"/>
            <a:ext cx="7162920" cy="1556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 cloud covered the tent of meeting, and the glory of the LORD filled the tabernacle (Exodus 40:3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8763120" cy="582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257800" y="380880"/>
            <a:ext cx="3581280" cy="5990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en Jesus came into the district of Caesarea Philippi, 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g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ing His disciples, saying, “Who do people say that the Son of Man is?” (Matthew 16: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4120" y="380880"/>
            <a:ext cx="3504960" cy="4382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said, “Som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the Baptist; and others, Elijah; but still others, Jeremiah, or one of the prophets.” (Matthew 16:1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533520"/>
            <a:ext cx="3504960" cy="4968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aid to them, “But who do you say that I am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Simon Peter answered and said, “You are the Christ, the Son of the living God.” (Matthew 16:15-1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9480" y="1787400"/>
            <a:ext cx="7848720" cy="2774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esus answered and said to him, “Blessed are you, Simon Barjona, because flesh and blood did not reveal this to you, but My Father who is in heaven.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tthew 16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943600" y="1600200"/>
            <a:ext cx="9144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00"/>
              </a:gs>
              <a:gs pos="100000">
                <a:srgbClr val="17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600200"/>
            <a:ext cx="12189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62120" y="3505320"/>
            <a:ext cx="3809520" cy="703440"/>
            <a:chOff x="762120" y="3505320"/>
            <a:chExt cx="3809520" cy="703440"/>
          </a:xfrm>
        </p:grpSpPr>
        <p:sp>
          <p:nvSpPr>
            <p:cNvPr id="175" name=""/>
            <p:cNvSpPr/>
            <p:nvPr/>
          </p:nvSpPr>
          <p:spPr>
            <a:xfrm>
              <a:off x="762120" y="3505320"/>
              <a:ext cx="365724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172f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3505320"/>
              <a:ext cx="167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Bwgrkl"/>
                </a:rPr>
                <a:t>Petroj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353088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</a:rPr>
                <a:t>Petro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2536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16:1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9907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also say to you that you are Peter, and upon this rock I will build My church; and the gates of Hades shall not overpower i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91116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00600" y="4114800"/>
            <a:ext cx="3505320" cy="703440"/>
            <a:chOff x="4800600" y="4114800"/>
            <a:chExt cx="3505320" cy="703440"/>
          </a:xfrm>
        </p:grpSpPr>
        <p:sp>
          <p:nvSpPr>
            <p:cNvPr id="182" name=""/>
            <p:cNvSpPr/>
            <p:nvPr/>
          </p:nvSpPr>
          <p:spPr>
            <a:xfrm>
              <a:off x="4800600" y="4130640"/>
              <a:ext cx="32004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00"/>
                </a:gs>
                <a:gs pos="100000">
                  <a:srgbClr val="17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0600" y="411480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Bwgrkl"/>
                </a:rPr>
                <a:t>Petr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3600" y="413064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</a:rPr>
                <a:t>Petr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41480" y="1905120"/>
            <a:ext cx="863640" cy="1600200"/>
          </a:xfrm>
          <a:custGeom>
            <a:avLst/>
            <a:gdLst/>
            <a:ahLst/>
            <a:rect l="l" t="t" r="r" b="b"/>
            <a:pathLst>
              <a:path w="544" h="1008">
                <a:moveTo>
                  <a:pt x="544" y="0"/>
                </a:moveTo>
                <a:cubicBezTo>
                  <a:pt x="508" y="52"/>
                  <a:pt x="472" y="104"/>
                  <a:pt x="400" y="144"/>
                </a:cubicBezTo>
                <a:cubicBezTo>
                  <a:pt x="328" y="184"/>
                  <a:pt x="176" y="176"/>
                  <a:pt x="112" y="240"/>
                </a:cubicBezTo>
                <a:cubicBezTo>
                  <a:pt x="48" y="304"/>
                  <a:pt x="32" y="400"/>
                  <a:pt x="16" y="528"/>
                </a:cubicBezTo>
                <a:cubicBezTo>
                  <a:pt x="0" y="656"/>
                  <a:pt x="8" y="832"/>
                  <a:pt x="16" y="10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21337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22536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tthew 16:1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9907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 also say to you that you are Peter, and upon this rock I will build My church; and the gates of Hades shall not overpower i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91116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7696080" cy="3197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228240"/>
            <a:ext cx="74678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ppened that when the priests came from the holy place, the cloud filled the house of the LORD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at the priests could not stand to minister because of the cloud, for the glory of the LORD filled the house of the LORD (1 Kings 8:10-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14600" y="3276720"/>
            <a:ext cx="4572000" cy="318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716040"/>
            <a:ext cx="8153280" cy="530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537840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4165560" cy="555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505320" y="457200"/>
            <a:ext cx="5333760" cy="400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6172200" y="5257800"/>
            <a:ext cx="21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ynagogu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6095880" y="228600"/>
            <a:ext cx="218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pernau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5-09-25T17:43:09Z</dcterms:modified>
  <cp:revision>321</cp:revision>
  <dc:subject/>
  <dc:title>Old Testament Survey</dc:title>
</cp:coreProperties>
</file>