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54B-2703-410F-927E-FFF3CAF5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3C8-0D5A-49B0-B9DF-B60A432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BC2-1ACB-432A-A061-80A4B85C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1D7-BEEE-4A51-8CB4-B63A75CA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62C-5E5E-4F30-AFD9-11E4798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3D0-3649-4D21-9867-FCDFD6B4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10B-357C-474B-9890-B927B9E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A97-5FBA-42F3-92FD-94B4FCBF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93F-6207-476F-9E37-68C80B7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9CC-8FAB-4510-9475-9A1698D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9EC-78B7-4E76-BC9C-5E13F69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89F-B951-4BBA-ACE6-5429331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1F8A-0C81-49F6-BB42-CAB972C01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6000" y="4876560"/>
            <a:ext cx="464832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eople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676520"/>
            <a:ext cx="71625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wish Backgrou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415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ps by David P. Barrett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2743200"/>
            <a:ext cx="4267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371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ntral Mountai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7621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oastal 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00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rdan Rift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76320" y="5638680"/>
            <a:ext cx="9372600" cy="1206720"/>
            <a:chOff x="-76320" y="5638680"/>
            <a:chExt cx="9372600" cy="1206720"/>
          </a:xfrm>
        </p:grpSpPr>
        <p:sp>
          <p:nvSpPr>
            <p:cNvPr id="105" name=""/>
            <p:cNvSpPr/>
            <p:nvPr/>
          </p:nvSpPr>
          <p:spPr>
            <a:xfrm>
              <a:off x="6477120" y="5702400"/>
              <a:ext cx="0" cy="761760"/>
            </a:xfrm>
            <a:prstGeom prst="line">
              <a:avLst/>
            </a:prstGeom>
            <a:ln w="7632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5702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53d1d1"/>
                </a:gs>
                <a:gs pos="50000">
                  <a:srgbClr val="66ffff"/>
                </a:gs>
                <a:gs pos="100000">
                  <a:srgbClr val="53d1d1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11880"/>
              <a:ext cx="3276720" cy="3808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4120" y="6616800"/>
              <a:ext cx="2133360" cy="2286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76320" y="5638680"/>
              <a:ext cx="9372600" cy="1206720"/>
            </a:xfrm>
            <a:custGeom>
              <a:avLst/>
              <a:gdLst/>
              <a:ahLst/>
              <a:rect l="l" t="t" r="r" b="b"/>
              <a:pathLst>
                <a:path w="5904" h="760">
                  <a:moveTo>
                    <a:pt x="0" y="664"/>
                  </a:moveTo>
                  <a:lnTo>
                    <a:pt x="0" y="568"/>
                  </a:lnTo>
                  <a:lnTo>
                    <a:pt x="238" y="568"/>
                  </a:lnTo>
                  <a:lnTo>
                    <a:pt x="809" y="568"/>
                  </a:lnTo>
                  <a:lnTo>
                    <a:pt x="1333" y="520"/>
                  </a:lnTo>
                  <a:lnTo>
                    <a:pt x="1714" y="472"/>
                  </a:lnTo>
                  <a:lnTo>
                    <a:pt x="1905" y="424"/>
                  </a:lnTo>
                  <a:cubicBezTo>
                    <a:pt x="1985" y="410"/>
                    <a:pt x="2116" y="395"/>
                    <a:pt x="2195" y="387"/>
                  </a:cubicBezTo>
                  <a:cubicBezTo>
                    <a:pt x="2274" y="379"/>
                    <a:pt x="2310" y="386"/>
                    <a:pt x="2381" y="376"/>
                  </a:cubicBezTo>
                  <a:cubicBezTo>
                    <a:pt x="2452" y="366"/>
                    <a:pt x="2524" y="336"/>
                    <a:pt x="2619" y="328"/>
                  </a:cubicBezTo>
                  <a:cubicBezTo>
                    <a:pt x="2714" y="320"/>
                    <a:pt x="2857" y="344"/>
                    <a:pt x="2952" y="328"/>
                  </a:cubicBezTo>
                  <a:cubicBezTo>
                    <a:pt x="3047" y="312"/>
                    <a:pt x="3142" y="248"/>
                    <a:pt x="3190" y="232"/>
                  </a:cubicBezTo>
                  <a:cubicBezTo>
                    <a:pt x="3238" y="216"/>
                    <a:pt x="3285" y="200"/>
                    <a:pt x="3333" y="184"/>
                  </a:cubicBezTo>
                  <a:cubicBezTo>
                    <a:pt x="3361" y="174"/>
                    <a:pt x="3328" y="166"/>
                    <a:pt x="3360" y="174"/>
                  </a:cubicBezTo>
                  <a:cubicBezTo>
                    <a:pt x="3392" y="182"/>
                    <a:pt x="3480" y="217"/>
                    <a:pt x="3523" y="232"/>
                  </a:cubicBezTo>
                  <a:cubicBezTo>
                    <a:pt x="3555" y="243"/>
                    <a:pt x="3590" y="248"/>
                    <a:pt x="3620" y="264"/>
                  </a:cubicBezTo>
                  <a:cubicBezTo>
                    <a:pt x="3627" y="268"/>
                    <a:pt x="3625" y="279"/>
                    <a:pt x="3628" y="286"/>
                  </a:cubicBezTo>
                  <a:cubicBezTo>
                    <a:pt x="3632" y="296"/>
                    <a:pt x="3642" y="316"/>
                    <a:pt x="3642" y="316"/>
                  </a:cubicBezTo>
                  <a:lnTo>
                    <a:pt x="3761" y="376"/>
                  </a:lnTo>
                  <a:lnTo>
                    <a:pt x="3857" y="520"/>
                  </a:lnTo>
                  <a:lnTo>
                    <a:pt x="3904" y="616"/>
                  </a:lnTo>
                  <a:cubicBezTo>
                    <a:pt x="3921" y="644"/>
                    <a:pt x="3936" y="671"/>
                    <a:pt x="3960" y="690"/>
                  </a:cubicBezTo>
                  <a:cubicBezTo>
                    <a:pt x="3984" y="698"/>
                    <a:pt x="4028" y="721"/>
                    <a:pt x="4050" y="728"/>
                  </a:cubicBezTo>
                  <a:cubicBezTo>
                    <a:pt x="4072" y="735"/>
                    <a:pt x="4070" y="739"/>
                    <a:pt x="4095" y="735"/>
                  </a:cubicBezTo>
                  <a:cubicBezTo>
                    <a:pt x="4120" y="731"/>
                    <a:pt x="4176" y="725"/>
                    <a:pt x="4200" y="705"/>
                  </a:cubicBezTo>
                  <a:cubicBezTo>
                    <a:pt x="4232" y="697"/>
                    <a:pt x="4222" y="640"/>
                    <a:pt x="4238" y="616"/>
                  </a:cubicBezTo>
                  <a:lnTo>
                    <a:pt x="4285" y="520"/>
                  </a:lnTo>
                  <a:lnTo>
                    <a:pt x="4428" y="376"/>
                  </a:lnTo>
                  <a:lnTo>
                    <a:pt x="4523" y="280"/>
                  </a:lnTo>
                  <a:lnTo>
                    <a:pt x="4666" y="184"/>
                  </a:lnTo>
                  <a:lnTo>
                    <a:pt x="4857" y="88"/>
                  </a:lnTo>
                  <a:lnTo>
                    <a:pt x="5142" y="88"/>
                  </a:lnTo>
                  <a:cubicBezTo>
                    <a:pt x="5221" y="96"/>
                    <a:pt x="5262" y="136"/>
                    <a:pt x="5333" y="136"/>
                  </a:cubicBezTo>
                  <a:cubicBezTo>
                    <a:pt x="5404" y="136"/>
                    <a:pt x="5500" y="88"/>
                    <a:pt x="5571" y="88"/>
                  </a:cubicBezTo>
                  <a:cubicBezTo>
                    <a:pt x="5642" y="88"/>
                    <a:pt x="5714" y="136"/>
                    <a:pt x="5761" y="136"/>
                  </a:cubicBezTo>
                  <a:cubicBezTo>
                    <a:pt x="5808" y="136"/>
                    <a:pt x="5832" y="0"/>
                    <a:pt x="5856" y="88"/>
                  </a:cubicBezTo>
                  <a:lnTo>
                    <a:pt x="5904" y="664"/>
                  </a:lnTo>
                  <a:lnTo>
                    <a:pt x="5856" y="760"/>
                  </a:lnTo>
                  <a:lnTo>
                    <a:pt x="3523" y="760"/>
                  </a:lnTo>
                  <a:lnTo>
                    <a:pt x="0" y="760"/>
                  </a:lnTo>
                  <a:lnTo>
                    <a:pt x="0" y="664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809880" y="54100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51055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3880" y="228600"/>
            <a:ext cx="4324320" cy="640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400800" y="55627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1371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ntral Mountai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7621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oastal 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300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rdan Rift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76320" y="5638680"/>
            <a:ext cx="9372600" cy="1206720"/>
            <a:chOff x="-76320" y="5638680"/>
            <a:chExt cx="9372600" cy="1206720"/>
          </a:xfrm>
        </p:grpSpPr>
        <p:sp>
          <p:nvSpPr>
            <p:cNvPr id="119" name=""/>
            <p:cNvSpPr/>
            <p:nvPr/>
          </p:nvSpPr>
          <p:spPr>
            <a:xfrm>
              <a:off x="6477120" y="5702400"/>
              <a:ext cx="0" cy="761760"/>
            </a:xfrm>
            <a:prstGeom prst="line">
              <a:avLst/>
            </a:prstGeom>
            <a:ln w="7632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702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53d1d1"/>
                </a:gs>
                <a:gs pos="50000">
                  <a:srgbClr val="66ffff"/>
                </a:gs>
                <a:gs pos="100000">
                  <a:srgbClr val="53d1d1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311880"/>
              <a:ext cx="3276720" cy="3808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6616800"/>
              <a:ext cx="2133360" cy="2286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6320" y="5638680"/>
              <a:ext cx="9372600" cy="1206720"/>
            </a:xfrm>
            <a:custGeom>
              <a:avLst/>
              <a:gdLst/>
              <a:ahLst/>
              <a:rect l="l" t="t" r="r" b="b"/>
              <a:pathLst>
                <a:path w="5904" h="760">
                  <a:moveTo>
                    <a:pt x="0" y="664"/>
                  </a:moveTo>
                  <a:lnTo>
                    <a:pt x="0" y="568"/>
                  </a:lnTo>
                  <a:lnTo>
                    <a:pt x="238" y="568"/>
                  </a:lnTo>
                  <a:lnTo>
                    <a:pt x="809" y="568"/>
                  </a:lnTo>
                  <a:lnTo>
                    <a:pt x="1333" y="520"/>
                  </a:lnTo>
                  <a:lnTo>
                    <a:pt x="1714" y="472"/>
                  </a:lnTo>
                  <a:lnTo>
                    <a:pt x="1905" y="424"/>
                  </a:lnTo>
                  <a:cubicBezTo>
                    <a:pt x="1985" y="410"/>
                    <a:pt x="2116" y="395"/>
                    <a:pt x="2195" y="387"/>
                  </a:cubicBezTo>
                  <a:cubicBezTo>
                    <a:pt x="2274" y="379"/>
                    <a:pt x="2310" y="386"/>
                    <a:pt x="2381" y="376"/>
                  </a:cubicBezTo>
                  <a:cubicBezTo>
                    <a:pt x="2452" y="366"/>
                    <a:pt x="2524" y="336"/>
                    <a:pt x="2619" y="328"/>
                  </a:cubicBezTo>
                  <a:cubicBezTo>
                    <a:pt x="2714" y="320"/>
                    <a:pt x="2857" y="344"/>
                    <a:pt x="2952" y="328"/>
                  </a:cubicBezTo>
                  <a:cubicBezTo>
                    <a:pt x="3047" y="312"/>
                    <a:pt x="3142" y="248"/>
                    <a:pt x="3190" y="232"/>
                  </a:cubicBezTo>
                  <a:cubicBezTo>
                    <a:pt x="3238" y="216"/>
                    <a:pt x="3285" y="200"/>
                    <a:pt x="3333" y="184"/>
                  </a:cubicBezTo>
                  <a:cubicBezTo>
                    <a:pt x="3361" y="174"/>
                    <a:pt x="3328" y="166"/>
                    <a:pt x="3360" y="174"/>
                  </a:cubicBezTo>
                  <a:cubicBezTo>
                    <a:pt x="3392" y="182"/>
                    <a:pt x="3480" y="217"/>
                    <a:pt x="3523" y="232"/>
                  </a:cubicBezTo>
                  <a:cubicBezTo>
                    <a:pt x="3555" y="243"/>
                    <a:pt x="3590" y="248"/>
                    <a:pt x="3620" y="264"/>
                  </a:cubicBezTo>
                  <a:cubicBezTo>
                    <a:pt x="3627" y="268"/>
                    <a:pt x="3625" y="279"/>
                    <a:pt x="3628" y="286"/>
                  </a:cubicBezTo>
                  <a:cubicBezTo>
                    <a:pt x="3632" y="296"/>
                    <a:pt x="3642" y="316"/>
                    <a:pt x="3642" y="316"/>
                  </a:cubicBezTo>
                  <a:lnTo>
                    <a:pt x="3761" y="376"/>
                  </a:lnTo>
                  <a:lnTo>
                    <a:pt x="3857" y="520"/>
                  </a:lnTo>
                  <a:lnTo>
                    <a:pt x="3904" y="616"/>
                  </a:lnTo>
                  <a:cubicBezTo>
                    <a:pt x="3921" y="644"/>
                    <a:pt x="3936" y="671"/>
                    <a:pt x="3960" y="690"/>
                  </a:cubicBezTo>
                  <a:cubicBezTo>
                    <a:pt x="3984" y="698"/>
                    <a:pt x="4028" y="721"/>
                    <a:pt x="4050" y="728"/>
                  </a:cubicBezTo>
                  <a:cubicBezTo>
                    <a:pt x="4072" y="735"/>
                    <a:pt x="4070" y="739"/>
                    <a:pt x="4095" y="735"/>
                  </a:cubicBezTo>
                  <a:cubicBezTo>
                    <a:pt x="4120" y="731"/>
                    <a:pt x="4176" y="725"/>
                    <a:pt x="4200" y="705"/>
                  </a:cubicBezTo>
                  <a:cubicBezTo>
                    <a:pt x="4232" y="697"/>
                    <a:pt x="4222" y="640"/>
                    <a:pt x="4238" y="616"/>
                  </a:cubicBezTo>
                  <a:lnTo>
                    <a:pt x="4285" y="520"/>
                  </a:lnTo>
                  <a:lnTo>
                    <a:pt x="4428" y="376"/>
                  </a:lnTo>
                  <a:lnTo>
                    <a:pt x="4523" y="280"/>
                  </a:lnTo>
                  <a:lnTo>
                    <a:pt x="4666" y="184"/>
                  </a:lnTo>
                  <a:lnTo>
                    <a:pt x="4857" y="88"/>
                  </a:lnTo>
                  <a:lnTo>
                    <a:pt x="5142" y="88"/>
                  </a:lnTo>
                  <a:cubicBezTo>
                    <a:pt x="5221" y="96"/>
                    <a:pt x="5262" y="136"/>
                    <a:pt x="5333" y="136"/>
                  </a:cubicBezTo>
                  <a:cubicBezTo>
                    <a:pt x="5404" y="136"/>
                    <a:pt x="5500" y="88"/>
                    <a:pt x="5571" y="88"/>
                  </a:cubicBezTo>
                  <a:cubicBezTo>
                    <a:pt x="5642" y="88"/>
                    <a:pt x="5714" y="136"/>
                    <a:pt x="5761" y="136"/>
                  </a:cubicBezTo>
                  <a:cubicBezTo>
                    <a:pt x="5808" y="136"/>
                    <a:pt x="5832" y="0"/>
                    <a:pt x="5856" y="88"/>
                  </a:cubicBezTo>
                  <a:lnTo>
                    <a:pt x="5904" y="664"/>
                  </a:lnTo>
                  <a:lnTo>
                    <a:pt x="5856" y="760"/>
                  </a:lnTo>
                  <a:lnTo>
                    <a:pt x="3523" y="760"/>
                  </a:lnTo>
                  <a:lnTo>
                    <a:pt x="0" y="760"/>
                  </a:lnTo>
                  <a:lnTo>
                    <a:pt x="0" y="664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09880" y="54100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1055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55627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4176720" cy="624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1371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ntral Mountai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7621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oastal 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300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rdan Rift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90988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 Jor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76320" y="5638680"/>
            <a:ext cx="9372600" cy="1206720"/>
            <a:chOff x="-76320" y="5638680"/>
            <a:chExt cx="9372600" cy="1206720"/>
          </a:xfrm>
        </p:grpSpPr>
        <p:sp>
          <p:nvSpPr>
            <p:cNvPr id="134" name=""/>
            <p:cNvSpPr/>
            <p:nvPr/>
          </p:nvSpPr>
          <p:spPr>
            <a:xfrm>
              <a:off x="6477120" y="5702400"/>
              <a:ext cx="0" cy="761760"/>
            </a:xfrm>
            <a:prstGeom prst="line">
              <a:avLst/>
            </a:prstGeom>
            <a:ln w="7632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5702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53d1d1"/>
                </a:gs>
                <a:gs pos="50000">
                  <a:srgbClr val="66ffff"/>
                </a:gs>
                <a:gs pos="100000">
                  <a:srgbClr val="53d1d1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311880"/>
              <a:ext cx="3276720" cy="3808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4120" y="6616800"/>
              <a:ext cx="2133360" cy="2286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6320" y="5638680"/>
              <a:ext cx="9372600" cy="1206720"/>
            </a:xfrm>
            <a:custGeom>
              <a:avLst/>
              <a:gdLst/>
              <a:ahLst/>
              <a:rect l="l" t="t" r="r" b="b"/>
              <a:pathLst>
                <a:path w="5904" h="760">
                  <a:moveTo>
                    <a:pt x="0" y="664"/>
                  </a:moveTo>
                  <a:lnTo>
                    <a:pt x="0" y="568"/>
                  </a:lnTo>
                  <a:lnTo>
                    <a:pt x="238" y="568"/>
                  </a:lnTo>
                  <a:lnTo>
                    <a:pt x="809" y="568"/>
                  </a:lnTo>
                  <a:lnTo>
                    <a:pt x="1333" y="520"/>
                  </a:lnTo>
                  <a:lnTo>
                    <a:pt x="1714" y="472"/>
                  </a:lnTo>
                  <a:lnTo>
                    <a:pt x="1905" y="424"/>
                  </a:lnTo>
                  <a:cubicBezTo>
                    <a:pt x="1985" y="410"/>
                    <a:pt x="2116" y="395"/>
                    <a:pt x="2195" y="387"/>
                  </a:cubicBezTo>
                  <a:cubicBezTo>
                    <a:pt x="2274" y="379"/>
                    <a:pt x="2310" y="386"/>
                    <a:pt x="2381" y="376"/>
                  </a:cubicBezTo>
                  <a:cubicBezTo>
                    <a:pt x="2452" y="366"/>
                    <a:pt x="2524" y="336"/>
                    <a:pt x="2619" y="328"/>
                  </a:cubicBezTo>
                  <a:cubicBezTo>
                    <a:pt x="2714" y="320"/>
                    <a:pt x="2857" y="344"/>
                    <a:pt x="2952" y="328"/>
                  </a:cubicBezTo>
                  <a:cubicBezTo>
                    <a:pt x="3047" y="312"/>
                    <a:pt x="3142" y="248"/>
                    <a:pt x="3190" y="232"/>
                  </a:cubicBezTo>
                  <a:cubicBezTo>
                    <a:pt x="3238" y="216"/>
                    <a:pt x="3285" y="200"/>
                    <a:pt x="3333" y="184"/>
                  </a:cubicBezTo>
                  <a:cubicBezTo>
                    <a:pt x="3361" y="174"/>
                    <a:pt x="3328" y="166"/>
                    <a:pt x="3360" y="174"/>
                  </a:cubicBezTo>
                  <a:cubicBezTo>
                    <a:pt x="3392" y="182"/>
                    <a:pt x="3480" y="217"/>
                    <a:pt x="3523" y="232"/>
                  </a:cubicBezTo>
                  <a:cubicBezTo>
                    <a:pt x="3555" y="243"/>
                    <a:pt x="3590" y="248"/>
                    <a:pt x="3620" y="264"/>
                  </a:cubicBezTo>
                  <a:cubicBezTo>
                    <a:pt x="3627" y="268"/>
                    <a:pt x="3625" y="279"/>
                    <a:pt x="3628" y="286"/>
                  </a:cubicBezTo>
                  <a:cubicBezTo>
                    <a:pt x="3632" y="296"/>
                    <a:pt x="3642" y="316"/>
                    <a:pt x="3642" y="316"/>
                  </a:cubicBezTo>
                  <a:lnTo>
                    <a:pt x="3761" y="376"/>
                  </a:lnTo>
                  <a:lnTo>
                    <a:pt x="3857" y="520"/>
                  </a:lnTo>
                  <a:lnTo>
                    <a:pt x="3904" y="616"/>
                  </a:lnTo>
                  <a:cubicBezTo>
                    <a:pt x="3921" y="644"/>
                    <a:pt x="3936" y="671"/>
                    <a:pt x="3960" y="690"/>
                  </a:cubicBezTo>
                  <a:cubicBezTo>
                    <a:pt x="3984" y="698"/>
                    <a:pt x="4028" y="721"/>
                    <a:pt x="4050" y="728"/>
                  </a:cubicBezTo>
                  <a:cubicBezTo>
                    <a:pt x="4072" y="735"/>
                    <a:pt x="4070" y="739"/>
                    <a:pt x="4095" y="735"/>
                  </a:cubicBezTo>
                  <a:cubicBezTo>
                    <a:pt x="4120" y="731"/>
                    <a:pt x="4176" y="725"/>
                    <a:pt x="4200" y="705"/>
                  </a:cubicBezTo>
                  <a:cubicBezTo>
                    <a:pt x="4232" y="697"/>
                    <a:pt x="4222" y="640"/>
                    <a:pt x="4238" y="616"/>
                  </a:cubicBezTo>
                  <a:lnTo>
                    <a:pt x="4285" y="520"/>
                  </a:lnTo>
                  <a:lnTo>
                    <a:pt x="4428" y="376"/>
                  </a:lnTo>
                  <a:lnTo>
                    <a:pt x="4523" y="280"/>
                  </a:lnTo>
                  <a:lnTo>
                    <a:pt x="4666" y="184"/>
                  </a:lnTo>
                  <a:lnTo>
                    <a:pt x="4857" y="88"/>
                  </a:lnTo>
                  <a:lnTo>
                    <a:pt x="5142" y="88"/>
                  </a:lnTo>
                  <a:cubicBezTo>
                    <a:pt x="5221" y="96"/>
                    <a:pt x="5262" y="136"/>
                    <a:pt x="5333" y="136"/>
                  </a:cubicBezTo>
                  <a:cubicBezTo>
                    <a:pt x="5404" y="136"/>
                    <a:pt x="5500" y="88"/>
                    <a:pt x="5571" y="88"/>
                  </a:cubicBezTo>
                  <a:cubicBezTo>
                    <a:pt x="5642" y="88"/>
                    <a:pt x="5714" y="136"/>
                    <a:pt x="5761" y="136"/>
                  </a:cubicBezTo>
                  <a:cubicBezTo>
                    <a:pt x="5808" y="136"/>
                    <a:pt x="5832" y="0"/>
                    <a:pt x="5856" y="88"/>
                  </a:cubicBezTo>
                  <a:lnTo>
                    <a:pt x="5904" y="664"/>
                  </a:lnTo>
                  <a:lnTo>
                    <a:pt x="5856" y="760"/>
                  </a:lnTo>
                  <a:lnTo>
                    <a:pt x="3523" y="760"/>
                  </a:lnTo>
                  <a:lnTo>
                    <a:pt x="0" y="760"/>
                  </a:lnTo>
                  <a:lnTo>
                    <a:pt x="0" y="664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809880" y="54100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51055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49528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55627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609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jor Roa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82880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King’s High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048120"/>
            <a:ext cx="327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ay of the Sea (the Way of the Philisti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0"/>
            <a:ext cx="681120" cy="7443720"/>
          </a:xfrm>
          <a:custGeom>
            <a:avLst/>
            <a:gdLst/>
            <a:ahLst/>
            <a:rect l="l" t="t" r="r" b="b"/>
            <a:pathLst>
              <a:path w="429" h="4689">
                <a:moveTo>
                  <a:pt x="429" y="0"/>
                </a:moveTo>
                <a:cubicBezTo>
                  <a:pt x="414" y="15"/>
                  <a:pt x="391" y="25"/>
                  <a:pt x="384" y="45"/>
                </a:cubicBezTo>
                <a:cubicBezTo>
                  <a:pt x="376" y="68"/>
                  <a:pt x="370" y="95"/>
                  <a:pt x="351" y="112"/>
                </a:cubicBezTo>
                <a:cubicBezTo>
                  <a:pt x="307" y="151"/>
                  <a:pt x="264" y="158"/>
                  <a:pt x="218" y="189"/>
                </a:cubicBezTo>
                <a:cubicBezTo>
                  <a:pt x="190" y="232"/>
                  <a:pt x="195" y="249"/>
                  <a:pt x="151" y="278"/>
                </a:cubicBezTo>
                <a:cubicBezTo>
                  <a:pt x="124" y="361"/>
                  <a:pt x="160" y="262"/>
                  <a:pt x="118" y="345"/>
                </a:cubicBezTo>
                <a:cubicBezTo>
                  <a:pt x="108" y="365"/>
                  <a:pt x="102" y="403"/>
                  <a:pt x="96" y="423"/>
                </a:cubicBezTo>
                <a:cubicBezTo>
                  <a:pt x="89" y="445"/>
                  <a:pt x="80" y="467"/>
                  <a:pt x="73" y="489"/>
                </a:cubicBezTo>
                <a:cubicBezTo>
                  <a:pt x="69" y="500"/>
                  <a:pt x="62" y="523"/>
                  <a:pt x="62" y="523"/>
                </a:cubicBezTo>
                <a:cubicBezTo>
                  <a:pt x="73" y="568"/>
                  <a:pt x="80" y="613"/>
                  <a:pt x="96" y="656"/>
                </a:cubicBezTo>
                <a:cubicBezTo>
                  <a:pt x="80" y="789"/>
                  <a:pt x="65" y="904"/>
                  <a:pt x="107" y="1034"/>
                </a:cubicBezTo>
                <a:cubicBezTo>
                  <a:pt x="110" y="1203"/>
                  <a:pt x="25" y="1522"/>
                  <a:pt x="151" y="1711"/>
                </a:cubicBezTo>
                <a:cubicBezTo>
                  <a:pt x="184" y="1814"/>
                  <a:pt x="144" y="1920"/>
                  <a:pt x="207" y="2011"/>
                </a:cubicBezTo>
                <a:cubicBezTo>
                  <a:pt x="226" y="2070"/>
                  <a:pt x="221" y="2131"/>
                  <a:pt x="240" y="2189"/>
                </a:cubicBezTo>
                <a:cubicBezTo>
                  <a:pt x="236" y="2263"/>
                  <a:pt x="236" y="2337"/>
                  <a:pt x="229" y="2411"/>
                </a:cubicBezTo>
                <a:cubicBezTo>
                  <a:pt x="221" y="2491"/>
                  <a:pt x="192" y="2558"/>
                  <a:pt x="173" y="2634"/>
                </a:cubicBezTo>
                <a:cubicBezTo>
                  <a:pt x="165" y="2666"/>
                  <a:pt x="158" y="2729"/>
                  <a:pt x="140" y="2756"/>
                </a:cubicBezTo>
                <a:cubicBezTo>
                  <a:pt x="112" y="2799"/>
                  <a:pt x="122" y="2776"/>
                  <a:pt x="107" y="2822"/>
                </a:cubicBezTo>
                <a:cubicBezTo>
                  <a:pt x="109" y="2881"/>
                  <a:pt x="118" y="3511"/>
                  <a:pt x="151" y="3611"/>
                </a:cubicBezTo>
                <a:cubicBezTo>
                  <a:pt x="170" y="3786"/>
                  <a:pt x="165" y="3692"/>
                  <a:pt x="151" y="3956"/>
                </a:cubicBezTo>
                <a:cubicBezTo>
                  <a:pt x="148" y="4011"/>
                  <a:pt x="145" y="4067"/>
                  <a:pt x="140" y="4122"/>
                </a:cubicBezTo>
                <a:cubicBezTo>
                  <a:pt x="138" y="4141"/>
                  <a:pt x="134" y="4160"/>
                  <a:pt x="129" y="4178"/>
                </a:cubicBezTo>
                <a:cubicBezTo>
                  <a:pt x="123" y="4201"/>
                  <a:pt x="107" y="4245"/>
                  <a:pt x="107" y="4245"/>
                </a:cubicBezTo>
                <a:cubicBezTo>
                  <a:pt x="94" y="4350"/>
                  <a:pt x="54" y="4443"/>
                  <a:pt x="29" y="4545"/>
                </a:cubicBezTo>
                <a:cubicBezTo>
                  <a:pt x="17" y="4675"/>
                  <a:pt x="0" y="4630"/>
                  <a:pt x="29" y="4689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11080"/>
            <a:ext cx="8015400" cy="6046920"/>
          </a:xfrm>
          <a:custGeom>
            <a:avLst/>
            <a:gdLst/>
            <a:ahLst/>
            <a:rect l="l" t="t" r="r" b="b"/>
            <a:pathLst>
              <a:path w="5049" h="3809">
                <a:moveTo>
                  <a:pt x="5049" y="0"/>
                </a:moveTo>
                <a:cubicBezTo>
                  <a:pt x="4980" y="103"/>
                  <a:pt x="4862" y="133"/>
                  <a:pt x="4749" y="167"/>
                </a:cubicBezTo>
                <a:cubicBezTo>
                  <a:pt x="4711" y="179"/>
                  <a:pt x="4677" y="201"/>
                  <a:pt x="4638" y="211"/>
                </a:cubicBezTo>
                <a:cubicBezTo>
                  <a:pt x="4587" y="223"/>
                  <a:pt x="4534" y="224"/>
                  <a:pt x="4483" y="233"/>
                </a:cubicBezTo>
                <a:cubicBezTo>
                  <a:pt x="4411" y="305"/>
                  <a:pt x="4514" y="209"/>
                  <a:pt x="4427" y="267"/>
                </a:cubicBezTo>
                <a:cubicBezTo>
                  <a:pt x="4345" y="321"/>
                  <a:pt x="4440" y="285"/>
                  <a:pt x="4360" y="311"/>
                </a:cubicBezTo>
                <a:cubicBezTo>
                  <a:pt x="4349" y="318"/>
                  <a:pt x="4337" y="325"/>
                  <a:pt x="4327" y="333"/>
                </a:cubicBezTo>
                <a:cubicBezTo>
                  <a:pt x="4319" y="340"/>
                  <a:pt x="4313" y="350"/>
                  <a:pt x="4305" y="356"/>
                </a:cubicBezTo>
                <a:cubicBezTo>
                  <a:pt x="4284" y="372"/>
                  <a:pt x="4238" y="400"/>
                  <a:pt x="4238" y="400"/>
                </a:cubicBezTo>
                <a:cubicBezTo>
                  <a:pt x="4210" y="443"/>
                  <a:pt x="4178" y="479"/>
                  <a:pt x="4149" y="522"/>
                </a:cubicBezTo>
                <a:cubicBezTo>
                  <a:pt x="4141" y="533"/>
                  <a:pt x="4127" y="556"/>
                  <a:pt x="4127" y="556"/>
                </a:cubicBezTo>
                <a:cubicBezTo>
                  <a:pt x="4112" y="615"/>
                  <a:pt x="4102" y="621"/>
                  <a:pt x="4071" y="667"/>
                </a:cubicBezTo>
                <a:cubicBezTo>
                  <a:pt x="4042" y="710"/>
                  <a:pt x="4059" y="707"/>
                  <a:pt x="4027" y="744"/>
                </a:cubicBezTo>
                <a:cubicBezTo>
                  <a:pt x="4010" y="764"/>
                  <a:pt x="3986" y="778"/>
                  <a:pt x="3971" y="800"/>
                </a:cubicBezTo>
                <a:cubicBezTo>
                  <a:pt x="3940" y="846"/>
                  <a:pt x="3914" y="872"/>
                  <a:pt x="3860" y="889"/>
                </a:cubicBezTo>
                <a:cubicBezTo>
                  <a:pt x="3828" y="937"/>
                  <a:pt x="3812" y="927"/>
                  <a:pt x="3760" y="944"/>
                </a:cubicBezTo>
                <a:cubicBezTo>
                  <a:pt x="3729" y="976"/>
                  <a:pt x="3699" y="972"/>
                  <a:pt x="3660" y="989"/>
                </a:cubicBezTo>
                <a:cubicBezTo>
                  <a:pt x="3592" y="1018"/>
                  <a:pt x="3636" y="1011"/>
                  <a:pt x="3549" y="1033"/>
                </a:cubicBezTo>
                <a:cubicBezTo>
                  <a:pt x="3530" y="1038"/>
                  <a:pt x="3490" y="1046"/>
                  <a:pt x="3471" y="1056"/>
                </a:cubicBezTo>
                <a:cubicBezTo>
                  <a:pt x="3397" y="1093"/>
                  <a:pt x="3483" y="1067"/>
                  <a:pt x="3394" y="1089"/>
                </a:cubicBezTo>
                <a:cubicBezTo>
                  <a:pt x="3359" y="1112"/>
                  <a:pt x="3344" y="1137"/>
                  <a:pt x="3316" y="1167"/>
                </a:cubicBezTo>
                <a:cubicBezTo>
                  <a:pt x="3297" y="1225"/>
                  <a:pt x="3283" y="1282"/>
                  <a:pt x="3249" y="1333"/>
                </a:cubicBezTo>
                <a:cubicBezTo>
                  <a:pt x="3245" y="1344"/>
                  <a:pt x="3243" y="1356"/>
                  <a:pt x="3238" y="1367"/>
                </a:cubicBezTo>
                <a:cubicBezTo>
                  <a:pt x="3232" y="1379"/>
                  <a:pt x="3220" y="1388"/>
                  <a:pt x="3216" y="1400"/>
                </a:cubicBezTo>
                <a:cubicBezTo>
                  <a:pt x="3206" y="1429"/>
                  <a:pt x="3201" y="1459"/>
                  <a:pt x="3194" y="1489"/>
                </a:cubicBezTo>
                <a:cubicBezTo>
                  <a:pt x="3180" y="1544"/>
                  <a:pt x="3159" y="1575"/>
                  <a:pt x="3138" y="1622"/>
                </a:cubicBezTo>
                <a:cubicBezTo>
                  <a:pt x="3117" y="1669"/>
                  <a:pt x="3109" y="1718"/>
                  <a:pt x="3094" y="1767"/>
                </a:cubicBezTo>
                <a:cubicBezTo>
                  <a:pt x="3079" y="1815"/>
                  <a:pt x="3063" y="1863"/>
                  <a:pt x="3049" y="1911"/>
                </a:cubicBezTo>
                <a:cubicBezTo>
                  <a:pt x="3042" y="1934"/>
                  <a:pt x="3027" y="1978"/>
                  <a:pt x="3027" y="1978"/>
                </a:cubicBezTo>
                <a:cubicBezTo>
                  <a:pt x="3018" y="2042"/>
                  <a:pt x="3017" y="2072"/>
                  <a:pt x="2982" y="2122"/>
                </a:cubicBezTo>
                <a:cubicBezTo>
                  <a:pt x="2961" y="2207"/>
                  <a:pt x="2932" y="2269"/>
                  <a:pt x="2894" y="2344"/>
                </a:cubicBezTo>
                <a:cubicBezTo>
                  <a:pt x="2872" y="2386"/>
                  <a:pt x="2864" y="2444"/>
                  <a:pt x="2849" y="2489"/>
                </a:cubicBezTo>
                <a:cubicBezTo>
                  <a:pt x="2829" y="2551"/>
                  <a:pt x="2771" y="2662"/>
                  <a:pt x="2723" y="2710"/>
                </a:cubicBezTo>
                <a:cubicBezTo>
                  <a:pt x="2682" y="2778"/>
                  <a:pt x="2645" y="2837"/>
                  <a:pt x="2603" y="2897"/>
                </a:cubicBezTo>
                <a:cubicBezTo>
                  <a:pt x="2561" y="2957"/>
                  <a:pt x="2520" y="3017"/>
                  <a:pt x="2469" y="3069"/>
                </a:cubicBezTo>
                <a:cubicBezTo>
                  <a:pt x="2417" y="3108"/>
                  <a:pt x="2380" y="3166"/>
                  <a:pt x="2297" y="3211"/>
                </a:cubicBezTo>
                <a:cubicBezTo>
                  <a:pt x="2271" y="3249"/>
                  <a:pt x="2111" y="3320"/>
                  <a:pt x="2073" y="3346"/>
                </a:cubicBezTo>
                <a:cubicBezTo>
                  <a:pt x="2017" y="3433"/>
                  <a:pt x="1785" y="3439"/>
                  <a:pt x="1713" y="3510"/>
                </a:cubicBezTo>
                <a:cubicBezTo>
                  <a:pt x="1662" y="3560"/>
                  <a:pt x="791" y="3728"/>
                  <a:pt x="726" y="3750"/>
                </a:cubicBezTo>
                <a:cubicBezTo>
                  <a:pt x="697" y="3779"/>
                  <a:pt x="28" y="3781"/>
                  <a:pt x="0" y="3809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187880"/>
            <a:ext cx="3413160" cy="561960"/>
          </a:xfrm>
          <a:custGeom>
            <a:avLst/>
            <a:gdLst/>
            <a:ahLst/>
            <a:rect l="l" t="t" r="r" b="b"/>
            <a:pathLst>
              <a:path w="1756" h="354">
                <a:moveTo>
                  <a:pt x="1756" y="244"/>
                </a:moveTo>
                <a:cubicBezTo>
                  <a:pt x="1701" y="226"/>
                  <a:pt x="1705" y="222"/>
                  <a:pt x="1623" y="244"/>
                </a:cubicBezTo>
                <a:cubicBezTo>
                  <a:pt x="1613" y="247"/>
                  <a:pt x="1609" y="261"/>
                  <a:pt x="1600" y="266"/>
                </a:cubicBezTo>
                <a:cubicBezTo>
                  <a:pt x="1590" y="272"/>
                  <a:pt x="1578" y="273"/>
                  <a:pt x="1567" y="277"/>
                </a:cubicBezTo>
                <a:cubicBezTo>
                  <a:pt x="1515" y="354"/>
                  <a:pt x="1468" y="308"/>
                  <a:pt x="1389" y="299"/>
                </a:cubicBezTo>
                <a:cubicBezTo>
                  <a:pt x="1345" y="294"/>
                  <a:pt x="1300" y="292"/>
                  <a:pt x="1256" y="288"/>
                </a:cubicBezTo>
                <a:cubicBezTo>
                  <a:pt x="1245" y="284"/>
                  <a:pt x="1234" y="279"/>
                  <a:pt x="1223" y="277"/>
                </a:cubicBezTo>
                <a:cubicBezTo>
                  <a:pt x="1194" y="272"/>
                  <a:pt x="1163" y="273"/>
                  <a:pt x="1134" y="266"/>
                </a:cubicBezTo>
                <a:cubicBezTo>
                  <a:pt x="1107" y="259"/>
                  <a:pt x="1083" y="240"/>
                  <a:pt x="1056" y="233"/>
                </a:cubicBezTo>
                <a:cubicBezTo>
                  <a:pt x="965" y="210"/>
                  <a:pt x="871" y="197"/>
                  <a:pt x="778" y="188"/>
                </a:cubicBezTo>
                <a:cubicBezTo>
                  <a:pt x="650" y="162"/>
                  <a:pt x="514" y="157"/>
                  <a:pt x="389" y="199"/>
                </a:cubicBezTo>
                <a:cubicBezTo>
                  <a:pt x="344" y="192"/>
                  <a:pt x="320" y="197"/>
                  <a:pt x="289" y="166"/>
                </a:cubicBezTo>
                <a:cubicBezTo>
                  <a:pt x="264" y="141"/>
                  <a:pt x="263" y="102"/>
                  <a:pt x="222" y="88"/>
                </a:cubicBezTo>
                <a:cubicBezTo>
                  <a:pt x="200" y="81"/>
                  <a:pt x="156" y="66"/>
                  <a:pt x="156" y="66"/>
                </a:cubicBezTo>
                <a:cubicBezTo>
                  <a:pt x="112" y="0"/>
                  <a:pt x="69" y="10"/>
                  <a:pt x="0" y="1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94880" y="38862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0360" y="220968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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Megid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3" dur="1" fill="hold"/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828800" y="304920"/>
            <a:ext cx="55436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imate of Cana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anua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1828800"/>
            <a:ext cx="5029200" cy="4572000"/>
          </a:xfrm>
          <a:prstGeom prst="donut">
            <a:avLst>
              <a:gd name="adj" fmla="val 19652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8440" y="1644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219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95840" y="6172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6415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98108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809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01028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382572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71800" y="2438280"/>
            <a:ext cx="350532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iny S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5320" y="525780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y S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28638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Arial"/>
              </a:rPr>
              <a:t>Early 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287964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Arial"/>
              </a:rPr>
              <a:t>Latter 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4572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cient Calenda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2743200"/>
            <a:ext cx="281916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76520"/>
            <a:ext cx="2819160" cy="10206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nglish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743200"/>
            <a:ext cx="281952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1676520"/>
            <a:ext cx="2819520" cy="10206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tin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2743200"/>
            <a:ext cx="228600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1676520"/>
            <a:ext cx="2286000" cy="10206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581280"/>
            <a:ext cx="2819160" cy="838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581280"/>
            <a:ext cx="2819520" cy="838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581280"/>
            <a:ext cx="2286000" cy="838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419720"/>
            <a:ext cx="281916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4419720"/>
            <a:ext cx="281952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419720"/>
            <a:ext cx="228600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257800"/>
            <a:ext cx="281916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5257800"/>
            <a:ext cx="281952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5257800"/>
            <a:ext cx="2286000" cy="838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4572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cient Calenda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438280"/>
            <a:ext cx="2667240" cy="18288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gious Calenda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438280"/>
            <a:ext cx="2666880" cy="18288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17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Calen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3200400"/>
            <a:ext cx="2057400" cy="380880"/>
          </a:xfrm>
          <a:prstGeom prst="leftRightArrow">
            <a:avLst>
              <a:gd name="adj1" fmla="val 50000"/>
              <a:gd name="adj2" fmla="val 107534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ear begins in the 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6483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ear begins in the F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eviticus 23:1-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01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poke again to Moses, sayi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Speak to the sons of Israel and say to them, ‘The LORD'S appointed times which you shall proclaim as holy convocations-- My appointed times are these:’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9907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05320" y="2187720"/>
            <a:ext cx="289548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3124080"/>
            <a:ext cx="1600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720" y="2166840"/>
            <a:ext cx="16761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eviticus 23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66680" y="1142640"/>
            <a:ext cx="701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ix days work may be done, but on the seventh day there is a sabbath of complete rest, a holy convocation. You shall not do any work; it is a sabbath to the LORD in all your dwell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9907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143000" y="4403880"/>
            <a:ext cx="3862440" cy="1922760"/>
            <a:chOff x="1143000" y="4403880"/>
            <a:chExt cx="3862440" cy="1922760"/>
          </a:xfrm>
        </p:grpSpPr>
        <p:sp>
          <p:nvSpPr>
            <p:cNvPr id="199" name=""/>
            <p:cNvSpPr/>
            <p:nvPr/>
          </p:nvSpPr>
          <p:spPr>
            <a:xfrm>
              <a:off x="1143000" y="4556160"/>
              <a:ext cx="381024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4403880"/>
              <a:ext cx="1371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tB'v;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38560" y="460044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habbat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981080" y="5562720"/>
            <a:ext cx="4735800" cy="2837160"/>
            <a:chOff x="1981080" y="5562720"/>
            <a:chExt cx="4735800" cy="2837160"/>
          </a:xfrm>
        </p:grpSpPr>
        <p:sp>
          <p:nvSpPr>
            <p:cNvPr id="203" name=""/>
            <p:cNvSpPr/>
            <p:nvPr/>
          </p:nvSpPr>
          <p:spPr>
            <a:xfrm>
              <a:off x="2057400" y="5715000"/>
              <a:ext cx="4572000" cy="83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1080" y="5562720"/>
              <a:ext cx="1828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!AtB'v;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6480" y="57592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ccffff"/>
                  </a:solidFill>
                  <a:latin typeface="Arial"/>
                </a:rPr>
                <a:t>Shabbatho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2743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so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066680"/>
            <a:ext cx="27432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leavened B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124080"/>
            <a:ext cx="2743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tec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038480"/>
            <a:ext cx="2743200" cy="838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mp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876920"/>
            <a:ext cx="2743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n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5791320"/>
            <a:ext cx="2743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ot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09680"/>
            <a:ext cx="2743200" cy="914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Fru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52280"/>
            <a:ext cx="1676520" cy="388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 Fe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038480"/>
            <a:ext cx="1676520" cy="2667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Fe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52280"/>
            <a:ext cx="419076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ance from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1066680"/>
            <a:ext cx="419076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impurities of old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3124080"/>
            <a:ext cx="419076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Spirit (giving of the Coven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4038480"/>
            <a:ext cx="4190760" cy="838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ivil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876920"/>
            <a:ext cx="419076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nement for the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5791320"/>
            <a:ext cx="419076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dwelling with Hi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209680"/>
            <a:ext cx="4190760" cy="914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 of new life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r. John Stevens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2712600"/>
            <a:ext cx="67820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ohnStevenson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tevenson@Bellsouth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san/Ab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762120"/>
            <a:ext cx="2209680" cy="533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yy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29528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m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362320"/>
            <a:ext cx="2209680" cy="533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89548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42900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h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962520"/>
            <a:ext cx="2209680" cy="533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es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49568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l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02920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b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5562720"/>
            <a:ext cx="2209680" cy="5331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6095880"/>
            <a:ext cx="2209680" cy="533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22860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762120"/>
            <a:ext cx="609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129528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320" y="182880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2362320"/>
            <a:ext cx="609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320" y="289548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342900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3962520"/>
            <a:ext cx="609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449568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502920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5562720"/>
            <a:ext cx="6094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6095880"/>
            <a:ext cx="6094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22860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-Apr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762120"/>
            <a:ext cx="205740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-M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129528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-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82880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-Ju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2362320"/>
            <a:ext cx="205740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-A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289548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-S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42900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-O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3962520"/>
            <a:ext cx="205740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-No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49568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-D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02920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-J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5562720"/>
            <a:ext cx="205740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-Fe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6095880"/>
            <a:ext cx="205740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-M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2860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762120"/>
            <a:ext cx="259056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129528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te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182880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362320"/>
            <a:ext cx="259056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f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289548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342900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ppur/Boo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962520"/>
            <a:ext cx="259056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7120" y="449568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uk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77120" y="502920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562720"/>
            <a:ext cx="2590560" cy="5331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6095880"/>
            <a:ext cx="259056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228600"/>
            <a:ext cx="1524240" cy="533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762120"/>
            <a:ext cx="1524240" cy="3200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y 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3962520"/>
            <a:ext cx="1524240" cy="2666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y 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48320" y="106632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stern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stern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2819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v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819520"/>
            <a:ext cx="4038480" cy="99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8320" y="571500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/ Sh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71500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/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380988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ss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80988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380880"/>
            <a:ext cx="76485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ern versus Western Thin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78476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784760"/>
            <a:ext cx="4038480" cy="990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5989680"/>
            <a:ext cx="2133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ursing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5720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l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129528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l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9907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191120"/>
            <a:ext cx="2133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Na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038480" y="2438280"/>
            <a:ext cx="12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n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038480" y="3429000"/>
            <a:ext cx="12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40000"/>
                    </a:gs>
                    <a:gs pos="50000">
                      <a:srgbClr val="ffffff"/>
                    </a:gs>
                    <a:gs pos="100000">
                      <a:srgbClr val="64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ha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40000"/>
                  </a:gs>
                  <a:gs pos="50000">
                    <a:srgbClr val="ffffff"/>
                  </a:gs>
                  <a:gs pos="100000">
                    <a:srgbClr val="64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2057400"/>
            <a:ext cx="2514600" cy="23623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105520"/>
            <a:ext cx="2133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ruc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39625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ent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4572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16765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29400" y="35053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ef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4572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19051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429000"/>
            <a:ext cx="2133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nc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55627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598968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mp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45720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ef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598968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um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8006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67080" y="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75248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-152280"/>
            <a:ext cx="2133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129528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9907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l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33412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ild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6576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r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2286000"/>
            <a:ext cx="2133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ruit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48320" y="106632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stern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06668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stern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281952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concret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81952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propositional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380880"/>
            <a:ext cx="76485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ern versus Western Thin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19320" y="4724280"/>
            <a:ext cx="6781680" cy="1523880"/>
            <a:chOff x="1219320" y="4724280"/>
            <a:chExt cx="6781680" cy="1523880"/>
          </a:xfrm>
        </p:grpSpPr>
        <p:sp>
          <p:nvSpPr>
            <p:cNvPr id="322" name="Cloud"/>
            <p:cNvSpPr/>
            <p:nvPr/>
          </p:nvSpPr>
          <p:spPr>
            <a:xfrm>
              <a:off x="2286000" y="4724280"/>
              <a:ext cx="4495680" cy="1523880"/>
            </a:xfrm>
            <a:prstGeom prst="pi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9320" y="5149440"/>
              <a:ext cx="67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What is God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127480" y="380880"/>
            <a:ext cx="36007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1219320" y="4724280"/>
            <a:ext cx="6781680" cy="1523880"/>
            <a:chOff x="1219320" y="4724280"/>
            <a:chExt cx="6781680" cy="1523880"/>
          </a:xfrm>
        </p:grpSpPr>
        <p:sp>
          <p:nvSpPr>
            <p:cNvPr id="326" name="Cloud"/>
            <p:cNvSpPr/>
            <p:nvPr/>
          </p:nvSpPr>
          <p:spPr>
            <a:xfrm>
              <a:off x="2286000" y="4724280"/>
              <a:ext cx="4495680" cy="1523880"/>
            </a:xfrm>
            <a:prstGeom prst="pi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5149440"/>
              <a:ext cx="67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What is God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464832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my rock and my fortress and my deliverer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God, my rock, in whom I take refuge;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y shield and the horn of my salvation, my stronghold. (Psalm 18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43800" cy="503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5410080" y="1600200"/>
            <a:ext cx="342900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your keep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your shade on your right han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he sun will not smite you by da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r the moon by night. (Psalm 121:5-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33520" y="533520"/>
            <a:ext cx="32763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LORD is my shepherd, I shall not want (Psalm 23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1"/>
          <p:cNvPicPr/>
          <p:nvPr/>
        </p:nvPicPr>
        <p:blipFill>
          <a:blip r:embed="rId2"/>
          <a:stretch/>
        </p:blipFill>
        <p:spPr>
          <a:xfrm>
            <a:off x="304920" y="612720"/>
            <a:ext cx="8381880" cy="5481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28600" y="5334120"/>
            <a:ext cx="4876920" cy="1068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leads me beside quiet waters (Psalm 23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48320" y="106632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stern Thin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066680"/>
            <a:ext cx="4038480" cy="1676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stern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281952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concret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281952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propositional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380880"/>
            <a:ext cx="76485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stern versus Western Thin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434340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gener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4343400"/>
            <a:ext cx="40384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s truth in absolut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1782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I do not allow a woman to teach or exercise authority over a man, but to remain quiet (1 Timothy 2: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895480"/>
            <a:ext cx="59436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man praying &amp; prophesying (1 Corinthians 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4800600"/>
            <a:ext cx="59436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ld Testament examples of Deborah &amp; Hul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382240" cy="518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5320" y="2666880"/>
            <a:ext cx="23619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3124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He said to them, “Whoever divorces his wife and marries another woman commits adultery against her; 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if she herself divorces her husband and marries another man, she is committing adultery.” (Mark 10:11-1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48320"/>
            <a:ext cx="5943600" cy="1371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tthew 9:9 gives the exception of the innocen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udacity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308760" y="5969160"/>
            <a:ext cx="423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ffff"/>
                </a:solidFill>
                <a:latin typeface="Arial"/>
              </a:rPr>
              <a:t>http://stepintothestory.ca/wp-content/uploads/2014/12/Abraha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638680" cy="196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hold, a Canaanite woman came out from that region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ry out, saying, “Have mercy on me, O Lord, Son of David; my daughter is cruelly demon-possessed.” (Matthew 15:22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did not answer her a word. And His disciples came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kept asking Him, saying, “Send her away, for she is shouting out after us.” (Matthew 15:23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e answered and said, “I was sent only to the lost sheep of the house of Israel.”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she came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ow down before Him, saying, “Lord, help me!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answered and said, “It is not good to take the children’s bread and throw it to the dogs.” (Matthew 15:24-26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he said, “Yes, Lord; but even the dogs feed on the crumbs which fall from their masters’ table.”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n Jesus answered and said to her, “O woman, your faith is great; be it done for you as you wish.” And her daughter was healed at once (Matthew 15:27-28).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743200" y="1390680"/>
            <a:ext cx="36147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utzp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00400" y="30481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tile Cresc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05520" y="1447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 rot="643200">
            <a:off x="3809520" y="213372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uphra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095880"/>
            <a:ext cx="53352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1104840"/>
            <a:ext cx="8153280" cy="5676840"/>
          </a:xfrm>
          <a:custGeom>
            <a:avLst/>
            <a:gdLst/>
            <a:ahLst/>
            <a:rect l="l" t="t" r="r" b="b"/>
            <a:pathLst>
              <a:path w="5136" h="3576">
                <a:moveTo>
                  <a:pt x="768" y="3576"/>
                </a:moveTo>
                <a:lnTo>
                  <a:pt x="720" y="3480"/>
                </a:lnTo>
                <a:cubicBezTo>
                  <a:pt x="720" y="3440"/>
                  <a:pt x="776" y="3360"/>
                  <a:pt x="768" y="3336"/>
                </a:cubicBezTo>
                <a:cubicBezTo>
                  <a:pt x="760" y="3312"/>
                  <a:pt x="704" y="3336"/>
                  <a:pt x="672" y="3336"/>
                </a:cubicBezTo>
                <a:lnTo>
                  <a:pt x="576" y="3336"/>
                </a:lnTo>
                <a:lnTo>
                  <a:pt x="528" y="3240"/>
                </a:lnTo>
                <a:lnTo>
                  <a:pt x="432" y="3144"/>
                </a:lnTo>
                <a:lnTo>
                  <a:pt x="336" y="3048"/>
                </a:lnTo>
                <a:lnTo>
                  <a:pt x="288" y="2904"/>
                </a:lnTo>
                <a:lnTo>
                  <a:pt x="240" y="2808"/>
                </a:lnTo>
                <a:lnTo>
                  <a:pt x="288" y="2712"/>
                </a:lnTo>
                <a:lnTo>
                  <a:pt x="288" y="2616"/>
                </a:lnTo>
                <a:lnTo>
                  <a:pt x="384" y="2520"/>
                </a:lnTo>
                <a:cubicBezTo>
                  <a:pt x="384" y="2520"/>
                  <a:pt x="368" y="2336"/>
                  <a:pt x="384" y="2280"/>
                </a:cubicBezTo>
                <a:cubicBezTo>
                  <a:pt x="400" y="2224"/>
                  <a:pt x="440" y="2208"/>
                  <a:pt x="480" y="2184"/>
                </a:cubicBezTo>
                <a:cubicBezTo>
                  <a:pt x="520" y="2160"/>
                  <a:pt x="576" y="2152"/>
                  <a:pt x="624" y="2136"/>
                </a:cubicBezTo>
                <a:cubicBezTo>
                  <a:pt x="624" y="2136"/>
                  <a:pt x="768" y="2088"/>
                  <a:pt x="768" y="2088"/>
                </a:cubicBezTo>
                <a:cubicBezTo>
                  <a:pt x="768" y="2088"/>
                  <a:pt x="852" y="2084"/>
                  <a:pt x="916" y="2084"/>
                </a:cubicBezTo>
                <a:cubicBezTo>
                  <a:pt x="980" y="2084"/>
                  <a:pt x="1089" y="2103"/>
                  <a:pt x="1152" y="2088"/>
                </a:cubicBezTo>
                <a:cubicBezTo>
                  <a:pt x="1216" y="2080"/>
                  <a:pt x="1248" y="2016"/>
                  <a:pt x="1296" y="1992"/>
                </a:cubicBezTo>
                <a:cubicBezTo>
                  <a:pt x="1344" y="1968"/>
                  <a:pt x="1408" y="1968"/>
                  <a:pt x="1440" y="1944"/>
                </a:cubicBezTo>
                <a:lnTo>
                  <a:pt x="1488" y="1848"/>
                </a:lnTo>
                <a:cubicBezTo>
                  <a:pt x="1488" y="1848"/>
                  <a:pt x="1622" y="1762"/>
                  <a:pt x="1632" y="1704"/>
                </a:cubicBezTo>
                <a:cubicBezTo>
                  <a:pt x="1642" y="1646"/>
                  <a:pt x="1584" y="1512"/>
                  <a:pt x="1584" y="1512"/>
                </a:cubicBezTo>
                <a:cubicBezTo>
                  <a:pt x="1584" y="1512"/>
                  <a:pt x="1640" y="1440"/>
                  <a:pt x="1680" y="1416"/>
                </a:cubicBezTo>
                <a:cubicBezTo>
                  <a:pt x="1720" y="1392"/>
                  <a:pt x="1769" y="1398"/>
                  <a:pt x="1793" y="1358"/>
                </a:cubicBezTo>
                <a:cubicBezTo>
                  <a:pt x="1817" y="1318"/>
                  <a:pt x="1808" y="1240"/>
                  <a:pt x="1824" y="1176"/>
                </a:cubicBezTo>
                <a:cubicBezTo>
                  <a:pt x="1840" y="1112"/>
                  <a:pt x="1856" y="1040"/>
                  <a:pt x="1920" y="984"/>
                </a:cubicBezTo>
                <a:cubicBezTo>
                  <a:pt x="1920" y="984"/>
                  <a:pt x="2112" y="864"/>
                  <a:pt x="2208" y="840"/>
                </a:cubicBezTo>
                <a:cubicBezTo>
                  <a:pt x="2304" y="816"/>
                  <a:pt x="2400" y="808"/>
                  <a:pt x="2496" y="840"/>
                </a:cubicBezTo>
                <a:cubicBezTo>
                  <a:pt x="2592" y="872"/>
                  <a:pt x="2712" y="984"/>
                  <a:pt x="2784" y="1032"/>
                </a:cubicBezTo>
                <a:lnTo>
                  <a:pt x="2928" y="1128"/>
                </a:lnTo>
                <a:lnTo>
                  <a:pt x="3024" y="1176"/>
                </a:lnTo>
                <a:cubicBezTo>
                  <a:pt x="3080" y="1192"/>
                  <a:pt x="3192" y="1184"/>
                  <a:pt x="3264" y="1224"/>
                </a:cubicBezTo>
                <a:cubicBezTo>
                  <a:pt x="3336" y="1264"/>
                  <a:pt x="3400" y="1352"/>
                  <a:pt x="3456" y="1416"/>
                </a:cubicBezTo>
                <a:lnTo>
                  <a:pt x="3600" y="1608"/>
                </a:lnTo>
                <a:lnTo>
                  <a:pt x="3792" y="1800"/>
                </a:lnTo>
                <a:lnTo>
                  <a:pt x="3984" y="1944"/>
                </a:lnTo>
                <a:lnTo>
                  <a:pt x="4320" y="2088"/>
                </a:lnTo>
                <a:lnTo>
                  <a:pt x="4608" y="2184"/>
                </a:lnTo>
                <a:lnTo>
                  <a:pt x="4752" y="2280"/>
                </a:lnTo>
                <a:lnTo>
                  <a:pt x="4896" y="2328"/>
                </a:lnTo>
                <a:lnTo>
                  <a:pt x="4992" y="2280"/>
                </a:lnTo>
                <a:lnTo>
                  <a:pt x="5136" y="2280"/>
                </a:lnTo>
                <a:lnTo>
                  <a:pt x="5136" y="2184"/>
                </a:lnTo>
                <a:lnTo>
                  <a:pt x="5040" y="2088"/>
                </a:lnTo>
                <a:lnTo>
                  <a:pt x="4944" y="1848"/>
                </a:lnTo>
                <a:lnTo>
                  <a:pt x="4704" y="1608"/>
                </a:lnTo>
                <a:lnTo>
                  <a:pt x="4464" y="1512"/>
                </a:lnTo>
                <a:lnTo>
                  <a:pt x="4272" y="1272"/>
                </a:lnTo>
                <a:lnTo>
                  <a:pt x="4032" y="1032"/>
                </a:lnTo>
                <a:lnTo>
                  <a:pt x="3840" y="744"/>
                </a:lnTo>
                <a:cubicBezTo>
                  <a:pt x="3776" y="656"/>
                  <a:pt x="3736" y="592"/>
                  <a:pt x="3648" y="504"/>
                </a:cubicBezTo>
                <a:cubicBezTo>
                  <a:pt x="3560" y="416"/>
                  <a:pt x="3448" y="296"/>
                  <a:pt x="3312" y="216"/>
                </a:cubicBezTo>
                <a:lnTo>
                  <a:pt x="2832" y="24"/>
                </a:lnTo>
                <a:cubicBezTo>
                  <a:pt x="2664" y="0"/>
                  <a:pt x="2446" y="33"/>
                  <a:pt x="2304" y="72"/>
                </a:cubicBezTo>
                <a:cubicBezTo>
                  <a:pt x="2176" y="112"/>
                  <a:pt x="2077" y="180"/>
                  <a:pt x="1981" y="256"/>
                </a:cubicBezTo>
                <a:cubicBezTo>
                  <a:pt x="1885" y="332"/>
                  <a:pt x="1784" y="439"/>
                  <a:pt x="1730" y="531"/>
                </a:cubicBezTo>
                <a:cubicBezTo>
                  <a:pt x="1676" y="623"/>
                  <a:pt x="1671" y="740"/>
                  <a:pt x="1655" y="807"/>
                </a:cubicBezTo>
                <a:lnTo>
                  <a:pt x="1632" y="936"/>
                </a:lnTo>
                <a:lnTo>
                  <a:pt x="1632" y="1080"/>
                </a:lnTo>
                <a:lnTo>
                  <a:pt x="1536" y="1128"/>
                </a:lnTo>
                <a:lnTo>
                  <a:pt x="1488" y="1224"/>
                </a:lnTo>
                <a:lnTo>
                  <a:pt x="1440" y="1368"/>
                </a:lnTo>
                <a:lnTo>
                  <a:pt x="1344" y="1464"/>
                </a:lnTo>
                <a:lnTo>
                  <a:pt x="1344" y="1560"/>
                </a:lnTo>
                <a:lnTo>
                  <a:pt x="1296" y="1752"/>
                </a:lnTo>
                <a:cubicBezTo>
                  <a:pt x="1280" y="1800"/>
                  <a:pt x="1272" y="1816"/>
                  <a:pt x="1248" y="1848"/>
                </a:cubicBezTo>
                <a:cubicBezTo>
                  <a:pt x="1224" y="1880"/>
                  <a:pt x="1192" y="1920"/>
                  <a:pt x="1152" y="1944"/>
                </a:cubicBezTo>
                <a:lnTo>
                  <a:pt x="1008" y="1992"/>
                </a:lnTo>
                <a:lnTo>
                  <a:pt x="864" y="1992"/>
                </a:lnTo>
                <a:lnTo>
                  <a:pt x="672" y="1992"/>
                </a:lnTo>
                <a:lnTo>
                  <a:pt x="576" y="1944"/>
                </a:lnTo>
                <a:lnTo>
                  <a:pt x="480" y="1896"/>
                </a:lnTo>
                <a:lnTo>
                  <a:pt x="336" y="1896"/>
                </a:lnTo>
                <a:lnTo>
                  <a:pt x="240" y="1896"/>
                </a:lnTo>
                <a:lnTo>
                  <a:pt x="96" y="1896"/>
                </a:lnTo>
                <a:lnTo>
                  <a:pt x="0" y="1992"/>
                </a:lnTo>
                <a:lnTo>
                  <a:pt x="96" y="2136"/>
                </a:lnTo>
                <a:lnTo>
                  <a:pt x="144" y="2232"/>
                </a:lnTo>
                <a:cubicBezTo>
                  <a:pt x="144" y="2232"/>
                  <a:pt x="164" y="2305"/>
                  <a:pt x="165" y="2334"/>
                </a:cubicBezTo>
                <a:cubicBezTo>
                  <a:pt x="157" y="2366"/>
                  <a:pt x="148" y="2378"/>
                  <a:pt x="152" y="2409"/>
                </a:cubicBezTo>
                <a:cubicBezTo>
                  <a:pt x="156" y="2440"/>
                  <a:pt x="176" y="2464"/>
                  <a:pt x="192" y="2520"/>
                </a:cubicBezTo>
                <a:cubicBezTo>
                  <a:pt x="199" y="2578"/>
                  <a:pt x="192" y="2696"/>
                  <a:pt x="192" y="2760"/>
                </a:cubicBezTo>
                <a:cubicBezTo>
                  <a:pt x="192" y="2824"/>
                  <a:pt x="192" y="2848"/>
                  <a:pt x="192" y="2904"/>
                </a:cubicBezTo>
                <a:cubicBezTo>
                  <a:pt x="198" y="2958"/>
                  <a:pt x="203" y="3038"/>
                  <a:pt x="227" y="3086"/>
                </a:cubicBezTo>
                <a:cubicBezTo>
                  <a:pt x="251" y="3134"/>
                  <a:pt x="296" y="3160"/>
                  <a:pt x="336" y="3192"/>
                </a:cubicBezTo>
                <a:lnTo>
                  <a:pt x="432" y="3288"/>
                </a:lnTo>
                <a:lnTo>
                  <a:pt x="528" y="3432"/>
                </a:lnTo>
                <a:lnTo>
                  <a:pt x="672" y="3384"/>
                </a:lnTo>
                <a:lnTo>
                  <a:pt x="672" y="3480"/>
                </a:lnTo>
                <a:lnTo>
                  <a:pt x="768" y="3576"/>
                </a:lnTo>
                <a:close/>
              </a:path>
            </a:pathLst>
          </a:custGeom>
          <a:solidFill>
            <a:srgbClr val="003366">
              <a:alpha val="33000"/>
            </a:srgbClr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0" y="2590920"/>
            <a:ext cx="36241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opotam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4876920"/>
            <a:ext cx="16765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05520" y="1447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 rot="643200">
            <a:off x="3809520" y="213372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uphra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095880"/>
            <a:ext cx="53352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308240"/>
            <a:ext cx="3682800" cy="3682800"/>
          </a:xfrm>
          <a:custGeom>
            <a:avLst/>
            <a:gdLst/>
            <a:ahLst/>
            <a:rect l="l" t="t" r="r" b="b"/>
            <a:pathLst>
              <a:path w="2320" h="2320">
                <a:moveTo>
                  <a:pt x="0" y="1912"/>
                </a:moveTo>
                <a:cubicBezTo>
                  <a:pt x="44" y="1876"/>
                  <a:pt x="299" y="1916"/>
                  <a:pt x="406" y="1890"/>
                </a:cubicBezTo>
                <a:cubicBezTo>
                  <a:pt x="513" y="1864"/>
                  <a:pt x="580" y="1829"/>
                  <a:pt x="640" y="1753"/>
                </a:cubicBezTo>
                <a:cubicBezTo>
                  <a:pt x="700" y="1677"/>
                  <a:pt x="691" y="1589"/>
                  <a:pt x="768" y="1432"/>
                </a:cubicBezTo>
                <a:cubicBezTo>
                  <a:pt x="845" y="1275"/>
                  <a:pt x="1040" y="976"/>
                  <a:pt x="1104" y="808"/>
                </a:cubicBezTo>
                <a:cubicBezTo>
                  <a:pt x="1168" y="640"/>
                  <a:pt x="1160" y="544"/>
                  <a:pt x="1152" y="424"/>
                </a:cubicBezTo>
                <a:cubicBezTo>
                  <a:pt x="1144" y="304"/>
                  <a:pt x="1024" y="144"/>
                  <a:pt x="1056" y="88"/>
                </a:cubicBezTo>
                <a:cubicBezTo>
                  <a:pt x="1088" y="32"/>
                  <a:pt x="1256" y="96"/>
                  <a:pt x="1344" y="88"/>
                </a:cubicBezTo>
                <a:cubicBezTo>
                  <a:pt x="1432" y="80"/>
                  <a:pt x="1560" y="0"/>
                  <a:pt x="1584" y="40"/>
                </a:cubicBezTo>
                <a:lnTo>
                  <a:pt x="1488" y="328"/>
                </a:lnTo>
                <a:lnTo>
                  <a:pt x="1344" y="616"/>
                </a:lnTo>
                <a:lnTo>
                  <a:pt x="1248" y="808"/>
                </a:lnTo>
                <a:cubicBezTo>
                  <a:pt x="1272" y="808"/>
                  <a:pt x="1408" y="664"/>
                  <a:pt x="1488" y="616"/>
                </a:cubicBezTo>
                <a:cubicBezTo>
                  <a:pt x="1568" y="568"/>
                  <a:pt x="1640" y="544"/>
                  <a:pt x="1728" y="520"/>
                </a:cubicBezTo>
                <a:cubicBezTo>
                  <a:pt x="1816" y="496"/>
                  <a:pt x="1952" y="432"/>
                  <a:pt x="2016" y="472"/>
                </a:cubicBezTo>
                <a:cubicBezTo>
                  <a:pt x="2080" y="512"/>
                  <a:pt x="2072" y="680"/>
                  <a:pt x="2112" y="760"/>
                </a:cubicBezTo>
                <a:cubicBezTo>
                  <a:pt x="2152" y="840"/>
                  <a:pt x="2320" y="920"/>
                  <a:pt x="2256" y="952"/>
                </a:cubicBezTo>
                <a:cubicBezTo>
                  <a:pt x="2192" y="984"/>
                  <a:pt x="1872" y="936"/>
                  <a:pt x="1728" y="952"/>
                </a:cubicBezTo>
                <a:cubicBezTo>
                  <a:pt x="1584" y="968"/>
                  <a:pt x="1504" y="992"/>
                  <a:pt x="1392" y="1048"/>
                </a:cubicBezTo>
                <a:cubicBezTo>
                  <a:pt x="1280" y="1104"/>
                  <a:pt x="1136" y="1192"/>
                  <a:pt x="1056" y="1288"/>
                </a:cubicBezTo>
                <a:cubicBezTo>
                  <a:pt x="976" y="1384"/>
                  <a:pt x="968" y="1504"/>
                  <a:pt x="912" y="1624"/>
                </a:cubicBezTo>
                <a:cubicBezTo>
                  <a:pt x="856" y="1744"/>
                  <a:pt x="800" y="1904"/>
                  <a:pt x="720" y="2008"/>
                </a:cubicBezTo>
                <a:cubicBezTo>
                  <a:pt x="640" y="2112"/>
                  <a:pt x="528" y="2200"/>
                  <a:pt x="432" y="2248"/>
                </a:cubicBezTo>
                <a:cubicBezTo>
                  <a:pt x="336" y="2296"/>
                  <a:pt x="192" y="2320"/>
                  <a:pt x="144" y="2296"/>
                </a:cubicBezTo>
                <a:cubicBezTo>
                  <a:pt x="96" y="2272"/>
                  <a:pt x="168" y="2168"/>
                  <a:pt x="144" y="2104"/>
                </a:cubicBezTo>
                <a:cubicBezTo>
                  <a:pt x="120" y="2040"/>
                  <a:pt x="30" y="1952"/>
                  <a:pt x="0" y="1912"/>
                </a:cubicBezTo>
                <a:close/>
              </a:path>
            </a:pathLst>
          </a:custGeom>
          <a:solidFill>
            <a:srgbClr val="003300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74480" y="2971800"/>
            <a:ext cx="144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41840" y="403848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05520" y="1447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643200">
            <a:off x="3809520" y="213372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uphra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05520" y="1447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 rot="643200">
            <a:off x="3809520" y="213372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uphra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114440" y="4190760"/>
            <a:ext cx="4724280" cy="2361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irate Marriage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 and s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hold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6765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P TypographicSymbols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038480" y="39625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uzi Table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08480" y="26668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sopot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3280" y="52578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05520" y="1447920"/>
            <a:ext cx="53316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g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643200">
            <a:off x="3809520" y="213372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uphra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16765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P TypographicSymbols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3276720"/>
            <a:ext cx="16765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3716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ntral Mountai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7621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oastal 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3004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ordan Rift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76320" y="5638680"/>
            <a:ext cx="9372600" cy="1206720"/>
            <a:chOff x="-76320" y="5638680"/>
            <a:chExt cx="9372600" cy="1206720"/>
          </a:xfrm>
        </p:grpSpPr>
        <p:sp>
          <p:nvSpPr>
            <p:cNvPr id="92" name=""/>
            <p:cNvSpPr/>
            <p:nvPr/>
          </p:nvSpPr>
          <p:spPr>
            <a:xfrm>
              <a:off x="6477120" y="5702400"/>
              <a:ext cx="0" cy="761760"/>
            </a:xfrm>
            <a:prstGeom prst="line">
              <a:avLst/>
            </a:prstGeom>
            <a:ln w="76320">
              <a:solidFill>
                <a:srgbClr val="00b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702400"/>
              <a:ext cx="9144000" cy="1066680"/>
            </a:xfrm>
            <a:prstGeom prst="rect">
              <a:avLst/>
            </a:prstGeom>
            <a:gradFill rotWithShape="0">
              <a:gsLst>
                <a:gs pos="0">
                  <a:srgbClr val="53d1d1"/>
                </a:gs>
                <a:gs pos="50000">
                  <a:srgbClr val="66ffff"/>
                </a:gs>
                <a:gs pos="100000">
                  <a:srgbClr val="53d1d1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311880"/>
              <a:ext cx="3276720" cy="3808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6616800"/>
              <a:ext cx="2133360" cy="2286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76320" y="5638680"/>
              <a:ext cx="9372600" cy="1206720"/>
            </a:xfrm>
            <a:custGeom>
              <a:avLst/>
              <a:gdLst/>
              <a:ahLst/>
              <a:rect l="l" t="t" r="r" b="b"/>
              <a:pathLst>
                <a:path w="5904" h="760">
                  <a:moveTo>
                    <a:pt x="0" y="664"/>
                  </a:moveTo>
                  <a:lnTo>
                    <a:pt x="0" y="568"/>
                  </a:lnTo>
                  <a:lnTo>
                    <a:pt x="238" y="568"/>
                  </a:lnTo>
                  <a:lnTo>
                    <a:pt x="809" y="568"/>
                  </a:lnTo>
                  <a:lnTo>
                    <a:pt x="1333" y="520"/>
                  </a:lnTo>
                  <a:lnTo>
                    <a:pt x="1714" y="472"/>
                  </a:lnTo>
                  <a:lnTo>
                    <a:pt x="1905" y="424"/>
                  </a:lnTo>
                  <a:cubicBezTo>
                    <a:pt x="1985" y="410"/>
                    <a:pt x="2116" y="395"/>
                    <a:pt x="2195" y="387"/>
                  </a:cubicBezTo>
                  <a:cubicBezTo>
                    <a:pt x="2274" y="379"/>
                    <a:pt x="2310" y="386"/>
                    <a:pt x="2381" y="376"/>
                  </a:cubicBezTo>
                  <a:cubicBezTo>
                    <a:pt x="2452" y="366"/>
                    <a:pt x="2524" y="336"/>
                    <a:pt x="2619" y="328"/>
                  </a:cubicBezTo>
                  <a:cubicBezTo>
                    <a:pt x="2714" y="320"/>
                    <a:pt x="2857" y="344"/>
                    <a:pt x="2952" y="328"/>
                  </a:cubicBezTo>
                  <a:cubicBezTo>
                    <a:pt x="3047" y="312"/>
                    <a:pt x="3142" y="248"/>
                    <a:pt x="3190" y="232"/>
                  </a:cubicBezTo>
                  <a:cubicBezTo>
                    <a:pt x="3238" y="216"/>
                    <a:pt x="3285" y="200"/>
                    <a:pt x="3333" y="184"/>
                  </a:cubicBezTo>
                  <a:cubicBezTo>
                    <a:pt x="3361" y="174"/>
                    <a:pt x="3328" y="166"/>
                    <a:pt x="3360" y="174"/>
                  </a:cubicBezTo>
                  <a:cubicBezTo>
                    <a:pt x="3392" y="182"/>
                    <a:pt x="3480" y="217"/>
                    <a:pt x="3523" y="232"/>
                  </a:cubicBezTo>
                  <a:cubicBezTo>
                    <a:pt x="3555" y="243"/>
                    <a:pt x="3590" y="248"/>
                    <a:pt x="3620" y="264"/>
                  </a:cubicBezTo>
                  <a:cubicBezTo>
                    <a:pt x="3627" y="268"/>
                    <a:pt x="3625" y="279"/>
                    <a:pt x="3628" y="286"/>
                  </a:cubicBezTo>
                  <a:cubicBezTo>
                    <a:pt x="3632" y="296"/>
                    <a:pt x="3642" y="316"/>
                    <a:pt x="3642" y="316"/>
                  </a:cubicBezTo>
                  <a:lnTo>
                    <a:pt x="3761" y="376"/>
                  </a:lnTo>
                  <a:lnTo>
                    <a:pt x="3857" y="520"/>
                  </a:lnTo>
                  <a:lnTo>
                    <a:pt x="3904" y="616"/>
                  </a:lnTo>
                  <a:cubicBezTo>
                    <a:pt x="3921" y="644"/>
                    <a:pt x="3936" y="671"/>
                    <a:pt x="3960" y="690"/>
                  </a:cubicBezTo>
                  <a:cubicBezTo>
                    <a:pt x="3984" y="698"/>
                    <a:pt x="4028" y="721"/>
                    <a:pt x="4050" y="728"/>
                  </a:cubicBezTo>
                  <a:cubicBezTo>
                    <a:pt x="4072" y="735"/>
                    <a:pt x="4070" y="739"/>
                    <a:pt x="4095" y="735"/>
                  </a:cubicBezTo>
                  <a:cubicBezTo>
                    <a:pt x="4120" y="731"/>
                    <a:pt x="4176" y="725"/>
                    <a:pt x="4200" y="705"/>
                  </a:cubicBezTo>
                  <a:cubicBezTo>
                    <a:pt x="4232" y="697"/>
                    <a:pt x="4222" y="640"/>
                    <a:pt x="4238" y="616"/>
                  </a:cubicBezTo>
                  <a:lnTo>
                    <a:pt x="4285" y="520"/>
                  </a:lnTo>
                  <a:lnTo>
                    <a:pt x="4428" y="376"/>
                  </a:lnTo>
                  <a:lnTo>
                    <a:pt x="4523" y="280"/>
                  </a:lnTo>
                  <a:lnTo>
                    <a:pt x="4666" y="184"/>
                  </a:lnTo>
                  <a:lnTo>
                    <a:pt x="4857" y="88"/>
                  </a:lnTo>
                  <a:lnTo>
                    <a:pt x="5142" y="88"/>
                  </a:lnTo>
                  <a:cubicBezTo>
                    <a:pt x="5221" y="96"/>
                    <a:pt x="5262" y="136"/>
                    <a:pt x="5333" y="136"/>
                  </a:cubicBezTo>
                  <a:cubicBezTo>
                    <a:pt x="5404" y="136"/>
                    <a:pt x="5500" y="88"/>
                    <a:pt x="5571" y="88"/>
                  </a:cubicBezTo>
                  <a:cubicBezTo>
                    <a:pt x="5642" y="88"/>
                    <a:pt x="5714" y="136"/>
                    <a:pt x="5761" y="136"/>
                  </a:cubicBezTo>
                  <a:cubicBezTo>
                    <a:pt x="5808" y="136"/>
                    <a:pt x="5832" y="0"/>
                    <a:pt x="5856" y="88"/>
                  </a:cubicBezTo>
                  <a:lnTo>
                    <a:pt x="5904" y="664"/>
                  </a:lnTo>
                  <a:lnTo>
                    <a:pt x="5856" y="760"/>
                  </a:lnTo>
                  <a:lnTo>
                    <a:pt x="3523" y="760"/>
                  </a:lnTo>
                  <a:lnTo>
                    <a:pt x="0" y="760"/>
                  </a:lnTo>
                  <a:lnTo>
                    <a:pt x="0" y="664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2f170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809880" y="5410080"/>
            <a:ext cx="0" cy="76212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51055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5562720"/>
            <a:ext cx="0" cy="761760"/>
          </a:xfrm>
          <a:prstGeom prst="line">
            <a:avLst/>
          </a:prstGeom>
          <a:ln w="7632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5-09-25T16:54:47Z</dcterms:modified>
  <cp:revision>319</cp:revision>
  <dc:subject/>
  <dc:title>Old Testament Survey</dc:title>
</cp:coreProperties>
</file>