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0B1-408A-4311-9997-7AD5A56B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E26A-8E41-49CF-B5D2-5AA3C687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8615-D173-4AF6-8893-60419484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EC85-ACD5-43A1-B01D-80867966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E652-0C53-4CED-8A77-1CE71E0F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EF01-A118-40C0-8E64-304A910B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5CE7-2F4C-427D-9568-73D43015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B2E6-C592-4A5A-8E31-3959E0C6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407F-9C0F-4A41-A2D9-1F26C2D8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2DC7-C159-42E0-8C07-419DAB7F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CBDF-FB72-4C2F-81CB-1C247A01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5E11-312B-47AE-B5DF-EB8321FC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241A-2E6B-4842-8FFF-0B30C9D9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5D26-B566-4E35-AC87-C2D7A45E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EE3E-78E8-46EA-961F-AFC31BB5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F627-E06E-4E06-9BA3-F9CC6B3A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9172-AD5D-47BF-AC1D-C0AFDF9A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E36F-CB59-4EAD-B4D9-09E41087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3E3A-C89B-4E10-A08F-94965A5B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72B-D4D9-4394-926C-182F5C98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7037-A742-4E84-A2F3-D2B315D3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1762-C8D9-4530-B2C3-BBE888C3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3DDB-2DD8-479E-87A5-A4867B9B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A365-FA04-4C71-9B8E-BEE6E730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3112-E8CB-445F-BC4B-F9D27957ADD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EACC-2808-4073-877D-05EA25406B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62320" y="2133720"/>
            <a:ext cx="4419360" cy="15238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cc"/>
                </a:solidFill>
                <a:latin typeface="Times New Roman"/>
                <a:cs typeface="Monotype Koufi"/>
              </a:rPr>
              <a:t>الدائرة المالي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4191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hi-IN" sz="4400" spc="-1" strike="noStrike">
                <a:solidFill>
                  <a:srgbClr val="99cc00"/>
                </a:solidFill>
                <a:latin typeface="Times New Roman"/>
              </a:rPr>
              <a:t>التحليل المالي والخطة التمويلي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5638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cc"/>
                </a:solidFill>
                <a:latin typeface="Modern"/>
              </a:rPr>
              <a:t>آب </a:t>
            </a:r>
            <a:r>
              <a:rPr b="1" lang="en-US" sz="4800" spc="-1" strike="noStrike">
                <a:solidFill>
                  <a:srgbClr val="ffffcc"/>
                </a:solidFill>
                <a:latin typeface="Letter Gothic"/>
              </a:rPr>
              <a:t>2000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4" name="hhh" descr=""/>
          <p:cNvPicPr/>
          <p:nvPr/>
        </p:nvPicPr>
        <p:blipFill>
          <a:blip r:embed="rId1"/>
          <a:stretch/>
        </p:blipFill>
        <p:spPr>
          <a:xfrm>
            <a:off x="6629400" y="228600"/>
            <a:ext cx="2286000" cy="1173240"/>
          </a:xfrm>
          <a:prstGeom prst="rect">
            <a:avLst/>
          </a:prstGeom>
          <a:ln w="0">
            <a:noFill/>
          </a:ln>
        </p:spPr>
      </p:pic>
      <p:pic>
        <p:nvPicPr>
          <p:cNvPr id="95" name="hhh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8600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 rot="21538200">
            <a:off x="12600" y="2438280"/>
            <a:ext cx="9401040" cy="5332680"/>
          </a:xfrm>
          <a:prstGeom prst="flowChartAlternateProcess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428840" indent="-476280" algn="just" rt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cc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raditional Arabic"/>
                <a:cs typeface="Traditional Arabic"/>
              </a:rPr>
              <a:t>تم وضع الية لتوزيع نفقات البلدية على الانشطة المختلفة       بشكل عاد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428840" indent="-476280" algn="just" rt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cc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raditional Arabic"/>
                <a:ea typeface="Traditional Arabic"/>
              </a:rPr>
              <a:t> اعداد قائمة نتيجة الاعمال لكل خدمة على حدة لقياس        الاداء المالي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428840" indent="-476280" algn="just" rt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cc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raditional Arabic"/>
                <a:ea typeface="Traditional Arabic"/>
              </a:rPr>
              <a:t> استخدام قائمة التدفقات النقدية  كأداة فعالة في             التخطيط الاستراتيجي</a:t>
            </a:r>
            <a:r>
              <a:rPr b="1" lang="ar-SA" sz="2500" spc="-1" strike="noStrike">
                <a:solidFill>
                  <a:srgbClr val="ffffcc"/>
                </a:solidFill>
                <a:latin typeface="Traditional Arabic"/>
                <a:ea typeface="Traditional Arabic"/>
              </a:rPr>
              <a:t> 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380880"/>
            <a:ext cx="8458200" cy="1447920"/>
          </a:xfrm>
          <a:prstGeom prst="downArrowCallout">
            <a:avLst>
              <a:gd name="adj1" fmla="val -120938"/>
              <a:gd name="adj2" fmla="val 146041"/>
              <a:gd name="adj3" fmla="val 16667"/>
              <a:gd name="adj4" fmla="val 66667"/>
            </a:avLst>
          </a:prstGeom>
          <a:gradFill rotWithShape="0">
            <a:gsLst>
              <a:gs pos="0">
                <a:srgbClr val="8e7138"/>
              </a:gs>
              <a:gs pos="100000">
                <a:srgbClr val="ffcc66"/>
              </a:gs>
            </a:gsLst>
            <a:lin ang="108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نعكاسات مراحل اعداد الخطة الاستراتيجية على الدائرة المالية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85560" y="812880"/>
            <a:ext cx="115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43480" y="612720"/>
            <a:ext cx="15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00160" y="11174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1752480"/>
            <a:ext cx="4267440" cy="990720"/>
          </a:xfrm>
          <a:prstGeom prst="ellipse">
            <a:avLst/>
          </a:prstGeom>
          <a:gradFill rotWithShape="0">
            <a:gsLst>
              <a:gs pos="0">
                <a:srgbClr val="00ffcc"/>
              </a:gs>
              <a:gs pos="100000">
                <a:srgbClr val="00755e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تحليل أنشطة البلد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230040"/>
            <a:ext cx="4451400" cy="1083960"/>
          </a:xfrm>
          <a:prstGeom prst="cloudCallout">
            <a:avLst>
              <a:gd name="adj1" fmla="val -52592"/>
              <a:gd name="adj2" fmla="val 90138"/>
            </a:avLst>
          </a:prstGeom>
          <a:gradFill rotWithShape="0">
            <a:gsLst>
              <a:gs pos="0">
                <a:srgbClr val="00ffcc"/>
              </a:gs>
              <a:gs pos="100000">
                <a:srgbClr val="00755e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Times New Roman"/>
              </a:rPr>
              <a:t>ما العمل ؟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7072200">
            <a:off x="2933640" y="3155760"/>
            <a:ext cx="1066680" cy="47952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19880 h 479520"/>
              <a:gd name="textAreaBottom" fmla="*/ 359640 h 479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3962520"/>
            <a:ext cx="2974680" cy="990360"/>
          </a:xfrm>
          <a:prstGeom prst="ellipse">
            <a:avLst/>
          </a:prstGeom>
          <a:gradFill rotWithShape="0">
            <a:gsLst>
              <a:gs pos="0">
                <a:srgbClr val="00ffcc"/>
              </a:gs>
              <a:gs pos="100000">
                <a:srgbClr val="00755e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انشطة مساند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4038480"/>
            <a:ext cx="2975040" cy="990720"/>
          </a:xfrm>
          <a:prstGeom prst="ellipse">
            <a:avLst/>
          </a:prstGeom>
          <a:gradFill rotWithShape="0">
            <a:gsLst>
              <a:gs pos="0">
                <a:srgbClr val="00ffcc"/>
              </a:gs>
              <a:gs pos="100000">
                <a:srgbClr val="00755e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3172200">
            <a:off x="5346360" y="3169800"/>
            <a:ext cx="1143000" cy="4572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3687600">
            <a:off x="3443400" y="4959000"/>
            <a:ext cx="761760" cy="479520"/>
          </a:xfrm>
          <a:custGeom>
            <a:avLst/>
            <a:gdLst>
              <a:gd name="textAreaLeft" fmla="*/ 118800 w 761760"/>
              <a:gd name="textAreaRight" fmla="*/ 666720 w 761760"/>
              <a:gd name="textAreaTop" fmla="*/ 119880 h 479520"/>
              <a:gd name="textAreaBottom" fmla="*/ 359640 h 479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7072200">
            <a:off x="1147320" y="4959360"/>
            <a:ext cx="761760" cy="479160"/>
          </a:xfrm>
          <a:custGeom>
            <a:avLst/>
            <a:gdLst>
              <a:gd name="textAreaLeft" fmla="*/ 118800 w 761760"/>
              <a:gd name="textAreaRight" fmla="*/ 666720 w 761760"/>
              <a:gd name="textAreaTop" fmla="*/ 119880 h 479160"/>
              <a:gd name="textAreaBottom" fmla="*/ 359640 h 479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5638680"/>
            <a:ext cx="1828800" cy="990720"/>
          </a:xfrm>
          <a:prstGeom prst="ellipse">
            <a:avLst/>
          </a:prstGeom>
          <a:gradFill rotWithShape="0">
            <a:gsLst>
              <a:gs pos="0">
                <a:srgbClr val="00ffcc"/>
              </a:gs>
              <a:gs pos="100000">
                <a:srgbClr val="00755e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5638680"/>
            <a:ext cx="1905120" cy="990720"/>
          </a:xfrm>
          <a:prstGeom prst="ellipse">
            <a:avLst/>
          </a:prstGeom>
          <a:gradFill rotWithShape="0">
            <a:gsLst>
              <a:gs pos="0">
                <a:srgbClr val="00ffcc"/>
              </a:gs>
              <a:gs pos="100000">
                <a:srgbClr val="00755e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1520" y="5769000"/>
            <a:ext cx="16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مباشر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8960" y="586728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عام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42670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أنشطة خدماتي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733920" y="1371600"/>
            <a:ext cx="4724280" cy="6698880"/>
          </a:xfrm>
          <a:prstGeom prst="rect">
            <a:avLst/>
          </a:prstGeom>
          <a:solidFill>
            <a:srgbClr val="ffcc66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r" rtl="1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ar-SA" sz="2900" spc="-1" strike="noStrike">
                <a:solidFill>
                  <a:srgbClr val="000000"/>
                </a:solidFill>
                <a:latin typeface="Times New Roman"/>
              </a:rPr>
              <a:t>الايرادات التشغيلية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algn="r" rtl="1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</a:rPr>
              <a:t>( - )     المصاريف التشغيلية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algn="r" rtl="1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algn="r" rtl="1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</a:rPr>
              <a:t>           اجمالي الفائض التشغيلي</a:t>
            </a:r>
            <a:br>
              <a:rPr sz="2900"/>
            </a:br>
            <a:r>
              <a:rPr b="1" lang="ar-SA" sz="2900" spc="-1" strike="noStrike">
                <a:solidFill>
                  <a:srgbClr val="000000"/>
                </a:solidFill>
                <a:latin typeface="Times New Roman"/>
              </a:rPr>
              <a:t>( - )    </a:t>
            </a:r>
            <a:r>
              <a:rPr b="1" lang="ar-SA" sz="2900" spc="-1" strike="noStrike" u="sng">
                <a:solidFill>
                  <a:srgbClr val="000000"/>
                </a:solidFill>
                <a:uFillTx/>
                <a:latin typeface="Times New Roman"/>
              </a:rPr>
              <a:t>المصاريف الادارية والعمومية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algn="r" rtl="1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</a:rPr>
              <a:t>             صافي الفائض/ العجز</a:t>
            </a: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  <a:p>
            <a:pPr algn="r" rtl="1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295280"/>
            <a:ext cx="2438280" cy="5010120"/>
          </a:xfrm>
          <a:prstGeom prst="rect">
            <a:avLst/>
          </a:prstGeom>
          <a:solidFill>
            <a:srgbClr val="ffcc66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</a:rPr>
              <a:t>ٍ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X X 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X X 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X X 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Times New Roman"/>
              </a:rPr>
              <a:t>X X 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X X 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304920"/>
            <a:ext cx="6858000" cy="1191240"/>
          </a:xfrm>
          <a:prstGeom prst="rect">
            <a:avLst/>
          </a:prstGeom>
          <a:solidFill>
            <a:srgbClr val="cc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قائمة نتيجة الاعمال لنشاط  …………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3352680"/>
            <a:ext cx="304776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3429000"/>
            <a:ext cx="160020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66680" y="2362320"/>
            <a:ext cx="73152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5f5f5f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udir MT"/>
              </a:rPr>
              <a:t> </a:t>
            </a:r>
            <a:r>
              <a:rPr b="0" lang="hi-IN" sz="3200" spc="1" strike="noStrike">
                <a:ln w="12600">
                  <a:solidFill>
                    <a:srgbClr val="5f5f5f"/>
                  </a:solidFill>
                  <a:miter/>
                </a:ln>
                <a:solidFill>
                  <a:srgbClr val="ff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udir MT"/>
              </a:rPr>
              <a:t>كيف تم توزيع المصاريف العمومية والادارية ؟؟؟</a:t>
            </a:r>
            <a:endParaRPr b="0" lang="en-US" sz="3200" spc="1" strike="noStrike">
              <a:ln w="12600">
                <a:solidFill>
                  <a:srgbClr val="5f5f5f"/>
                </a:solidFill>
                <a:miter/>
              </a:ln>
              <a:solidFill>
                <a:srgbClr val="ff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udir MT"/>
              <a:ea typeface="Mudir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09:17:36Z</dcterms:created>
  <dc:creator>Hebron</dc:creator>
  <dc:description/>
  <dc:language>en-US</dc:language>
  <cp:lastModifiedBy>الادارة المالية- بلدية الخليل</cp:lastModifiedBy>
  <dcterms:modified xsi:type="dcterms:W3CDTF">2000-08-03T07:43:29Z</dcterms:modified>
  <cp:revision>10</cp:revision>
  <dc:subject/>
  <dc:title>لا يوجد عنوان للشريحة</dc:title>
</cp:coreProperties>
</file>