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47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0.jpeg" ContentType="image/jpeg"/>
  <Override PartName="/ppt/media/image43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13.jpeg" ContentType="image/jpeg"/>
  <Override PartName="/ppt/media/image40.jpeg" ContentType="image/jpeg"/>
  <Override PartName="/ppt/media/image46.png" ContentType="image/png"/>
  <Override PartName="/ppt/media/image1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7.jpeg" ContentType="image/jpe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BEF-D79F-45A6-917F-9649551D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D67-BF24-4674-940F-099C4416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AE6-2856-459E-9B77-3A488652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63D-CD64-4BF9-A833-1EFABF35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C5F-A2D9-4D2D-AB80-6ABB793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2B5-D4C5-4709-85F6-F9DA8A2E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AF3-ACAF-4EEB-8B93-673B04B6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977-2FE0-47EB-B56D-D1F17B5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1CF-006F-46AB-90D9-56AA2EE5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836-55FF-4AF6-A8E8-7C990B9B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D12-602E-4189-BDAF-2A20EE8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DB3-BAA1-4D5F-AC6A-742CA62F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8ED6-2CCD-46C2-8EB1-81012667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3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New Method Colle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4276800"/>
            <a:ext cx="535140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Lithograph"/>
              </a:rPr>
              <a:t>Open Da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Lithograph"/>
              <a:ea typeface="Lithograph"/>
            </a:endParaRPr>
          </a:p>
        </p:txBody>
      </p:sp>
      <p:pic>
        <p:nvPicPr>
          <p:cNvPr id="43" name="logo1" descr=""/>
          <p:cNvPicPr/>
          <p:nvPr/>
        </p:nvPicPr>
        <p:blipFill>
          <a:blip r:embed="rId2"/>
          <a:stretch/>
        </p:blipFill>
        <p:spPr>
          <a:xfrm>
            <a:off x="3581280" y="228600"/>
            <a:ext cx="1879560" cy="200016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457200"/>
            <a:ext cx="4647960" cy="6325920"/>
            <a:chOff x="304920" y="457200"/>
            <a:chExt cx="4647960" cy="6325920"/>
          </a:xfrm>
        </p:grpSpPr>
        <p:pic>
          <p:nvPicPr>
            <p:cNvPr id="90" name="image26" descr=""/>
            <p:cNvPicPr/>
            <p:nvPr/>
          </p:nvPicPr>
          <p:blipFill>
            <a:blip r:embed="rId2"/>
            <a:stretch/>
          </p:blipFill>
          <p:spPr>
            <a:xfrm>
              <a:off x="304920" y="457200"/>
              <a:ext cx="4647960" cy="34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309920" y="61405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今次同有個學會參與，反應相當熱烈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image38" descr=""/>
          <p:cNvPicPr/>
          <p:nvPr/>
        </p:nvPicPr>
        <p:blipFill>
          <a:blip r:embed="rId3"/>
          <a:stretch/>
        </p:blipFill>
        <p:spPr>
          <a:xfrm>
            <a:off x="685800" y="623880"/>
            <a:ext cx="4648320" cy="3490920"/>
          </a:xfrm>
          <a:prstGeom prst="rect">
            <a:avLst/>
          </a:prstGeom>
          <a:ln w="0">
            <a:noFill/>
          </a:ln>
        </p:spPr>
      </p:pic>
      <p:pic>
        <p:nvPicPr>
          <p:cNvPr id="93" name="image35" descr=""/>
          <p:cNvPicPr/>
          <p:nvPr/>
        </p:nvPicPr>
        <p:blipFill>
          <a:blip r:embed="rId4"/>
          <a:stretch/>
        </p:blipFill>
        <p:spPr>
          <a:xfrm>
            <a:off x="1057320" y="977760"/>
            <a:ext cx="4581360" cy="3441960"/>
          </a:xfrm>
          <a:prstGeom prst="rect">
            <a:avLst/>
          </a:prstGeom>
          <a:ln w="0">
            <a:noFill/>
          </a:ln>
        </p:spPr>
      </p:pic>
      <p:pic>
        <p:nvPicPr>
          <p:cNvPr id="94" name="image24" descr=""/>
          <p:cNvPicPr/>
          <p:nvPr/>
        </p:nvPicPr>
        <p:blipFill>
          <a:blip r:embed="rId5"/>
          <a:stretch/>
        </p:blipFill>
        <p:spPr>
          <a:xfrm>
            <a:off x="1523880" y="1214280"/>
            <a:ext cx="4572000" cy="3434040"/>
          </a:xfrm>
          <a:prstGeom prst="rect">
            <a:avLst/>
          </a:prstGeom>
          <a:ln w="0">
            <a:noFill/>
          </a:ln>
        </p:spPr>
      </p:pic>
      <p:pic>
        <p:nvPicPr>
          <p:cNvPr id="95" name="image22" descr=""/>
          <p:cNvPicPr/>
          <p:nvPr/>
        </p:nvPicPr>
        <p:blipFill>
          <a:blip r:embed="rId6"/>
          <a:stretch/>
        </p:blipFill>
        <p:spPr>
          <a:xfrm>
            <a:off x="2057400" y="1500120"/>
            <a:ext cx="4495680" cy="3376800"/>
          </a:xfrm>
          <a:prstGeom prst="rect">
            <a:avLst/>
          </a:prstGeom>
          <a:ln w="0">
            <a:noFill/>
          </a:ln>
        </p:spPr>
      </p:pic>
      <p:pic>
        <p:nvPicPr>
          <p:cNvPr id="96" name="image30" descr=""/>
          <p:cNvPicPr/>
          <p:nvPr/>
        </p:nvPicPr>
        <p:blipFill>
          <a:blip r:embed="rId7"/>
          <a:stretch/>
        </p:blipFill>
        <p:spPr>
          <a:xfrm>
            <a:off x="2666880" y="1862280"/>
            <a:ext cx="4419720" cy="3319200"/>
          </a:xfrm>
          <a:prstGeom prst="rect">
            <a:avLst/>
          </a:prstGeom>
          <a:ln w="0">
            <a:noFill/>
          </a:ln>
        </p:spPr>
      </p:pic>
      <p:pic>
        <p:nvPicPr>
          <p:cNvPr id="97" name="image33" descr=""/>
          <p:cNvPicPr/>
          <p:nvPr/>
        </p:nvPicPr>
        <p:blipFill>
          <a:blip r:embed="rId8"/>
          <a:stretch/>
        </p:blipFill>
        <p:spPr>
          <a:xfrm>
            <a:off x="3276720" y="2166840"/>
            <a:ext cx="4419360" cy="3319560"/>
          </a:xfrm>
          <a:prstGeom prst="rect">
            <a:avLst/>
          </a:prstGeom>
          <a:ln w="0">
            <a:noFill/>
          </a:ln>
        </p:spPr>
      </p:pic>
      <p:pic>
        <p:nvPicPr>
          <p:cNvPr id="98" name="image36" descr=""/>
          <p:cNvPicPr/>
          <p:nvPr/>
        </p:nvPicPr>
        <p:blipFill>
          <a:blip r:embed="rId9"/>
          <a:stretch/>
        </p:blipFill>
        <p:spPr>
          <a:xfrm>
            <a:off x="3886200" y="2438280"/>
            <a:ext cx="4495680" cy="3376800"/>
          </a:xfrm>
          <a:prstGeom prst="rect">
            <a:avLst/>
          </a:prstGeom>
          <a:ln w="0">
            <a:noFill/>
          </a:ln>
        </p:spPr>
      </p:pic>
      <p:pic>
        <p:nvPicPr>
          <p:cNvPr id="99" name="image37" descr=""/>
          <p:cNvPicPr/>
          <p:nvPr/>
        </p:nvPicPr>
        <p:blipFill>
          <a:blip r:embed="rId10"/>
          <a:stretch/>
        </p:blipFill>
        <p:spPr>
          <a:xfrm>
            <a:off x="4562640" y="2635200"/>
            <a:ext cx="4505040" cy="3384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28600" y="457200"/>
            <a:ext cx="8838720" cy="6400440"/>
            <a:chOff x="228600" y="457200"/>
            <a:chExt cx="8838720" cy="6400440"/>
          </a:xfrm>
        </p:grpSpPr>
        <p:pic>
          <p:nvPicPr>
            <p:cNvPr id="101" name="image23" descr=""/>
            <p:cNvPicPr/>
            <p:nvPr/>
          </p:nvPicPr>
          <p:blipFill>
            <a:blip r:embed="rId11"/>
            <a:stretch/>
          </p:blipFill>
          <p:spPr>
            <a:xfrm>
              <a:off x="228600" y="457200"/>
              <a:ext cx="8838720" cy="64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39880" y="569160"/>
              <a:ext cx="2009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60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勝出攤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9753480" y="5410080"/>
            <a:ext cx="228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攤位遊戲、點唱、禮品換領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</p:spTree>
  </p:cSld>
  <p:transition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_ROOM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248520" y="5181480"/>
            <a:ext cx="243828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標楷體"/>
              </a:rPr>
              <a:t>二樓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標楷體"/>
              <a:ea typeface="標楷體"/>
            </a:endParaRPr>
          </a:p>
        </p:txBody>
      </p:sp>
    </p:spTree>
  </p:cSld>
  <p:transition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1034640" y="914400"/>
            <a:ext cx="5276520" cy="3735000"/>
            <a:chOff x="-1034640" y="914400"/>
            <a:chExt cx="5276520" cy="3735000"/>
          </a:xfrm>
        </p:grpSpPr>
        <p:pic>
          <p:nvPicPr>
            <p:cNvPr id="108" name="IMAGE50" descr=""/>
            <p:cNvPicPr/>
            <p:nvPr/>
          </p:nvPicPr>
          <p:blipFill>
            <a:blip r:embed="rId2"/>
            <a:stretch/>
          </p:blipFill>
          <p:spPr>
            <a:xfrm>
              <a:off x="-44280" y="914400"/>
              <a:ext cx="42861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-1034640" y="4006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科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-1324080" y="1447920"/>
            <a:ext cx="6296040" cy="3659040"/>
            <a:chOff x="-1324080" y="1447920"/>
            <a:chExt cx="6296040" cy="3659040"/>
          </a:xfrm>
        </p:grpSpPr>
        <p:sp>
          <p:nvSpPr>
            <p:cNvPr id="111" name=""/>
            <p:cNvSpPr/>
            <p:nvPr/>
          </p:nvSpPr>
          <p:spPr>
            <a:xfrm>
              <a:off x="-1324080" y="446436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英文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685800" y="1447920"/>
              <a:ext cx="4286160" cy="32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-2787120" y="1828800"/>
            <a:ext cx="8521200" cy="3735000"/>
            <a:chOff x="-2787120" y="1828800"/>
            <a:chExt cx="8521200" cy="3735000"/>
          </a:xfrm>
        </p:grpSpPr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1447920" y="1828800"/>
              <a:ext cx="42861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-2787120" y="492120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經濟科及會計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-1432080" y="2286000"/>
            <a:ext cx="8080560" cy="3659040"/>
            <a:chOff x="-1432080" y="2286000"/>
            <a:chExt cx="8080560" cy="3659040"/>
          </a:xfrm>
        </p:grpSpPr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2362320" y="2286000"/>
              <a:ext cx="42861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-1432080" y="5302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輔導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-1186920" y="2711520"/>
            <a:ext cx="8629200" cy="3690720"/>
            <a:chOff x="-1186920" y="2711520"/>
            <a:chExt cx="8629200" cy="369072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3156120" y="2711520"/>
              <a:ext cx="428616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186920" y="5759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世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3962520" y="3181320"/>
            <a:ext cx="4286160" cy="32194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-3674880" y="3638520"/>
            <a:ext cx="12818880" cy="3219480"/>
            <a:chOff x="-3674880" y="3638520"/>
            <a:chExt cx="12818880" cy="3219480"/>
          </a:xfrm>
        </p:grpSpPr>
        <p:sp>
          <p:nvSpPr>
            <p:cNvPr id="124" name=""/>
            <p:cNvSpPr/>
            <p:nvPr/>
          </p:nvSpPr>
          <p:spPr>
            <a:xfrm>
              <a:off x="-3674880" y="5867280"/>
              <a:ext cx="6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還有好多同學班的作品、功課等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4857840" y="3638520"/>
              <a:ext cx="4286160" cy="321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 txBox="1"/>
          <p:nvPr/>
        </p:nvSpPr>
        <p:spPr>
          <a:xfrm>
            <a:off x="152280" y="152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各學科展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</p:spTree>
  </p:cSld>
  <p:transition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hool" descr=""/>
          <p:cNvPicPr/>
          <p:nvPr/>
        </p:nvPicPr>
        <p:blipFill>
          <a:blip r:embed="rId2"/>
          <a:stretch/>
        </p:blipFill>
        <p:spPr>
          <a:xfrm>
            <a:off x="181080" y="152280"/>
            <a:ext cx="8048520" cy="5470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23880" y="5105520"/>
            <a:ext cx="73152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標楷體"/>
              </a:rPr>
              <a:t>六、七、八樓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標楷體"/>
              <a:ea typeface="標楷體"/>
            </a:endParaRPr>
          </a:p>
        </p:txBody>
      </p:sp>
    </p:spTree>
  </p:cSld>
  <p:transition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hem_lab2_2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IMAGE62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31" name="IMAGE51" descr=""/>
          <p:cNvPicPr/>
          <p:nvPr/>
        </p:nvPicPr>
        <p:blipFill>
          <a:blip r:embed="rId4"/>
          <a:stretch/>
        </p:blipFill>
        <p:spPr>
          <a:xfrm>
            <a:off x="971640" y="6858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32" name="chem_lab2" descr=""/>
          <p:cNvPicPr/>
          <p:nvPr/>
        </p:nvPicPr>
        <p:blipFill>
          <a:blip r:embed="rId5"/>
          <a:stretch/>
        </p:blipFill>
        <p:spPr>
          <a:xfrm>
            <a:off x="1600200" y="10288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190600" y="142884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2876400" y="188604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3409920" y="234324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3943440" y="27241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4552920" y="31813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4857840" y="363852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00" y="-1803240"/>
            <a:ext cx="749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六樓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物理室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生活與物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物理室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二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IT in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化學室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Magic World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化學室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Magic World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080" y="-3432240"/>
            <a:ext cx="93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七樓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生物室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A healthy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美術室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Handicraft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Print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Comic portrait 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Exhibition 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音樂室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The Recorder’s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室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汽車電腦導航系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地理室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Urban Decay &amp; Urban Renewal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680" y="-1803240"/>
            <a:ext cx="328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八樓禮堂：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學術聯會展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中樂表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音樂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音樂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5120" y="1981080"/>
            <a:ext cx="5095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43000" y="5257800"/>
            <a:ext cx="6400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標楷體"/>
              </a:rPr>
              <a:t>Thanks for welcome!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標楷體"/>
              <a:ea typeface="標楷體"/>
            </a:endParaRPr>
          </a:p>
        </p:txBody>
      </p:sp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58600" y="2389320"/>
            <a:ext cx="340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ithograph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ithographLight"/>
              </a:rPr>
              <a:t>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ithographLight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LithographLight"/>
              </a:rPr>
              <a:t>  April,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ithographLight"/>
                <a:ea typeface="新細明體"/>
              </a:rPr>
              <a:t>14:00-18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Lithograph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ithographLight"/>
              </a:rPr>
              <a:t>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LithographLight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LithographLight"/>
              </a:rPr>
              <a:t> April,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ithographLight"/>
                <a:ea typeface="新細明體"/>
              </a:rPr>
              <a:t>10:00-16: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penday_poster" descr=""/>
          <p:cNvPicPr/>
          <p:nvPr/>
        </p:nvPicPr>
        <p:blipFill>
          <a:blip r:embed="rId2"/>
          <a:stretch/>
        </p:blipFill>
        <p:spPr>
          <a:xfrm>
            <a:off x="5027760" y="990720"/>
            <a:ext cx="3957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28600" y="262080"/>
            <a:ext cx="57913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latin typeface="Playbill"/>
              </a:rPr>
              <a:t>Welcome</a:t>
            </a:r>
            <a:endParaRPr b="0" lang="en-US" sz="2400" spc="1" strike="noStrike">
              <a:ln w="12600">
                <a:solidFill>
                  <a:srgbClr val="ff99cc"/>
                </a:solidFill>
                <a:miter/>
              </a:ln>
              <a:solidFill>
                <a:srgbClr val="ff0000"/>
              </a:solidFill>
              <a:latin typeface="Playbill"/>
              <a:ea typeface="Playbill"/>
            </a:endParaRPr>
          </a:p>
        </p:txBody>
      </p:sp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sketball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7162920" cy="537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181480" y="5181480"/>
            <a:ext cx="365760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標楷體"/>
              </a:rPr>
              <a:t>籃球場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標楷體"/>
              <a:ea typeface="標楷體"/>
            </a:endParaRPr>
          </a:p>
        </p:txBody>
      </p:sp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4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286160" cy="32194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990720" y="4724280"/>
            <a:ext cx="2666880" cy="1447920"/>
            <a:chOff x="990720" y="4724280"/>
            <a:chExt cx="2666880" cy="1447920"/>
          </a:xfrm>
        </p:grpSpPr>
        <p:sp>
          <p:nvSpPr>
            <p:cNvPr id="51" name=""/>
            <p:cNvSpPr/>
            <p:nvPr/>
          </p:nvSpPr>
          <p:spPr>
            <a:xfrm>
              <a:off x="990720" y="4724280"/>
              <a:ext cx="2666880" cy="1447920"/>
            </a:xfrm>
            <a:custGeom>
              <a:avLst/>
              <a:gdLst>
                <a:gd name="textAreaLeft" fmla="*/ 333360 w 2666880"/>
                <a:gd name="textAreaRight" fmla="*/ 2333520 w 266688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6320" y="51055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開幕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 txBox="1"/>
          <p:nvPr/>
        </p:nvSpPr>
        <p:spPr>
          <a:xfrm>
            <a:off x="380880" y="228600"/>
            <a:ext cx="33530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七日下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2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09720" y="1066680"/>
            <a:ext cx="3124440" cy="1447920"/>
            <a:chOff x="5409720" y="1066680"/>
            <a:chExt cx="3124440" cy="1447920"/>
          </a:xfrm>
        </p:grpSpPr>
        <p:sp>
          <p:nvSpPr>
            <p:cNvPr id="55" name=""/>
            <p:cNvSpPr/>
            <p:nvPr/>
          </p:nvSpPr>
          <p:spPr>
            <a:xfrm rot="10800000">
              <a:off x="5409720" y="1066320"/>
              <a:ext cx="3124440" cy="1447920"/>
            </a:xfrm>
            <a:custGeom>
              <a:avLst/>
              <a:gdLst>
                <a:gd name="textAreaLeft" fmla="*/ 390600 w 3124440"/>
                <a:gd name="textAreaRight" fmla="*/ 2734200 w 312444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960" y="14479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各嘉賓就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image2" descr=""/>
          <p:cNvPicPr/>
          <p:nvPr/>
        </p:nvPicPr>
        <p:blipFill>
          <a:blip r:embed="rId5"/>
          <a:stretch/>
        </p:blipFill>
        <p:spPr>
          <a:xfrm>
            <a:off x="304920" y="819000"/>
            <a:ext cx="4286160" cy="32194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8" descr=""/>
          <p:cNvPicPr/>
          <p:nvPr/>
        </p:nvPicPr>
        <p:blipFill>
          <a:blip r:embed="rId2"/>
          <a:stretch/>
        </p:blipFill>
        <p:spPr>
          <a:xfrm>
            <a:off x="76320" y="3233880"/>
            <a:ext cx="4724280" cy="35478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560920" y="4263840"/>
            <a:ext cx="2670480" cy="1454400"/>
            <a:chOff x="5560920" y="4263840"/>
            <a:chExt cx="2670480" cy="1454400"/>
          </a:xfrm>
        </p:grpSpPr>
        <p:sp>
          <p:nvSpPr>
            <p:cNvPr id="60" name=""/>
            <p:cNvSpPr/>
            <p:nvPr/>
          </p:nvSpPr>
          <p:spPr>
            <a:xfrm rot="10791600">
              <a:off x="5562720" y="4267080"/>
              <a:ext cx="2666880" cy="1447920"/>
            </a:xfrm>
            <a:custGeom>
              <a:avLst/>
              <a:gdLst>
                <a:gd name="textAreaLeft" fmla="*/ 333360 w 2666880"/>
                <a:gd name="textAreaRight" fmla="*/ 2333520 w 2666880"/>
                <a:gd name="textAreaTop" fmla="*/ 361800 h 1447920"/>
                <a:gd name="textAreaBottom" fmla="*/ 108612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1160" y="46483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校監致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image7" descr=""/>
          <p:cNvPicPr/>
          <p:nvPr/>
        </p:nvPicPr>
        <p:blipFill>
          <a:blip r:embed="rId4"/>
          <a:stretch/>
        </p:blipFill>
        <p:spPr>
          <a:xfrm>
            <a:off x="4419720" y="76320"/>
            <a:ext cx="4647960" cy="34700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990720" y="1219320"/>
            <a:ext cx="2666880" cy="1447560"/>
            <a:chOff x="990720" y="1219320"/>
            <a:chExt cx="2666880" cy="1447560"/>
          </a:xfrm>
        </p:grpSpPr>
        <p:sp>
          <p:nvSpPr>
            <p:cNvPr id="64" name=""/>
            <p:cNvSpPr/>
            <p:nvPr/>
          </p:nvSpPr>
          <p:spPr>
            <a:xfrm>
              <a:off x="990720" y="1219320"/>
              <a:ext cx="2666880" cy="1447560"/>
            </a:xfrm>
            <a:custGeom>
              <a:avLst/>
              <a:gdLst>
                <a:gd name="textAreaLeft" fmla="*/ 333360 w 2666880"/>
                <a:gd name="textAreaRight" fmla="*/ 2333520 w 2666880"/>
                <a:gd name="textAreaTop" fmla="*/ 361800 h 1447560"/>
                <a:gd name="textAreaBottom" fmla="*/ 108576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5600" y="15685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升旗儀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78" descr=""/>
          <p:cNvPicPr/>
          <p:nvPr/>
        </p:nvPicPr>
        <p:blipFill>
          <a:blip r:embed="rId2"/>
          <a:stretch/>
        </p:blipFill>
        <p:spPr>
          <a:xfrm>
            <a:off x="57240" y="898560"/>
            <a:ext cx="4514760" cy="313992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724280" y="1066680"/>
            <a:ext cx="4267440" cy="1447920"/>
            <a:chOff x="4724280" y="1066680"/>
            <a:chExt cx="4267440" cy="1447920"/>
          </a:xfrm>
        </p:grpSpPr>
        <p:sp>
          <p:nvSpPr>
            <p:cNvPr id="68" name=""/>
            <p:cNvSpPr/>
            <p:nvPr/>
          </p:nvSpPr>
          <p:spPr>
            <a:xfrm>
              <a:off x="4724280" y="1066680"/>
              <a:ext cx="4267440" cy="1447920"/>
            </a:xfrm>
            <a:custGeom>
              <a:avLst/>
              <a:gdLst>
                <a:gd name="textAreaLeft" fmla="*/ 1066680 w 4267440"/>
                <a:gd name="textAreaRight" fmla="*/ 3200760 w 4267440"/>
                <a:gd name="textAreaTop" fmla="*/ 18072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22880" y="15238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時裝表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image77" descr=""/>
          <p:cNvPicPr/>
          <p:nvPr/>
        </p:nvPicPr>
        <p:blipFill>
          <a:blip r:embed="rId4"/>
          <a:stretch/>
        </p:blipFill>
        <p:spPr>
          <a:xfrm>
            <a:off x="4476600" y="3276720"/>
            <a:ext cx="4591080" cy="344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80880" y="228600"/>
            <a:ext cx="41911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七及八日下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2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914400" y="1600200"/>
            <a:ext cx="2819520" cy="1143000"/>
            <a:chOff x="914400" y="1600200"/>
            <a:chExt cx="2819520" cy="1143000"/>
          </a:xfrm>
        </p:grpSpPr>
        <p:sp>
          <p:nvSpPr>
            <p:cNvPr id="73" name=""/>
            <p:cNvSpPr/>
            <p:nvPr/>
          </p:nvSpPr>
          <p:spPr>
            <a:xfrm>
              <a:off x="914400" y="1600200"/>
              <a:ext cx="2819520" cy="1143000"/>
            </a:xfrm>
            <a:prstGeom prst="rightArrow">
              <a:avLst>
                <a:gd name="adj1" fmla="val 50000"/>
                <a:gd name="adj2" fmla="val 6166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4840" y="18288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急救示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380880" y="228600"/>
            <a:ext cx="35625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七日下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3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八日上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11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  <p:pic>
        <p:nvPicPr>
          <p:cNvPr id="76" name="image12" descr=""/>
          <p:cNvPicPr/>
          <p:nvPr/>
        </p:nvPicPr>
        <p:blipFill>
          <a:blip r:embed="rId3"/>
          <a:stretch/>
        </p:blipFill>
        <p:spPr>
          <a:xfrm>
            <a:off x="4705200" y="53352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77" name="image15" descr=""/>
          <p:cNvPicPr/>
          <p:nvPr/>
        </p:nvPicPr>
        <p:blipFill>
          <a:blip r:embed="rId4"/>
          <a:stretch/>
        </p:blipFill>
        <p:spPr>
          <a:xfrm>
            <a:off x="304920" y="3409920"/>
            <a:ext cx="4286160" cy="3219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5334120" y="4648320"/>
            <a:ext cx="2819160" cy="1207800"/>
            <a:chOff x="5334120" y="4648320"/>
            <a:chExt cx="2819160" cy="1207800"/>
          </a:xfrm>
        </p:grpSpPr>
        <p:sp>
          <p:nvSpPr>
            <p:cNvPr id="79" name=""/>
            <p:cNvSpPr/>
            <p:nvPr/>
          </p:nvSpPr>
          <p:spPr>
            <a:xfrm>
              <a:off x="5334120" y="4648320"/>
              <a:ext cx="2819160" cy="1207800"/>
            </a:xfrm>
            <a:prstGeom prst="leftArrow">
              <a:avLst>
                <a:gd name="adj1" fmla="val 50000"/>
                <a:gd name="adj2" fmla="val 58353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34840" y="48769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劍擊示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16" descr=""/>
          <p:cNvPicPr/>
          <p:nvPr/>
        </p:nvPicPr>
        <p:blipFill>
          <a:blip r:embed="rId2"/>
          <a:stretch/>
        </p:blipFill>
        <p:spPr>
          <a:xfrm>
            <a:off x="4114800" y="133992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47680" y="247680"/>
            <a:ext cx="35622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七日下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5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四月八日上午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華康少女文字W6"/>
              </a:rPr>
              <a:t>10:3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華康少女文字W6"/>
              <a:ea typeface="華康少女文字W6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2362320"/>
            <a:ext cx="3200400" cy="1218960"/>
            <a:chOff x="609480" y="2362320"/>
            <a:chExt cx="3200400" cy="1218960"/>
          </a:xfrm>
        </p:grpSpPr>
        <p:sp>
          <p:nvSpPr>
            <p:cNvPr id="84" name=""/>
            <p:cNvSpPr/>
            <p:nvPr/>
          </p:nvSpPr>
          <p:spPr>
            <a:xfrm>
              <a:off x="609480" y="2362320"/>
              <a:ext cx="3200400" cy="121896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26240" y="26352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跳繩表演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257000" y="522612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還有曲棍球、短劇、趣怪新聞報導等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19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315200" cy="5494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86200" y="5181480"/>
            <a:ext cx="487692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標楷體"/>
              </a:rPr>
              <a:t>有蓋操場</a:t>
            </a:r>
            <a:endParaRPr b="0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標楷體"/>
              <a:ea typeface="標楷體"/>
            </a:endParaRPr>
          </a:p>
        </p:txBody>
      </p:sp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5:14:03Z</dcterms:created>
  <dc:creator>adrienne</dc:creator>
  <dc:description/>
  <dc:language>en-US</dc:language>
  <cp:lastModifiedBy>adrienne</cp:lastModifiedBy>
  <dcterms:modified xsi:type="dcterms:W3CDTF">2001-05-23T14:34:13Z</dcterms:modified>
  <cp:revision>8</cp:revision>
  <dc:subject/>
  <dc:title>New Method College</dc:title>
</cp:coreProperties>
</file>