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50D7-4762-450F-855B-ACC896E7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0779-D57B-4DEF-8FE5-25F4C693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D414-03E0-4A84-91D5-12A9AC01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27FC-CEE9-4A73-A132-7DB11C60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2726-C508-4830-89B5-452501CA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989D-ECB2-4E79-A644-B039169F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2FFF-684D-4DC7-ACEC-0461E4C9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EDF7-E581-40D3-B0AE-C11E3047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A080-E232-4482-9F24-1357E2C2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F962-9E5B-4DC9-A7CB-2D42638C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68A6-E771-4ED5-9059-A6E4285C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5365-C76B-43C6-BCF1-6FF9A4E5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306C-5BC1-4086-AEC0-405452D25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otebook" descr=""/>
          <p:cNvPicPr/>
          <p:nvPr/>
        </p:nvPicPr>
        <p:blipFill>
          <a:blip r:embed="rId1"/>
          <a:stretch/>
        </p:blipFill>
        <p:spPr>
          <a:xfrm>
            <a:off x="457200" y="0"/>
            <a:ext cx="42847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notebook" descr=""/>
          <p:cNvPicPr/>
          <p:nvPr/>
        </p:nvPicPr>
        <p:blipFill>
          <a:blip r:embed="rId2"/>
          <a:stretch/>
        </p:blipFill>
        <p:spPr>
          <a:xfrm>
            <a:off x="537516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7T22:38:58Z</dcterms:created>
  <dc:creator>Stefan Schäfer</dc:creator>
  <dc:description/>
  <dc:language>en-US</dc:language>
  <cp:lastModifiedBy>Stefan Schäfer</cp:lastModifiedBy>
  <dcterms:modified xsi:type="dcterms:W3CDTF">2001-06-07T22:41:04Z</dcterms:modified>
  <cp:revision>1</cp:revision>
  <dc:subject/>
  <dc:title>PowerPoint Presentation</dc:title>
</cp:coreProperties>
</file>