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18D-F1CB-43D8-A480-2C9920EE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C12-D527-4E03-BA19-0AE363F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102-7769-450A-83DE-5A663E1D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5A8-61AD-4037-AFAB-2B49E0C3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B3A-5F22-4E35-B9D6-0C82255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952-F44B-4988-8611-47FF086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0AA-0D26-4F08-B6A8-DF3EF835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953-38C6-4C19-AD72-887413ED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4DB-0E04-4CF0-A2ED-95DDADD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0B7-5AAF-4102-A5A8-CC5FEA2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A90-3A51-47F3-91E9-DAC8D934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B68-FF28-41AE-8177-510633A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C4E2-8EBA-4C6D-9A61-D4CE2DE96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4" descr=""/>
          <p:cNvPicPr/>
          <p:nvPr/>
        </p:nvPicPr>
        <p:blipFill>
          <a:blip r:embed="rId1"/>
          <a:stretch/>
        </p:blipFill>
        <p:spPr>
          <a:xfrm>
            <a:off x="304920" y="0"/>
            <a:ext cx="4543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a4" descr=""/>
          <p:cNvPicPr/>
          <p:nvPr/>
        </p:nvPicPr>
        <p:blipFill>
          <a:blip r:embed="rId2"/>
          <a:stretch/>
        </p:blipFill>
        <p:spPr>
          <a:xfrm>
            <a:off x="510552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22:37:46Z</dcterms:created>
  <dc:creator>Stefan Schäfer</dc:creator>
  <dc:description/>
  <dc:language>en-US</dc:language>
  <cp:lastModifiedBy>Stefan Schäfer</cp:lastModifiedBy>
  <dcterms:modified xsi:type="dcterms:W3CDTF">2001-06-07T22:38:47Z</dcterms:modified>
  <cp:revision>1</cp:revision>
  <dc:subject/>
  <dc:title>PowerPoint Presentation</dc:title>
</cp:coreProperties>
</file>