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C8F-3FC3-481C-8D99-C0BDC7BF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C0D-A9CE-4A3D-BA29-CE173651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EDA-132B-4C12-B2C6-B00414BC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442-B3C0-408F-9138-DB095DD7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DCC-D0A1-42D7-8A03-21C6F87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2C0-2AE9-46AB-A50C-FD3D0BE8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E25-6A32-4224-A337-DB54A8A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B69-63EA-45AD-8939-389E352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FFF-D090-44C8-A4BF-0052BA6D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599-500D-4BFB-B29B-8350327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6AD-536F-4BA5-91A8-7C98E2B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682-D89C-4BCC-A3CB-60196C1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41FC-70B8-4A70-9159-A185629D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4200" y="150840"/>
            <a:ext cx="6480360" cy="8920800"/>
            <a:chOff x="214200" y="150840"/>
            <a:chExt cx="6480360" cy="8920800"/>
          </a:xfrm>
        </p:grpSpPr>
        <p:grpSp>
          <p:nvGrpSpPr>
            <p:cNvPr id="42" name=""/>
            <p:cNvGrpSpPr/>
            <p:nvPr/>
          </p:nvGrpSpPr>
          <p:grpSpPr>
            <a:xfrm>
              <a:off x="214200" y="150840"/>
              <a:ext cx="6478560" cy="4499640"/>
              <a:chOff x="214200" y="150840"/>
              <a:chExt cx="6478560" cy="4499640"/>
            </a:xfrm>
          </p:grpSpPr>
          <p:pic>
            <p:nvPicPr>
              <p:cNvPr id="43" name="recuerdo%20copy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200" y="152280"/>
                <a:ext cx="6478560" cy="419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>
                <a:off x="533520" y="3278160"/>
                <a:ext cx="2819160" cy="10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3er. Aniversar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 </a:t>
                </a: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Luctuos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23 – Marzo – 200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343400" y="150840"/>
                <a:ext cx="167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4000" spc="-1" strike="noStrike">
                    <a:solidFill>
                      <a:srgbClr val="3333cc"/>
                    </a:solidFill>
                    <a:latin typeface="ALS Script"/>
                  </a:rPr>
                  <a:t>Lupit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419720" y="3886200"/>
                <a:ext cx="1676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3333cc"/>
                    </a:solidFill>
                    <a:latin typeface="Monotype Corsiva"/>
                  </a:rPr>
                  <a:t>1979 - 200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16000" y="4572000"/>
              <a:ext cx="6478560" cy="4499640"/>
              <a:chOff x="216000" y="4572000"/>
              <a:chExt cx="6478560" cy="4499640"/>
            </a:xfrm>
          </p:grpSpPr>
          <p:pic>
            <p:nvPicPr>
              <p:cNvPr id="48" name="recuerdo%20copy" descr=""/>
              <p:cNvPicPr/>
              <p:nvPr/>
            </p:nvPicPr>
            <p:blipFill>
              <a:blip r:embed="rId2"/>
              <a:stretch/>
            </p:blipFill>
            <p:spPr>
              <a:xfrm>
                <a:off x="216000" y="4573440"/>
                <a:ext cx="6478560" cy="419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535320" y="7699320"/>
                <a:ext cx="2819160" cy="10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3er. Aniversar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 </a:t>
                </a: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Luctuos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3333cc"/>
                    </a:solidFill>
                    <a:latin typeface="Monotype Corsiva"/>
                  </a:rPr>
                  <a:t>23 – Marzo – 200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345200" y="4572000"/>
                <a:ext cx="167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4000" spc="-1" strike="noStrike">
                    <a:solidFill>
                      <a:srgbClr val="3333cc"/>
                    </a:solidFill>
                    <a:latin typeface="ALS Script"/>
                  </a:rPr>
                  <a:t>Lupit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421520" y="8307360"/>
                <a:ext cx="1676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3333cc"/>
                    </a:solidFill>
                    <a:latin typeface="Monotype Corsiva"/>
                  </a:rPr>
                  <a:t>1979 - 200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0840" y="216000"/>
            <a:ext cx="6481440" cy="9639360"/>
            <a:chOff x="150840" y="216000"/>
            <a:chExt cx="6481440" cy="9639360"/>
          </a:xfrm>
        </p:grpSpPr>
        <p:grpSp>
          <p:nvGrpSpPr>
            <p:cNvPr id="53" name=""/>
            <p:cNvGrpSpPr/>
            <p:nvPr/>
          </p:nvGrpSpPr>
          <p:grpSpPr>
            <a:xfrm>
              <a:off x="150840" y="216000"/>
              <a:ext cx="6481440" cy="5256720"/>
              <a:chOff x="150840" y="216000"/>
              <a:chExt cx="6481440" cy="5256720"/>
            </a:xfrm>
          </p:grpSpPr>
          <p:pic>
            <p:nvPicPr>
              <p:cNvPr id="54" name="recuerdotras1%20copy" descr=""/>
              <p:cNvPicPr/>
              <p:nvPr/>
            </p:nvPicPr>
            <p:blipFill>
              <a:blip r:embed="rId1"/>
              <a:stretch/>
            </p:blipFill>
            <p:spPr>
              <a:xfrm>
                <a:off x="171360" y="216000"/>
                <a:ext cx="6460920" cy="41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3475440" y="257040"/>
                <a:ext cx="3039480" cy="50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Piensen en Mi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QUERIDOS PAPÁ Y MAMÁ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ustedes me aman, no lloren más por mí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conocieran el misterio insondable del cielo donde me encuentro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pudieran ver y sentir lo que yo siento y veo en los horizontes sin fin y en esta Luz que todo lo alcanza y penetra, ustedes jamás llorarían por m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stoy absorta por el encanto de Dios y por sus expresiones de infinita belleza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n confrontación con ésta nueva vida, las cosas del pasado son pequeñas e insignificant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Conservo aún todo mi amor por ustedes y una ternura que jamás pude en verdad revelarles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Nos amamos entrañablemente en vida pero todo era entonces muy fugaz y limitado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Piensen en mí en sus luchas diarias; piensen en ésta maravillosa morada donde no existe la muerte y donde estoy junto a la Fuente inagotable de la alegría y del amo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verdaderamente me aman, no lloren más por m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Estoy en paz 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u hija que les ador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500" spc="-1" strike="noStrike">
                    <a:solidFill>
                      <a:srgbClr val="000000"/>
                    </a:solidFill>
                    <a:latin typeface="ALS Script"/>
                    <a:ea typeface="Tahoma"/>
                  </a:rPr>
                  <a:t> </a:t>
                </a:r>
                <a:r>
                  <a:rPr b="1" lang="es-ES" sz="2500" spc="-1" strike="noStrike">
                    <a:solidFill>
                      <a:srgbClr val="000000"/>
                    </a:solidFill>
                    <a:latin typeface="ALS Script"/>
                    <a:ea typeface="Tahoma"/>
                  </a:rPr>
                  <a:t>Lupita.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0840" y="294480"/>
                <a:ext cx="3267720" cy="51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“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Queridos Mamá y Papá”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 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Les escribo desde mi nueva vida y aunque hace tiempo que nos hemos separado, siento que aún sigo siendo alguien de casa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n un “de repente” tan insospechado, Dios me llamó a su luz y presencia. Es verdad que nuestra pequeña familia marchaba muy bien ... teníamos tantos proyectos e ilusiones por compartir, Recién descubría yo el amanecer del Amor... pero Dios me llamó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Ahora mi familia es muy numerosa. Desde luego son ustedes mismos, pero en Dios. Estoy vivo en un “hoy”  sin límites, en donde el Señor me colma de Amor y Paz; ese Amor y esa Paz que con esta carta busco transmitir a usted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oy inmensamente feliz. Respiro y vivo de Dios. Con sus ojos los miro a ustedes, los acaricio y abrazo con sus manos y los amo con su corazón. Y aunque no me ven físicamente, estoy ahí, en cada amanecer, en cada flor en cada uno de ustedes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Ustedes me enseñaron a ser y a vivir en la felicidad y en el servir a los demás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Estoy  viva !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La nueva vida que Dios me ha regalado no es otra cosa más que la comunión eterna con el Universo y con Él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Créanlo !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Dios me necesitaba aquí. Necesitaba de mi espíritu y yo, siempre le pertenec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Ábranse a Su calor y con una esperanza despierta, mantengan brillante la luz de la fe que ustedes mismos acuñaron en mí. Y aunque hace tan poco que nos hemos separado, si mantienen alerta la fe, yo estaré siempre con usted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150840" y="4596840"/>
              <a:ext cx="6481440" cy="5258520"/>
              <a:chOff x="150840" y="4596840"/>
              <a:chExt cx="6481440" cy="5258520"/>
            </a:xfrm>
          </p:grpSpPr>
          <p:pic>
            <p:nvPicPr>
              <p:cNvPr id="58" name="recuerdotras1%20copy" descr=""/>
              <p:cNvPicPr/>
              <p:nvPr/>
            </p:nvPicPr>
            <p:blipFill>
              <a:blip r:embed="rId2"/>
              <a:stretch/>
            </p:blipFill>
            <p:spPr>
              <a:xfrm>
                <a:off x="171360" y="4596840"/>
                <a:ext cx="6460920" cy="41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475440" y="4638960"/>
                <a:ext cx="3039480" cy="50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Piensen en Mi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QUERIDOS PAPÁ Y MAMÁ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ustedes me aman, no lloren más por mí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conocieran el misterio insondable del cielo donde me encuentro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pudieran ver y sentir lo que yo siento y veo en los horizontes sin fin y en esta Luz que todo lo alcanza y penetra, ustedes jamás llorarían por m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stoy absorta por el encanto de Dios y por sus expresiones de infinita belleza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n confrontación con ésta nueva vida, las cosas del pasado son pequeñas e insignificant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Conservo aún todo mi amor por ustedes y una ternura que jamás pude en verdad revelarles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Nos amamos entrañablemente en vida pero todo era entonces muy fugaz y limitado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Piensen en mí en sus luchas diarias; piensen en ésta maravillosa morada donde no existe la muerte y donde estoy junto a la Fuente inagotable de la alegría y del amo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i verdaderamente me aman, no lloren más por m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Estoy en paz 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u hija que les ador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500" spc="-1" strike="noStrike">
                    <a:solidFill>
                      <a:srgbClr val="000000"/>
                    </a:solidFill>
                    <a:latin typeface="ALS Script"/>
                    <a:ea typeface="Tahoma"/>
                  </a:rPr>
                  <a:t> </a:t>
                </a:r>
                <a:r>
                  <a:rPr b="1" lang="es-ES" sz="2500" spc="-1" strike="noStrike">
                    <a:solidFill>
                      <a:srgbClr val="000000"/>
                    </a:solidFill>
                    <a:latin typeface="ALS Script"/>
                    <a:ea typeface="Tahoma"/>
                  </a:rPr>
                  <a:t>Lupita.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0840" y="4677120"/>
                <a:ext cx="3267720" cy="51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“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Queridos Mamá y Papá”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 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Les escribo desde mi nueva vida y aunque hace tiempo que nos hemos separado, siento que aún sigo siendo alguien de casa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En un “de repente” tan insospechado, Dios me llamó a su luz y presencia. Es verdad que nuestra pequeña familia marchaba muy bien ... teníamos tantos proyectos e ilusiones por compartir, Recién descubría yo el amanecer del Amor... pero Dios me llamó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Ahora mi familia es muy numerosa. Desde luego son ustedes mismos, pero en Dios. Estoy vivo en un “hoy”  sin límites, en donde el Señor me colma de Amor y Paz; ese Amor y esa Paz que con esta carta busco transmitir a usted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Soy inmensamente feliz. Respiro y vivo de Dios. Con sus ojos los miro a ustedes, los acaricio y abrazo con sus manos y los amo con su corazón. Y aunque no me ven físicamente, estoy ahí, en cada amanecer, en cada flor en cada uno de ustedes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Ustedes me enseñaron a ser y a vivir en la felicidad y en el servir a los demás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Estoy  viva !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La nueva vida que Dios me ha regalado no es otra cosa más que la comunión eterna con el Universo y con Él.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¡ Créanlo !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 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Dios me necesitaba aquí. Necesitaba de mi espíritu y yo, siempre le pertenecí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 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Boring Boring"/>
                    <a:ea typeface="Tahoma"/>
                  </a:rPr>
                  <a:t>Ábranse a Su calor y con una esperanza despierta, mantengan brillante la luz de la fe que ustedes mismos acuñaron en mí. Y aunque hace tan poco que nos hemos separado, si mantienen alerta la fe, yo estaré siempre con usted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6:37:29Z</dcterms:created>
  <dc:creator>aluimp</dc:creator>
  <dc:description/>
  <dc:language>en-US</dc:language>
  <cp:lastModifiedBy>aluimp</cp:lastModifiedBy>
  <dcterms:modified xsi:type="dcterms:W3CDTF">2004-03-15T16:27:57Z</dcterms:modified>
  <cp:revision>10</cp:revision>
  <dc:subject/>
  <dc:title>Presentación de PowerPoint</dc:title>
</cp:coreProperties>
</file>