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844-E174-413E-B617-C83FB571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AC0-786F-4FAA-AB48-F4832E2D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F4D-B343-48D2-9609-BC8E84A1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074-20B3-4B0A-A86F-1DDE9485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8B1-A70B-47E4-A265-596722CD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469-01C9-46F5-BA72-B4054D3F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9DA-EB2D-4AA0-962D-4B030FCC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A54-162D-474F-BF2A-5F7EC767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102-4B21-4511-9B2E-B64B2249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E9B-B1F5-4E24-80DD-BA3DDDD4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1C1-DC28-4CF5-9FE0-C6ECB524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EFF-6A6B-4B93-842E-99F61F7A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95A6-1504-489F-B589-9E9C7C934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hyperlink" Target="http://www.priestsforlife.org/resources/monica/m27.htm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orrible Truth about Ab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show contains a lot of truthful graphics if you do not wish to watch this just send it on hopefully our stupid country will use common sense and change our barbaric ways ~Diana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8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1880" y="858960"/>
            <a:ext cx="534024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BABIES HAVE D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Ye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                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996            1,365,7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995            1,363,7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994            1,431,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993            1,500,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992            1,528,9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991            1,556,5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990            1,608,6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988            1,590,8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985            1,588,6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980            1,553,9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973               774,6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,000 each d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a difference people Thanks 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aby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686040" cy="3733920"/>
          </a:xfrm>
          <a:prstGeom prst="rect">
            <a:avLst/>
          </a:prstGeom>
          <a:ln w="0">
            <a:noFill/>
          </a:ln>
        </p:spPr>
      </p:pic>
      <p:pic>
        <p:nvPicPr>
          <p:cNvPr id="71" name="ho_baby_000502_h" descr=""/>
          <p:cNvPicPr/>
          <p:nvPr/>
        </p:nvPicPr>
        <p:blipFill>
          <a:blip r:embed="rId3"/>
          <a:stretch/>
        </p:blipFill>
        <p:spPr>
          <a:xfrm>
            <a:off x="5181480" y="4068720"/>
            <a:ext cx="32385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gly 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DavidHead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2962440" cy="2157120"/>
          </a:xfrm>
          <a:prstGeom prst="rect">
            <a:avLst/>
          </a:prstGeom>
          <a:ln w="0">
            <a:noFill/>
          </a:ln>
        </p:spPr>
      </p:pic>
      <p:pic>
        <p:nvPicPr>
          <p:cNvPr id="45" name="Baby_in_Coffin" descr=""/>
          <p:cNvPicPr/>
          <p:nvPr/>
        </p:nvPicPr>
        <p:blipFill>
          <a:blip r:embed="rId3"/>
          <a:stretch/>
        </p:blipFill>
        <p:spPr>
          <a:xfrm>
            <a:off x="6019920" y="3276720"/>
            <a:ext cx="2361960" cy="291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46483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Kill these babies like they are chickens and throw them in the trash… what happened to our country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gly 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1weekbody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937400" cy="3954600"/>
          </a:xfrm>
          <a:prstGeom prst="rect">
            <a:avLst/>
          </a:prstGeom>
          <a:ln w="0">
            <a:noFill/>
          </a:ln>
        </p:spPr>
      </p:pic>
      <p:pic>
        <p:nvPicPr>
          <p:cNvPr id="49" name="partial20birth" descr=""/>
          <p:cNvPicPr/>
          <p:nvPr/>
        </p:nvPicPr>
        <p:blipFill>
          <a:blip r:embed="rId3"/>
          <a:stretch/>
        </p:blipFill>
        <p:spPr>
          <a:xfrm>
            <a:off x="60958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gly 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avidFront-1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2597040" cy="1805040"/>
          </a:xfrm>
          <a:prstGeom prst="rect">
            <a:avLst/>
          </a:prstGeom>
          <a:ln w="0">
            <a:noFill/>
          </a:ln>
        </p:spPr>
      </p:pic>
      <p:pic>
        <p:nvPicPr>
          <p:cNvPr id="52" name="jh8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685880" cy="1885680"/>
          </a:xfrm>
          <a:prstGeom prst="rect">
            <a:avLst/>
          </a:prstGeom>
          <a:ln w="0">
            <a:noFill/>
          </a:ln>
        </p:spPr>
      </p:pic>
      <p:pic>
        <p:nvPicPr>
          <p:cNvPr id="53" name="jh5" descr=""/>
          <p:cNvPicPr/>
          <p:nvPr/>
        </p:nvPicPr>
        <p:blipFill>
          <a:blip r:embed="rId4"/>
          <a:stretch/>
        </p:blipFill>
        <p:spPr>
          <a:xfrm>
            <a:off x="3809880" y="2286000"/>
            <a:ext cx="33530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gly Tru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jh10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1857240" cy="2905200"/>
          </a:xfrm>
          <a:prstGeom prst="rect">
            <a:avLst/>
          </a:prstGeom>
          <a:ln w="0">
            <a:noFill/>
          </a:ln>
        </p:spPr>
      </p:pic>
      <p:pic>
        <p:nvPicPr>
          <p:cNvPr id="56" name="Suction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33148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rtionists have done an excellent job using propaganda to make this sickening act seem like a wonderful thing to h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"In fact many women will come to me considering abortion, and I have been personally told that I am to turn the monitor away from her view so that seeing her baby jump around on the screen does not influence her choice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hari Richards, quoted from the John Ankerburg Show on 3/7/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87400" y="992160"/>
            <a:ext cx="5570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0000"/>
                </a:solidFill>
                <a:latin typeface="Californian FB"/>
              </a:rPr>
              <a:t>The photo that some don't want you to se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orbidden_Small" descr="Forbidden Small.jpg (15164 bytes)"/>
          <p:cNvPicPr/>
          <p:nvPr/>
        </p:nvPicPr>
        <p:blipFill>
          <a:blip r:embed="rId2"/>
          <a:stretch/>
        </p:blipFill>
        <p:spPr>
          <a:xfrm>
            <a:off x="1978200" y="1403280"/>
            <a:ext cx="5029200" cy="3851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"A person is a person, no matter how small.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Comic Sans MS"/>
              </a:rPr>
              <a:t>--Dr. Se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arbaget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3886200" cy="2754360"/>
          </a:xfrm>
          <a:prstGeom prst="rect">
            <a:avLst/>
          </a:prstGeom>
          <a:ln w="0">
            <a:noFill/>
          </a:ln>
        </p:spPr>
      </p:pic>
      <p:pic>
        <p:nvPicPr>
          <p:cNvPr id="63" name="m27_small" descr="m27.jpg (25061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762120"/>
            <a:ext cx="358128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bort06" descr=""/>
          <p:cNvPicPr/>
          <p:nvPr/>
        </p:nvPicPr>
        <p:blipFill>
          <a:blip r:embed="rId2"/>
          <a:stretch/>
        </p:blipFill>
        <p:spPr>
          <a:xfrm>
            <a:off x="2714760" y="800280"/>
            <a:ext cx="3714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6:52:24Z</dcterms:created>
  <dc:creator>SRHS</dc:creator>
  <dc:description/>
  <dc:language>en-US</dc:language>
  <cp:lastModifiedBy>User</cp:lastModifiedBy>
  <dcterms:modified xsi:type="dcterms:W3CDTF">2003-11-24T15:13:02Z</dcterms:modified>
  <cp:revision>4</cp:revision>
  <dc:subject/>
  <dc:title>The Horrible Truth about abortion</dc:title>
</cp:coreProperties>
</file>