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3A13-93FD-4590-98D2-A24CC3A86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interviewing new candidates for the product marketing 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week, each of you will interview the candidates who meet initial qual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need all reports for the weekly meeting by F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er of the company profit sharing party next Fri. Work half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agenda for new division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need to review the advertising company list by F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: See me about weekly division report after this mee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us on the advertising budget and next year’s advertising 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agenda for new division i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need the marketing report by W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: Come by my office later this afternoon to review the sales meeting 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agenda for new division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5E6-B529-4613-BA48-09C2DC63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216-8C65-4A80-9E2B-A9FB61E8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525A-BB95-4E27-888D-A2CF7930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1D7-D3B6-4075-8C0A-3EBEACBF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0D21-DECE-4F50-ABD7-1F2817B5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B2FC-19F7-4A2D-82F2-AF123E97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DD53-CB3F-449F-A18C-948B05D5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19A2-5A26-4433-AD5D-01C6B287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B060-A84F-470D-8402-0B0597EB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E5EC-B925-4244-8C23-BF4449AD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912B-038F-4972-AEEC-1E022352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557-1D2F-4386-AF55-C31A6F59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9810-D31F-4378-82ED-E3040E29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1979-60D4-405A-A3E2-07945671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EA17-8284-477C-9457-723597A5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39E1-255B-437D-8E69-094DA945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B5AA-6F5F-497E-99BA-47722416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B87-FDFB-4590-BA57-DEEA85EF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7B9-186C-4B08-A44B-BA8C0739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E87-2E34-43A1-9792-9C5B5F25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B1B-D32B-4B05-A0D7-E66A8D2A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0C2-F8E0-4D72-AB0B-BBE5360D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7F1-A1F1-4603-94D0-A0AE404E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9FF-9C17-4617-866F-0A73A5D8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56E9-2668-44C1-9CA7-5AEF3A9D187D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9682-5E95-4320-BD2E-AC3D4F5FB65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99E0-C4C9-4D7F-96D1-1B716A1E173D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6A53-2017-4DFC-9B6E-4271A09F4E61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6175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duct Marke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es Boling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ug. 2, 200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Laura LoSciu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BD0D4E2-451E-4D74-81FC-9281912611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eekly Meeting for Marketing Grou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ura LoSciu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9196E-FE3A-4233-8967-18ED0A5327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als for the Wee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terview for new marketing re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scuss new procedures with Pacific Rim marketing rep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epare for weekly division meeting next Mon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ura LoSciu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7502C-AED3-4866-B0BA-F5EFD9132B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als for the Wee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pri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mplete division advertising plan for next yea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stablish preliminary advertising budget for division V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vestigate new advertising agencies for compan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ura LoSciu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636D2-F80C-4E4C-9D11-DE9A2FBB93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als for the Wee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Joh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vise product marketing repor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t up plan for the annual sales meet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urs.—fly to Phoenix for sales meeting planning sess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aura LoSciu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0EBE1-A8DE-41CF-B9D3-5D5343FF1A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18:20:41Z</dcterms:created>
  <dc:creator>rtsang</dc:creator>
  <dc:description/>
  <dc:language>en-US</dc:language>
  <cp:lastModifiedBy>rtsang</cp:lastModifiedBy>
  <dcterms:modified xsi:type="dcterms:W3CDTF">2004-06-03T17:31:52Z</dcterms:modified>
  <cp:revision>5</cp:revision>
  <dc:subject/>
  <dc:title>PowerPoint Presentation</dc:title>
</cp:coreProperties>
</file>