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BCF-4751-42AD-AF3C-8452CA1D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AD9-23E8-42DE-BCC5-CF084812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F155-08AD-466D-AFE8-137CD34C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3050-7A76-4D8D-A128-C77D7A80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D776-0375-4CB7-992A-CB87A520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7417-A80A-40C3-892E-9EF48875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0A60-B6C8-4C28-8526-F232681F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8403-EBF9-4B92-A626-8154A327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0A4E-7B90-4EC8-85C2-C714324F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23E1-6FC0-4C92-AE15-324BCBA8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5293-0D7C-443B-87E4-A4977024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AF90-68C9-4309-87E0-E7E5A302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3D14-F6ED-4D19-83A9-01C614C4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BFAC-9FBF-42CE-9B53-D316B090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D419-70D5-4953-9D2A-64FE33E1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C892-2031-4A04-A6A4-3AA74B54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9EC4-6DAD-4048-A790-247C09EB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E6CD-9DD0-4F9B-9120-2F2010C1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74F-4867-4C1D-B9A1-0CEFA03B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0EE-B251-45D5-94E8-39CEECB7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6CF-EB60-4AA1-8F42-35C268B6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D393-B7BD-4143-9104-8738C2D9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ECC-3988-4A8E-86E1-9AC6BEF5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B4D-798C-49E2-8DA6-3E84FACC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DF11-7917-4CCA-B5FC-9C359C14DD1F}" type="datetime">
              <a:rPr b="0" lang="en-US" sz="14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1FA4-60DA-420D-B274-CA6FDEB6F60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9A01-6296-4C9F-8D57-85E5218178BB}" type="datetime">
              <a:rPr b="0" lang="en-US" sz="1400" spc="-1" strike="noStrike">
                <a:solidFill>
                  <a:srgbClr val="80808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260F-7910-462D-BF52-D00CA2AD4D4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Selling MediaLoft Product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aura LoSciuto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Laura LoSciu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1B92-35F7-4B5A-A75B-5EDCF493C98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32EA888-2799-47C8-BC5B-08533CD71B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tate the desired objectiv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Use multiple points if necessar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ura LoSciu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9604-1499-4AE2-B832-8B5E9C8F85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F24B1-17DA-4BFE-86C9-8DC9106FADF0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ustomer Require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onfirm the audience’s needs if you are not sur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tate the needs of the audien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3048120"/>
            <a:ext cx="1676160" cy="10666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isfac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905120"/>
            <a:ext cx="1128960" cy="765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1"/>
            <a:endCxn id="116" idx="5"/>
          </p:cNvCxnSpPr>
          <p:nvPr/>
        </p:nvCxnSpPr>
        <p:spPr>
          <a:xfrm flipH="1" flipV="1">
            <a:off x="1343880" y="2556720"/>
            <a:ext cx="578520" cy="646920"/>
          </a:xfrm>
          <a:prstGeom prst="straightConnector1">
            <a:avLst/>
          </a:prstGeom>
          <a:ln w="9360">
            <a:solidFill>
              <a:srgbClr val="f8f8f8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3505320" y="1905120"/>
            <a:ext cx="1052280" cy="7729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5" idx="7"/>
            <a:endCxn id="118" idx="3"/>
          </p:cNvCxnSpPr>
          <p:nvPr/>
        </p:nvCxnSpPr>
        <p:spPr>
          <a:xfrm flipV="1">
            <a:off x="3106800" y="2564640"/>
            <a:ext cx="552960" cy="639000"/>
          </a:xfrm>
          <a:prstGeom prst="straightConnector1">
            <a:avLst/>
          </a:prstGeom>
          <a:ln w="9360">
            <a:solidFill>
              <a:srgbClr val="f8f8f8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1905120" y="4800600"/>
            <a:ext cx="1218960" cy="8222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20" idx="0"/>
            <a:endCxn id="115" idx="4"/>
          </p:cNvCxnSpPr>
          <p:nvPr/>
        </p:nvCxnSpPr>
        <p:spPr>
          <a:xfrm flipV="1">
            <a:off x="2514240" y="4114080"/>
            <a:ext cx="1080" cy="686520"/>
          </a:xfrm>
          <a:prstGeom prst="straightConnector1">
            <a:avLst/>
          </a:prstGeom>
          <a:ln w="9360">
            <a:solidFill>
              <a:srgbClr val="f8f8f8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ura LoSciu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DBF1-0BD2-4F43-BC6D-F1D4727D25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28AAF-9A28-48E2-9B9A-AC49ABE3C2FB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eeting the Nee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ist the products and features, and how each addresses a specific need or solves a specific problem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is section may require multiple slid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715000" y="3428640"/>
            <a:ext cx="3886200" cy="3505320"/>
            <a:chOff x="5715000" y="3428640"/>
            <a:chExt cx="3886200" cy="3505320"/>
          </a:xfrm>
        </p:grpSpPr>
        <p:sp>
          <p:nvSpPr>
            <p:cNvPr id="125" name="PyramidChart 1;Item 5"/>
            <p:cNvSpPr/>
            <p:nvPr/>
          </p:nvSpPr>
          <p:spPr>
            <a:xfrm flipV="1">
              <a:off x="5715000" y="6231960"/>
              <a:ext cx="3886200" cy="701640"/>
            </a:xfrm>
            <a:custGeom>
              <a:avLst/>
              <a:gdLst>
                <a:gd name="textAreaLeft" fmla="*/ 530640 w 3886200"/>
                <a:gd name="textAreaRight" fmla="*/ 3355560 w 3886200"/>
                <a:gd name="textAreaTop" fmla="*/ 95760 h 701640"/>
                <a:gd name="textAreaBottom" fmla="*/ 60588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5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6" name="PyramidChart 1;Item 4"/>
            <p:cNvSpPr/>
            <p:nvPr/>
          </p:nvSpPr>
          <p:spPr>
            <a:xfrm flipV="1">
              <a:off x="6103800" y="5531760"/>
              <a:ext cx="3108600" cy="700200"/>
            </a:xfrm>
            <a:custGeom>
              <a:avLst/>
              <a:gdLst>
                <a:gd name="textAreaLeft" fmla="*/ 467640 w 3108600"/>
                <a:gd name="textAreaRight" fmla="*/ 2640960 w 3108600"/>
                <a:gd name="textAreaTop" fmla="*/ 105120 h 700200"/>
                <a:gd name="textAreaBottom" fmla="*/ 59508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7" name="PyramidChart 1;Item 3"/>
            <p:cNvSpPr/>
            <p:nvPr/>
          </p:nvSpPr>
          <p:spPr>
            <a:xfrm flipV="1">
              <a:off x="6492960" y="4830120"/>
              <a:ext cx="2330280" cy="701640"/>
            </a:xfrm>
            <a:custGeom>
              <a:avLst/>
              <a:gdLst>
                <a:gd name="textAreaLeft" fmla="*/ 404280 w 2330280"/>
                <a:gd name="textAreaRight" fmla="*/ 1926000 w 2330280"/>
                <a:gd name="textAreaTop" fmla="*/ 121680 h 701640"/>
                <a:gd name="textAreaBottom" fmla="*/ 57996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8" name="PyramidChart 1;Item 2"/>
            <p:cNvSpPr/>
            <p:nvPr/>
          </p:nvSpPr>
          <p:spPr>
            <a:xfrm flipV="1">
              <a:off x="6880320" y="4130640"/>
              <a:ext cx="1552320" cy="698400"/>
            </a:xfrm>
            <a:custGeom>
              <a:avLst/>
              <a:gdLst>
                <a:gd name="textAreaLeft" fmla="*/ 341280 w 1552320"/>
                <a:gd name="textAreaRight" fmla="*/ 1211040 w 1552320"/>
                <a:gd name="textAreaTop" fmla="*/ 153360 h 698400"/>
                <a:gd name="textAreaBottom" fmla="*/ 54504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2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9" name="PyramidChart 1;Item 1"/>
            <p:cNvSpPr/>
            <p:nvPr/>
          </p:nvSpPr>
          <p:spPr>
            <a:xfrm flipV="1">
              <a:off x="7269120" y="3428280"/>
              <a:ext cx="777960" cy="701640"/>
            </a:xfrm>
            <a:custGeom>
              <a:avLst/>
              <a:gdLst>
                <a:gd name="textAreaLeft" fmla="*/ 279000 w 777960"/>
                <a:gd name="textAreaRight" fmla="*/ 498960 w 777960"/>
                <a:gd name="textAreaTop" fmla="*/ 251640 h 701640"/>
                <a:gd name="textAreaBottom" fmla="*/ 45000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1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131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custGeom>
              <a:avLst/>
              <a:gdLst>
                <a:gd name="textAreaLeft" fmla="*/ 467640 w 3108600"/>
                <a:gd name="textAreaRight" fmla="*/ 2640960 w 3108600"/>
                <a:gd name="textAreaTop" fmla="*/ 105120 h 699840"/>
                <a:gd name="textAreaBottom" fmla="*/ 594720 h 69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2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custGeom>
              <a:avLst/>
              <a:gdLst>
                <a:gd name="textAreaLeft" fmla="*/ 404280 w 2330280"/>
                <a:gd name="textAreaRight" fmla="*/ 1926000 w 2330280"/>
                <a:gd name="textAreaTop" fmla="*/ 121680 h 702000"/>
                <a:gd name="textAreaBottom" fmla="*/ 580320 h 7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3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custGeom>
              <a:avLst/>
              <a:gdLst>
                <a:gd name="textAreaLeft" fmla="*/ 341280 w 1552320"/>
                <a:gd name="textAreaRight" fmla="*/ 1211040 w 1552320"/>
                <a:gd name="textAreaTop" fmla="*/ 153360 h 698400"/>
                <a:gd name="textAreaBottom" fmla="*/ 54504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2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4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custGeom>
              <a:avLst/>
              <a:gdLst>
                <a:gd name="textAreaLeft" fmla="*/ 279000 w 777960"/>
                <a:gd name="textAreaRight" fmla="*/ 498960 w 777960"/>
                <a:gd name="textAreaTop" fmla="*/ 251640 h 701640"/>
                <a:gd name="textAreaBottom" fmla="*/ 45000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1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508800" y="761760"/>
            <a:ext cx="2330280" cy="2103840"/>
            <a:chOff x="6508800" y="761760"/>
            <a:chExt cx="2330280" cy="2103840"/>
          </a:xfrm>
        </p:grpSpPr>
        <p:sp>
          <p:nvSpPr>
            <p:cNvPr id="136" name="PyramidChart 1;Item 3"/>
            <p:cNvSpPr/>
            <p:nvPr/>
          </p:nvSpPr>
          <p:spPr>
            <a:xfrm flipV="1">
              <a:off x="6508800" y="2163600"/>
              <a:ext cx="2330280" cy="702000"/>
            </a:xfrm>
            <a:custGeom>
              <a:avLst/>
              <a:gdLst>
                <a:gd name="textAreaLeft" fmla="*/ 404280 w 2330280"/>
                <a:gd name="textAreaRight" fmla="*/ 1926000 w 2330280"/>
                <a:gd name="textAreaTop" fmla="*/ 121680 h 702000"/>
                <a:gd name="textAreaBottom" fmla="*/ 580320 h 7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7" name="PyramidChart 1;Item 2"/>
            <p:cNvSpPr/>
            <p:nvPr/>
          </p:nvSpPr>
          <p:spPr>
            <a:xfrm flipV="1">
              <a:off x="6896160" y="1463400"/>
              <a:ext cx="1552680" cy="698400"/>
            </a:xfrm>
            <a:custGeom>
              <a:avLst/>
              <a:gdLst>
                <a:gd name="textAreaLeft" fmla="*/ 341280 w 1552680"/>
                <a:gd name="textAreaRight" fmla="*/ 1211400 w 1552680"/>
                <a:gd name="textAreaTop" fmla="*/ 153360 h 698400"/>
                <a:gd name="textAreaBottom" fmla="*/ 54504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2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8" name="PyramidChart 1;Item 1"/>
            <p:cNvSpPr/>
            <p:nvPr/>
          </p:nvSpPr>
          <p:spPr>
            <a:xfrm flipV="1">
              <a:off x="7284960" y="761400"/>
              <a:ext cx="777960" cy="701640"/>
            </a:xfrm>
            <a:custGeom>
              <a:avLst/>
              <a:gdLst>
                <a:gd name="textAreaLeft" fmla="*/ 279000 w 777960"/>
                <a:gd name="textAreaRight" fmla="*/ 498960 w 777960"/>
                <a:gd name="textAreaTop" fmla="*/ 251640 h 701640"/>
                <a:gd name="textAreaBottom" fmla="*/ 45000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xt 1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ura LoSciu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862-08BF-4413-BB96-0894FC11F4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CA729-93F8-404F-8C62-0119D5F11455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st Analy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oint out financial benefits to the customer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ompare cost-benefits between you and your competitor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ura LoSciu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701-3916-4C67-AE43-B0BB974483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D1F64-2C37-4DC3-A98C-3EDF3423C428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ur Strength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326400" y="2410200"/>
            <a:ext cx="2439000" cy="2441160"/>
            <a:chOff x="3326400" y="2410200"/>
            <a:chExt cx="2439000" cy="2441160"/>
          </a:xfrm>
        </p:grpSpPr>
        <p:sp>
          <p:nvSpPr>
            <p:cNvPr id="145" name=""/>
            <p:cNvSpPr/>
            <p:nvPr/>
          </p:nvSpPr>
          <p:spPr>
            <a:xfrm flipH="1">
              <a:off x="3428280" y="2514600"/>
              <a:ext cx="2336760" cy="2336760"/>
            </a:xfrm>
            <a:custGeom>
              <a:avLst/>
              <a:gdLst>
                <a:gd name="textAreaLeft" fmla="*/ -360 w 2336760"/>
                <a:gd name="textAreaRight" fmla="*/ 2336760 w 23367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18900"/>
                  </a:moveTo>
                  <a:arcTo wR="-8100" hR="-8100" stAng="5400000" swAng="-3240000"/>
                  <a:lnTo>
                    <a:pt x="2063" y="4452"/>
                  </a:lnTo>
                  <a:arcTo wR="10800" hR="10800" stAng="-8640000" swAng="3240000"/>
                  <a:lnTo>
                    <a:pt x="10800" y="-2700"/>
                  </a:lnTo>
                  <a:lnTo>
                    <a:pt x="14850" y="1350"/>
                  </a:lnTo>
                  <a:lnTo>
                    <a:pt x="10800" y="540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428280" y="2514600"/>
              <a:ext cx="2336760" cy="2336760"/>
            </a:xfrm>
            <a:custGeom>
              <a:avLst/>
              <a:gdLst>
                <a:gd name="textAreaLeft" fmla="*/ -360 w 2336760"/>
                <a:gd name="textAreaRight" fmla="*/ 2336760 w 23367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900" y="10800"/>
                  </a:moveTo>
                  <a:arcTo wR="-8100" hR="-8100" stAng="0" swAng="-3240000"/>
                  <a:lnTo>
                    <a:pt x="4452" y="19537"/>
                  </a:lnTo>
                  <a:arcTo wR="10800" hR="10800" stAng="7560000" swAng="3240000"/>
                  <a:lnTo>
                    <a:pt x="-2700" y="10800"/>
                  </a:lnTo>
                  <a:lnTo>
                    <a:pt x="1350" y="675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428280" y="2514600"/>
              <a:ext cx="2336760" cy="2336760"/>
            </a:xfrm>
            <a:custGeom>
              <a:avLst/>
              <a:gdLst>
                <a:gd name="textAreaLeft" fmla="*/ -360 w 2336760"/>
                <a:gd name="textAreaRight" fmla="*/ 2336760 w 23367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2700"/>
                  </a:moveTo>
                  <a:arcTo wR="-8100" hR="-8100" stAng="-5400000" swAng="-3240000"/>
                  <a:lnTo>
                    <a:pt x="19537" y="17148"/>
                  </a:lnTo>
                  <a:arcTo wR="10800" hR="10800" stAng="2160000" swAng="3240000"/>
                  <a:lnTo>
                    <a:pt x="10800" y="24300"/>
                  </a:lnTo>
                  <a:lnTo>
                    <a:pt x="6750" y="20250"/>
                  </a:lnTo>
                  <a:lnTo>
                    <a:pt x="10800" y="16200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428280" y="2514600"/>
              <a:ext cx="2336760" cy="2336760"/>
            </a:xfrm>
            <a:custGeom>
              <a:avLst/>
              <a:gdLst>
                <a:gd name="textAreaLeft" fmla="*/ -360 w 2336760"/>
                <a:gd name="textAreaRight" fmla="*/ 2336760 w 23367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00" y="10800"/>
                  </a:moveTo>
                  <a:arcTo wR="-8100" hR="-8100" stAng="-10800000" swAng="-3240000"/>
                  <a:lnTo>
                    <a:pt x="17148" y="2063"/>
                  </a:lnTo>
                  <a:arcTo wR="10800" hR="10800" stAng="-3240000" swAng="3240000"/>
                  <a:lnTo>
                    <a:pt x="24300" y="10800"/>
                  </a:lnTo>
                  <a:lnTo>
                    <a:pt x="20250" y="1485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343400">
              <a:off x="4710240" y="24991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7802600">
              <a:off x="3353400" y="304668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755600">
              <a:off x="3886200" y="43279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7838600">
              <a:off x="5181840" y="394668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280920" y="2388600"/>
            <a:ext cx="2411280" cy="2487960"/>
            <a:chOff x="6280920" y="2388600"/>
            <a:chExt cx="2411280" cy="2487960"/>
          </a:xfrm>
        </p:grpSpPr>
        <p:sp>
          <p:nvSpPr>
            <p:cNvPr id="154" name=""/>
            <p:cNvSpPr/>
            <p:nvPr/>
          </p:nvSpPr>
          <p:spPr>
            <a:xfrm flipH="1">
              <a:off x="6324480" y="2514600"/>
              <a:ext cx="2362320" cy="23619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18900"/>
                  </a:moveTo>
                  <a:arcTo wR="-8100" hR="-8100" stAng="5400000" swAng="-2592000"/>
                  <a:lnTo>
                    <a:pt x="3407" y="2927"/>
                  </a:lnTo>
                  <a:arcTo wR="10800" hR="10800" stAng="-7992000" swAng="2592000"/>
                  <a:lnTo>
                    <a:pt x="10800" y="-2700"/>
                  </a:lnTo>
                  <a:lnTo>
                    <a:pt x="14850" y="1350"/>
                  </a:lnTo>
                  <a:lnTo>
                    <a:pt x="10800" y="54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6324480" y="2514600"/>
              <a:ext cx="2362320" cy="23619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504" y="13303"/>
                  </a:moveTo>
                  <a:arcTo wR="-8100" hR="-8100" stAng="1080000" swAng="-2592000"/>
                  <a:lnTo>
                    <a:pt x="1028" y="15398"/>
                  </a:lnTo>
                  <a:arcTo wR="10800" hR="10800" stAng="9288000" swAng="2592000"/>
                  <a:lnTo>
                    <a:pt x="-2039" y="6628"/>
                  </a:lnTo>
                  <a:lnTo>
                    <a:pt x="3064" y="4028"/>
                  </a:lnTo>
                  <a:lnTo>
                    <a:pt x="5664" y="9131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324480" y="2514600"/>
              <a:ext cx="2362320" cy="23619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561" y="4247"/>
                  </a:moveTo>
                  <a:arcTo wR="-8100" hR="-8100" stAng="-3240000" swAng="-2592001"/>
                  <a:lnTo>
                    <a:pt x="12154" y="21515"/>
                  </a:lnTo>
                  <a:arcTo wR="10800" hR="10800" stAng="4967999" swAng="2592001"/>
                  <a:lnTo>
                    <a:pt x="2865" y="21722"/>
                  </a:lnTo>
                  <a:lnTo>
                    <a:pt x="1969" y="16065"/>
                  </a:lnTo>
                  <a:lnTo>
                    <a:pt x="7626" y="15169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324480" y="2514600"/>
              <a:ext cx="2362320" cy="23619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6039" y="4247"/>
                  </a:moveTo>
                  <a:arcTo wR="-8100" hR="-8100" stAng="-7560000" swAng="-2592001"/>
                  <a:lnTo>
                    <a:pt x="21409" y="12824"/>
                  </a:lnTo>
                  <a:arcTo wR="10800" hR="10800" stAng="647999" swAng="2592001"/>
                  <a:lnTo>
                    <a:pt x="18735" y="21722"/>
                  </a:lnTo>
                  <a:lnTo>
                    <a:pt x="13078" y="20826"/>
                  </a:lnTo>
                  <a:lnTo>
                    <a:pt x="13974" y="15169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324480" y="2514600"/>
              <a:ext cx="2362320" cy="23619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096" y="13303"/>
                  </a:moveTo>
                  <a:arcTo wR="-8100" hR="-8100" stAng="9720000" swAng="-2592001"/>
                  <a:lnTo>
                    <a:pt x="16003" y="1336"/>
                  </a:lnTo>
                  <a:arcTo wR="10800" hR="10800" stAng="-3672001" swAng="2592001"/>
                  <a:lnTo>
                    <a:pt x="23639" y="6628"/>
                  </a:lnTo>
                  <a:lnTo>
                    <a:pt x="21039" y="11732"/>
                  </a:lnTo>
                  <a:lnTo>
                    <a:pt x="15936" y="9131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8243000">
              <a:off x="6325200" y="287964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660600">
              <a:off x="7530120" y="243684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146000">
              <a:off x="8215920" y="342756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1122400">
              <a:off x="7468200" y="441828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606600">
              <a:off x="6401160" y="39463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31640" y="2476800"/>
            <a:ext cx="2463840" cy="2400120"/>
            <a:chOff x="431640" y="2476800"/>
            <a:chExt cx="2463840" cy="2400120"/>
          </a:xfrm>
        </p:grpSpPr>
        <p:sp>
          <p:nvSpPr>
            <p:cNvPr id="165" name=""/>
            <p:cNvSpPr/>
            <p:nvPr/>
          </p:nvSpPr>
          <p:spPr>
            <a:xfrm flipH="1">
              <a:off x="533160" y="2514600"/>
              <a:ext cx="2362320" cy="236232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2320"/>
                <a:gd name="textAreaBottom" fmla="*/ 236268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18900"/>
                  </a:moveTo>
                  <a:arcTo wR="-8100" hR="-8100" stAng="5400000" swAng="-4320000"/>
                  <a:lnTo>
                    <a:pt x="529" y="7463"/>
                  </a:lnTo>
                  <a:arcTo wR="10800" hR="10800" stAng="-9720000" swAng="4320000"/>
                  <a:lnTo>
                    <a:pt x="10800" y="-2700"/>
                  </a:lnTo>
                  <a:lnTo>
                    <a:pt x="14850" y="1350"/>
                  </a:lnTo>
                  <a:lnTo>
                    <a:pt x="10800" y="54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33160" y="2514600"/>
              <a:ext cx="2362320" cy="236232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2320"/>
                <a:gd name="textAreaBottom" fmla="*/ 236268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15" y="6750"/>
                  </a:moveTo>
                  <a:arcTo wR="-8100" hR="-8100" stAng="-1800000" swAng="-4320000"/>
                  <a:lnTo>
                    <a:pt x="13045" y="21364"/>
                  </a:lnTo>
                  <a:arcTo wR="10800" hR="10800" stAng="4680000" swAng="4320000"/>
                  <a:lnTo>
                    <a:pt x="-891" y="17550"/>
                  </a:lnTo>
                  <a:lnTo>
                    <a:pt x="591" y="12018"/>
                  </a:lnTo>
                  <a:lnTo>
                    <a:pt x="6123" y="135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33160" y="2514600"/>
              <a:ext cx="2362320" cy="236232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2320"/>
                <a:gd name="textAreaBottom" fmla="*/ 236268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85" y="6750"/>
                  </a:moveTo>
                  <a:arcTo wR="-8100" hR="-8100" stAng="-9000000" swAng="-4320000"/>
                  <a:lnTo>
                    <a:pt x="18826" y="3573"/>
                  </a:lnTo>
                  <a:arcTo wR="10800" hR="10800" stAng="-2520000" swAng="4320000"/>
                  <a:lnTo>
                    <a:pt x="22491" y="17550"/>
                  </a:lnTo>
                  <a:lnTo>
                    <a:pt x="16959" y="19032"/>
                  </a:lnTo>
                  <a:lnTo>
                    <a:pt x="15477" y="135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881600">
              <a:off x="1981080" y="258984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520400">
              <a:off x="381600" y="34279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9658400">
              <a:off x="1967040" y="43423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ura LoSciu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885-EAE5-4A24-9217-3A5A0E1C501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0E67D-71F4-4571-A065-F1FFB1459AD8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ey Benefi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ummarize the key benefits provided by the product, service, or idea being promot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3" name="PyramidChart 1;Master;1;0.15;3"/>
          <p:cNvSpPr/>
          <p:nvPr/>
        </p:nvSpPr>
        <p:spPr>
          <a:xfrm>
            <a:off x="1216080" y="198108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c5b98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yramidChart 2;Master;1;0.15;3"/>
          <p:cNvSpPr/>
          <p:nvPr/>
        </p:nvSpPr>
        <p:spPr>
          <a:xfrm>
            <a:off x="1219320" y="205740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c5b98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ura LoSciu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54B-A428-447E-A15B-9CF41C4D63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F3138-0E0E-42F2-BD0C-1EE34A5DF96C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pecify the actions required of your audienc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ura LoSciu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4DE-29CA-4266-911B-45E7DC02BC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22B8A-5F71-4310-B289-5835B0C2A2DC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tsang</cp:lastModifiedBy>
  <dcterms:modified xsi:type="dcterms:W3CDTF">2004-05-25T18:22:05Z</dcterms:modified>
  <cp:revision>1</cp:revision>
  <dc:subject/>
  <dc:title>PowerPoint Presentation</dc:title>
</cp:coreProperties>
</file>