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F2B4-3AEF-455D-89E8-3B55AAC28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ABBC-6A28-4F4C-A931-5E60D12CD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5114-1C80-4699-A314-B38B06A53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7F81-6D82-4110-9EAA-7419C1278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EF282-B3C7-4E39-B42D-F4B072075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CC793-A661-49EE-ABA0-48F1E2F37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77BED-CC84-42CF-A997-1779C3469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C31B0-6F7A-41BE-ACFE-B78E5A9F2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A9259-A1D3-4F49-90F1-F8E4AA6CA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A1763-AA90-4C7F-889A-F17DBDC12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825F1-9C51-467B-9510-9F8A8910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52FE-7FCB-4A85-A89B-C88780617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2B65D-1937-4AB0-97FF-DB25630A9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F88EC-3F84-4BC8-A2E8-AF658E418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52D72-8BDF-4635-94AF-0577F8710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2F869-9030-4FBF-ABF9-41E9918B9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BFD37-0386-4DB5-88FD-E67B9BF76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7D41-98CD-49F7-8C92-3817F8464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74BE-B814-401C-9799-A7219F2EF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7969-2CEB-478D-A1C0-307897140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4187-32FB-4635-BEE6-EAF3457F3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AE7B-E438-4517-9DA9-F93B4DAA5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4483-02F3-4EB1-8D9B-8E6DE8A42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F31E-F141-40FB-8F53-1F1ACBAD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B9991-77AA-4564-9BAC-BFC625C2CBA1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1A5AD-85E5-469D-A770-9055B076E0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0AB31-AE10-4A17-858A-B7F8222BF92A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FCAF0-B03D-4EE0-ACF0-0D9EEBD568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engui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ura LoSciu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D1217-C464-419C-91CC-46B2B104615B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73F6AAD4-65B9-4215-A55C-FA282FDB684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urrent Statu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igh-level overview of progress against schedu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-track in what area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hind in what area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head in what area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expected delays or issu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DE4E-1324-4722-8816-40B8B92F7CC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5EDB2A-9626-4E1F-8C79-848C7A62B1A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Related Document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rketing pla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cation or contact name/pho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cation or contact name/pho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t mort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cation or contact name/pho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bmit ques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cation or contact name/pho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2812-A6C9-49CD-B3D6-B6CC3D7F6F5D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7CA0A5-14BC-4D21-B243-9B9DB9930A2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roject Goal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ltimate goal of projec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lationship to other projec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igh-level timing goa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2943-B3F0-4C34-A964-331CCF6249D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B5539D-56C6-489A-8224-152FB807785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Descrip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cribe the project in non-technical term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e following slides for discussing status, schedules, budget, etc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5334120"/>
            <a:ext cx="3200400" cy="3045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R MORE INFO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st location or contact for specification (or other related documents) he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3858-5EEB-4FE1-B5F2-05EECA5B8A4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98CB70-135A-4907-B752-7DB0235062E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ompetitive Analysi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etitor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You may want to allocate one slide per competitor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rength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r strengths relative to competito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akness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r weaknesses relative to competit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16B9-B3E8-4ED2-ACC2-5DF6974B89B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D80698-A79B-4410-91E1-3F51FDE5E96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ompetitive Analysis, Cont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etito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rength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akness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5334120"/>
            <a:ext cx="3200400" cy="3045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R MORE INFO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st location or contact for competitive analysis (or other related documents) he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2CD2-9597-4C28-A1A1-15D902281F1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CE8EE1-CB17-4FA9-8369-B6A5387982D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echnolog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 technology being us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efi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ndards being adopt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efi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ndards specifically being ignor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rawbacks &amp; benefi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YA: define your acronyms!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72D4-DCAF-4756-AAD2-B30FA909AE2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744745-A613-4D29-9E5D-E23240B9970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eam/Resourc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te assumptions about resources allocated to this projec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op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quip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c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pport &amp; outside servi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nufacturing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a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DF79-A44F-4D02-9D10-EF095100277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983204-2BF5-4A29-B360-C51B08C18EA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rocedur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ighlight any procedural differences from regular projects of this typ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cuss requirements, benefits, and issues of using new procedur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5334120"/>
            <a:ext cx="3200400" cy="3045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R MORE INFO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st location or contact for procedures document (or other related documents) he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D59D-9E6D-4C34-9EFF-DCBEE2D5389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E6DC26-B754-4B2E-ADFF-D8E637EAFD5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chedul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view high-level schedule milestones he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5334120"/>
            <a:ext cx="3200400" cy="3045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R MORE INFO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st location or contact for detailed schedule (or other related documents) he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372320" y="3352680"/>
            <a:ext cx="6476040" cy="1577160"/>
            <a:chOff x="1372320" y="3352680"/>
            <a:chExt cx="6476040" cy="1577160"/>
          </a:xfrm>
        </p:grpSpPr>
        <p:grpSp>
          <p:nvGrpSpPr>
            <p:cNvPr id="116" name=""/>
            <p:cNvGrpSpPr/>
            <p:nvPr/>
          </p:nvGrpSpPr>
          <p:grpSpPr>
            <a:xfrm>
              <a:off x="1372320" y="4267080"/>
              <a:ext cx="6476040" cy="662760"/>
              <a:chOff x="1372320" y="4267080"/>
              <a:chExt cx="6476040" cy="662760"/>
            </a:xfrm>
          </p:grpSpPr>
          <p:sp>
            <p:nvSpPr>
              <p:cNvPr id="117" name=""/>
              <p:cNvSpPr/>
              <p:nvPr/>
            </p:nvSpPr>
            <p:spPr>
              <a:xfrm>
                <a:off x="1447560" y="4267080"/>
                <a:ext cx="6400800" cy="486000"/>
              </a:xfrm>
              <a:prstGeom prst="rightArrow">
                <a:avLst>
                  <a:gd name="adj1" fmla="val 36602"/>
                  <a:gd name="adj2" fmla="val 54145"/>
                </a:avLst>
              </a:prstGeom>
              <a:gradFill rotWithShape="0">
                <a:gsLst>
                  <a:gs pos="0">
                    <a:srgbClr val="00ffcc"/>
                  </a:gs>
                  <a:gs pos="100000">
                    <a:srgbClr val="00ccff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00799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372320" y="4622760"/>
                <a:ext cx="48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Ja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899720" y="4622760"/>
                <a:ext cx="496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Fe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459880" y="4622760"/>
                <a:ext cx="497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Ma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056040" y="4622760"/>
                <a:ext cx="48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Ap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26640" y="4622760"/>
                <a:ext cx="526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May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57000" y="4622760"/>
                <a:ext cx="496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Ju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794480" y="4622760"/>
                <a:ext cx="537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July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390640" y="4622760"/>
                <a:ext cx="50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Sep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950440" y="462276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Oc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500520" y="4622760"/>
                <a:ext cx="515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Nov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106760" y="4622760"/>
                <a:ext cx="50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De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1523880" y="3352680"/>
              <a:ext cx="2438280" cy="152640"/>
            </a:xfrm>
            <a:prstGeom prst="flowChartProcess">
              <a:avLst/>
            </a:prstGeom>
            <a:solidFill>
              <a:srgbClr val="00ccff"/>
            </a:solidFill>
            <a:ln w="0">
              <a:noFill/>
            </a:ln>
            <a:effectLst>
              <a:outerShdw dist="17819" dir="2700000" blurRad="0" rotWithShape="0">
                <a:srgbClr val="00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962160" y="3657600"/>
              <a:ext cx="1905120" cy="152280"/>
            </a:xfrm>
            <a:prstGeom prst="flowChartProcess">
              <a:avLst/>
            </a:prstGeom>
            <a:solidFill>
              <a:srgbClr val="00ccff"/>
            </a:solidFill>
            <a:ln w="0">
              <a:noFill/>
            </a:ln>
            <a:effectLst>
              <a:outerShdw dist="17819" dir="2700000" blurRad="0" rotWithShape="0">
                <a:srgbClr val="00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867280" y="3962520"/>
              <a:ext cx="1676520" cy="152280"/>
            </a:xfrm>
            <a:prstGeom prst="flowChartProcess">
              <a:avLst/>
            </a:prstGeom>
            <a:solidFill>
              <a:srgbClr val="00ccff"/>
            </a:solidFill>
            <a:ln w="0">
              <a:noFill/>
            </a:ln>
            <a:effectLst>
              <a:outerShdw dist="17819" dir="2700000" blurRad="0" rotWithShape="0">
                <a:srgbClr val="00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A30D-E116-449B-A94C-A8251CE092F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3EC3FA-6DBA-4A8B-920B-62DAF35243E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tsang</cp:lastModifiedBy>
  <dcterms:modified xsi:type="dcterms:W3CDTF">2004-05-25T18:27:41Z</dcterms:modified>
  <cp:revision>1</cp:revision>
  <dc:subject/>
  <dc:title>PowerPoint Presentation</dc:title>
</cp:coreProperties>
</file>