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24E3-DEBD-4BD0-AC1E-AC00A24F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to MediaLoft’s Year 2004 company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happy to share with you a brief overview of the success MediaLoft has achieved in the las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our record year in 2002, MediaLoft’s 2003 goals were very aggressive. Our overall product sales were up an amazing 22%, with the eastern division edging out the western division. Of course, they did get 2 of the 3 new stores, so they had an advantage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see, the book sales for MediaLoft were remarkable. We had been concerned about the growth of online booksellers, but there appears to be no substitute for actually holding a book and sipping a cup of cappucc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all for you hard work and support, and I look forward to working with you all in the next y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B39-788D-4463-BA6D-4B1E34A5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17D-C392-4FD9-9A6C-EDB7B40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B26-01E5-49C0-A4A7-F17B1A11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119-3969-42D2-9AF4-03C2DF2D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59AC-9242-48BA-B075-35C5FC4B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E0B2-453E-4FE6-8B6F-7D2CC75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87A2-99FD-4DA8-86FB-4BC4D88F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36F8-1FDA-468D-8C85-C7EA665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7CE-84AA-4570-BFB0-EAE2C64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1B9-A50B-4276-A066-7EAB2EE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65D-C5B2-4846-8B6A-C4B1F05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48F-A478-4905-913E-84A555E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F9E4-FE4E-47FB-B120-0C39149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C6EB-EDD7-4CF0-B5BB-CC70A1D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2744-8BB2-4509-A797-9435EBC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D59-123C-46E2-B335-3DD3342B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A47-0524-4577-B380-C49CCFD6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B0-62DB-44BF-9C4B-AB71D56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3C4-120B-4265-B2E6-7D54A1A6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E89-05A8-49D0-8FFB-325B40E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A5F-4173-4F90-832F-A8663F1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A71-DD98-43C2-87D9-CB5989B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407-11CD-4A7A-9DF1-0F0FD8B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616-D064-458B-A1F9-D2F151A3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885-E481-4648-9EBB-D969256F266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C18-F84A-4619-AF02-660775B24C9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diaLo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72960" y="3728520"/>
            <a:ext cx="657540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003 Report to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. LoSciu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eneral Sales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une 1, 2004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aura LoSciu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003: A Banner Ye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verall sales set new reco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 new locatio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ok sales post biggest increa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Ds and videos close behi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f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ahoma"/>
              </a:rPr>
              <a:t>é sales stea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999 Sales by Divi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verall product sales up 22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ediaLoft East sales up 2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ediaLoft West sales up 21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r: MediaLoft E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ok sales up 29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ideo sales up 20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D sales up 2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7:56:22Z</dcterms:created>
  <dc:creator>rtsang</dc:creator>
  <dc:description/>
  <dc:language>en-US</dc:language>
  <cp:lastModifiedBy>rtsang</cp:lastModifiedBy>
  <dcterms:modified xsi:type="dcterms:W3CDTF">2004-06-01T18:14:15Z</dcterms:modified>
  <cp:revision>9</cp:revision>
  <dc:subject/>
  <dc:title>PowerPoint Presentation</dc:title>
</cp:coreProperties>
</file>