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098720" y="691920"/>
            <a:ext cx="466056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838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8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0B7F-D4A3-454A-B38A-C5CB029E72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0160" y="692280"/>
            <a:ext cx="4657680" cy="3492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al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 starter, highly motiv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novator, Cre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m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ior techn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was able to accomplish this due to my superior knowledge, skills, in-depth experience, and the special qualities required of senior, creative systems engine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0160" y="692280"/>
            <a:ext cx="4657680" cy="3492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and thoughtful reviews are instrumental in nurturing excellent 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between EDS, Subcontractors and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0160" y="692280"/>
            <a:ext cx="4657680" cy="3492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rojects demonstrate significant depth of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d to discuss any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select a representative project that demonstrates in detail my competency in projec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0160" y="692280"/>
            <a:ext cx="4657680" cy="3492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ful and thoughtful reviews are instrumental in nurturing excellent 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 between EDS, Subcontractors and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BCC-0934-4BED-9A07-9F4909A6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888-385C-48FA-9504-0F6857A9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347-B4A9-4C94-A4D2-935C0508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E4E-E6AC-4388-AF46-8888BC18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CFC7-CE34-47F3-982E-016BE41A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5F83-3C65-4492-8226-ED04AB9F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A6FC-0BC7-4075-A602-6830C353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2289-E690-4B59-AFD3-AD6AAC15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1239-9C05-4BCA-BC2B-67094DC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3D3D-7916-48D9-82A6-3774EB80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E7FC-2E27-46F0-9430-24980F36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50F-6C26-4264-BDDC-6A514AF3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FE75-ED12-4EB8-AB40-1DED382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29E0-CC83-4BD4-80C6-5F3FA69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CB05-6CEF-476F-9F8D-760055DA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F869-5F48-4109-A80D-9EBB5924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098-99A0-4634-AE49-D8C7DCBD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67B-38C6-4853-803E-D57AD744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8D2-0947-43AD-8274-A092E636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687-9C0F-4765-AB12-268541B6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13F-9B68-4BE3-A7C6-83C22EE7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833-2232-4FBF-BD34-DE706EC6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B979-9250-46C7-B1EB-59CD00E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A0B-8F84-42BE-A740-16481D5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2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DA0F-272B-435C-8EAD-679E2E72C3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30BA-2EBB-4021-87B1-B8D4BF7949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bhash Sen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kills and Abiliti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bhash_sen@yahoo.co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ttp://www.angelfire.com/ms/SubhashS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2760" y="632448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FDBA-EAF0-45DB-B817-F32C46FC177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stems Development Lifecycle Highligh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: USMA Corporate Academy Redesign Initiative (1997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ration/Cost: 24 Months/ $3.8 M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nvironment: Windows NT/Sybase/PowerBuilder/Actuate Enterpri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m: 1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complishmen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quirements development leader at the customer site; completed requirements for 8 subsystems in record time utilizing CASE Tools; contribution was instrumental in client’s awarding the $3.8 M contract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acilitated 30 JAD sessions for Rapid Application Prototype develop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eader of development of Life Cycle documentation; developed SDP, SDD, IRD, IRS, and DBD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essons Learned:  Solid requirements development is the key to success for software develop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88200" y="624852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72D-85AC-453B-AB32-D745E43E26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pplication Develop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st of Pro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AF Weather Satellite Simulator Development (197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olar Max Repair Mission Data Processing (198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atellite Ground Data Processing (1992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count Information Management System Development (199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 Navy MSC Re-engineering Project (199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States Military Academy (USMA) Corporate Academy Redesign Initiative (199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UD Physical Assessment Subsystem Development (199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0480" y="609588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720-57BC-4C1E-AA01-29F26A0C7B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pplication Development Highligh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: HUD  Physical Assessment Subsystem Development (199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nvironment: Windows 95/Sybase/Web/Cold Fus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m: 10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complishmen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itiator to develop process flow for several subsystems; documents widely circulated in the agency for new employee orient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lf - taught Web Page development using HTML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essons Learned:  Always try to remain one step ahead of changing technolog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0480" y="594360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6D3-D0BB-4E4E-B6A9-2A52A4EA9B42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1522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p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52388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ject Manag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adership and Supervi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ract Manag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stem Development Life Cyc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plication Develop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0480" y="594360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C3E-9AED-4EEA-90E3-3B58475C6E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 Manag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st of Projec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ounding Rocket Flight Project (1980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olar Max Repair Mission Data Processing (198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atellite Ground Data Processing (1992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AF CACTIS Enhancement Project (199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 Navy MSC Re-engineering Project (199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0480" y="594360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73D-F70A-4CEF-A294-95C55A59DF9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-15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 Management Highligh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: NASA Solar max Repair Mission Data Processing Development (1984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ration/Cost: 18 Months/ $836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nvironment: IBM Mainframe, Assembly/Fortr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m: 2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complishmen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ed all Mgmt. Documents and Presented in CCB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pplied Digital System Development Methodology in Full Life-Cyc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Completed within Schedule and Budge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ose contact with customer throughout the projec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 staff turn-around during projec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minated for NASA Service Awar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essons Learned:  People Skill is the main factor of success in Matrix Manage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1880" y="632448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CF8-7B03-460A-ABCD-B5A2A1907E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-15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eadership and Supervis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264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st of Pro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ounding Rocket Flight Project (1977/1980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olar Max Repair Mission Data Processing (198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Computer Center Upgrade Project (1985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Telemetry and Command Systems Development (198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uropean Space Agency Ground Systems Development (1990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AF Crime and Counterintelligence Terrorism Information System (CACTIS) Enhancement (199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States Military Academy (USMA) Corporate Academy Redesign Initiative (199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6019920"/>
            <a:ext cx="7699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C45-9AFD-4AE7-8C77-CB03D5F39B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eadership and Supervision Highligh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: European Space Agency Ground Systems Development (1990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ration: 28 Month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ocation: Ital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m: 10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complishments: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lected out of 200 candidat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oke the Cultural and Language barri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rought key issues into the international spotligh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mendation from ESA management; resulted several follow-up contract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formed Training for Young Italian Engine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ed Proposals for New Busines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start-up is now a 100 person software powerhouse of Southern Ital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essons Learned:  Cultural Divers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1880" y="624852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9EF-5716-440C-B2C5-F66AC081A1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ntract Manag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st of Pro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ounding Rocket Flight Project (1977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Telemetry and Command Systems Development (198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uropean Space Agency Ground Systems Development (1990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AF Crime and Counterintelligence Terrorism Information System (CACTIS) Enhancement (199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6800" y="594360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A5A-7135-4D41-B61A-8CD9FC34A7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ntract Management Highligh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: CACTIS Enhancement (1996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ration: 7 Month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nvironment: UNIX/Oracle/Sql Server Client/Ser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am: 16 (Includes 12 Subcontractor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complishmen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chnical and Resource Manage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-active participation and cooperation with USAF personnel to solve proble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ed, Presented, Implemented Oracle Data Replication Strateg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suaded USAF to receive Oracle training for 12 personne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ated the avenues for follow-up busines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essons Learned:  Customer is the king; they make the payday possib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7699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CA3-23AA-4100-AD38-72B806A4AAD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stems Development Life Cyc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st of Proje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AF Weather Satellite Simulator Development (197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olar Max Repair Mission Data Processing (198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SA Satellite Ground Data Processing (1992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ited States Military Academy (USMA) Corporate Academy Redesign Initiative (199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6800" y="5867280"/>
            <a:ext cx="770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Adaptability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eamwor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AD0-C371-4F7A-AB55-0049238D23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USCG</dc:creator>
  <dc:description/>
  <dc:language>en-US</dc:language>
  <cp:lastModifiedBy> </cp:lastModifiedBy>
  <cp:lastPrinted>2000-01-20T01:12:42Z</cp:lastPrinted>
  <dcterms:modified xsi:type="dcterms:W3CDTF">2008-04-28T14:57:05Z</dcterms:modified>
  <cp:revision>34</cp:revision>
  <dc:subject/>
  <dc:title>General</dc:title>
</cp:coreProperties>
</file>