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08FE-6841-4B95-92E2-F4910AF31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B50F-304B-4E1F-878C-7EDADABD8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D79F-76AD-48CA-B216-6031B8A7F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D035-C3C0-40F8-8F6F-310043730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F8092-289A-422B-949B-4660C1071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A1652-F43F-4345-A7C1-D96CF0A65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DC406-C395-424A-9FC9-8FB7FF751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21B60-FD4A-4305-AE29-580E754FE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48078-23D8-4B66-8217-A9238BEA8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92483-6EEB-4B79-9EF4-0A3401810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A6F6C-F2D4-494A-B2CA-825301C43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8595-0A5B-43A9-A64B-E5E93D83E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5A837-E109-403E-846F-DB65FF5A8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20D4E-EB28-4988-9309-0EA3E7E5B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1A419-822C-4E08-9662-0833F235A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89984-D5C3-4D9C-9412-D5BC4E025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B57E6-ABE5-427C-9245-75F62741E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1F0D-0369-44AA-85C3-8586B2E89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5B63-442B-4372-9979-B8C43E98D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8021-3F05-488C-A6F1-7B8ED5B6C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09A2-692B-4D8A-8C41-4F5D84747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EE03-9D6E-46F5-8FA0-D8EB28CE3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B863-5C31-45FB-A24F-4551A4B67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1874-A866-439A-860B-694F88C37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E5F05-6DDD-4EA4-B187-B538AE781BD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20D28-7724-4E91-8358-93D34236A8B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agAlong769@hotmail.com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99"/>
                </a:solidFill>
                <a:latin typeface="Comic Sans MS"/>
              </a:rPr>
              <a:t>Things Stephanie wants in case someone feels the need to buy her something..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447920" y="35049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9933ff"/>
                </a:solidFill>
                <a:latin typeface="Comic Sans MS"/>
              </a:rPr>
              <a:t>Updated May 16,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Comic Sans MS"/>
              </a:rPr>
              <a:t>       </a:t>
            </a:r>
            <a:r>
              <a:rPr b="0" lang="en-US" sz="2800" spc="-1" strike="noStrike">
                <a:solidFill>
                  <a:srgbClr val="9933ff"/>
                </a:solidFill>
                <a:latin typeface="Comic Sans MS"/>
              </a:rPr>
              <a:t>E-mail: </a:t>
            </a:r>
            <a:r>
              <a:rPr b="0" lang="en-US" sz="2800" spc="-1" strike="noStrike" u="sng">
                <a:solidFill>
                  <a:srgbClr val="6767ff"/>
                </a:solidFill>
                <a:uFillTx/>
                <a:latin typeface="Comic Sans MS"/>
                <a:hlinkClick r:id="rId1"/>
              </a:rPr>
              <a:t>TagAlong769@hotmail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Comic Sans MS"/>
              </a:rPr>
              <a:t>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continu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100"/>
                            </p:stCondLst>
                            <p:childTnLst>
                              <p:par>
                                <p:cTn id="18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9500"/>
                            </p:stCondLst>
                            <p:childTnLst>
                              <p:par>
                                <p:cTn id="24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Listen Up!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y people, guess what.  My birthday is June 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!!  In case you didn’t remember.  I have added many things to my list at once.  Of the DVD’s, the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bl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ighlighted ones are the ones that I want the m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cc"/>
                </a:solidFill>
                <a:latin typeface="Comic Sans MS"/>
              </a:rPr>
              <a:t>DVD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lue Collar Comedy Clu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Comic Sans MS"/>
              </a:rPr>
              <a:t>The Repla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Comic Sans MS"/>
              </a:rPr>
              <a:t>Box set of Jurassic Pa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econdhand L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wo Weeks No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Wedding Plan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Comic Sans MS"/>
              </a:rPr>
              <a:t>Austin Powers (1 &amp;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Comic Sans MS"/>
              </a:rPr>
              <a:t>Gladi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Comic Sans MS"/>
              </a:rPr>
              <a:t>Catch Me if You 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cc33"/>
                </a:solidFill>
                <a:latin typeface="Comic Sans MS"/>
              </a:rPr>
              <a:t>	</a:t>
            </a:r>
            <a:r>
              <a:rPr b="0" lang="en-US" sz="1000" spc="-1" strike="noStrike">
                <a:solidFill>
                  <a:srgbClr val="33cc33"/>
                </a:solidFill>
                <a:latin typeface="Comic Sans MS"/>
              </a:rPr>
              <a:t>	</a:t>
            </a:r>
            <a:r>
              <a:rPr b="0" lang="en-US" sz="1000" spc="-1" strike="noStrike">
                <a:solidFill>
                  <a:srgbClr val="33cc33"/>
                </a:solidFill>
                <a:latin typeface="Comic Sans MS"/>
              </a:rPr>
              <a:t>	</a:t>
            </a:r>
            <a:r>
              <a:rPr b="0" lang="en-US" sz="1000" spc="-1" strike="noStrike">
                <a:solidFill>
                  <a:srgbClr val="33cc33"/>
                </a:solidFill>
                <a:latin typeface="Comic Sans MS"/>
              </a:rPr>
              <a:t>	</a:t>
            </a:r>
            <a:r>
              <a:rPr b="0" lang="en-US" sz="1000" spc="-1" strike="noStrike">
                <a:solidFill>
                  <a:srgbClr val="33cc33"/>
                </a:solidFill>
                <a:latin typeface="Comic Sans MS"/>
              </a:rPr>
              <a:t>	</a:t>
            </a:r>
            <a:r>
              <a:rPr b="0" lang="en-US" sz="1000" spc="-1" strike="noStrike">
                <a:solidFill>
                  <a:srgbClr val="33cc33"/>
                </a:solidFill>
                <a:latin typeface="Comic Sans MS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Old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merican Wed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Comic Sans MS"/>
              </a:rPr>
              <a:t>Legally Blond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Comic Sans MS"/>
              </a:rPr>
              <a:t>What a Girl W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Comic Sans MS"/>
              </a:rPr>
              <a:t>Bring It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Comic Sans MS"/>
              </a:rPr>
              <a:t>The Patri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Comic Sans MS"/>
              </a:rPr>
              <a:t>Fight Clu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Comic Sans MS"/>
              </a:rPr>
              <a:t>Spir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Comic Sans MS"/>
              </a:rPr>
              <a:t>Shr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ce 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768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" dur="768" fill="hold"/>
                                        <p:tgtEl>
                                          <p:spTgt spid="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" dur="768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" dur="768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998"/>
                            </p:stCondLst>
                            <p:childTnLst>
                              <p:par>
                                <p:cTn id="43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498"/>
                            </p:stCondLst>
                            <p:childTnLst>
                              <p:par>
                                <p:cTn id="49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4998"/>
                            </p:stCondLst>
                            <p:childTnLst>
                              <p:par>
                                <p:cTn id="55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6498"/>
                            </p:stCondLst>
                            <p:childTnLst>
                              <p:par>
                                <p:cTn id="61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7998"/>
                            </p:stCondLst>
                            <p:childTnLst>
                              <p:par>
                                <p:cTn id="67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9498"/>
                            </p:stCondLst>
                            <p:childTnLst>
                              <p:par>
                                <p:cTn id="73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998"/>
                            </p:stCondLst>
                            <p:childTnLst>
                              <p:par>
                                <p:cTn id="79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2498"/>
                            </p:stCondLst>
                            <p:childTnLst>
                              <p:par>
                                <p:cTn id="85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3998"/>
                            </p:stCondLst>
                            <p:childTnLst>
                              <p:par>
                                <p:cTn id="91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5498"/>
                            </p:stCondLst>
                            <p:childTnLst>
                              <p:par>
                                <p:cTn id="97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cc33"/>
                </a:solidFill>
                <a:latin typeface="Comic Sans MS"/>
              </a:rPr>
              <a:t>CD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99"/>
                </a:solidFill>
                <a:latin typeface="Comic Sans MS"/>
              </a:rPr>
              <a:t>Blink 182 (Blink-18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99"/>
                </a:solidFill>
                <a:latin typeface="Comic Sans MS"/>
              </a:rPr>
              <a:t>Toby Keith (any and all of them, but mostly the newest o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99"/>
                </a:solidFill>
                <a:latin typeface="Comic Sans MS"/>
              </a:rPr>
              <a:t>Sugarcult (Palm Tre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99"/>
                </a:solidFill>
                <a:latin typeface="Comic Sans MS"/>
              </a:rPr>
              <a:t>Linkon Pa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continu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07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4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9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40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690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840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99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6699"/>
                </a:solidFill>
                <a:latin typeface="Comic Sans MS"/>
              </a:rPr>
              <a:t>Paper Thing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Money (American, no funny mone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Walmart Mo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Letters of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continu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37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598"/>
                            </p:stCondLst>
                            <p:childTnLst>
                              <p:par>
                                <p:cTn id="139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98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4098"/>
                            </p:stCondLst>
                            <p:childTnLst>
                              <p:par>
                                <p:cTn id="146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98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598"/>
                            </p:stCondLst>
                            <p:childTnLst>
                              <p:par>
                                <p:cTn id="153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98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7098"/>
                            </p:stCondLst>
                            <p:childTnLst>
                              <p:par>
                                <p:cTn id="160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98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cc"/>
                </a:solidFill>
                <a:latin typeface="Comic Sans MS"/>
              </a:rPr>
              <a:t>Miscellaneou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Comic Sans MS"/>
                <a:ea typeface="comic sans"/>
              </a:rPr>
              <a:t>Cute things for fun…because I am c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Comic Sans MS"/>
                <a:ea typeface="comic sans"/>
              </a:rPr>
              <a:t>XM ra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Comic Sans MS"/>
                <a:ea typeface="comic sans"/>
              </a:rPr>
              <a:t>The arcade game system in the mall (it has 72 games on it, two controllers, and a gun for duck hu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Comic Sans MS"/>
                <a:ea typeface="comic sans"/>
              </a:rPr>
              <a:t>Chrysler Town and Country (hey, it doesn’t hurt to as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Comic Sans MS"/>
                <a:ea typeface="comic sans"/>
              </a:rPr>
              <a:t>Digital Cam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Comic Sans MS"/>
                <a:ea typeface="comic sans"/>
              </a:rPr>
              <a:t>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comic sans"/>
              </a:rPr>
              <a:t>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comic sans"/>
              </a:rPr>
              <a:t>Click to continu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320"/>
                            </p:stCondLst>
                            <p:childTnLst>
                              <p:par>
                                <p:cTn id="177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820"/>
                            </p:stCondLst>
                            <p:childTnLst>
                              <p:par>
                                <p:cTn id="181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4320"/>
                            </p:stCondLst>
                            <p:childTnLst>
                              <p:par>
                                <p:cTn id="185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820"/>
                            </p:stCondLst>
                            <p:childTnLst>
                              <p:par>
                                <p:cTn id="189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7320"/>
                            </p:stCondLst>
                            <p:childTnLst>
                              <p:par>
                                <p:cTn id="193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8820"/>
                            </p:stCondLst>
                            <p:childTnLst>
                              <p:par>
                                <p:cTn id="197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320"/>
                            </p:stCondLst>
                            <p:childTnLst>
                              <p:par>
                                <p:cTn id="201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cc33"/>
                </a:solidFill>
                <a:latin typeface="Comic Sans MS"/>
              </a:rPr>
              <a:t>Address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99"/>
                </a:solidFill>
                <a:latin typeface="Comic Sans MS"/>
              </a:rPr>
              <a:t>For Letters/   Subscrip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tephanie Ard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Berry College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P.O. Box 490256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unt Berry, GA 30149-0256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99"/>
                </a:solidFill>
                <a:latin typeface="Comic Sans MS"/>
              </a:rPr>
              <a:t>For Pack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tephanie Ard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2277 Martha Berry Highway, N.W.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unt Berry, GA 30149-0256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En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09" dur="1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80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800"/>
                            </p:stCondLst>
                            <p:childTnLst>
                              <p:par>
                                <p:cTn id="2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3800"/>
                            </p:stCondLst>
                            <p:childTnLst>
                              <p:par>
                                <p:cTn id="2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480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8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3T01:40:42Z</dcterms:created>
  <dc:creator>Stephanie Ard</dc:creator>
  <dc:description/>
  <dc:language>en-US</dc:language>
  <cp:lastModifiedBy>Stephanie Ard</cp:lastModifiedBy>
  <dcterms:modified xsi:type="dcterms:W3CDTF">2004-05-17T02:36:48Z</dcterms:modified>
  <cp:revision>12</cp:revision>
  <dc:subject/>
  <dc:title>Things Stephanie wants in case someone feels the need to buy her something... </dc:title>
</cp:coreProperties>
</file>