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068-AE2D-4E9D-8FCC-9A7D6DE0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346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EE2-2BC5-4677-B115-B81731C3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346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346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39A-3A37-42C7-A644-F7FC9E81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197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197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346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346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346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C79-3335-4399-BD06-3521F73D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7482-C15F-4739-B50D-B97AC916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19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7CE6-875F-4046-A839-A35AC951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EC73-1F8C-4A04-9E27-3ECB094B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197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16F5-BD97-46AB-94EA-C265A95B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9F02-F97D-4292-A530-E0794A5B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05BF-26B8-4656-9D6A-78851B86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197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346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F8D9-8EB1-45D6-BD78-D437CA3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19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7B5-32CF-4561-B9D9-17AA9B69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346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DAAE-2A06-4C9F-8399-F74B0BA6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346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E232-F843-43AB-9579-7E6F6753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346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A997-9C6D-45BB-831C-F115D345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346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346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A677-78BC-474A-ABF2-0FEA850E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197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197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346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346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346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ADEA-2AB4-44A4-A55A-20918DC4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A84-972A-4F41-A719-CD1FC3F0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197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754-8748-4A55-BC4F-0F37B61F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065-AC3D-4F37-82E1-D46F3366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35B-DC4F-4909-AC9F-12541ADE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197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346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DCC-0E2E-4F42-A27F-8EC86DF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346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47E-E2AD-487B-8740-9B11E44D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197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346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78F-D88D-4693-B15C-68861E6F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1360" y="219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2C53-B06F-498B-BE98-EF3D41BCA99C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09B4-0E80-459E-A31F-B7559A0F2B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CCAF-995E-4CA1-86A7-E51CCB7EC02A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E74A-6AAA-4049-98C9-2B5DD39511D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74800" y="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DNA Van Program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95600" y="709560"/>
            <a:ext cx="743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ff"/>
                </a:solidFill>
                <a:latin typeface="Arial"/>
              </a:rPr>
              <a:t>University of Missouri Columbia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076800"/>
            <a:ext cx="9407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hanks to Dr. Miriam Golomb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ND NATIONAL STARCH COMPAN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msotw9_temp0" descr=""/>
          <p:cNvPicPr/>
          <p:nvPr/>
        </p:nvPicPr>
        <p:blipFill>
          <a:blip r:embed="rId1"/>
          <a:stretch/>
        </p:blipFill>
        <p:spPr>
          <a:xfrm>
            <a:off x="812880" y="1352520"/>
            <a:ext cx="3378240" cy="2316240"/>
          </a:xfrm>
          <a:prstGeom prst="rect">
            <a:avLst/>
          </a:prstGeom>
          <a:ln w="0">
            <a:noFill/>
          </a:ln>
        </p:spPr>
      </p:pic>
      <p:pic>
        <p:nvPicPr>
          <p:cNvPr id="88" name="msotw9_temp0" descr=""/>
          <p:cNvPicPr/>
          <p:nvPr/>
        </p:nvPicPr>
        <p:blipFill>
          <a:blip r:embed="rId2"/>
          <a:stretch/>
        </p:blipFill>
        <p:spPr>
          <a:xfrm>
            <a:off x="4960800" y="1359000"/>
            <a:ext cx="3548160" cy="2431800"/>
          </a:xfrm>
          <a:prstGeom prst="rect">
            <a:avLst/>
          </a:prstGeom>
          <a:ln w="0">
            <a:noFill/>
          </a:ln>
        </p:spPr>
      </p:pic>
      <p:pic>
        <p:nvPicPr>
          <p:cNvPr id="89" name="msotw9_temp0" descr=""/>
          <p:cNvPicPr/>
          <p:nvPr/>
        </p:nvPicPr>
        <p:blipFill>
          <a:blip r:embed="rId3"/>
          <a:stretch/>
        </p:blipFill>
        <p:spPr>
          <a:xfrm>
            <a:off x="825480" y="3722760"/>
            <a:ext cx="3187800" cy="2203200"/>
          </a:xfrm>
          <a:prstGeom prst="rect">
            <a:avLst/>
          </a:prstGeom>
          <a:ln w="0">
            <a:noFill/>
          </a:ln>
        </p:spPr>
      </p:pic>
      <p:pic>
        <p:nvPicPr>
          <p:cNvPr id="90" name="msotw9_temp0" descr=""/>
          <p:cNvPicPr/>
          <p:nvPr/>
        </p:nvPicPr>
        <p:blipFill>
          <a:blip r:embed="rId4"/>
          <a:stretch/>
        </p:blipFill>
        <p:spPr>
          <a:xfrm flipH="1" rot="10800000">
            <a:off x="4851360" y="3911400"/>
            <a:ext cx="3822840" cy="263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9DE-B14D-4297-B1ED-60C377559382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F2DD9-E4AC-40E9-ACF7-F9714DB65C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19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DNA extractio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1674720"/>
            <a:ext cx="3429000" cy="289728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10240" y="4495680"/>
            <a:ext cx="98640" cy="135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57560" y="4419720"/>
            <a:ext cx="100080" cy="13644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76680" y="4191120"/>
            <a:ext cx="99720" cy="13464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86560" y="3581280"/>
            <a:ext cx="109440" cy="10476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19480" y="3409920"/>
            <a:ext cx="98280" cy="135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4280" y="1905120"/>
            <a:ext cx="98280" cy="13644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7800" y="1681200"/>
            <a:ext cx="100080" cy="135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62880" y="2590920"/>
            <a:ext cx="99720" cy="13464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49520" y="1541520"/>
            <a:ext cx="98640" cy="135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5720" y="1400040"/>
            <a:ext cx="100080" cy="135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12160" y="3886200"/>
            <a:ext cx="98280" cy="13644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15160" y="4114800"/>
            <a:ext cx="98280" cy="13644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8280" y="5715000"/>
            <a:ext cx="98280" cy="13644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1371600"/>
            <a:ext cx="98280" cy="135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38240" y="3124080"/>
            <a:ext cx="98640" cy="135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72360" y="3505320"/>
            <a:ext cx="100080" cy="13644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48680" y="4267080"/>
            <a:ext cx="99720" cy="135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09840" y="2620800"/>
            <a:ext cx="990720" cy="808200"/>
          </a:xfrm>
          <a:custGeom>
            <a:avLst/>
            <a:gdLst/>
            <a:ahLst/>
            <a:rect l="l" t="t" r="r" b="b"/>
            <a:pathLst>
              <a:path w="881" h="719">
                <a:moveTo>
                  <a:pt x="148" y="343"/>
                </a:moveTo>
                <a:cubicBezTo>
                  <a:pt x="248" y="208"/>
                  <a:pt x="348" y="73"/>
                  <a:pt x="366" y="70"/>
                </a:cubicBezTo>
                <a:cubicBezTo>
                  <a:pt x="384" y="67"/>
                  <a:pt x="275" y="254"/>
                  <a:pt x="257" y="324"/>
                </a:cubicBezTo>
                <a:cubicBezTo>
                  <a:pt x="239" y="394"/>
                  <a:pt x="242" y="479"/>
                  <a:pt x="257" y="488"/>
                </a:cubicBezTo>
                <a:cubicBezTo>
                  <a:pt x="272" y="497"/>
                  <a:pt x="363" y="423"/>
                  <a:pt x="348" y="379"/>
                </a:cubicBezTo>
                <a:cubicBezTo>
                  <a:pt x="333" y="335"/>
                  <a:pt x="199" y="200"/>
                  <a:pt x="167" y="224"/>
                </a:cubicBezTo>
                <a:cubicBezTo>
                  <a:pt x="135" y="248"/>
                  <a:pt x="95" y="548"/>
                  <a:pt x="157" y="524"/>
                </a:cubicBezTo>
                <a:cubicBezTo>
                  <a:pt x="219" y="500"/>
                  <a:pt x="495" y="148"/>
                  <a:pt x="539" y="79"/>
                </a:cubicBezTo>
                <a:cubicBezTo>
                  <a:pt x="583" y="10"/>
                  <a:pt x="445" y="64"/>
                  <a:pt x="421" y="106"/>
                </a:cubicBezTo>
                <a:cubicBezTo>
                  <a:pt x="397" y="148"/>
                  <a:pt x="368" y="330"/>
                  <a:pt x="394" y="333"/>
                </a:cubicBezTo>
                <a:cubicBezTo>
                  <a:pt x="420" y="336"/>
                  <a:pt x="587" y="139"/>
                  <a:pt x="576" y="124"/>
                </a:cubicBezTo>
                <a:cubicBezTo>
                  <a:pt x="565" y="109"/>
                  <a:pt x="333" y="161"/>
                  <a:pt x="330" y="243"/>
                </a:cubicBezTo>
                <a:cubicBezTo>
                  <a:pt x="327" y="325"/>
                  <a:pt x="492" y="615"/>
                  <a:pt x="557" y="615"/>
                </a:cubicBezTo>
                <a:cubicBezTo>
                  <a:pt x="622" y="615"/>
                  <a:pt x="718" y="290"/>
                  <a:pt x="721" y="243"/>
                </a:cubicBezTo>
                <a:cubicBezTo>
                  <a:pt x="724" y="196"/>
                  <a:pt x="646" y="274"/>
                  <a:pt x="576" y="333"/>
                </a:cubicBezTo>
                <a:cubicBezTo>
                  <a:pt x="506" y="392"/>
                  <a:pt x="351" y="567"/>
                  <a:pt x="303" y="597"/>
                </a:cubicBezTo>
                <a:cubicBezTo>
                  <a:pt x="255" y="627"/>
                  <a:pt x="258" y="563"/>
                  <a:pt x="285" y="515"/>
                </a:cubicBezTo>
                <a:cubicBezTo>
                  <a:pt x="312" y="467"/>
                  <a:pt x="418" y="320"/>
                  <a:pt x="466" y="306"/>
                </a:cubicBezTo>
                <a:cubicBezTo>
                  <a:pt x="514" y="292"/>
                  <a:pt x="576" y="372"/>
                  <a:pt x="576" y="433"/>
                </a:cubicBezTo>
                <a:cubicBezTo>
                  <a:pt x="576" y="494"/>
                  <a:pt x="490" y="683"/>
                  <a:pt x="466" y="670"/>
                </a:cubicBezTo>
                <a:cubicBezTo>
                  <a:pt x="442" y="657"/>
                  <a:pt x="407" y="434"/>
                  <a:pt x="430" y="352"/>
                </a:cubicBezTo>
                <a:cubicBezTo>
                  <a:pt x="453" y="270"/>
                  <a:pt x="550" y="162"/>
                  <a:pt x="603" y="179"/>
                </a:cubicBezTo>
                <a:cubicBezTo>
                  <a:pt x="656" y="196"/>
                  <a:pt x="766" y="399"/>
                  <a:pt x="748" y="452"/>
                </a:cubicBezTo>
                <a:cubicBezTo>
                  <a:pt x="730" y="505"/>
                  <a:pt x="567" y="487"/>
                  <a:pt x="494" y="497"/>
                </a:cubicBezTo>
                <a:cubicBezTo>
                  <a:pt x="421" y="507"/>
                  <a:pt x="339" y="482"/>
                  <a:pt x="312" y="515"/>
                </a:cubicBezTo>
                <a:cubicBezTo>
                  <a:pt x="285" y="548"/>
                  <a:pt x="292" y="680"/>
                  <a:pt x="330" y="697"/>
                </a:cubicBezTo>
                <a:cubicBezTo>
                  <a:pt x="368" y="714"/>
                  <a:pt x="527" y="719"/>
                  <a:pt x="539" y="615"/>
                </a:cubicBezTo>
                <a:cubicBezTo>
                  <a:pt x="551" y="511"/>
                  <a:pt x="399" y="140"/>
                  <a:pt x="403" y="70"/>
                </a:cubicBezTo>
                <a:cubicBezTo>
                  <a:pt x="407" y="0"/>
                  <a:pt x="537" y="161"/>
                  <a:pt x="566" y="197"/>
                </a:cubicBezTo>
                <a:cubicBezTo>
                  <a:pt x="595" y="233"/>
                  <a:pt x="640" y="242"/>
                  <a:pt x="576" y="288"/>
                </a:cubicBezTo>
                <a:cubicBezTo>
                  <a:pt x="512" y="334"/>
                  <a:pt x="247" y="463"/>
                  <a:pt x="185" y="470"/>
                </a:cubicBezTo>
                <a:cubicBezTo>
                  <a:pt x="123" y="477"/>
                  <a:pt x="138" y="366"/>
                  <a:pt x="203" y="333"/>
                </a:cubicBezTo>
                <a:cubicBezTo>
                  <a:pt x="268" y="300"/>
                  <a:pt x="497" y="264"/>
                  <a:pt x="576" y="270"/>
                </a:cubicBezTo>
                <a:cubicBezTo>
                  <a:pt x="655" y="276"/>
                  <a:pt x="653" y="343"/>
                  <a:pt x="676" y="370"/>
                </a:cubicBezTo>
                <a:cubicBezTo>
                  <a:pt x="699" y="397"/>
                  <a:pt x="718" y="404"/>
                  <a:pt x="712" y="433"/>
                </a:cubicBezTo>
                <a:cubicBezTo>
                  <a:pt x="706" y="462"/>
                  <a:pt x="753" y="560"/>
                  <a:pt x="639" y="543"/>
                </a:cubicBezTo>
                <a:cubicBezTo>
                  <a:pt x="525" y="526"/>
                  <a:pt x="60" y="407"/>
                  <a:pt x="30" y="333"/>
                </a:cubicBezTo>
                <a:cubicBezTo>
                  <a:pt x="0" y="259"/>
                  <a:pt x="363" y="129"/>
                  <a:pt x="457" y="97"/>
                </a:cubicBezTo>
                <a:cubicBezTo>
                  <a:pt x="551" y="65"/>
                  <a:pt x="591" y="90"/>
                  <a:pt x="594" y="143"/>
                </a:cubicBezTo>
                <a:cubicBezTo>
                  <a:pt x="597" y="196"/>
                  <a:pt x="517" y="342"/>
                  <a:pt x="476" y="415"/>
                </a:cubicBezTo>
                <a:cubicBezTo>
                  <a:pt x="435" y="488"/>
                  <a:pt x="393" y="612"/>
                  <a:pt x="348" y="579"/>
                </a:cubicBezTo>
                <a:cubicBezTo>
                  <a:pt x="303" y="546"/>
                  <a:pt x="124" y="230"/>
                  <a:pt x="203" y="215"/>
                </a:cubicBezTo>
                <a:cubicBezTo>
                  <a:pt x="282" y="200"/>
                  <a:pt x="761" y="414"/>
                  <a:pt x="821" y="488"/>
                </a:cubicBezTo>
                <a:cubicBezTo>
                  <a:pt x="881" y="562"/>
                  <a:pt x="620" y="664"/>
                  <a:pt x="566" y="661"/>
                </a:cubicBezTo>
                <a:cubicBezTo>
                  <a:pt x="512" y="658"/>
                  <a:pt x="503" y="564"/>
                  <a:pt x="494" y="470"/>
                </a:cubicBezTo>
              </a:path>
            </a:pathLst>
          </a:custGeom>
          <a:noFill/>
          <a:ln cap="sq"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86160" y="2590920"/>
            <a:ext cx="914400" cy="914400"/>
          </a:xfrm>
          <a:prstGeom prst="ellipse">
            <a:avLst/>
          </a:prstGeom>
          <a:noFill/>
          <a:ln w="9360">
            <a:solidFill>
              <a:srgbClr val="fea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31920" y="91332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Cell membra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0960" y="18579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Nuclear membra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9480" y="2286000"/>
            <a:ext cx="1143000" cy="45720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14600" y="1295280"/>
            <a:ext cx="228600" cy="45720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960" y="441864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859"/>
                </a:solidFill>
                <a:latin typeface="Times New Roman"/>
              </a:rPr>
              <a:t>Heat disrupts membra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709640" y="3962160"/>
            <a:ext cx="1447920" cy="609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09640" y="3352320"/>
            <a:ext cx="1676520" cy="1219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59400" y="5104440"/>
            <a:ext cx="377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859"/>
                </a:solidFill>
                <a:latin typeface="Times New Roman"/>
              </a:rPr>
              <a:t>Chelex bind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859"/>
                </a:solidFill>
                <a:latin typeface="Times New Roman"/>
              </a:rPr>
              <a:t>released cellular Mg</a:t>
            </a:r>
            <a:r>
              <a:rPr b="0" lang="en-US" sz="3200" spc="-1" strike="noStrike" baseline="30000">
                <a:solidFill>
                  <a:srgbClr val="ffc859"/>
                </a:solidFill>
                <a:latin typeface="Times New Roman"/>
              </a:rPr>
              <a:t>+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54640" y="251424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enom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148280" y="2895480"/>
            <a:ext cx="30456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71120" y="3504600"/>
            <a:ext cx="6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g</a:t>
            </a:r>
            <a:r>
              <a:rPr b="0" lang="en-US" sz="1800" spc="-1" strike="noStrike" baseline="30000">
                <a:solidFill>
                  <a:srgbClr val="ffff00"/>
                </a:solidFill>
                <a:latin typeface="Times New Roman"/>
              </a:rPr>
              <a:t>++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42320" y="4571280"/>
            <a:ext cx="6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g</a:t>
            </a:r>
            <a:r>
              <a:rPr b="0" lang="en-US" sz="1800" spc="-1" strike="noStrike" baseline="30000">
                <a:solidFill>
                  <a:srgbClr val="ffff00"/>
                </a:solidFill>
                <a:latin typeface="Times New Roman"/>
              </a:rPr>
              <a:t>++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38840" y="228528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g</a:t>
            </a:r>
            <a:r>
              <a:rPr b="0" lang="en-US" sz="1800" spc="-1" strike="noStrike" baseline="30000">
                <a:solidFill>
                  <a:srgbClr val="ffff00"/>
                </a:solidFill>
                <a:latin typeface="Times New Roman"/>
              </a:rPr>
              <a:t>++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56720" y="4419000"/>
            <a:ext cx="6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g</a:t>
            </a:r>
            <a:r>
              <a:rPr b="0" lang="en-US" sz="1800" spc="-1" strike="noStrike" baseline="30000">
                <a:solidFill>
                  <a:srgbClr val="ffff00"/>
                </a:solidFill>
                <a:latin typeface="Times New Roman"/>
              </a:rPr>
              <a:t>++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6680" y="3580560"/>
            <a:ext cx="6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g</a:t>
            </a:r>
            <a:r>
              <a:rPr b="0" lang="en-US" sz="1800" spc="-1" strike="noStrike" baseline="30000">
                <a:solidFill>
                  <a:srgbClr val="ffff00"/>
                </a:solidFill>
                <a:latin typeface="Times New Roman"/>
              </a:rPr>
              <a:t>++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91280" y="4038480"/>
            <a:ext cx="1066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738840" y="2514600"/>
            <a:ext cx="7632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110440" y="3809880"/>
            <a:ext cx="7632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071960" y="5638680"/>
            <a:ext cx="7632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48680" y="4419360"/>
            <a:ext cx="0" cy="7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03680" y="5333400"/>
            <a:ext cx="6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g</a:t>
            </a:r>
            <a:r>
              <a:rPr b="0" lang="en-US" sz="1800" spc="-1" strike="noStrike" baseline="30000">
                <a:solidFill>
                  <a:srgbClr val="ffff00"/>
                </a:solidFill>
                <a:latin typeface="Times New Roman"/>
              </a:rPr>
              <a:t>++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BA0-883A-4772-A47D-B4B36FFA3B31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4EB07-94A0-467E-86EE-1FC6D5353D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00280" y="228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Micropipette Us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680" y="198360"/>
            <a:ext cx="769608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wist dial to desired volume. Be careful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his is where you can break these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ick up pipette tip by pressing firmly 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he tip located in the box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ess plunger to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 soft stop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sert pipette tip into solution to be    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ransferr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Slowly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release plunger to retrieve liqui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ove pipette tip into desired tub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ess plunger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past first stop to second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hard stop to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transfer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liqui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13719" b="1136"/>
          <a:stretch/>
        </p:blipFill>
        <p:spPr>
          <a:xfrm>
            <a:off x="8026560" y="0"/>
            <a:ext cx="91440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FC2-F52F-4FE6-84BB-46590C5DCC6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D6D1C-E19A-46D8-AFFC-70925527BD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13719" b="1136"/>
          <a:stretch/>
        </p:blipFill>
        <p:spPr>
          <a:xfrm>
            <a:off x="8026560" y="0"/>
            <a:ext cx="914400" cy="6324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15920" y="-152280"/>
            <a:ext cx="680724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OADING DNA IN WELLS BY PIPET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KE SURE THE PIPETTE READS THE CORRECT AMOUNT TO BE ADDED TO THE WELL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SS THE PLUNGER TO THE FIRST STOP AND SLOWLY RELEASE TO EXTRACT THE DNA FROM THE TUBE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REFULLY ADD DNA BY INSERTING THE TIP OF THE PIPETTE INTO THE BUFFER IN THE MIDDLE OF THE WELL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E CAREFUL NOT TO TOUCH THE BOTTOM OF THE WELL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SS THE PLUNGER TO THE FIRST STOP ONLY AND RELEASE THE DNA INTO THE WELL. DO NOT PRESS TO THE SECOND STOP. THIS WILL RELEASE AIR INTO THE WELL.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KEEP THE PLUNGER DOWN AT THE FIRST STOP AND TAKE THE PIPETTOR OUT OF THE BUFFER. THIS WILL ENSURE THAT YOU DON’T SUCK THE DNA BACK INTO THE PIPETTE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4E7-33AD-4D23-AE58-030935A88AF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00D75-16AE-40D6-9DC2-842415347D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APDNA%202001K" descr=""/>
          <p:cNvPicPr/>
          <p:nvPr/>
        </p:nvPicPr>
        <p:blipFill>
          <a:blip r:embed="rId1"/>
          <a:stretch/>
        </p:blipFill>
        <p:spPr>
          <a:xfrm>
            <a:off x="1111320" y="846000"/>
            <a:ext cx="3241440" cy="461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616120" y="0"/>
            <a:ext cx="49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olation of Cheek Cell DN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59400" y="952560"/>
            <a:ext cx="443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44920" y="863640"/>
            <a:ext cx="450864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eek cells will first be collected by rinsing out your mouth with a saline solution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y saline?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salt keeps the cells in proper osmotic balance so they don’t burst. (Isotonic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cells are then spun in a centrifuge and boiled with a resin (CHELEX).  Chelex is an ion-exchange resin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oiling causes the cells to disrupt and the DNA (now in single-stranded form) extracted in water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626080"/>
            <a:ext cx="87501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chelex removes impurities that would interfere with PCR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Chelex™ protects the sample from DNAases* that might remain after the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oiling and could subsequently contaminate the sampl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938-97EC-410E-81CC-2D7CD28C777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7BA95-44CA-416E-8B05-0B6A59A1D1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hat does CHELEX do?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612800"/>
            <a:ext cx="764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7840" y="2284560"/>
            <a:ext cx="87883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chelex removes impurities that would interfere with PCR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Chelex™ protects the sample from DNAases* that might remain after the boiling and could subsequently contaminate the sample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ases are enzymes which occur naturally in all body tissues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y cut DNA, rendering it unsuitable for PCR. Magnesium ions are essential cofactors for DNAases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lex™ resin binds with cations including Mg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 By binding with the magnesium ions, the Chelex™ resin renders DNAases inoperable, thus protecting DNA from their action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BF1-90A6-4531-86C6-67461175AB6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F2249-0E23-424A-9CAC-334E8078A6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6094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hat does the PCR mix contain?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CR mix contai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reagents needed for PCR amplific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red and yellow loading dy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glycerol to make samples sin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Amplified samples can be loaded directly onto agarose ge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BE1-06F7-4C17-97E7-CE9A612E06F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1E0A6-17DA-4572-B6D1-641BF678A3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needed for PCR?</a:t>
            </a:r>
            <a:endParaRPr b="1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93400"/>
            <a:ext cx="84837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mplate (the DNA you are exploring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equence-specific primers flanking the target sequence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Forward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2" marL="1143000" indent="-228600">
              <a:lnSpc>
                <a:spcPct val="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Revers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ucleotides (dATP, dCTP, dGTP, dTTP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agnesium chloride (enzyme cofactor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Buffer, containing salt, maintains tonicity, regulation of ions and pH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aq Polymerase is responsible for adding nucleotides to the newly formed DNA strand.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F67-6AA6-4503-B11D-9174FA5A19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A98D9-9C59-4554-A453-3EF9EA4DBF75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How does PCR work?</a:t>
            </a:r>
            <a:endParaRPr b="1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9182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1800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eat (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94</a:t>
            </a:r>
            <a:r>
              <a:rPr b="1" lang="en-US" sz="4000" spc="-1" strike="noStrike" baseline="30000">
                <a:solidFill>
                  <a:srgbClr val="ffff99"/>
                </a:solidFill>
                <a:latin typeface="Times New Roman"/>
              </a:rPr>
              <a:t>o-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) to denature DNA strand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Cool (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64</a:t>
            </a:r>
            <a:r>
              <a:rPr b="1" lang="en-US" sz="40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) to anneal primers to templat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1800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Warm (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72</a:t>
            </a:r>
            <a:r>
              <a:rPr b="1" lang="en-US" sz="40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) to activate Taq Polymerase, which extends primers and replicates DN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spcAft>
                <a:spcPts val="18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Repeat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multiple cycles (30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130-1D52-40D5-8DD6-B2BDD9E900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5EC2E-8DEE-4B20-80DF-6E92E1A8E000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Denaturing Template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2590920"/>
            <a:ext cx="5564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83920" y="1386720"/>
            <a:ext cx="62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eat causes DNA strands to separ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80520" y="2361960"/>
            <a:ext cx="8229960" cy="457200"/>
            <a:chOff x="380520" y="2361960"/>
            <a:chExt cx="8229960" cy="457200"/>
          </a:xfrm>
        </p:grpSpPr>
        <p:sp>
          <p:nvSpPr>
            <p:cNvPr id="182" name=""/>
            <p:cNvSpPr/>
            <p:nvPr/>
          </p:nvSpPr>
          <p:spPr>
            <a:xfrm>
              <a:off x="127800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8896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0028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2076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3208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4304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1124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5436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8760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9892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988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3072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4168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664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1940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5300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6396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6532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8624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9756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0852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1984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2936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528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4032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164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6260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7392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488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620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0716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18480" y="2419200"/>
              <a:ext cx="0" cy="342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80520" y="2704680"/>
              <a:ext cx="8229960" cy="114480"/>
              <a:chOff x="380520" y="2704680"/>
              <a:chExt cx="8229960" cy="114480"/>
            </a:xfrm>
          </p:grpSpPr>
          <p:sp>
            <p:nvSpPr>
              <p:cNvPr id="215" name=""/>
              <p:cNvSpPr/>
              <p:nvPr/>
            </p:nvSpPr>
            <p:spPr>
              <a:xfrm>
                <a:off x="1066680" y="2761920"/>
                <a:ext cx="68565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7924680" y="2704680"/>
                <a:ext cx="685800" cy="114480"/>
                <a:chOff x="7924680" y="2704680"/>
                <a:chExt cx="685800" cy="1144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8001000" y="270504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7924680" y="2705040"/>
                  <a:ext cx="76320" cy="5688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305560" y="2705040"/>
                  <a:ext cx="15264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8153280" y="270468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8458200" y="270468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80520" y="2704680"/>
                <a:ext cx="685800" cy="114480"/>
                <a:chOff x="380520" y="2704680"/>
                <a:chExt cx="685800" cy="114480"/>
              </a:xfrm>
            </p:grpSpPr>
            <p:sp>
              <p:nvSpPr>
                <p:cNvPr id="223" name=""/>
                <p:cNvSpPr/>
                <p:nvPr/>
              </p:nvSpPr>
              <p:spPr>
                <a:xfrm flipH="1">
                  <a:off x="837720" y="270504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flipV="1">
                  <a:off x="990000" y="2705040"/>
                  <a:ext cx="76320" cy="5688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532800" y="2705040"/>
                  <a:ext cx="15264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>
                  <a:off x="685440" y="270468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380520" y="270468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380520" y="2361960"/>
              <a:ext cx="8229960" cy="114480"/>
              <a:chOff x="380520" y="2361960"/>
              <a:chExt cx="8229960" cy="114480"/>
            </a:xfrm>
          </p:grpSpPr>
          <p:sp>
            <p:nvSpPr>
              <p:cNvPr id="229" name=""/>
              <p:cNvSpPr/>
              <p:nvPr/>
            </p:nvSpPr>
            <p:spPr>
              <a:xfrm>
                <a:off x="1066680" y="2419200"/>
                <a:ext cx="68565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7924680" y="2361960"/>
                <a:ext cx="685800" cy="114480"/>
                <a:chOff x="7924680" y="2361960"/>
                <a:chExt cx="685800" cy="1144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8001000" y="236232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7924680" y="2362320"/>
                  <a:ext cx="76320" cy="5688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305560" y="2362320"/>
                  <a:ext cx="15264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8153280" y="236196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>
                  <a:off x="8458200" y="236196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80520" y="2361960"/>
                <a:ext cx="685800" cy="114480"/>
                <a:chOff x="380520" y="2361960"/>
                <a:chExt cx="685800" cy="11448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837720" y="236232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990000" y="2362320"/>
                  <a:ext cx="76320" cy="5688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532800" y="2362320"/>
                  <a:ext cx="15264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>
                  <a:off x="685440" y="236196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380520" y="2361960"/>
                  <a:ext cx="152280" cy="1141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2" name=""/>
          <p:cNvGrpSpPr/>
          <p:nvPr/>
        </p:nvGrpSpPr>
        <p:grpSpPr>
          <a:xfrm>
            <a:off x="8631000" y="2132640"/>
            <a:ext cx="435240" cy="1069200"/>
            <a:chOff x="8631000" y="2132640"/>
            <a:chExt cx="435240" cy="1069200"/>
          </a:xfrm>
        </p:grpSpPr>
        <p:sp>
          <p:nvSpPr>
            <p:cNvPr id="243" name=""/>
            <p:cNvSpPr/>
            <p:nvPr/>
          </p:nvSpPr>
          <p:spPr>
            <a:xfrm>
              <a:off x="8631000" y="2132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31000" y="2742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0520" y="2132640"/>
            <a:ext cx="435240" cy="1069200"/>
            <a:chOff x="20520" y="2132640"/>
            <a:chExt cx="435240" cy="1069200"/>
          </a:xfrm>
        </p:grpSpPr>
        <p:sp>
          <p:nvSpPr>
            <p:cNvPr id="246" name=""/>
            <p:cNvSpPr/>
            <p:nvPr/>
          </p:nvSpPr>
          <p:spPr>
            <a:xfrm>
              <a:off x="20520" y="2132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20" y="2742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768840" y="324576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nature DNA strands 94</a:t>
            </a:r>
            <a:r>
              <a:rPr b="0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200400"/>
            <a:ext cx="0" cy="7621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56840" y="5028840"/>
            <a:ext cx="8229960" cy="152640"/>
            <a:chOff x="456840" y="5028840"/>
            <a:chExt cx="8229960" cy="152640"/>
          </a:xfrm>
        </p:grpSpPr>
        <p:sp>
          <p:nvSpPr>
            <p:cNvPr id="251" name=""/>
            <p:cNvSpPr/>
            <p:nvPr/>
          </p:nvSpPr>
          <p:spPr>
            <a:xfrm>
              <a:off x="1143000" y="5105160"/>
              <a:ext cx="6856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8001000" y="5028840"/>
              <a:ext cx="685800" cy="152640"/>
              <a:chOff x="8001000" y="5028840"/>
              <a:chExt cx="685800" cy="152640"/>
            </a:xfrm>
          </p:grpSpPr>
          <p:sp>
            <p:nvSpPr>
              <p:cNvPr id="253" name=""/>
              <p:cNvSpPr/>
              <p:nvPr/>
            </p:nvSpPr>
            <p:spPr>
              <a:xfrm>
                <a:off x="8077320" y="502920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001000" y="502884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81880" y="502920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8229600" y="50288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8534520" y="50288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56840" y="5028840"/>
              <a:ext cx="685800" cy="152640"/>
              <a:chOff x="456840" y="5028840"/>
              <a:chExt cx="685800" cy="15264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914040" y="502920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1066320" y="502884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09120" y="502920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761760" y="50288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56840" y="50288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456840" y="4343040"/>
            <a:ext cx="8229960" cy="152640"/>
            <a:chOff x="456840" y="4343040"/>
            <a:chExt cx="8229960" cy="152640"/>
          </a:xfrm>
        </p:grpSpPr>
        <p:sp>
          <p:nvSpPr>
            <p:cNvPr id="265" name=""/>
            <p:cNvSpPr/>
            <p:nvPr/>
          </p:nvSpPr>
          <p:spPr>
            <a:xfrm>
              <a:off x="1143000" y="4419360"/>
              <a:ext cx="6856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001000" y="4343040"/>
              <a:ext cx="685800" cy="152640"/>
              <a:chOff x="8001000" y="4343040"/>
              <a:chExt cx="685800" cy="152640"/>
            </a:xfrm>
          </p:grpSpPr>
          <p:sp>
            <p:nvSpPr>
              <p:cNvPr id="267" name=""/>
              <p:cNvSpPr/>
              <p:nvPr/>
            </p:nvSpPr>
            <p:spPr>
              <a:xfrm>
                <a:off x="8077320" y="434340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8001000" y="434304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81880" y="434340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229600" y="43430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8534520" y="43430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56840" y="4343040"/>
              <a:ext cx="685800" cy="152640"/>
              <a:chOff x="456840" y="4343040"/>
              <a:chExt cx="685800" cy="15264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914040" y="434340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066320" y="434304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09120" y="434340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761760" y="43430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456840" y="43430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1440" y="4190040"/>
            <a:ext cx="435240" cy="1069200"/>
            <a:chOff x="1440" y="4190040"/>
            <a:chExt cx="435240" cy="1069200"/>
          </a:xfrm>
        </p:grpSpPr>
        <p:sp>
          <p:nvSpPr>
            <p:cNvPr id="279" name=""/>
            <p:cNvSpPr/>
            <p:nvPr/>
          </p:nvSpPr>
          <p:spPr>
            <a:xfrm>
              <a:off x="1440" y="4190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40" y="4799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8705880" y="4113720"/>
            <a:ext cx="435240" cy="1069200"/>
            <a:chOff x="8705880" y="4113720"/>
            <a:chExt cx="435240" cy="1069200"/>
          </a:xfrm>
        </p:grpSpPr>
        <p:sp>
          <p:nvSpPr>
            <p:cNvPr id="282" name=""/>
            <p:cNvSpPr/>
            <p:nvPr/>
          </p:nvSpPr>
          <p:spPr>
            <a:xfrm>
              <a:off x="8705880" y="41137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0588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158-FA4E-47DF-AB34-469B01325F0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01757-3647-476B-8748-D28420E2EF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Annealing Primers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56840" y="3504960"/>
            <a:ext cx="8229960" cy="152640"/>
            <a:chOff x="456840" y="3504960"/>
            <a:chExt cx="8229960" cy="152640"/>
          </a:xfrm>
        </p:grpSpPr>
        <p:sp>
          <p:nvSpPr>
            <p:cNvPr id="286" name=""/>
            <p:cNvSpPr/>
            <p:nvPr/>
          </p:nvSpPr>
          <p:spPr>
            <a:xfrm>
              <a:off x="1143000" y="3581280"/>
              <a:ext cx="6856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8001000" y="3504960"/>
              <a:ext cx="685800" cy="152640"/>
              <a:chOff x="8001000" y="3504960"/>
              <a:chExt cx="685800" cy="152640"/>
            </a:xfrm>
          </p:grpSpPr>
          <p:sp>
            <p:nvSpPr>
              <p:cNvPr id="288" name=""/>
              <p:cNvSpPr/>
              <p:nvPr/>
            </p:nvSpPr>
            <p:spPr>
              <a:xfrm>
                <a:off x="8077320" y="35053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8001000" y="350496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381880" y="350532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8229600" y="35049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8534520" y="35049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56840" y="3504960"/>
              <a:ext cx="685800" cy="152640"/>
              <a:chOff x="456840" y="3504960"/>
              <a:chExt cx="685800" cy="15264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914040" y="35053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1066320" y="350496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09120" y="350532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761760" y="35049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>
                <a:off x="456840" y="35049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456840" y="2895120"/>
            <a:ext cx="8229960" cy="152640"/>
            <a:chOff x="456840" y="2895120"/>
            <a:chExt cx="8229960" cy="152640"/>
          </a:xfrm>
        </p:grpSpPr>
        <p:sp>
          <p:nvSpPr>
            <p:cNvPr id="300" name=""/>
            <p:cNvSpPr/>
            <p:nvPr/>
          </p:nvSpPr>
          <p:spPr>
            <a:xfrm>
              <a:off x="1143000" y="2971440"/>
              <a:ext cx="6856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8001000" y="2895120"/>
              <a:ext cx="685800" cy="152640"/>
              <a:chOff x="8001000" y="2895120"/>
              <a:chExt cx="685800" cy="152640"/>
            </a:xfrm>
          </p:grpSpPr>
          <p:sp>
            <p:nvSpPr>
              <p:cNvPr id="302" name=""/>
              <p:cNvSpPr/>
              <p:nvPr/>
            </p:nvSpPr>
            <p:spPr>
              <a:xfrm>
                <a:off x="8077320" y="289548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8001000" y="289512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381880" y="289548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8229600" y="28951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8534520" y="28951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56840" y="2895120"/>
              <a:ext cx="685800" cy="152640"/>
              <a:chOff x="456840" y="2895120"/>
              <a:chExt cx="685800" cy="15264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914040" y="289548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1066320" y="289512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09120" y="289548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761760" y="28951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456840" y="28951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" name=""/>
          <p:cNvSpPr/>
          <p:nvPr/>
        </p:nvSpPr>
        <p:spPr>
          <a:xfrm>
            <a:off x="380880" y="984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rimers bind to the template sequ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aq Polymerase recognizes double-stranded substr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31000" y="2665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’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631000" y="3275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’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6840" y="2742120"/>
            <a:ext cx="435240" cy="1069200"/>
            <a:chOff x="96840" y="2742120"/>
            <a:chExt cx="435240" cy="1069200"/>
          </a:xfrm>
        </p:grpSpPr>
        <p:sp>
          <p:nvSpPr>
            <p:cNvPr id="317" name=""/>
            <p:cNvSpPr/>
            <p:nvPr/>
          </p:nvSpPr>
          <p:spPr>
            <a:xfrm>
              <a:off x="96840" y="2742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6840" y="3351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809880" y="3809880"/>
            <a:ext cx="0" cy="5335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00840" y="388548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rimers anneal 58</a:t>
            </a:r>
            <a:r>
              <a:rPr b="0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61440" y="5257440"/>
            <a:ext cx="8229960" cy="152640"/>
            <a:chOff x="361440" y="5257440"/>
            <a:chExt cx="8229960" cy="152640"/>
          </a:xfrm>
        </p:grpSpPr>
        <p:sp>
          <p:nvSpPr>
            <p:cNvPr id="322" name=""/>
            <p:cNvSpPr/>
            <p:nvPr/>
          </p:nvSpPr>
          <p:spPr>
            <a:xfrm>
              <a:off x="1047600" y="5333760"/>
              <a:ext cx="6856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7905600" y="5257440"/>
              <a:ext cx="685800" cy="152640"/>
              <a:chOff x="7905600" y="5257440"/>
              <a:chExt cx="685800" cy="152640"/>
            </a:xfrm>
          </p:grpSpPr>
          <p:sp>
            <p:nvSpPr>
              <p:cNvPr id="324" name=""/>
              <p:cNvSpPr/>
              <p:nvPr/>
            </p:nvSpPr>
            <p:spPr>
              <a:xfrm>
                <a:off x="7981920" y="525780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905600" y="525744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86480" y="525780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8134200" y="52574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8439120" y="52574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61440" y="5257440"/>
              <a:ext cx="685800" cy="152640"/>
              <a:chOff x="361440" y="5257440"/>
              <a:chExt cx="685800" cy="15264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818640" y="525780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970920" y="525744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13720" y="525780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666360" y="52574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361440" y="525744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361440" y="4647960"/>
            <a:ext cx="8229960" cy="152640"/>
            <a:chOff x="361440" y="4647960"/>
            <a:chExt cx="8229960" cy="152640"/>
          </a:xfrm>
        </p:grpSpPr>
        <p:sp>
          <p:nvSpPr>
            <p:cNvPr id="336" name=""/>
            <p:cNvSpPr/>
            <p:nvPr/>
          </p:nvSpPr>
          <p:spPr>
            <a:xfrm>
              <a:off x="1047600" y="4724280"/>
              <a:ext cx="6856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7905600" y="4647960"/>
              <a:ext cx="685800" cy="152640"/>
              <a:chOff x="7905600" y="4647960"/>
              <a:chExt cx="685800" cy="152640"/>
            </a:xfrm>
          </p:grpSpPr>
          <p:sp>
            <p:nvSpPr>
              <p:cNvPr id="338" name=""/>
              <p:cNvSpPr/>
              <p:nvPr/>
            </p:nvSpPr>
            <p:spPr>
              <a:xfrm>
                <a:off x="7981920" y="46483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7905600" y="464796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286480" y="464832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8134200" y="46479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8439120" y="46479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61440" y="4647960"/>
              <a:ext cx="685800" cy="152640"/>
              <a:chOff x="361440" y="4647960"/>
              <a:chExt cx="685800" cy="15264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818640" y="46483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flipV="1">
                <a:off x="970920" y="464796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13720" y="464832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666360" y="46479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61440" y="46479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8535960" y="4418640"/>
            <a:ext cx="435240" cy="1069200"/>
            <a:chOff x="8535960" y="4418640"/>
            <a:chExt cx="435240" cy="1069200"/>
          </a:xfrm>
        </p:grpSpPr>
        <p:sp>
          <p:nvSpPr>
            <p:cNvPr id="350" name=""/>
            <p:cNvSpPr/>
            <p:nvPr/>
          </p:nvSpPr>
          <p:spPr>
            <a:xfrm>
              <a:off x="8535960" y="4418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535960" y="5028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440" y="4418640"/>
            <a:ext cx="435240" cy="1069200"/>
            <a:chOff x="1440" y="4418640"/>
            <a:chExt cx="435240" cy="1069200"/>
          </a:xfrm>
        </p:grpSpPr>
        <p:sp>
          <p:nvSpPr>
            <p:cNvPr id="353" name=""/>
            <p:cNvSpPr/>
            <p:nvPr/>
          </p:nvSpPr>
          <p:spPr>
            <a:xfrm>
              <a:off x="1440" y="4418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40" y="5028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867280" y="4876920"/>
            <a:ext cx="16765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91520" y="4724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4724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4724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4724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81680" y="4724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38880" y="4724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24480" y="4724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72200" y="4724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77120" y="4724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4724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4724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4724280"/>
            <a:ext cx="304920" cy="304920"/>
          </a:xfrm>
          <a:prstGeom prst="ellipse">
            <a:avLst/>
          </a:prstGeom>
          <a:solidFill>
            <a:srgbClr val="cc00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22920" y="481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3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392960" y="4799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5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5181480"/>
            <a:ext cx="16765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666880" y="5181480"/>
            <a:ext cx="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362320" y="5181480"/>
            <a:ext cx="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09680" y="5181480"/>
            <a:ext cx="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905120" y="5181480"/>
            <a:ext cx="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057400" y="5181480"/>
            <a:ext cx="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514600" y="5181480"/>
            <a:ext cx="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600200" y="5181480"/>
            <a:ext cx="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447920" y="5181480"/>
            <a:ext cx="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752480" y="5181480"/>
            <a:ext cx="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295280" y="5181480"/>
            <a:ext cx="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143000" y="5181480"/>
            <a:ext cx="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6400" y="4890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3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92160" y="4876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5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06560" y="5016600"/>
            <a:ext cx="304920" cy="304560"/>
          </a:xfrm>
          <a:prstGeom prst="ellipse">
            <a:avLst/>
          </a:prstGeom>
          <a:solidFill>
            <a:srgbClr val="cc00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829-EE14-420B-A141-60BB3CBB92D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FD373-0439-43B9-BB66-98391DDB93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25600" y="5318280"/>
            <a:ext cx="7067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INSTRUCTOR: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USIE HELWIG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ORTH KANSAS CITY HIGH SCHOO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680" y="625320"/>
            <a:ext cx="85122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Times New Roman"/>
              </a:rPr>
              <a:t>TPA-25 ALU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Times New Roman"/>
              </a:rPr>
              <a:t>DNA Fingerprinting and PCR</a:t>
            </a:r>
            <a:r>
              <a:rPr b="1" lang="en-US" sz="3600" spc="-1" strike="noStrike" baseline="80000">
                <a:solidFill>
                  <a:srgbClr val="ffcc00"/>
                </a:solidFill>
                <a:latin typeface="Times New Roman"/>
              </a:rPr>
              <a:t>TM</a:t>
            </a:r>
            <a:r>
              <a:rPr b="1" lang="en-US" sz="72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cc00"/>
                </a:solidFill>
                <a:latin typeface="Times New Roman"/>
              </a:rPr>
              <a:t>VAN PROGRAM</a:t>
            </a:r>
            <a:br>
              <a:rPr sz="6000"/>
            </a:b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934-E17D-471E-B765-D3186AF8CE26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8F26B-2C4D-4710-A692-947843313D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Taq Polymerase Extends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80520" y="3276360"/>
            <a:ext cx="8229960" cy="152640"/>
            <a:chOff x="380520" y="3276360"/>
            <a:chExt cx="8229960" cy="152640"/>
          </a:xfrm>
        </p:grpSpPr>
        <p:sp>
          <p:nvSpPr>
            <p:cNvPr id="387" name=""/>
            <p:cNvSpPr/>
            <p:nvPr/>
          </p:nvSpPr>
          <p:spPr>
            <a:xfrm>
              <a:off x="1066680" y="3352680"/>
              <a:ext cx="6856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7924680" y="3276360"/>
              <a:ext cx="685800" cy="152640"/>
              <a:chOff x="7924680" y="3276360"/>
              <a:chExt cx="685800" cy="152640"/>
            </a:xfrm>
          </p:grpSpPr>
          <p:sp>
            <p:nvSpPr>
              <p:cNvPr id="389" name=""/>
              <p:cNvSpPr/>
              <p:nvPr/>
            </p:nvSpPr>
            <p:spPr>
              <a:xfrm>
                <a:off x="8001000" y="32767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7924680" y="327636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305560" y="327672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8153280" y="32763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8458200" y="32763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380520" y="3276360"/>
              <a:ext cx="685800" cy="152640"/>
              <a:chOff x="380520" y="3276360"/>
              <a:chExt cx="685800" cy="15264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837720" y="32767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>
                <a:off x="990000" y="327636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532800" y="327672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685440" y="32763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380520" y="32763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380520" y="2666520"/>
            <a:ext cx="8229960" cy="152640"/>
            <a:chOff x="380520" y="2666520"/>
            <a:chExt cx="8229960" cy="152640"/>
          </a:xfrm>
        </p:grpSpPr>
        <p:sp>
          <p:nvSpPr>
            <p:cNvPr id="401" name=""/>
            <p:cNvSpPr/>
            <p:nvPr/>
          </p:nvSpPr>
          <p:spPr>
            <a:xfrm>
              <a:off x="1066680" y="2742840"/>
              <a:ext cx="6856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7924680" y="2666520"/>
              <a:ext cx="685800" cy="152640"/>
              <a:chOff x="7924680" y="2666520"/>
              <a:chExt cx="685800" cy="152640"/>
            </a:xfrm>
          </p:grpSpPr>
          <p:sp>
            <p:nvSpPr>
              <p:cNvPr id="403" name=""/>
              <p:cNvSpPr/>
              <p:nvPr/>
            </p:nvSpPr>
            <p:spPr>
              <a:xfrm>
                <a:off x="8001000" y="266688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924680" y="266652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305560" y="266688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8153280" y="26665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8458200" y="26665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380520" y="2666520"/>
              <a:ext cx="685800" cy="152640"/>
              <a:chOff x="380520" y="2666520"/>
              <a:chExt cx="685800" cy="152640"/>
            </a:xfrm>
          </p:grpSpPr>
          <p:sp>
            <p:nvSpPr>
              <p:cNvPr id="409" name=""/>
              <p:cNvSpPr/>
              <p:nvPr/>
            </p:nvSpPr>
            <p:spPr>
              <a:xfrm flipH="1">
                <a:off x="837720" y="266688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990000" y="266652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532800" y="266688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flipV="1">
                <a:off x="685440" y="26665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>
                <a:off x="380520" y="26665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8555040" y="2437200"/>
            <a:ext cx="435240" cy="1069200"/>
            <a:chOff x="8555040" y="2437200"/>
            <a:chExt cx="435240" cy="1069200"/>
          </a:xfrm>
        </p:grpSpPr>
        <p:sp>
          <p:nvSpPr>
            <p:cNvPr id="415" name=""/>
            <p:cNvSpPr/>
            <p:nvPr/>
          </p:nvSpPr>
          <p:spPr>
            <a:xfrm>
              <a:off x="8555040" y="2437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55040" y="3046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67480" y="27432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62920" y="27432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10280" y="27432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05720" y="27432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0" y="27432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15200" y="27432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27432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53080" y="27432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80120" y="28328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3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2040" y="2818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5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2080" y="3200400"/>
            <a:ext cx="1047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228760" y="32000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924200" y="32000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076480" y="32000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619280" y="32000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467000" y="32000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771560" y="32000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314360" y="32000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162080" y="32000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35160" y="2909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3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11240" y="2894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5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3581280"/>
            <a:ext cx="0" cy="6858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46840" y="37029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xtend 72</a:t>
            </a:r>
            <a:r>
              <a:rPr b="0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4560" y="5333760"/>
            <a:ext cx="8229960" cy="152640"/>
            <a:chOff x="304560" y="5333760"/>
            <a:chExt cx="8229960" cy="152640"/>
          </a:xfrm>
        </p:grpSpPr>
        <p:sp>
          <p:nvSpPr>
            <p:cNvPr id="442" name=""/>
            <p:cNvSpPr/>
            <p:nvPr/>
          </p:nvSpPr>
          <p:spPr>
            <a:xfrm>
              <a:off x="990720" y="5410080"/>
              <a:ext cx="6856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7848720" y="5333760"/>
              <a:ext cx="685800" cy="152640"/>
              <a:chOff x="7848720" y="5333760"/>
              <a:chExt cx="685800" cy="152640"/>
            </a:xfrm>
          </p:grpSpPr>
          <p:sp>
            <p:nvSpPr>
              <p:cNvPr id="444" name=""/>
              <p:cNvSpPr/>
              <p:nvPr/>
            </p:nvSpPr>
            <p:spPr>
              <a:xfrm>
                <a:off x="7925040" y="53341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7848720" y="533376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229600" y="533412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8077320" y="53337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8382240" y="53337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04560" y="5333760"/>
              <a:ext cx="685800" cy="152640"/>
              <a:chOff x="304560" y="5333760"/>
              <a:chExt cx="685800" cy="152640"/>
            </a:xfrm>
          </p:grpSpPr>
          <p:sp>
            <p:nvSpPr>
              <p:cNvPr id="450" name=""/>
              <p:cNvSpPr/>
              <p:nvPr/>
            </p:nvSpPr>
            <p:spPr>
              <a:xfrm flipH="1">
                <a:off x="761760" y="53341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>
                <a:off x="914040" y="533376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456840" y="533412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609480" y="53337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304560" y="533376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304560" y="4723920"/>
            <a:ext cx="8229960" cy="152640"/>
            <a:chOff x="304560" y="4723920"/>
            <a:chExt cx="8229960" cy="152640"/>
          </a:xfrm>
        </p:grpSpPr>
        <p:sp>
          <p:nvSpPr>
            <p:cNvPr id="456" name=""/>
            <p:cNvSpPr/>
            <p:nvPr/>
          </p:nvSpPr>
          <p:spPr>
            <a:xfrm>
              <a:off x="990720" y="4800240"/>
              <a:ext cx="6856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7848720" y="4723920"/>
              <a:ext cx="685800" cy="152640"/>
              <a:chOff x="7848720" y="4723920"/>
              <a:chExt cx="685800" cy="152640"/>
            </a:xfrm>
          </p:grpSpPr>
          <p:sp>
            <p:nvSpPr>
              <p:cNvPr id="458" name=""/>
              <p:cNvSpPr/>
              <p:nvPr/>
            </p:nvSpPr>
            <p:spPr>
              <a:xfrm>
                <a:off x="7925040" y="472428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7848720" y="472392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29600" y="472428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8077320" y="47239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8382240" y="47239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304560" y="4723920"/>
              <a:ext cx="685800" cy="152640"/>
              <a:chOff x="304560" y="4723920"/>
              <a:chExt cx="685800" cy="152640"/>
            </a:xfrm>
          </p:grpSpPr>
          <p:sp>
            <p:nvSpPr>
              <p:cNvPr id="464" name=""/>
              <p:cNvSpPr/>
              <p:nvPr/>
            </p:nvSpPr>
            <p:spPr>
              <a:xfrm flipH="1">
                <a:off x="761760" y="472428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914040" y="4723920"/>
                <a:ext cx="76320" cy="75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456840" y="4724280"/>
                <a:ext cx="15264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609480" y="47239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flipV="1">
                <a:off x="304560" y="4723920"/>
                <a:ext cx="15228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9" name=""/>
          <p:cNvGrpSpPr/>
          <p:nvPr/>
        </p:nvGrpSpPr>
        <p:grpSpPr>
          <a:xfrm>
            <a:off x="8478720" y="4494600"/>
            <a:ext cx="435240" cy="1069200"/>
            <a:chOff x="8478720" y="4494600"/>
            <a:chExt cx="435240" cy="1069200"/>
          </a:xfrm>
        </p:grpSpPr>
        <p:sp>
          <p:nvSpPr>
            <p:cNvPr id="470" name=""/>
            <p:cNvSpPr/>
            <p:nvPr/>
          </p:nvSpPr>
          <p:spPr>
            <a:xfrm>
              <a:off x="8478720" y="4494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78720" y="510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248520" y="4952880"/>
            <a:ext cx="12380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34280" y="48006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029360" y="48006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48006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72160" y="48006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24800" y="48006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182000" y="48006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67600" y="48006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11496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419880" y="48006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4360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9132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46960" y="4890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3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336080" y="4876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5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85760" y="5257800"/>
            <a:ext cx="10479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76228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30508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15280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847880" y="52574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000160" y="52574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45736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1542960" y="52574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390680" y="52574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1695600" y="52574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238400" y="52574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085760" y="52574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59160" y="4966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3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35280" y="4952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5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5257800"/>
            <a:ext cx="24382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26708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11480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96252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65760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0988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11480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35268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20040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0532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04812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89548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4952880"/>
            <a:ext cx="20574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412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8148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7692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2920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8640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972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2428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26708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1480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4952880"/>
            <a:ext cx="175284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5268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9548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90920" y="480060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38280" y="4800600"/>
            <a:ext cx="0" cy="15228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0" y="5257800"/>
            <a:ext cx="16765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94360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3868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48640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18148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33412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79132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87692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2428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02920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572000" y="525744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57200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6840" y="2513520"/>
            <a:ext cx="435240" cy="1069200"/>
            <a:chOff x="96840" y="2513520"/>
            <a:chExt cx="435240" cy="1069200"/>
          </a:xfrm>
        </p:grpSpPr>
        <p:sp>
          <p:nvSpPr>
            <p:cNvPr id="549" name=""/>
            <p:cNvSpPr/>
            <p:nvPr/>
          </p:nvSpPr>
          <p:spPr>
            <a:xfrm>
              <a:off x="96840" y="2513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6840" y="3123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440" y="4494600"/>
            <a:ext cx="435240" cy="1069200"/>
            <a:chOff x="1440" y="4494600"/>
            <a:chExt cx="435240" cy="1069200"/>
          </a:xfrm>
        </p:grpSpPr>
        <p:sp>
          <p:nvSpPr>
            <p:cNvPr id="552" name=""/>
            <p:cNvSpPr/>
            <p:nvPr/>
          </p:nvSpPr>
          <p:spPr>
            <a:xfrm>
              <a:off x="1440" y="4494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40" y="510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 flipH="1">
            <a:off x="2006280" y="4952880"/>
            <a:ext cx="431640" cy="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5880" y="5257800"/>
            <a:ext cx="457200" cy="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15120" y="1213200"/>
            <a:ext cx="481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aq Polymerase extends pri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NA is replica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7160" y="5637960"/>
            <a:ext cx="87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Repea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denaturing, annealing, and extending 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30 cyc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86560" y="48006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59092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419720" y="5257440"/>
            <a:ext cx="0" cy="152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209680" y="4723560"/>
            <a:ext cx="304920" cy="304920"/>
          </a:xfrm>
          <a:prstGeom prst="ellipse">
            <a:avLst/>
          </a:prstGeom>
          <a:solidFill>
            <a:srgbClr val="cc0099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5943600" y="5105520"/>
            <a:ext cx="304920" cy="304560"/>
          </a:xfrm>
          <a:prstGeom prst="ellipse">
            <a:avLst/>
          </a:prstGeom>
          <a:solidFill>
            <a:srgbClr val="cc0099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43600" y="2743200"/>
            <a:ext cx="304920" cy="304920"/>
          </a:xfrm>
          <a:prstGeom prst="ellipse">
            <a:avLst/>
          </a:prstGeom>
          <a:solidFill>
            <a:srgbClr val="cc00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286000" y="3048120"/>
            <a:ext cx="304920" cy="304560"/>
          </a:xfrm>
          <a:prstGeom prst="ellipse">
            <a:avLst/>
          </a:prstGeom>
          <a:solidFill>
            <a:srgbClr val="cc00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1257480" y="3162240"/>
            <a:ext cx="120636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360684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AQ POLYMERA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752480" y="2857320"/>
            <a:ext cx="440712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6E3-0E10-43C3-904F-5CDF0FB5884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C457A-EA22-406D-9F29-9937FB6125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The target product is made in the third cycle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60680" y="2438280"/>
            <a:ext cx="53910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951680" y="2334960"/>
            <a:ext cx="540000" cy="120960"/>
            <a:chOff x="7951680" y="2334960"/>
            <a:chExt cx="540000" cy="120960"/>
          </a:xfrm>
        </p:grpSpPr>
        <p:sp>
          <p:nvSpPr>
            <p:cNvPr id="571" name=""/>
            <p:cNvSpPr/>
            <p:nvPr/>
          </p:nvSpPr>
          <p:spPr>
            <a:xfrm>
              <a:off x="8011440" y="2335320"/>
              <a:ext cx="119880" cy="1206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951680" y="2334960"/>
              <a:ext cx="59760" cy="601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251560" y="2335320"/>
              <a:ext cx="119880" cy="1206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8131680" y="2334960"/>
              <a:ext cx="119880" cy="1206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8371800" y="2334960"/>
              <a:ext cx="119880" cy="1206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021040" y="2393640"/>
            <a:ext cx="539280" cy="120960"/>
            <a:chOff x="2021040" y="2393640"/>
            <a:chExt cx="539280" cy="120960"/>
          </a:xfrm>
        </p:grpSpPr>
        <p:sp>
          <p:nvSpPr>
            <p:cNvPr id="577" name=""/>
            <p:cNvSpPr/>
            <p:nvPr/>
          </p:nvSpPr>
          <p:spPr>
            <a:xfrm flipH="1">
              <a:off x="2381040" y="2394000"/>
              <a:ext cx="119520" cy="1206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2500560" y="2393640"/>
              <a:ext cx="59760" cy="601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140920" y="2394000"/>
              <a:ext cx="119880" cy="1206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2261160" y="2393640"/>
              <a:ext cx="119520" cy="1206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2021040" y="2393640"/>
              <a:ext cx="119520" cy="1206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60680" y="1916280"/>
            <a:ext cx="53910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7951680" y="1855440"/>
            <a:ext cx="540000" cy="119520"/>
            <a:chOff x="7951680" y="1855440"/>
            <a:chExt cx="540000" cy="119520"/>
          </a:xfrm>
        </p:grpSpPr>
        <p:sp>
          <p:nvSpPr>
            <p:cNvPr id="584" name=""/>
            <p:cNvSpPr/>
            <p:nvPr/>
          </p:nvSpPr>
          <p:spPr>
            <a:xfrm>
              <a:off x="8011440" y="1855800"/>
              <a:ext cx="119880" cy="119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7951680" y="1855440"/>
              <a:ext cx="59760" cy="59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51560" y="1855800"/>
              <a:ext cx="119880" cy="119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8131680" y="1855440"/>
              <a:ext cx="119880" cy="119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8371800" y="1855440"/>
              <a:ext cx="119880" cy="119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021040" y="1855440"/>
            <a:ext cx="539280" cy="119520"/>
            <a:chOff x="2021040" y="1855440"/>
            <a:chExt cx="539280" cy="119520"/>
          </a:xfrm>
        </p:grpSpPr>
        <p:sp>
          <p:nvSpPr>
            <p:cNvPr id="590" name=""/>
            <p:cNvSpPr/>
            <p:nvPr/>
          </p:nvSpPr>
          <p:spPr>
            <a:xfrm flipH="1">
              <a:off x="2381040" y="1855800"/>
              <a:ext cx="119520" cy="119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>
              <a:off x="2500560" y="1855440"/>
              <a:ext cx="59760" cy="59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140920" y="1855800"/>
              <a:ext cx="119880" cy="119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2261160" y="1855440"/>
              <a:ext cx="119520" cy="119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2021040" y="1855440"/>
              <a:ext cx="119520" cy="119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8444160" y="1687320"/>
            <a:ext cx="349920" cy="816480"/>
            <a:chOff x="8444160" y="1687320"/>
            <a:chExt cx="349920" cy="816480"/>
          </a:xfrm>
        </p:grpSpPr>
        <p:sp>
          <p:nvSpPr>
            <p:cNvPr id="596" name=""/>
            <p:cNvSpPr/>
            <p:nvPr/>
          </p:nvSpPr>
          <p:spPr>
            <a:xfrm>
              <a:off x="8444160" y="16873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444160" y="21664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878160" y="2071080"/>
            <a:ext cx="3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48920" y="19047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5’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25520" y="1904400"/>
            <a:ext cx="3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76440" y="1996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5’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6705720" y="2198520"/>
            <a:ext cx="239760" cy="239760"/>
          </a:xfrm>
          <a:prstGeom prst="ellipse">
            <a:avLst/>
          </a:prstGeom>
          <a:solidFill>
            <a:srgbClr val="cc0099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519360" y="1817640"/>
            <a:ext cx="239760" cy="239760"/>
          </a:xfrm>
          <a:prstGeom prst="ellipse">
            <a:avLst/>
          </a:prstGeom>
          <a:solidFill>
            <a:srgbClr val="cc0099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778400" y="1687320"/>
            <a:ext cx="349920" cy="816480"/>
            <a:chOff x="1778400" y="1687320"/>
            <a:chExt cx="349920" cy="816480"/>
          </a:xfrm>
        </p:grpSpPr>
        <p:sp>
          <p:nvSpPr>
            <p:cNvPr id="605" name=""/>
            <p:cNvSpPr/>
            <p:nvPr/>
          </p:nvSpPr>
          <p:spPr>
            <a:xfrm>
              <a:off x="1778400" y="16873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78400" y="21664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 flipH="1">
            <a:off x="3398760" y="2057400"/>
            <a:ext cx="300240" cy="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7120" y="2286000"/>
            <a:ext cx="358560" cy="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6040" y="38858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3’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676520" y="2895120"/>
            <a:ext cx="7209720" cy="1251720"/>
            <a:chOff x="1676520" y="2895120"/>
            <a:chExt cx="7209720" cy="1251720"/>
          </a:xfrm>
        </p:grpSpPr>
        <p:sp>
          <p:nvSpPr>
            <p:cNvPr id="611" name=""/>
            <p:cNvSpPr/>
            <p:nvPr/>
          </p:nvSpPr>
          <p:spPr>
            <a:xfrm>
              <a:off x="3276000" y="3200400"/>
              <a:ext cx="47242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8001000" y="3123720"/>
              <a:ext cx="540000" cy="120960"/>
              <a:chOff x="8001000" y="3123720"/>
              <a:chExt cx="540000" cy="120960"/>
            </a:xfrm>
          </p:grpSpPr>
          <p:sp>
            <p:nvSpPr>
              <p:cNvPr id="613" name=""/>
              <p:cNvSpPr/>
              <p:nvPr/>
            </p:nvSpPr>
            <p:spPr>
              <a:xfrm>
                <a:off x="8060760" y="3124080"/>
                <a:ext cx="119880" cy="120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8001000" y="3123720"/>
                <a:ext cx="59760" cy="60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300880" y="3124080"/>
                <a:ext cx="119880" cy="120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8181000" y="3123720"/>
                <a:ext cx="119880" cy="120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8421120" y="3123720"/>
                <a:ext cx="119880" cy="120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 flipH="1">
              <a:off x="2666880" y="3200400"/>
              <a:ext cx="990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43200" y="3352680"/>
              <a:ext cx="396252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7240" y="3352680"/>
              <a:ext cx="228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6477120" y="335268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9240" y="3809880"/>
              <a:ext cx="1522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1676520" y="3962160"/>
              <a:ext cx="539280" cy="120960"/>
              <a:chOff x="1676520" y="3962160"/>
              <a:chExt cx="539280" cy="120960"/>
            </a:xfrm>
          </p:grpSpPr>
          <p:sp>
            <p:nvSpPr>
              <p:cNvPr id="624" name=""/>
              <p:cNvSpPr/>
              <p:nvPr/>
            </p:nvSpPr>
            <p:spPr>
              <a:xfrm>
                <a:off x="1736280" y="3962520"/>
                <a:ext cx="119520" cy="120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676520" y="3962160"/>
                <a:ext cx="59760" cy="60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976040" y="3962520"/>
                <a:ext cx="119880" cy="120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1856160" y="3962160"/>
                <a:ext cx="119520" cy="120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2096280" y="3962160"/>
                <a:ext cx="119520" cy="120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2209320" y="3962520"/>
              <a:ext cx="47242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6477120" y="396252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76720" y="3809880"/>
              <a:ext cx="396252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667240" y="3809880"/>
              <a:ext cx="10936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364120" y="3015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44360" y="3168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536320" y="28951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64120" y="36255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64120" y="32000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93320" y="38095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93320" y="35809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7086600" y="32000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934320" y="32000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6782040" y="32000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239240" y="32000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391520" y="32000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629400" y="32000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6477120" y="32000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632484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617220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601992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586764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571500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556272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541044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3276720" y="38098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124440" y="38098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667240" y="38098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2971800" y="38098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819520" y="38098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34340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449604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64832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80060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495324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510552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25780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42900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58164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73392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388620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03884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19112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388620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3733920" y="38098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266724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281952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297180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312444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276720" y="3200040"/>
              <a:ext cx="0" cy="1522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3429000" y="38098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3581640" y="38098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403884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419112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34340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49604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464832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480060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495324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525780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41044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556272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571500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86764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01992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10552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632484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647712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662940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617220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78204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93432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08660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3924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7391520" y="38098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9360" y="191988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cle 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9360" y="322956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cle 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360" y="495216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cle 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211840" y="4844520"/>
            <a:ext cx="5455080" cy="1099440"/>
            <a:chOff x="2211840" y="4844520"/>
            <a:chExt cx="5455080" cy="1099440"/>
          </a:xfrm>
        </p:grpSpPr>
        <p:sp>
          <p:nvSpPr>
            <p:cNvPr id="708" name=""/>
            <p:cNvSpPr/>
            <p:nvPr/>
          </p:nvSpPr>
          <p:spPr>
            <a:xfrm>
              <a:off x="2211840" y="48445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590920" y="5073480"/>
              <a:ext cx="39621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6400800" y="507348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8280" y="5226120"/>
              <a:ext cx="38862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2590560" y="5226120"/>
              <a:ext cx="10666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90920" y="5607000"/>
              <a:ext cx="39621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400800" y="560700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28280" y="5759280"/>
              <a:ext cx="38862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2590560" y="5759280"/>
              <a:ext cx="990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38840" y="53780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17000" y="50731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7000" y="56066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17000" y="53780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11840" y="50731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38840" y="5574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17000" y="48445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2590920" y="50734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743200" y="50734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2895480" y="50734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3048120" y="50734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3200400" y="50734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3352680" y="50734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3505320" y="50734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705720" y="56066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858000" y="56066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010280" y="56066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162920" y="56066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315200" y="56066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6400800" y="56066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6553080" y="5606640"/>
              <a:ext cx="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3657600" y="5073480"/>
              <a:ext cx="0" cy="152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380988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96252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411480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426708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441972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57200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472428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87692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502920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518148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533412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548640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563868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579132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94360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24852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640080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655308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670572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685800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01028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09588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16292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15200" y="5073480"/>
              <a:ext cx="0" cy="152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487692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502920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518148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533412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548640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563868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579132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594360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609588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24852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380988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396252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411480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426708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441972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57200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72428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04812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20040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335268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50532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65760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274320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59092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895480" y="5606640"/>
              <a:ext cx="0" cy="152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590560" y="5607000"/>
              <a:ext cx="22860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38880" y="5226120"/>
              <a:ext cx="763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3657600" y="2057400"/>
            <a:ext cx="2971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6553080" y="190476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7620120" y="190476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7010280" y="190476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7162920" y="190476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7315200" y="190476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467480" y="190476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705720" y="190476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858000" y="190476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40080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48640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563868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579132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594360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609588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624852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26708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441972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57200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472428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487692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02920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18148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533412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380988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96252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4114800" y="190476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90920" y="228600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3048120" y="228564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2895480" y="228564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228564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2590920" y="228564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3505320" y="228564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3352680" y="228564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200400" y="228564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657600" y="228564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657600" y="2286000"/>
            <a:ext cx="2971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80988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96252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411480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26708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41972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57200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72428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87692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02920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33412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548640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79132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594360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09588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24852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63868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640080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6553080" y="2285640"/>
            <a:ext cx="0" cy="1522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202-DD21-4BD0-900D-D2C7F6DCD9C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9BD1C-8785-4334-A1F0-56ED733F22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The target sequence</a:t>
            </a:r>
            <a:endParaRPr b="1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09480" y="918000"/>
            <a:ext cx="801216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imes New Roman"/>
              </a:rPr>
              <a:t>Chromosome 8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imes New Roman"/>
              </a:rPr>
              <a:t>Intron of </a:t>
            </a:r>
            <a:r>
              <a:rPr b="0" lang="en-US" sz="3100" spc="-1" strike="noStrike" u="sng">
                <a:solidFill>
                  <a:srgbClr val="ffcc00"/>
                </a:solidFill>
                <a:uFillTx/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ffcc00"/>
                </a:solidFill>
                <a:latin typeface="Times New Roman"/>
              </a:rPr>
              <a:t>issue </a:t>
            </a:r>
            <a:r>
              <a:rPr b="0" lang="en-US" sz="3100" spc="-1" strike="noStrike" u="sng">
                <a:solidFill>
                  <a:srgbClr val="ffcc00"/>
                </a:solidFill>
                <a:uFillTx/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ffcc00"/>
                </a:solidFill>
                <a:latin typeface="Times New Roman"/>
              </a:rPr>
              <a:t>lasminogen </a:t>
            </a:r>
            <a:r>
              <a:rPr b="0" lang="en-US" sz="3100" spc="-1" strike="noStrike" u="sng">
                <a:solidFill>
                  <a:srgbClr val="ffcc00"/>
                </a:solidFill>
                <a:uFillTx/>
                <a:latin typeface="Times New Roman"/>
              </a:rPr>
              <a:t>a</a:t>
            </a:r>
            <a:r>
              <a:rPr b="0" lang="en-US" sz="3100" spc="-1" strike="noStrike">
                <a:solidFill>
                  <a:srgbClr val="ffcc00"/>
                </a:solidFill>
                <a:latin typeface="Times New Roman"/>
              </a:rPr>
              <a:t>ctivator (TPA) gene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imes New Roman"/>
              </a:rPr>
              <a:t>Alu-TPA25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41920" y="3246840"/>
            <a:ext cx="8712360" cy="1556280"/>
            <a:chOff x="241920" y="3246840"/>
            <a:chExt cx="8712360" cy="1556280"/>
          </a:xfrm>
        </p:grpSpPr>
        <p:sp>
          <p:nvSpPr>
            <p:cNvPr id="850" name=""/>
            <p:cNvSpPr/>
            <p:nvPr/>
          </p:nvSpPr>
          <p:spPr>
            <a:xfrm flipV="1">
              <a:off x="3670200" y="3914640"/>
              <a:ext cx="393840" cy="9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49760" y="3914640"/>
              <a:ext cx="439560" cy="9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51040" y="3924000"/>
              <a:ext cx="4572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62160" y="3836880"/>
              <a:ext cx="1589040" cy="27936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037040" y="3836880"/>
              <a:ext cx="1589040" cy="27936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80200" y="3836880"/>
              <a:ext cx="1589040" cy="27936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26080" y="3929040"/>
              <a:ext cx="6541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7869240" y="3924000"/>
              <a:ext cx="37296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57160" y="3821400"/>
              <a:ext cx="6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Times New Roman"/>
                </a:rPr>
                <a:t>Exon 8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516200" y="3846960"/>
              <a:ext cx="6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Times New Roman"/>
                </a:rPr>
                <a:t>Exon 9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16160" y="384696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Exon 10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756720" y="3743280"/>
              <a:ext cx="93960" cy="1857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64920" y="3743280"/>
              <a:ext cx="91800" cy="1857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95360" y="3743280"/>
              <a:ext cx="93600" cy="1857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8535960" y="3743280"/>
              <a:ext cx="93600" cy="1857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8350200" y="3743280"/>
              <a:ext cx="92160" cy="1857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41920" y="3794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624160" y="38120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2200" y="3744720"/>
              <a:ext cx="81000" cy="141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242200" y="3744360"/>
              <a:ext cx="87480" cy="160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8437680" y="3727440"/>
              <a:ext cx="87120" cy="195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54040" y="3811680"/>
              <a:ext cx="457920" cy="307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0011"/>
                  </a:solidFill>
                  <a:latin typeface="Times New Roman"/>
                </a:rPr>
                <a:t>Alu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16200000">
              <a:off x="3284280" y="3762720"/>
              <a:ext cx="304920" cy="106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7360 h 1060560"/>
                <a:gd name="textAreaBottom" fmla="*/ 1033200 h 10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5400000">
              <a:off x="3348720" y="3326760"/>
              <a:ext cx="284040" cy="657360"/>
            </a:xfrm>
            <a:custGeom>
              <a:avLst/>
              <a:gdLst>
                <a:gd name="textAreaLeft" fmla="*/ 181440 w 284040"/>
                <a:gd name="textAreaRight" fmla="*/ 284040 w 284040"/>
                <a:gd name="textAreaTop" fmla="*/ 16920 h 657360"/>
                <a:gd name="textAreaBottom" fmla="*/ 640440 h 65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391"/>
                  </a:lnTo>
                  <a:cubicBezTo>
                    <a:pt x="10800" y="9291"/>
                    <a:pt x="5400" y="10191"/>
                    <a:pt x="0" y="10191"/>
                  </a:cubicBezTo>
                  <a:cubicBezTo>
                    <a:pt x="5400" y="10191"/>
                    <a:pt x="10800" y="11091"/>
                    <a:pt x="10800" y="1199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71880" y="449604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Intron 8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05480" y="3246840"/>
              <a:ext cx="14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Amplified Region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9F2-7FF3-4D1D-AF3D-EB9FECB873F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90504-C6D6-4D89-A814-0433A475AA83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23960" y="-360"/>
            <a:ext cx="77724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Alu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PA25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748800" y="406440"/>
            <a:ext cx="768348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he part of your DNA that actually codes for anything is only about 5% of your total chromosomal DNA or genome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he remaining 95% consists of stretches between genes, and interrupting sequences within genes (introns). Much of this non-coding DNA is thought to be “junk” in that it doesn’t affect phenotype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his junk “ALU” makes up about 5% genomic DNA as much as all our genes put together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he presence of ALU sequence in our chromosomes is thanks to an ancient retrovirus which once infected our ancestors. This virus a distant relative of the AIDS virus, copied cellular RNA sequences into DNA and stuck them in at random chromosomal locations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5720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114800" y="3657600"/>
            <a:ext cx="8610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346-DDF2-4171-A507-47D89AF7362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3D96A-7DBB-4B1B-B042-D764555F07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Alu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PA25 (continued)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06360" y="1211400"/>
            <a:ext cx="72900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One such ALU sequence is called TPA-25 and is found within an intron of the gene for tissue plasminogen activator. The TPA-25 gene encodes a protein that prevents blood clotting inside tissue.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ince it is located within a non-coding protein of a gene it doesn’t affect gene expression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is Alu insertion seems to have happened in the past million years, in a recent human ancestor. As a  result some human chromosomes have it and others don’t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410-84D0-48A5-9373-7BA42C6EFC5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D9C21-7BCD-42BF-92C4-DE92B10593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PCR Results….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52280" y="1447920"/>
            <a:ext cx="51818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Alu-TPA25 is dimorphic so there are two possible PCR products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100 b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400 b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5715000" y="2437920"/>
            <a:ext cx="457200" cy="228960"/>
            <a:chOff x="5715000" y="2437920"/>
            <a:chExt cx="457200" cy="228960"/>
          </a:xfrm>
        </p:grpSpPr>
        <p:sp>
          <p:nvSpPr>
            <p:cNvPr id="885" name=""/>
            <p:cNvSpPr/>
            <p:nvPr/>
          </p:nvSpPr>
          <p:spPr>
            <a:xfrm flipV="1">
              <a:off x="5715000" y="2437920"/>
              <a:ext cx="15228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67280" y="2438280"/>
              <a:ext cx="1526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019920" y="2437920"/>
              <a:ext cx="15228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8077320" y="2209320"/>
            <a:ext cx="457200" cy="228960"/>
            <a:chOff x="8077320" y="2209320"/>
            <a:chExt cx="457200" cy="228960"/>
          </a:xfrm>
        </p:grpSpPr>
        <p:sp>
          <p:nvSpPr>
            <p:cNvPr id="889" name=""/>
            <p:cNvSpPr/>
            <p:nvPr/>
          </p:nvSpPr>
          <p:spPr>
            <a:xfrm flipV="1">
              <a:off x="8077320" y="2209320"/>
              <a:ext cx="15228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29600" y="2209680"/>
              <a:ext cx="1526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8382240" y="2209320"/>
              <a:ext cx="15228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6172200" y="2438280"/>
            <a:ext cx="19051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93840" y="171756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insertion: 400 b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5194440" y="4393800"/>
            <a:ext cx="457200" cy="228960"/>
            <a:chOff x="5194440" y="4393800"/>
            <a:chExt cx="457200" cy="228960"/>
          </a:xfrm>
        </p:grpSpPr>
        <p:sp>
          <p:nvSpPr>
            <p:cNvPr id="895" name=""/>
            <p:cNvSpPr/>
            <p:nvPr/>
          </p:nvSpPr>
          <p:spPr>
            <a:xfrm flipV="1">
              <a:off x="5194440" y="4393800"/>
              <a:ext cx="15228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346720" y="4394160"/>
              <a:ext cx="1526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499360" y="4393800"/>
              <a:ext cx="15228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8305920" y="4190760"/>
            <a:ext cx="457200" cy="228960"/>
            <a:chOff x="8305920" y="4190760"/>
            <a:chExt cx="457200" cy="228960"/>
          </a:xfrm>
        </p:grpSpPr>
        <p:sp>
          <p:nvSpPr>
            <p:cNvPr id="899" name=""/>
            <p:cNvSpPr/>
            <p:nvPr/>
          </p:nvSpPr>
          <p:spPr>
            <a:xfrm flipV="1">
              <a:off x="8305920" y="4190760"/>
              <a:ext cx="15228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458200" y="4191120"/>
              <a:ext cx="1526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8610840" y="4190760"/>
              <a:ext cx="15228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5638680" y="4419720"/>
            <a:ext cx="838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77120" y="4419720"/>
            <a:ext cx="1143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543800" y="4419720"/>
            <a:ext cx="7621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32520" y="45720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0 bp Alu inser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6019560" y="3733920"/>
            <a:ext cx="60948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315200" y="3733920"/>
            <a:ext cx="68580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290280" y="333684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30 bp eac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539320" y="29516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u insertion: 400 bp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814320" y="5164920"/>
            <a:ext cx="7667640" cy="1294200"/>
            <a:chOff x="814320" y="5164920"/>
            <a:chExt cx="7667640" cy="1294200"/>
          </a:xfrm>
        </p:grpSpPr>
        <p:sp>
          <p:nvSpPr>
            <p:cNvPr id="911" name=""/>
            <p:cNvSpPr/>
            <p:nvPr/>
          </p:nvSpPr>
          <p:spPr>
            <a:xfrm>
              <a:off x="1969920" y="5659560"/>
              <a:ext cx="1295640" cy="228600"/>
            </a:xfrm>
            <a:prstGeom prst="rect">
              <a:avLst/>
            </a:prstGeom>
            <a:solidFill>
              <a:srgbClr val="97dcff">
                <a:alpha val="50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32160" y="5659560"/>
              <a:ext cx="1295640" cy="228600"/>
            </a:xfrm>
            <a:prstGeom prst="rect">
              <a:avLst/>
            </a:prstGeom>
            <a:solidFill>
              <a:srgbClr val="97dcff">
                <a:alpha val="50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60960" y="5659560"/>
              <a:ext cx="1295640" cy="228600"/>
            </a:xfrm>
            <a:prstGeom prst="rect">
              <a:avLst/>
            </a:prstGeom>
            <a:solidFill>
              <a:srgbClr val="97dcff">
                <a:alpha val="50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73680" y="5735520"/>
              <a:ext cx="258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27800" y="573552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422360" y="5735520"/>
              <a:ext cx="533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56600" y="573552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46480" y="563472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</a:rPr>
                <a:t>Exon 8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96120" y="567288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</a:rPr>
                <a:t>Exon 9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388560" y="56728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</a:rPr>
                <a:t>Exon 1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1346040" y="5582880"/>
              <a:ext cx="7632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1269720" y="5583240"/>
              <a:ext cx="7596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1131840" y="5583240"/>
              <a:ext cx="7632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8118360" y="5582880"/>
              <a:ext cx="7632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>
              <a:off x="7966080" y="5582880"/>
              <a:ext cx="7632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4320" y="5628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Times New Roman"/>
                </a:rPr>
                <a:t>5’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194680" y="56430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Times New Roman"/>
                </a:rPr>
                <a:t>3’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211400" y="5584680"/>
              <a:ext cx="64800" cy="115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878600" y="5584680"/>
              <a:ext cx="71640" cy="130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8037360" y="5570280"/>
              <a:ext cx="71640" cy="1587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3260880" y="5700600"/>
              <a:ext cx="330120" cy="14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 rot="16200000">
              <a:off x="3618720" y="5599800"/>
              <a:ext cx="247680" cy="865440"/>
            </a:xfrm>
            <a:custGeom>
              <a:avLst/>
              <a:gdLst>
                <a:gd name="textAreaLeft" fmla="*/ 158400 w 247680"/>
                <a:gd name="textAreaRight" fmla="*/ 248040 w 247680"/>
                <a:gd name="textAreaTop" fmla="*/ 22320 h 865440"/>
                <a:gd name="textAreaBottom" fmla="*/ 843120 h 8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 rot="5400000">
              <a:off x="3670920" y="5245920"/>
              <a:ext cx="231840" cy="534960"/>
            </a:xfrm>
            <a:custGeom>
              <a:avLst/>
              <a:gdLst>
                <a:gd name="textAreaLeft" fmla="*/ 148320 w 231840"/>
                <a:gd name="textAreaRight" fmla="*/ 232200 w 231840"/>
                <a:gd name="textAreaTop" fmla="*/ 13680 h 534960"/>
                <a:gd name="textAreaBottom" fmla="*/ 52128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391"/>
                  </a:lnTo>
                  <a:cubicBezTo>
                    <a:pt x="10800" y="9291"/>
                    <a:pt x="5400" y="10191"/>
                    <a:pt x="0" y="10191"/>
                  </a:cubicBezTo>
                  <a:cubicBezTo>
                    <a:pt x="5400" y="10191"/>
                    <a:pt x="10800" y="11091"/>
                    <a:pt x="10800" y="1199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18560" y="618264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</a:rPr>
                <a:t>Intron 8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86000" y="5164920"/>
              <a:ext cx="12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</a:rPr>
                <a:t>Amplified Region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87400" y="5642280"/>
              <a:ext cx="457920" cy="307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20011"/>
                  </a:solidFill>
                  <a:latin typeface="Times New Roman"/>
                </a:rPr>
                <a:t>Alu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81F-9282-4048-A3C2-5A8A2BE0BEDF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FAD56-C218-4A26-AF94-FFB621D028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565680" cy="1942920"/>
          </a:xfrm>
          <a:prstGeom prst="rect">
            <a:avLst/>
          </a:prstGeom>
          <a:ln w="9360">
            <a:solidFill>
              <a:srgbClr val="56002b"/>
            </a:solidFill>
            <a:miter/>
          </a:ln>
        </p:spPr>
      </p:pic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3027240" y="1778040"/>
            <a:ext cx="3262320" cy="24192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2230560" y="2901960"/>
            <a:ext cx="7617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231200" y="26542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00 b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30560" y="3173400"/>
            <a:ext cx="75240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215360" y="292104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00 b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Actual Alu-PCR Result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990720" y="548640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990720" y="624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9040" y="1238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962880" y="124344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+/-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1480" y="127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13880" y="426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922400" y="426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119680" y="42660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+/-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4E5-6508-41D8-819A-AF06A5437168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FC6F6-CB0F-4EA3-A590-E1127644DB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Alu repeats</a:t>
            </a:r>
            <a:endParaRPr b="1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75960" y="1777680"/>
            <a:ext cx="9142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1738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imes New Roman"/>
              </a:rPr>
              <a:t>Occurs &gt;500,000 times in the human haploid genome</a:t>
            </a:r>
            <a:endParaRPr b="0" lang="en-US" sz="31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1738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imes New Roman"/>
              </a:rPr>
              <a:t>Named for the Alu I restriction site within the element</a:t>
            </a:r>
            <a:endParaRPr b="0" lang="en-US" sz="3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B28-17CA-407A-A98E-16F9F0EB6FF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AB4DB-D3D7-46F3-904A-2FDDAAD33826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6400" y="6350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Evolutionary Significance of Alu</a:t>
            </a: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TPA 25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58720" y="2133360"/>
            <a:ext cx="7912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ighly conserve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Inserted in the last 1,000,000 year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Dimorphic (+/+, +/</a:t>
            </a:r>
            <a:r>
              <a:rPr b="0" lang="en-US" sz="3600" spc="-1" strike="noStrike">
                <a:solidFill>
                  <a:srgbClr val="ffcc00"/>
                </a:solidFill>
                <a:latin typeface="Courier New"/>
              </a:rPr>
              <a:t>-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,  </a:t>
            </a:r>
            <a:r>
              <a:rPr b="0" lang="en-US" sz="3600" spc="-1" strike="noStrike">
                <a:solidFill>
                  <a:srgbClr val="ffcc00"/>
                </a:solidFill>
                <a:latin typeface="Courier New"/>
              </a:rPr>
              <a:t>-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en-US" sz="3600" spc="-1" strike="noStrike">
                <a:solidFill>
                  <a:srgbClr val="ffcc00"/>
                </a:solidFill>
                <a:latin typeface="Courier New"/>
              </a:rPr>
              <a:t>-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Used in population genetics, paternity analysis, and forensic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1F3-4280-4438-9963-BC57D92C572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6D57B-D2DF-4410-8BC4-121D0F3B2537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458640" y="2057400"/>
            <a:ext cx="914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mplify Alu-region from representative sample popul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alculate the expected allelic and genotypic frequenci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erform Chi-squared Tes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52280" y="183240"/>
            <a:ext cx="8686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o estimate frequency of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Alu 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ithin a population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0CB-EB11-47D0-9022-BEACBBA7A1C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F5DA0-17AA-4677-8B8D-D03B4166482D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Why teach Polymerase Chain Reaction (PCR) and DNA Fingerprinting?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1360" y="219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owerful teaching too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Real-world connection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nk to careers and industry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aboratory extension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ook Math, English and History students into Biology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505B-C314-4862-866D-9948736F5E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AF5F5-24CF-4DA4-A904-E35B16FABC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09480" y="160020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Hardy-Weinberg Equilibriu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647680" y="2666880"/>
            <a:ext cx="294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488560" y="4641840"/>
            <a:ext cx="18090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+/+ = p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+/-  = 2pq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-/-   = q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390680" y="3643200"/>
            <a:ext cx="3232080" cy="26560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06720" y="3643200"/>
            <a:ext cx="0" cy="26416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390680" y="4971960"/>
            <a:ext cx="32320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28160" y="4090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538080" y="4114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q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574440" y="5392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qq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950480" y="536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q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71720" y="31550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76320" y="423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62560" y="3148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03320" y="532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Alu and Population Genetics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040-A5C6-463B-A849-20D07C6EC3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39858-54F9-4358-8387-86B5ABC443F7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0" y="133200"/>
            <a:ext cx="91440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Calculating Observed Genotypic Frequencies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03320" y="1523880"/>
            <a:ext cx="9142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Genotype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+/+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(p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+/-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(2pq)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-/-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(q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Total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(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# of people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9                 16                    13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    38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Observed frequency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0.24               0.42                 0.34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  1.0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+/+ genotypic frequency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# with genotyp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tal number of people (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9/38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=   0.2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138-1452-41ED-BBD8-F055A8F09C91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DD1EC-FE65-4E86-8D23-B395777D0B98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Calculating Allelic Frequencies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0880" y="2028240"/>
            <a:ext cx="81536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Frequency of p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number of p alleles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=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 34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0.4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otal alleles                 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umber of p alleles =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+/+ =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9 with two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+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alleles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=  18 +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lle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+/-  =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16 with one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lleles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=  16 +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lle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tal  =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4 +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lle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otal number of alleles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= 2N =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2(38)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= 76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1CE-33E4-4D80-85C2-4A8452C2515F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1922B-69B6-4364-88E4-0E7C29EBF9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Using Hardy-Weinberg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termine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1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2pq, and q</a:t>
            </a:r>
            <a:r>
              <a:rPr b="1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values=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xpected genotypic frequencies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 = 0.45 , so q = 0.55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since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p + q = 1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1" lang="en-US" sz="2800" spc="-1" strike="noStrike" baseline="30000">
                <a:solidFill>
                  <a:srgbClr val="ffcc00"/>
                </a:solidFill>
                <a:latin typeface="Times New Roman"/>
              </a:rPr>
              <a:t>2        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+         2pq          +      q</a:t>
            </a:r>
            <a:r>
              <a:rPr b="1" lang="en-US" sz="28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      =    1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(0.45)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+  2 (0.45)(0.55) +    (0.55)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=    1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0.20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+        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0.50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    +    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0.30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=    1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2   = 0.20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2pq = 0.50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q2   = 0.30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7A9-5444-4101-95E8-93A939F4036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4808C-78C0-424D-92DA-6769F480FD49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Calculate Expected Number of Genotypes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79440" y="17524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Expected number of genotype =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Genotypic frequency x population number (N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Genotyp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Expected number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+/+    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0.20 x 38   =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+/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- 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0.50 x 38   =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- 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0.30 x 38   =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882-B9B5-45E0-94B2-4A01250D0D3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CA8C6-713D-4958-9F4F-DD72E5A625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1371600" y="178740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632480" y="152280"/>
                <a:ext cx="4051080" cy="23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O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E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E</m:t>
                                </m:r>
                              </m:den>
                            </m:f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4764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Chi Squared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 Test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0880" y="2084760"/>
            <a:ext cx="788508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   </a:t>
            </a:r>
            <a:r>
              <a:rPr b="1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Observed</a:t>
            </a:r>
            <a:r>
              <a:rPr b="1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</a:t>
            </a:r>
            <a:r>
              <a:rPr b="1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Expected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     </a:t>
            </a:r>
            <a:r>
              <a:rPr b="1" i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(O-E)</a:t>
            </a:r>
            <a:r>
              <a:rPr b="1" i="1" lang="en-US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cc00"/>
                </a:solidFill>
                <a:latin typeface="Times New Roman"/>
              </a:rPr>
              <a:t>                       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+/+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0.13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+/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9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0.36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tal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0.96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Critical Value (from statistics table) = 5.9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0.96 falls below 5.9 so the ratio is accepted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F92-6CE2-4145-8149-199C90EA4CC1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4A2C0-9AF6-4F6D-9A99-88496FD7A771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267080" y="12600"/>
            <a:ext cx="3490560" cy="6870600"/>
            <a:chOff x="4267080" y="12600"/>
            <a:chExt cx="3490560" cy="68706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267080" y="12600"/>
              <a:ext cx="3490560" cy="25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4267080" y="2613240"/>
              <a:ext cx="3490560" cy="249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4267080" y="5120280"/>
              <a:ext cx="349056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267080" y="6453720"/>
              <a:ext cx="3490560" cy="42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329040" y="301680"/>
            <a:ext cx="35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CR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Procedu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69240" y="38160"/>
            <a:ext cx="52560" cy="2547720"/>
          </a:xfrm>
          <a:custGeom>
            <a:avLst/>
            <a:gdLst>
              <a:gd name="textAreaLeft" fmla="*/ 0 w 52560"/>
              <a:gd name="textAreaRight" fmla="*/ 37080 w 52560"/>
              <a:gd name="textAreaTop" fmla="*/ 105840 h 2547720"/>
              <a:gd name="textAreaBottom" fmla="*/ 2441880 h 25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6920" y="5113440"/>
            <a:ext cx="57240" cy="1322280"/>
          </a:xfrm>
          <a:custGeom>
            <a:avLst/>
            <a:gdLst>
              <a:gd name="textAreaLeft" fmla="*/ 0 w 57240"/>
              <a:gd name="textAreaRight" fmla="*/ 40320 w 57240"/>
              <a:gd name="textAreaTop" fmla="*/ 55080 h 1322280"/>
              <a:gd name="textAreaBottom" fmla="*/ 1267200 h 13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70680" y="2612880"/>
            <a:ext cx="49320" cy="2436840"/>
          </a:xfrm>
          <a:custGeom>
            <a:avLst/>
            <a:gdLst>
              <a:gd name="textAreaLeft" fmla="*/ 0 w 49320"/>
              <a:gd name="textAreaRight" fmla="*/ 34560 w 49320"/>
              <a:gd name="textAreaTop" fmla="*/ 101520 h 2436840"/>
              <a:gd name="textAreaBottom" fmla="*/ 2335320 h 24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7840" y="1174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y 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7840" y="55198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y 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7840" y="3908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y 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A84-DB2F-4014-83AC-509939F26C15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50B75-5C5A-4446-AC27-F6AC297CC4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TPA-25/D17S5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2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2960" indent="-397080">
              <a:lnSpc>
                <a:spcPct val="14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912960" indent="-397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Extract genomic DNA and prepare PCR sampl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912960" indent="-397080">
              <a:lnSpc>
                <a:spcPct val="11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Cycle sampl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912960" indent="-397080">
              <a:lnSpc>
                <a:spcPct val="11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Agarose gel analysi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912960" indent="-397080">
              <a:lnSpc>
                <a:spcPct val="12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ardy-Weinberg analysi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609-859A-4EE2-B0E7-969BA0BBF6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14C26-28DB-47A7-AA86-4214BFC8ED51}" type="datetime1">
              <a:rPr lang="en-US"/>
              <a:t>07/31/26</a:t>
            </a:fld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What will we learn with the TPA-25 laboratory?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1360" y="236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troduce the polymerase chain reaction (PCR) techniqu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pply PCR to population genetic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irectly measure human diversity at the molecular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D4E-1784-4D3A-8A5C-6DDE5DE541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05CDD-458F-4958-BD3C-705F7D568EC1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PCR?</a:t>
            </a:r>
            <a:br>
              <a:rPr sz="4800"/>
            </a:br>
            <a:endParaRPr b="1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863280"/>
            <a:ext cx="77724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CR stands for Polymerase Chain Reac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DNA replication gone crazy in a tube!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Devised by Kary Mullis in the 1980’s it is a simple and powerful way of making unlimited numbers of copies of a DNA template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A single DNA molecule can be replicated a billion fold in a few hours. This allows for the resurrection of DNA from fossils like a Neanderthal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Uses Taq Polymerase heat-resistant DNA polymerase from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Thermus aquaticu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56C-8397-4952-BC25-D0A988F50B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2893A-A201-41B0-A750-5ECF652DAB48}" type="datetime1">
              <a:rPr lang="en-US"/>
              <a:t>07/31/26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0"/>
            <a:ext cx="7772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What are practical uses for PCR technology in society today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19320"/>
            <a:ext cx="91425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A single DNA molecule can be replicated a billion fold in a few hours. This allows for the resurrection of DNA from fossils like a Neanderthal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mall amounts of DNA left at crime scenes can be lifted and analyzed to find the crimina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aternity testing and Population genetic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2EB-252B-4611-BB65-440112B2019D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724A3-7BDB-47E0-AE88-B31A51E342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hat is TAQ Polymerase?</a:t>
            </a:r>
            <a:br>
              <a:rPr sz="5400"/>
            </a:b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4720" y="1905120"/>
            <a:ext cx="79754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q is a nickname for Thermus aquaticus, a bacterium that survives and reproduces in hot spring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q polymerase is  is derived from bacteria that live in hot springs and are among the few enzymes that can function at very high temperatures. Withstands temperatures up to 95°C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like other polymerase Taq can survive in extreme hot temperatures and the enzyme does not denature like most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t is thermophilic because it loves hea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has become a great break through in PC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cause it can survive the high heat needed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4B0-127A-4F49-917F-C7224B1E68F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83E99-0321-448B-B07F-C71F8F3A40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8:46:43Z</dcterms:created>
  <dc:creator>Valerie A McLaughlin</dc:creator>
  <dc:description/>
  <dc:language>en-US</dc:language>
  <cp:lastModifiedBy>dna338</cp:lastModifiedBy>
  <cp:lastPrinted>2000-08-11T22:21:35Z</cp:lastPrinted>
  <dcterms:modified xsi:type="dcterms:W3CDTF">2002-07-11T02:53:35Z</dcterms:modified>
  <cp:revision>39</cp:revision>
  <dc:subject/>
  <dc:title>Alu-TPA PCR Kit (#8)  Tech Service Training  August ‘99</dc:title>
</cp:coreProperties>
</file>