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CE8F-3386-4485-9C48-A42C27E20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FD46-CFEF-4241-81E3-6F203D19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451A-F87B-4E3D-A7D4-FD82653A6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6F98-E6C5-4B91-8BF5-7EF7B0CC1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5204-3595-4363-AA03-7764AB46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6DD0-F8D3-48A0-8BD9-E086815F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8EA3-D457-4915-881D-2E243835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0089-38A1-4B79-B5B5-E19831D0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D42C-BD8A-4835-A04F-E8C9F192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4BBB-1BE3-483E-96CF-77892826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4193-F757-4BB0-BA45-542CD1A5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F7CA-DF06-4AEC-AB3D-FB59E77D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ED98-8B4B-484B-A49F-77028A42A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09480" y="1447920"/>
            <a:ext cx="7848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ICS 370: Software Design Models</a:t>
            </a:r>
            <a:endParaRPr b="0" lang="en-US" sz="20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4114800"/>
            <a:ext cx="77724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esentation by Justin Kuto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Human Resource Manage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1523880"/>
            <a:ext cx="5791320" cy="4191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ersonnel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usiness Event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ime Management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ayroll/Salary Admin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enefits Admin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Current Primary ERP Vendo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066680"/>
            <a:ext cx="7848720" cy="4724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472428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426708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525780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380988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335268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289548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848720" y="114300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7315200" y="114300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81680" y="114300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114300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791320" y="114300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4120" y="114300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114300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32560" y="1717560"/>
            <a:ext cx="3419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o does w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RP Vendors and the Industries th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6188000">
            <a:off x="4138200" y="1816920"/>
            <a:ext cx="18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erospace/Defe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4905000" y="203256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utomo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1200">
            <a:off x="5194080" y="1789920"/>
            <a:ext cx="161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sumer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ckaged Goo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5918040" y="2009880"/>
            <a:ext cx="114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on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223400">
            <a:off x="6321600" y="1757880"/>
            <a:ext cx="150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dustrial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nufactu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6125000">
            <a:off x="7137360" y="208692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/G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6220400">
            <a:off x="7357680" y="1789560"/>
            <a:ext cx="162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harmaceutic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0200" y="2895480"/>
            <a:ext cx="22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a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Baan Se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76920" y="2895480"/>
            <a:ext cx="4572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4120" y="2895480"/>
            <a:ext cx="4572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248520" y="2895480"/>
            <a:ext cx="106668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8168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3640" y="3317760"/>
            <a:ext cx="371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.D.Edwards -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ne World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91320" y="33526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4120" y="3352680"/>
            <a:ext cx="312408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852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3152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84872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9240" y="3774960"/>
            <a:ext cx="27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acle Corp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3809880"/>
            <a:ext cx="358128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41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809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2485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3809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15200" y="3809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000" y="423216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opleSoft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4267080"/>
            <a:ext cx="144756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4267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248520" y="4267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7720" y="4765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P -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/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76920" y="4724280"/>
            <a:ext cx="358128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4120" y="4724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91320" y="4724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248520" y="4724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81680" y="4724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15200" y="4724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848720" y="4724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98560" y="5299200"/>
            <a:ext cx="32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% Planned Pene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5257800"/>
            <a:ext cx="420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18640" y="5268960"/>
            <a:ext cx="3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75840" y="534528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5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880" y="533412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0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66560" y="5345280"/>
            <a:ext cx="40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00080" y="5345280"/>
            <a:ext cx="40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09560" y="534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80880" y="1066680"/>
            <a:ext cx="87631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Enterprise Resource Planning (ERP) Systems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33720" y="3124080"/>
            <a:ext cx="4484520" cy="3192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1960’s Manufacturing Syste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cus was on Inventory contr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3429000"/>
            <a:ext cx="2057400" cy="1981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ven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086600" y="3657600"/>
            <a:ext cx="1676520" cy="1495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flipH="1">
            <a:off x="5257800" y="4343400"/>
            <a:ext cx="175248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3581280"/>
            <a:ext cx="1206360" cy="1371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447920" y="4343400"/>
            <a:ext cx="1600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1970’s Manufacturing Syste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cus shifts to materials control leading to Materials Requirements Planning (MRP) and Master Production Scheduling (MP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05320" y="2895480"/>
            <a:ext cx="1295280" cy="1219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4800600"/>
            <a:ext cx="1447920" cy="1371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8120" y="2819520"/>
            <a:ext cx="2286000" cy="350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4800" y="4114800"/>
            <a:ext cx="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4114800"/>
            <a:ext cx="152388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464832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0" y="3657600"/>
            <a:ext cx="1981080" cy="2092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34120" y="4724280"/>
            <a:ext cx="1295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6840" y="5832360"/>
            <a:ext cx="163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l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The 1980’s Manufacturing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RP-II Concept evolves - MRP extends to Distribution activities for the finished produ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1600200"/>
            <a:ext cx="266724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RP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733920" y="3657600"/>
            <a:ext cx="914400" cy="1676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191120" y="304812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6019920"/>
            <a:ext cx="69343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218960" y="5334120"/>
            <a:ext cx="289548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895120" y="5334120"/>
            <a:ext cx="121932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334120"/>
            <a:ext cx="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5334120"/>
            <a:ext cx="106668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14800" y="5334120"/>
            <a:ext cx="289548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266720" y="3048120"/>
            <a:ext cx="266724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86440" y="2819520"/>
            <a:ext cx="22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ed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48320" y="411480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stribution Sya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417040" y="-57240"/>
            <a:ext cx="53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The 1990’s - 2000 Enterpri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7680" y="49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9400" y="547560"/>
            <a:ext cx="8728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RP-II evolves into Enterprise Resource Planning (ERP) - an extension of MRP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to cover other areas of the enterprise such as Financial Dept., Engineering, Huma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Resource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odern typical ERP System consists of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1981080"/>
            <a:ext cx="6248160" cy="449604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76520" y="2209680"/>
            <a:ext cx="213336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anufactu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76520" y="5029200"/>
            <a:ext cx="220968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10080" y="2209680"/>
            <a:ext cx="20574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ina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10080" y="5029200"/>
            <a:ext cx="20574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u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3429000"/>
            <a:ext cx="1371600" cy="1371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ODB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666880" y="4572000"/>
            <a:ext cx="137160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3352680"/>
            <a:ext cx="1371600" cy="381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5257440" y="4419360"/>
            <a:ext cx="114300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181120" y="3352680"/>
            <a:ext cx="1219320" cy="381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Manufacturing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38280" y="1295280"/>
            <a:ext cx="4038840" cy="4724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oduct Co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aster Production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M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anufacturing Resour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lanning (MR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pacity Resource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ough-Cut Resource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RCRP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Financial Syst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1295280"/>
            <a:ext cx="4876560" cy="4648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eneral Led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ccounts Receiv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ccounts Pay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inancial Consoli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Customer Servi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57400" y="1600200"/>
            <a:ext cx="4800600" cy="3962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ustomer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ales Order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oduct 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lectronic Data Interchange (ED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1T20:47:28Z</dcterms:created>
  <dc:creator>Justin Kuto</dc:creator>
  <dc:description/>
  <dc:language>en-US</dc:language>
  <cp:lastModifiedBy>Sheri Bilbrey</cp:lastModifiedBy>
  <dcterms:modified xsi:type="dcterms:W3CDTF">2000-05-03T16:58:19Z</dcterms:modified>
  <cp:revision>2</cp:revision>
  <dc:subject/>
  <dc:title>No Slide Title</dc:title>
</cp:coreProperties>
</file>