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740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740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740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740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740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740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45E9-36EB-4F03-9122-68C2533EE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70AD-90EA-43B4-85A4-4D6A5D18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DC8F-4F09-4B11-9B25-08FB96F1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335E-AC6C-41DE-BBEC-C9BBB6EE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8354-C911-4A75-97C8-C8788BE7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4B16-4735-44A8-9E84-5EEE82E4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740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8C9A-72E9-45D4-BB38-587E2D07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740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0901-CAE3-47DF-9DDC-2FBF5566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740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F3AD-6236-476A-9881-8FB49384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740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FF6D-FA59-4838-9528-975F7C1A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740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740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DCB1-F6F5-4E2C-B2BA-0E90D8068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740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740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740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B8D8-33CC-42E1-9A83-FF31DCCEF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740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740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740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1600200"/>
            <a:ext cx="8152920" cy="1599840"/>
            <a:chOff x="457200" y="160020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160020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76544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98612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231624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 fontScale="85000"/>
          </a:bodyPr>
          <a:p>
            <a:pPr marL="291600" indent="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291600" indent="-29160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291600" indent="-29160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291600" indent="-29160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91600" indent="-29160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91600" indent="-291600">
              <a:lnSpc>
                <a:spcPct val="12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91600" indent="-291600">
              <a:lnSpc>
                <a:spcPct val="12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4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B8B2-D828-40EF-A84A-475E7B257A4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lnSpc>
                <a:spcPct val="12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lnSpc>
                <a:spcPct val="12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lnSpc>
                <a:spcPct val="12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66"/>
                </a:solidFill>
                <a:latin typeface="Arial"/>
              </a:rPr>
              <a:t>Deer Isle-Stonington Elementary School</a:t>
            </a: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9528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4th Quarter 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Honor Roll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advTm="3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cc66"/>
                </a:solidFill>
                <a:uFillTx/>
                <a:latin typeface="Arial"/>
              </a:rPr>
              <a:t>GRADE 8</a:t>
            </a:r>
            <a:br>
              <a:rPr sz="4400"/>
            </a:br>
            <a:r>
              <a:rPr b="1" i="1" lang="en-US" sz="4400" spc="-1" strike="noStrike" u="sng">
                <a:solidFill>
                  <a:srgbClr val="ffcc66"/>
                </a:solidFill>
                <a:uFillTx/>
                <a:latin typeface="Arial"/>
              </a:rPr>
              <a:t>Honors with Distinction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-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ia Dewey-Woo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iles Douglas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Zephyr Dworsk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Jaimmie Eat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2884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my Fole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James Ka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rik Lenferin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advTm="3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cc66"/>
                </a:solidFill>
                <a:uFillTx/>
                <a:latin typeface="Arial"/>
              </a:rPr>
              <a:t>GRADE 8</a:t>
            </a:r>
            <a:br>
              <a:rPr sz="4400"/>
            </a:br>
            <a:r>
              <a:rPr b="1" i="1" lang="en-US" sz="4400" spc="-1" strike="noStrike" u="sng">
                <a:solidFill>
                  <a:srgbClr val="ffcc66"/>
                </a:solidFill>
                <a:uFillTx/>
                <a:latin typeface="Arial"/>
              </a:rPr>
              <a:t>High Honors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-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rian Billing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itney Eat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ravis Faulkingha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rek Har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Kasey Klemenz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omas Lars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3376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gel Luc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Katrina More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lissa Oliv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aniel Robbi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shley We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ucy Weed-Eat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advTm="3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cc66"/>
                </a:solidFill>
                <a:uFillTx/>
                <a:latin typeface="Arial"/>
              </a:rPr>
              <a:t>GRADE 8</a:t>
            </a:r>
            <a:br>
              <a:rPr sz="4400"/>
            </a:br>
            <a:r>
              <a:rPr b="1" i="1" lang="en-US" sz="4400" spc="-1" strike="noStrike" u="sng">
                <a:solidFill>
                  <a:srgbClr val="ffcc66"/>
                </a:solidFill>
                <a:uFillTx/>
                <a:latin typeface="Arial"/>
              </a:rPr>
              <a:t>Honors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-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25909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harlie Hodgki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Kimberly Jacqu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llyson Larse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574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gyn Law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atrick Shepar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advTm="3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CONGRATULATIONS !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advTm="3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GRADE 5</a:t>
            </a:r>
            <a:br>
              <a:rPr sz="4400"/>
            </a:b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Straight A’s-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28954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arissa Billing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randi Cormier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udra Eat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ry Fifiel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76920" y="2895480"/>
            <a:ext cx="403848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aige Lapris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Juliet Ston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Kate Turn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advTm="3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GRADE 5</a:t>
            </a:r>
            <a:br>
              <a:rPr sz="4400"/>
            </a:br>
            <a:r>
              <a:rPr b="1" i="1" lang="en-US" sz="4400" spc="-1" strike="noStrike" u="sng">
                <a:solidFill>
                  <a:srgbClr val="ffcc66"/>
                </a:solidFill>
                <a:uFillTx/>
                <a:latin typeface="Arial"/>
              </a:rPr>
              <a:t> A’s and B’s</a:t>
            </a: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-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2819520"/>
            <a:ext cx="38102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Kenneth Farrin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Kim Kr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dy Mitchel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iffany Mitchell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343400" y="3123720"/>
            <a:ext cx="4495680" cy="349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aul Murphy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ika Pow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von Trun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aroline Turn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advTm="3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cc66"/>
                </a:solidFill>
                <a:uFillTx/>
                <a:latin typeface="Arial"/>
              </a:rPr>
              <a:t>GRADE 6 </a:t>
            </a:r>
            <a:br>
              <a:rPr sz="4400"/>
            </a:br>
            <a:r>
              <a:rPr b="1" i="1" lang="en-US" sz="4400" spc="-1" strike="noStrike" u="sng">
                <a:solidFill>
                  <a:srgbClr val="ffcc66"/>
                </a:solidFill>
                <a:uFillTx/>
                <a:latin typeface="Arial"/>
              </a:rPr>
              <a:t>Honors with Distinction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-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25909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pril Bunt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52880" y="25909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liza Ka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advTm="3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cc66"/>
                </a:solidFill>
                <a:uFillTx/>
                <a:latin typeface="Arial"/>
              </a:rPr>
              <a:t>GRADE 6 </a:t>
            </a:r>
            <a:br>
              <a:rPr sz="4400"/>
            </a:br>
            <a:r>
              <a:rPr b="1" i="1" lang="en-US" sz="4400" spc="-1" strike="noStrike" u="sng">
                <a:solidFill>
                  <a:srgbClr val="ffcc66"/>
                </a:solidFill>
                <a:uFillTx/>
                <a:latin typeface="Arial"/>
              </a:rPr>
              <a:t>High Honors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-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25909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Jacob Ada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eti Douglas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annah Eaton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52880" y="25909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Kimberly Grind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assie Robbi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lison Turn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advTm="3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cc66"/>
                </a:solidFill>
                <a:uFillTx/>
                <a:latin typeface="Arial"/>
              </a:rPr>
              <a:t>GRADE 6 </a:t>
            </a:r>
            <a:br>
              <a:rPr sz="4400"/>
            </a:br>
            <a:r>
              <a:rPr b="1" i="1" lang="en-US" sz="4400" spc="-1" strike="noStrike" u="sng">
                <a:solidFill>
                  <a:srgbClr val="ffcc66"/>
                </a:solidFill>
                <a:uFillTx/>
                <a:latin typeface="Arial"/>
              </a:rPr>
              <a:t>Honors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-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25909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yrus Dworsky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van Eat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288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tephen Fouge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advTm="3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cc66"/>
                </a:solidFill>
                <a:uFillTx/>
                <a:latin typeface="Arial"/>
              </a:rPr>
              <a:t>GRADE 7 </a:t>
            </a:r>
            <a:br>
              <a:rPr sz="4400"/>
            </a:br>
            <a:r>
              <a:rPr b="1" i="1" lang="en-US" sz="4400" spc="-1" strike="noStrike" u="sng">
                <a:solidFill>
                  <a:srgbClr val="ffcc66"/>
                </a:solidFill>
                <a:uFillTx/>
                <a:latin typeface="Arial"/>
              </a:rPr>
              <a:t>Honors with Distinction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-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25909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hane Eat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alen Ko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288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athaniel Lan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Katie Stuar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advTm="3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cc66"/>
                </a:solidFill>
                <a:uFillTx/>
                <a:latin typeface="Arial"/>
              </a:rPr>
              <a:t>GRADE 7 </a:t>
            </a:r>
            <a:br>
              <a:rPr sz="4400"/>
            </a:br>
            <a:r>
              <a:rPr b="1" i="1" lang="en-US" sz="4400" spc="-1" strike="noStrike" u="sng">
                <a:solidFill>
                  <a:srgbClr val="ffcc66"/>
                </a:solidFill>
                <a:uFillTx/>
                <a:latin typeface="Arial"/>
              </a:rPr>
              <a:t>High Honors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-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25909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ryant Ciome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aire Eat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Jon Eat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288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en Hardi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al Lawson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arker McDonnel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advTm="3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cc66"/>
                </a:solidFill>
                <a:uFillTx/>
                <a:latin typeface="Arial"/>
              </a:rPr>
              <a:t>GRADE 7</a:t>
            </a:r>
            <a:br>
              <a:rPr sz="4400"/>
            </a:br>
            <a:r>
              <a:rPr b="1" i="1" lang="en-US" sz="4400" spc="-1" strike="noStrike" u="sng">
                <a:solidFill>
                  <a:srgbClr val="ffcc66"/>
                </a:solidFill>
                <a:uFillTx/>
                <a:latin typeface="Arial"/>
              </a:rPr>
              <a:t>Honors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-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ydia Barrow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arrell Eat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Kassandra Gr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taphne Gr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itney Haskell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2884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ary Parker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siree Pelleti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indsay Shepar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an Sieber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advTm="3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4T18:48:59Z</dcterms:created>
  <dc:creator>Leslie Carr</dc:creator>
  <dc:description/>
  <dc:language>en-US</dc:language>
  <cp:lastModifiedBy>Leslie Carr</cp:lastModifiedBy>
  <dcterms:modified xsi:type="dcterms:W3CDTF">2002-06-24T19:41:07Z</dcterms:modified>
  <cp:revision>4</cp:revision>
  <dc:subject/>
  <dc:title>PowerPoint Presentation  -  Deer Isle-Stonington Elementary School Honor Roll</dc:title>
</cp:coreProperties>
</file>