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B8A-E1E2-449C-8A69-047C1FF9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785-56D3-4FEE-9036-AD155D59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EFF-3238-4C6F-A382-03D8BE81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DCE-A20A-446F-B30F-AFD34BAA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F997-8EF0-4A57-B56F-337B1233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C378-E83D-4516-BCEB-A1E8F853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6948-35C8-410B-9E2F-B1A9B274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E82C-A9EA-40DA-A1EC-EE5CF631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C703-DF8D-48F4-9D85-EBB213DF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01D1-7969-4F7C-BB1B-D0401289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94F0-8DE7-45AE-996B-708C7927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6DE-C11B-49EF-B95D-8F8A44CF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70DF-3912-43EB-A10F-89EE8156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8E59-3034-4426-88D4-1A281114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9194-EAE4-4DB4-9D33-452B866F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9E3D-1B1F-45CC-9A3F-67464393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CD18-9880-4822-8174-BE130B0F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55B-9EE4-425A-BA78-7791B1BF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2A0-2833-4122-A6B0-D04981D1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3B6-F4D7-482C-BD5D-077D0F85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30B-F509-4BDC-8F9D-CD6A42C5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C61-686E-493D-A856-D9DA488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19D-3D51-4890-AB67-2277D6DE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97F-0A1B-410B-A89E-983B2BF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B62A-1F02-485C-8855-69C154938E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7428-9B5C-462E-A2A0-12BC65C4FF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e Directory Implement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ass 4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IS 165 – Week 2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s 70-217 &amp; 70-2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695760" y="5791320"/>
            <a:ext cx="19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pyright Scott Wallihan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ustifying Additional Domai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ains def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princip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poli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ain Administ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tors justifying additional domai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ed for differing account poli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ed to separate domain administ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u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 two-way, transitive tru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cut tru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est tru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m tru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 trusts (Windows 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ational Un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al units perm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of group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gation of sub admini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Organizational Un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uses of organizational un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ical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ar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 &amp; Forest Functional Lev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2000 mixed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2000 n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Server 2003 inter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Server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pgrading Windows NT Domai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-place 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ain consol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 6 –  AD Physica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 6 –  AD Physica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&amp; Managing 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s &amp; Subn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 Li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ng Domain Control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 Link Brid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ng Domain Control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ng Global Catalog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aging Re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default, all domain controlle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members of the same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icate with all other DC’s in a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’s determine replicat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’s replicate frequ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replication traffic is not compr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ites to define replication bound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tes &amp; Subn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s defin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of one or more well-connected sub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s direct clients’ access to resour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catalog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S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Control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-First-Site-Nam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controllers are placed in here by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e Directory – Class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5 – AD Logical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6 – AD Physical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te Li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 links define replication paths between subn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 links define a replication schedule and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te Link Brid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default, all site links are bridged. This permits replication to occur between all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non-fully routed environments, site link bridges define which sites can communicate with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ting Domain Controll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domain should have at least two domain control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 sites should have two or more DC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sites should have one D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ocating Global Catalog Serv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omain MUST have one global catalog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catalog and Infrastructure master role should be on separate domain control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site that processes logons must have one global catalog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ircumvent this requir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domain in “Windows Server 2003”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 Universal group caching – site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ganizations with one domain, place a global catalog on every domain contro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5 – AD Logical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6 – AD Physical Desig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 5 – AD Logica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 5 – AD Logica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ing DNS N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ifying Additional For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ifying Additional Dom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ing Trust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ing Organizationa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ain Functional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grading from Windows 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oosing DNS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imary role of domain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Internet pre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&amp; Internal resource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DNS namespace desig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ne DNS namespace for Internet &amp; 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discontinuous DNS Namespace for 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 subdomain of Internet Namespace for 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a single DNS name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ly on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for email addresses is seam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ly maintained DNS server for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 for companies desiring 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 subset DNS server in a DMZ to service Internet name re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scontinuous DNS Namesp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tally obfuscates internal nam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requires DNS forwarder – But this solution is typically used in closed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r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uncommon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in high security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bdomain DNS Namesp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 support for forest root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AD-aware dynamic DNS for the Internet presence – an uncommon requ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ly replicates existing DNS top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omains = more domain controllers = $$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nly choice for larger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use a Windows Domain on the Internet unless AD-aware DNS is required – Use zon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ustifying Additional For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ests conta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ngle AD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ngle physical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ngle global cat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ngle Enterprise Admin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sts between all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justifying an additional fore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ed to support incompatible sche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ed to totally separate Enterprise Adm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ed for trust isolation – maximum secur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6:42:19Z</dcterms:created>
  <dc:creator>Scott Wallihan</dc:creator>
  <dc:description/>
  <dc:language>en-US</dc:language>
  <cp:lastModifiedBy>Scott Wallihan</cp:lastModifiedBy>
  <dcterms:modified xsi:type="dcterms:W3CDTF">2005-04-07T19:08:51Z</dcterms:modified>
  <cp:revision>12</cp:revision>
  <dc:subject/>
  <dc:title>Active Directory Implementation Class 3</dc:title>
</cp:coreProperties>
</file>