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32E-4A04-4BCB-A9C0-58F27CF0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336-6FD4-4D76-B12A-4B38FBEC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FF5-B7B1-492D-84F6-54462FD4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0A8-28AB-42CC-8FC0-AFF0DB69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6DDA-8F87-410B-A6D3-D662DCC8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0998-C98B-41B0-B05C-915960EA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1198-5EFF-4B5D-A856-C51C44C8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710-D382-4F01-B8BD-871B163E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09C-9B9A-4281-90E6-7A22057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CFA-FF8A-4E9C-AE2E-BC7C6E23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0DD1-A4E7-4D3B-80F9-E781974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950-7B21-4B0C-8970-305D6176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5A6D-6166-43EB-A4E3-8C9E00C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61E8-0FF0-44EB-A186-B355503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0DA3-6865-4E4A-BD07-1B447AA6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39E5-E8A7-4A0C-9A75-806EB5BD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CB38-D6E0-4118-A5CC-1A2BB716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881-BFC6-45FA-ADCE-26991132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3ED-48A2-4FC8-9309-9B4E6634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D3A-BE1D-4721-9616-DBC6056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C87-5FFB-4370-BEDF-7B8FAE9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EBC-8421-493C-8693-653E32E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7C0-D8E3-470A-A7D4-BEAEFEF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4D9-DA0B-491C-89C2-3C3A98C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7E45-5B11-472F-A691-F008E30610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BCAB-06CB-4157-A546-AD8116225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Implement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ass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IS 165 – Week 2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s 70-217 &amp; 70-2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695760" y="5791320"/>
            <a:ext cx="19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Scott Wallihan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4 –  AD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Directory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Storage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Class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Directory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ory Service Ag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Storage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rectory Service Ag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o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method to support each allowed access to Active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s transactions against 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Directory Schema is defined at this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ensible Storage Eng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recently used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actions &amp; Check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DS.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B.LOG &amp; EDBXXXXX.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B.CH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1.LOG &amp; RES2.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.E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 Schema &amp; Object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object types that can be cre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Class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al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xiliary Classes – Groups of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3 – Active Directory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4 – Active Directory Archite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Directory – Class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3 – Active Directory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4 – Active Director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3 – Active Directory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3 – Active Directory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soft Solutions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ule of 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a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ior level sponso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rosoft Solutions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sion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, risk, change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ailed plans &amp;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biliz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as in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t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lout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ule of 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a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al Un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gation of authority – Admin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ccount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d deskt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ed network d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ior level sponso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ing interests &amp;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plan for org must eme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ior personnel should approv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e offi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offi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offi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4 –  AD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6:42:19Z</dcterms:created>
  <dc:creator>Scott Wallihan</dc:creator>
  <dc:description/>
  <dc:language>en-US</dc:language>
  <cp:lastModifiedBy>Scott Wallihan</cp:lastModifiedBy>
  <dcterms:modified xsi:type="dcterms:W3CDTF">2005-04-04T20:55:25Z</dcterms:modified>
  <cp:revision>6</cp:revision>
  <dc:subject/>
  <dc:title>Active Directory Implementation Class 3</dc:title>
</cp:coreProperties>
</file>